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B25-F272-498A-BCB5-A5EB0C5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B00-562A-4B05-9BDB-42E1CCF9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D77-C33C-48BF-9CBF-8C5D12D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E52-326F-4DA7-8351-3DE63D07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387-D3B2-4CA5-8F1D-074CE8D2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14F-7FCB-408E-A7AF-88D208E1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27BA-940F-4A01-94A1-5E781C4E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BCE0-ED1C-450D-A229-9D2D375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6E7-3FBF-4053-BD24-FB4D582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01C-8A02-468A-AE4A-3FD07BD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952-342F-4037-99FA-FC3ACCE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90C-7FB5-42C4-9942-92F291D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FF1-C39F-4322-AEAC-C31096E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1D93-F6A7-4765-B668-C44E856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1A3-5148-413C-9520-F1D397F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015F-752A-40B2-94A4-73D1C519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01F-1F34-433C-A32C-B1D786AF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DA4-00CB-43F9-81F6-EB2DB60E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FC4-8073-4B2F-A2E6-B8320AB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B8D-BBED-4B65-8D79-9112F7D9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12A-6AAC-4230-B800-50C214F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CB5-77C5-45BE-BF4E-5C1F211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42F-CAF9-474E-B6F3-62356B3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93C-08B7-480E-B639-50AEFAC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5C4-1B92-4B25-93B1-77C52CF0D0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187-0540-498B-8F3A-716CFBFD61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signspb.ru/wp-content/uploads/2012/02/&#1057;&#1040;&#1053;&#1050;&#1058;-&#1055;&#1045;&#1058;&#1045;&#1056;&#1041;&#1059;&#1056;&#1043;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11280" y="691920"/>
            <a:ext cx="669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 правописания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 звонкими и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истории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знайте историческое место города 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Дворцовая площадь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ой музей находится на Дворцовой площади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Государственный Эрмитаж. Зимний дворец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42920" y="2133720"/>
            <a:ext cx="79567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майской ночью в белом дым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 завываньи зимних пу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ы всех прекрасней – несравним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истательный Санкт– Петербург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 Н. Агнивцев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58920" y="260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майской ночью в белом ды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завываньи зимних п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ы всех прекрасней – несравн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истательный Санкт– Петербур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разливается Не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реки, речки, рука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островки и остр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лпятся у зали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топь, болотная тра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в дымке моря синева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м Петр Великий основ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лицу всем на ди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 Е. Ефимовский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Петр I"/>
          <p:cNvPicPr/>
          <p:nvPr/>
        </p:nvPicPr>
        <p:blipFill>
          <a:blip r:embed="rId1"/>
          <a:stretch/>
        </p:blipFill>
        <p:spPr>
          <a:xfrm>
            <a:off x="5651640" y="1557360"/>
            <a:ext cx="290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26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276640"/>
            <a:ext cx="8712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37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4035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году начало строительства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остров застраивался первы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Заячий остров"/>
          <p:cNvPicPr/>
          <p:nvPr/>
        </p:nvPicPr>
        <p:blipFill>
          <a:blip r:embed="rId1"/>
          <a:stretch/>
        </p:blipFill>
        <p:spPr>
          <a:xfrm>
            <a:off x="684360" y="2637000"/>
            <a:ext cx="734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49690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собор построили на этом остров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928800"/>
            <a:ext cx="513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й собор построили на этом остров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среди гербов русских городов герб нашего город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32000" y="2852640"/>
            <a:ext cx="2613240" cy="2735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герб Москвы"/>
          <p:cNvPicPr/>
          <p:nvPr/>
        </p:nvPicPr>
        <p:blipFill>
          <a:blip r:embed="rId3"/>
          <a:stretch/>
        </p:blipFill>
        <p:spPr>
          <a:xfrm>
            <a:off x="6300720" y="2708280"/>
            <a:ext cx="2563920" cy="302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79280" y="2781360"/>
            <a:ext cx="2319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называется передняя внешняя часть здания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Россия, Санкт-Петербург, фасад Русского Музея. Купить фото с кодом 030352 в высоком разрешении.  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ое это здание ?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кажите фасад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7:49:35Z</dcterms:created>
  <dc:creator>Customer</dc:creator>
  <dc:description/>
  <dc:language>en-US</dc:language>
  <cp:lastModifiedBy>Customer</cp:lastModifiedBy>
  <dcterms:modified xsi:type="dcterms:W3CDTF">2012-07-12T18:55:11Z</dcterms:modified>
  <cp:revision>2</cp:revision>
  <dc:subject/>
  <dc:title>Слайд 1</dc:title>
</cp:coreProperties>
</file>