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C380-EEF6-4C06-A42A-DE4E59249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7B18-ABFC-4D96-AC47-710D4A7E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053C-B04F-4349-9C36-8095D2B3C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FB16-8450-4391-9B51-707C1D9C3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BB435-FD56-435A-9B8E-389F4E667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6150B-6DC9-429E-9A88-F41E06D5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415D-C18B-4FE2-A467-F75FAE84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CA3B-B8F6-4567-9999-5CB224EE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763F-185B-4463-8F7A-B31A10EE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B16D-3677-43FF-B457-9987DC0B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FE3E-1680-4E56-9A06-2A81ADB9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7436-30A5-46AA-8A59-60425533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AF5E-17A3-4007-8020-FB4666BB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6A4C3-93DC-40F8-AD4E-74F0F4D7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623C-F7E0-47F9-9978-ABB9824B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E7AE3-F2DD-4058-8C23-1828E2429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306D-8567-4147-8813-A4C70E204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F743-C166-4926-8915-A0F531AF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3957-DC41-4451-ABBD-3B2514BE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DF29-BC41-4E63-9209-C5536988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8665-8DCA-4E9E-8CC3-23915612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4921-F8C9-49B1-947F-0B05FD47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F1A7-82AA-4A34-B215-3D06953D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558E-B104-4FC8-9EA3-010FD33B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5379-6AEB-4FE1-8FCF-2A0CC864FAA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4C31-F053-4E53-B8A4-9650C9B8F5A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esignspb.ru/wp-content/uploads/2012/02/&#1057;&#1040;&#1053;&#1050;&#1058;-&#1055;&#1045;&#1058;&#1045;&#1056;&#1041;&#1059;&#1056;&#1043;2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11280" y="691920"/>
            <a:ext cx="66960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репление правописания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 звонкими и глухими соглас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общение изученного материа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истории гор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Узнайте историческое место города 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Дворцовая площадь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акой музей находится на Дворцовой площади?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Государственный Эрмитаж. Зимний дворец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042920" y="2133720"/>
            <a:ext cx="795672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 майской ночью в белом дыме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 в завываньи зимних пур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ы всех прекрасней – несравнимы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истательный Санкт– Петербург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 Н. Агнивцев 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258920" y="26028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майской ночью в белом дым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в завываньи зимних пур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ы всех прекрасней – несравним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листательный Санкт– Петербург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Где разливается Не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 реки, речки, рукава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Где островки и остро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олпятся у залива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Где топь, болотная трава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Где в дымке моря синева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ам Петр Великий основа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толицу всем на диво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 Е. Ефимовский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Петр I"/>
          <p:cNvPicPr/>
          <p:nvPr/>
        </p:nvPicPr>
        <p:blipFill>
          <a:blip r:embed="rId1"/>
          <a:stretch/>
        </p:blipFill>
        <p:spPr>
          <a:xfrm>
            <a:off x="5651640" y="1557360"/>
            <a:ext cx="29001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187280" y="12679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Санкт-Петербург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276640"/>
            <a:ext cx="87120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99640" cy="68374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755640" y="403560"/>
            <a:ext cx="324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каком году начало строительства гор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кой остров застраивался первым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Заячий остров"/>
          <p:cNvPicPr/>
          <p:nvPr/>
        </p:nvPicPr>
        <p:blipFill>
          <a:blip r:embed="rId1"/>
          <a:stretch/>
        </p:blipFill>
        <p:spPr>
          <a:xfrm>
            <a:off x="684360" y="2637000"/>
            <a:ext cx="7345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99640" y="1341000"/>
            <a:ext cx="49690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акой собор построили на этом острове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39640" y="928800"/>
            <a:ext cx="5135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ой собор построили на этом острове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50920" y="404640"/>
            <a:ext cx="734544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ти среди гербов русских городов герб нашего города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132000" y="2852640"/>
            <a:ext cx="2613240" cy="27352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герб Москвы"/>
          <p:cNvPicPr/>
          <p:nvPr/>
        </p:nvPicPr>
        <p:blipFill>
          <a:blip r:embed="rId3"/>
          <a:stretch/>
        </p:blipFill>
        <p:spPr>
          <a:xfrm>
            <a:off x="6300720" y="2708280"/>
            <a:ext cx="2563920" cy="30258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179280" y="2781360"/>
            <a:ext cx="23194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ак называется передняя внешняя часть здания 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Россия, Санкт-Петербург, фасад Русского Музея. Купить фото с кодом 030352 в высоком разрешении.  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акое это здание ?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окажите фасад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1442880"/>
            <a:ext cx="914400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2T17:49:35Z</dcterms:created>
  <dc:creator>Customer</dc:creator>
  <dc:description/>
  <dc:language>en-US</dc:language>
  <cp:lastModifiedBy>Customer</cp:lastModifiedBy>
  <dcterms:modified xsi:type="dcterms:W3CDTF">2012-07-12T18:55:11Z</dcterms:modified>
  <cp:revision>2</cp:revision>
  <dc:subject/>
  <dc:title>Слайд 1</dc:title>
</cp:coreProperties>
</file>