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079-4656-4726-A5BC-0F93E848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271-A04B-40F6-8094-CD720A3A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89C-549D-4D06-96B2-7F707944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0B1-1014-4218-9BD7-1D1E964D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E7D-F701-47D5-8B2B-EDED497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AC9-BF54-4B3D-B4A1-EF70AD5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39A-A793-4F6D-AD38-DDB4674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E21-BEA9-4B5D-BDEC-5A991BD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20C-CECB-4D16-B715-15E3D5E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36A-E74C-4CC4-98C5-40016A3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130-65E1-41B1-8FE1-F4CAFCC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21-BC4B-448B-8726-DDB50F2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760-2EB3-42C2-BBFB-2B8622708EF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563280" y="3078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СШ №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1042920" y="1628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олшебные </a:t>
            </a:r>
            <a:endParaRPr b="0" lang="en-US" sz="4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евращения</a:t>
            </a:r>
            <a:endParaRPr b="0" lang="en-US" sz="4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67280" y="480060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або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ченицы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7 -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ласс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ОСШ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Бадиной Вик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уководитель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едведев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98304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S Mincho"/>
                <a:ea typeface="Times New Roman"/>
              </a:rPr>
              <a:t>Актуальность</a:t>
            </a:r>
            <a:r>
              <a:rPr b="1" lang="ru-RU" sz="4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5720" y="714240"/>
            <a:ext cx="4791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ктуальность моей работы состоит в том, что при современных экономических условиях создание своими руками изделий в технике лоскутного шитья позволяет не только сэкономить семейный бюджет, но и пополнить его интересными изделиями. Этим обусловлена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Comic Sans MS"/>
              </a:rPr>
              <a:t> актуальность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моей раб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7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2643120" cy="464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5929200" y="3071880"/>
            <a:ext cx="2643480" cy="3571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3143160" y="3071880"/>
            <a:ext cx="2571840" cy="361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6:29:37Z</dcterms:created>
  <dc:creator>1</dc:creator>
  <dc:description/>
  <dc:language>en-US</dc:language>
  <cp:lastModifiedBy>Admin</cp:lastModifiedBy>
  <dcterms:modified xsi:type="dcterms:W3CDTF">2012-07-12T06:35:27Z</dcterms:modified>
  <cp:revision>145</cp:revision>
  <dc:subject/>
  <dc:title>Слайд 1</dc:title>
</cp:coreProperties>
</file>