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098-A855-4EE2-84AE-A8DC11BB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BB6-CDA5-4ED3-9592-D8111EE3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255-ECE4-4B53-8FF1-23B9ED0E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4F7-9EDF-4DEA-B563-AA4B775D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082-F9CD-48ED-9CDB-53D37054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FC0-83EA-45EF-8ED7-F96752BC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15E-9E94-493E-ADB9-58D83184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ABE-7BC2-4D33-9013-6DCE695E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77A-5A4A-41CE-93CE-4F07DDF1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28C-9DA5-4F57-8C96-83913039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DB2-F1FE-41D8-8E7E-FE6E3432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788-1146-4D82-9D24-BDF24E94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D291-0C23-4C4B-ACBE-9D7D3AF0CD0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3563280" y="3078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СШ №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1042920" y="1628640"/>
            <a:ext cx="720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0" lang="en-US" sz="4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Волшебные </a:t>
            </a:r>
            <a:endParaRPr b="0" lang="en-US" sz="4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ревращения</a:t>
            </a:r>
            <a:endParaRPr b="0" lang="en-US" sz="4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867280" y="4800600"/>
            <a:ext cx="274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абот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ученицы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7 -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Г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ласс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МОСШ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Бадиной Викт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уководитель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учитель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Медведев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98304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MS Mincho"/>
                <a:ea typeface="Times New Roman"/>
              </a:rPr>
              <a:t>Актуальность</a:t>
            </a:r>
            <a:r>
              <a:rPr b="1" lang="ru-RU" sz="4400" spc="-1" strike="noStrike">
                <a:solidFill>
                  <a:srgbClr val="00008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5720" y="714240"/>
            <a:ext cx="47912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Актуальность моей работы состоит в том, что при современных экономических условиях создание своими руками изделий в технике лоскутного шитья позволяет не только сэкономить семейный бюджет, но и пополнить его интересными изделиями. Этим обусловлена</a:t>
            </a:r>
            <a:r>
              <a:rPr b="0" i="1" lang="ru-RU" sz="1800" spc="-1" strike="noStrike" u="sng">
                <a:solidFill>
                  <a:srgbClr val="0000ff"/>
                </a:solidFill>
                <a:uFillTx/>
                <a:latin typeface="Comic Sans MS"/>
              </a:rPr>
              <a:t> актуальность</a:t>
            </a: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 моей работ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Picture 17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2643120" cy="4643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5929200" y="3071880"/>
            <a:ext cx="2643480" cy="3571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94" name="Picture 9" descr=""/>
          <p:cNvPicPr/>
          <p:nvPr/>
        </p:nvPicPr>
        <p:blipFill>
          <a:blip r:embed="rId3"/>
          <a:stretch/>
        </p:blipFill>
        <p:spPr>
          <a:xfrm>
            <a:off x="3143160" y="3071880"/>
            <a:ext cx="2571840" cy="3618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6:29:37Z</dcterms:created>
  <dc:creator>1</dc:creator>
  <dc:description/>
  <dc:language>en-US</dc:language>
  <cp:lastModifiedBy>Admin</cp:lastModifiedBy>
  <dcterms:modified xsi:type="dcterms:W3CDTF">2012-07-12T06:35:27Z</dcterms:modified>
  <cp:revision>145</cp:revision>
  <dc:subject/>
  <dc:title>Слайд 1</dc:title>
</cp:coreProperties>
</file>