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EDF-057F-4720-B154-76E3CE7B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BFB-55D4-4FE8-8833-E16907A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32B-1562-44C6-B569-7F9AB636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EC8-04EC-47FF-B293-30E72957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963-49BB-4023-8B8B-B522A4B4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8D6-97F2-4162-9D5F-0BADA02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4F4-6B27-4C5C-A1CE-4B98F1AC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9CD-7BE6-4D0A-9B4C-576B271B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9D0-27D0-4BF5-B8A8-EF29253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F2A-25C5-462B-B685-21D5F8BD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61E-1BB5-4933-ADD5-6B98DB2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4B3-CBF3-418D-9963-75FA8B8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1F5-EFA2-4CC2-9D43-C3C04B3E01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Язык как инструмент формирования личност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3" descr="j0299125"/>
          <p:cNvPicPr/>
          <p:nvPr/>
        </p:nvPicPr>
        <p:blipFill>
          <a:blip r:embed="rId1"/>
          <a:stretch/>
        </p:blipFill>
        <p:spPr>
          <a:xfrm rot="798000">
            <a:off x="7010280" y="3428640"/>
            <a:ext cx="1704960" cy="2795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0" y="38098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Язык коммуникатив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4647960" y="2133720"/>
            <a:ext cx="7596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80880" y="22860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оворящ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олжен знать звуки, слова, предложения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инци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1828800" y="4267080"/>
            <a:ext cx="8380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8380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0" y="5334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т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ушатель?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057400" y="4800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а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н ко мне относи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029200" y="2209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876920" y="2209680"/>
            <a:ext cx="4267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: Пустыня. Приближается л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релк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Скорей стреля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удожник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Скорей рисуй, лев восхитительно коричневого оттен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раг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Прекрасное утро, не правда ли? До встречи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19320" y="838080"/>
            <a:ext cx="65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«Сколькими языками владеют, столько раз бывают человеком» Император Карл </a:t>
            </a: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143000" y="914400"/>
            <a:ext cx="7162920" cy="4648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62120" y="7621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лияет ли язык на мыш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648320" y="1523880"/>
            <a:ext cx="7596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80880" y="18288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1447920"/>
            <a:ext cx="4038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р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и пытаются управл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и манипулиру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е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14 яблок./У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Вас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16 больше./ А у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аш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тольк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колько у Васи и Пет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мес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/Сколько яблок у эти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о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ет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4120" y="1447920"/>
            <a:ext cx="3429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ли свои мыс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лияли на восприятие, память и ре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ктически выразили мыс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609480" y="304812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" y="4876920"/>
            <a:ext cx="4343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та о развитии ребенка – дело шко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та о развитии ребенка – совместная работа школы и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04920" y="487692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905120" y="380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зы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 rot="525600">
            <a:off x="1523520" y="914040"/>
            <a:ext cx="2362320" cy="251460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521433"/>
                <a:lnTo>
                  <a:pt x="8768" y="20121"/>
                </a:lnTo>
                <a:lnTo>
                  <a:pt x="21600" y="17280"/>
                </a:lnTo>
                <a:lnTo>
                  <a:pt x="8768" y="11481"/>
                </a:lnTo>
                <a:lnTo>
                  <a:pt x="8768" y="13641"/>
                </a:lnTo>
                <a:arcTo wR="21600" hR="7560" stAng="9278567" swAng="116399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733920" y="2819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886200" y="2743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ыш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2590560" y="3276720"/>
            <a:ext cx="16002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5181480" y="3276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324480" y="327672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267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имание к определенным момент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114800" y="4648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вижение указанных 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6858000" y="43434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улировка поставленных вопро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371600" y="5410080"/>
            <a:ext cx="3733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5105520" y="5257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5028840" y="5410080"/>
            <a:ext cx="25146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057400" y="5943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ует то, о чем мы можем думать, но не ограничивает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j0216724"/>
          <p:cNvPicPr/>
          <p:nvPr/>
        </p:nvPicPr>
        <p:blipFill>
          <a:blip r:embed="rId1"/>
          <a:stretch/>
        </p:blipFill>
        <p:spPr>
          <a:xfrm>
            <a:off x="0" y="838080"/>
            <a:ext cx="4002120" cy="50292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3809880" y="457200"/>
            <a:ext cx="5334120" cy="18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962520" y="6858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ы говорим кош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Все хорошо, Люси. Я дам тебе лекарство. Ты поправишься, моя Люс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038480" y="2514600"/>
            <a:ext cx="5105520" cy="1905120"/>
          </a:xfrm>
          <a:prstGeom prst="wedgeRoundRectCallout">
            <a:avLst>
              <a:gd name="adj1" fmla="val -24347"/>
              <a:gd name="adj2" fmla="val 7366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191120" y="28195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слышит кошка: «Бла бла, Люси. Бла бла бла бла бла бла бла, Люс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962520" y="5303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языка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сприимчивого человеческого разу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6705720" y="4572000"/>
            <a:ext cx="1295280" cy="9144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447920" y="609480"/>
            <a:ext cx="64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У всех народов мира язык следует за переменчивостью нравов: вместе с ними он совершенствуется или портится» Ж.Ж. Руссо, французский философ и писа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533520"/>
            <a:ext cx="7162920" cy="5486400"/>
          </a:xfrm>
          <a:prstGeom prst="wedgeRoundRectCallout">
            <a:avLst>
              <a:gd name="adj1" fmla="val -41046"/>
              <a:gd name="adj2" fmla="val 5844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371600" y="533520"/>
            <a:ext cx="73152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зык – это наше орудие; пуская его в ход, следует позаботиться, чтобы пружины в нем не скрипели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Французский писатель Антуан Ривароль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762120" y="457200"/>
            <a:ext cx="7772400" cy="3505320"/>
          </a:xfrm>
          <a:prstGeom prst="wedgeRoundRectCallout">
            <a:avLst>
              <a:gd name="adj1" fmla="val -37398"/>
              <a:gd name="adj2" fmla="val 6000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90920" y="380880"/>
            <a:ext cx="44193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з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личительная черта всех человеческих общест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5"/>
          <p:cNvSpPr/>
          <p:nvPr/>
        </p:nvSpPr>
        <p:spPr>
          <a:xfrm>
            <a:off x="47242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33920" y="20574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уш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72428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05320" y="2819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в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724280" y="3200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58128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809880" y="4343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сь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7242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2057400" y="4267080"/>
            <a:ext cx="1447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6248520" y="441972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33520" y="487692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стная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943600" y="4724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сьменная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905120" y="5867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 речах – слава и бесчестие,…»(Библейское изреч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1752480" y="5791320"/>
            <a:ext cx="7391520" cy="1066680"/>
          </a:xfrm>
          <a:prstGeom prst="wedgeRoundRectCallout">
            <a:avLst>
              <a:gd name="adj1" fmla="val -33120"/>
              <a:gd name="adj2" fmla="val 6993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3124080" y="1905120"/>
            <a:ext cx="3353040" cy="3200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0301076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685800"/>
            <a:ext cx="77724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ло языков на планете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~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4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Язык присущ только люд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«Единственная примета и единственный определенный признак мышления сокрытого в теле – язык» (Французский философ  Рене Декарт)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362320" y="47242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ее?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1981080"/>
            <a:ext cx="7467480" cy="2133720"/>
          </a:xfrm>
          <a:prstGeom prst="wedgeRoundRectCallout">
            <a:avLst>
              <a:gd name="adj1" fmla="val -45152"/>
              <a:gd name="adj2" fmla="val 6860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щие свойства язык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предложения для упорядочивания мыслей (т.е. последовательность сл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верждения, сделанные касательно одного предмета, можно сделать и касательно друг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638680" y="838080"/>
            <a:ext cx="35053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гл.яз.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ork was done by me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 работа сделанная мн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.яз. :Я сделал эту рабо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сокая отметк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сокие достиж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сокая заработная плат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257800" y="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ные приме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486400" y="533520"/>
            <a:ext cx="76320" cy="632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914400" y="55627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буздывающий язык будет жить мирно,…» (Библейское изреч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685800" y="5257800"/>
            <a:ext cx="594360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созидателен (креатив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19720" y="190512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57200" y="2133720"/>
            <a:ext cx="3505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на наборе ассоциаций (около 1000 коротких предложе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тся сочетания старых слов по новому (творчески), т.е как позволяет языковая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0" y="1905120"/>
            <a:ext cx="4267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мотрите, опять двойк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любуйтесь-ка на эту двойку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ерт меня побери, если это не двойк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заборе: «Сюзанна А. – безмозглая дур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8"/>
          <p:cNvSpPr/>
          <p:nvPr/>
        </p:nvSpPr>
        <p:spPr>
          <a:xfrm>
            <a:off x="457200" y="4114800"/>
            <a:ext cx="86868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114800" y="58672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чи изобличают нрав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Французское моральное прав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809880" y="5715000"/>
            <a:ext cx="5334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н высоко структуриро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419720" y="1828800"/>
            <a:ext cx="75960" cy="441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057400"/>
            <a:ext cx="3429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аничения в способности созидания (неосознан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нормативных прав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ознатель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105520" y="1981080"/>
            <a:ext cx="3124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льз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Вот учитель эт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ожн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Вот это учитель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ьзя: «Учитель превзошел самого себя, оценив твой труд высшим балло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но: «Тебе поставили 5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8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Язык содержател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572000" y="1905120"/>
            <a:ext cx="7632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676520"/>
            <a:ext cx="4495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во выражает мысль 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страктном понят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ередать все эти значения други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724280" y="2514600"/>
            <a:ext cx="4876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, 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ься, забот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сть, че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заботный, ответств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495680" y="51055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убо ошибся бы тот, кто вздумал судить о людях по их речам» Пюизье, французская писатель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4495680" y="5029200"/>
            <a:ext cx="4648320" cy="18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Язык соотносител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343400" y="1981080"/>
            <a:ext cx="76320" cy="441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отребляем язык для описания мира реальных вещей и собы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DSC00177"/>
          <p:cNvPicPr/>
          <p:nvPr/>
        </p:nvPicPr>
        <p:blipFill>
          <a:blip r:embed="rId1"/>
          <a:stretch/>
        </p:blipFill>
        <p:spPr>
          <a:xfrm>
            <a:off x="6400800" y="19810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495680" y="419112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ьно: «Это баклажа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авильно: «Это кабачо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572000" y="22096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457524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ый совершенный язык тот, который выражает наибольше количество понятий наименьшим количеством слов» Буаст, французский морал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0" y="4495680"/>
            <a:ext cx="403848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2-05T13:36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