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BA70-8861-4D6B-88A8-6C013DAB75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BCCB-3DBA-4C46-84DB-7C2A36BE40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0ECD-2495-4842-AD8B-800625601B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2204-4910-4069-931D-7DD57AAACE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AC79-4D62-401E-AE3D-8E3073BA95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98CB-330D-4C8F-9956-D4EAF696D1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2422-BE0F-461D-BD20-A6E649897F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A97F-5368-4F31-BE35-87AF4B98F4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189B-0639-48C9-A2FA-D29EBF669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5EE0-6CE6-4734-BCC6-972FCEFFFD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778C-718F-4735-A1EC-B078A41CD0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078C-8FD3-482F-92FB-E68199A632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B773-9649-4898-8C64-1E045F8FA6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EF81-06A1-4754-8F5F-EF05ECCE2B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379B-9C1D-4FEB-A331-6DADD3EA93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573-D21E-449E-AA92-582B6252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7C6-9D48-4A67-86E2-10DAF2EF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CE6-0BAE-4310-A7DB-E9A879AC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7C4-200C-4F61-AC9D-B97C2BA8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4F7-7A6C-4978-AC83-E2C90ADE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651-3F93-4ED9-9416-8FD59EBB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0CF-615E-4A7B-96F2-B541A015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3CF-57C7-49D0-84B6-6E4290C9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9DA-F46D-472C-A8A0-E893AB86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B75-46CC-4864-A4B0-9D7AAA1C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932-637F-4D3A-9722-B95BE7B4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F50-7E08-4F33-9955-44A891F5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BC73-1C23-42AD-B10B-166926B068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489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лицей №82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11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маленьких дел, которые делаются множеством маленьких людей во многих маленьких местах, могут изменить лиц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итайская погов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042920" y="1268280"/>
            <a:ext cx="712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ир воды Санкт-Петербург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08000" y="4076640"/>
            <a:ext cx="6767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Ав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Згибай Т.Н, учитель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Есаян.Н.А, 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Мовсисян Л.В, педагог-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468360" y="907920"/>
            <a:ext cx="8280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жидаемые результат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187280" y="16286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здание инициативной группы педагогов и учащихся для участия ОУ Санкт-Петербурга в экологическом проек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1403280" y="333360"/>
            <a:ext cx="6120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ные направления работ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826920" y="1844640"/>
            <a:ext cx="727416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1616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61656"/>
                </a:solidFill>
                <a:uFillTx/>
                <a:latin typeface="Arial"/>
              </a:rPr>
              <a:t>Информационное</a:t>
            </a:r>
            <a:r>
              <a:rPr b="1" lang="ru-RU" sz="1800" spc="-1" strike="noStrike">
                <a:solidFill>
                  <a:srgbClr val="161656"/>
                </a:solidFill>
                <a:latin typeface="Arial"/>
              </a:rPr>
              <a:t> – сбор информации о качестве вод Невской губы и о загрязнении вод экосистем бассейна Финского за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1616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61656"/>
                </a:solidFill>
                <a:uFillTx/>
                <a:latin typeface="Arial"/>
              </a:rPr>
              <a:t>Образовательное</a:t>
            </a:r>
            <a:r>
              <a:rPr b="1" lang="ru-RU" sz="2400" spc="-1" strike="noStrike">
                <a:solidFill>
                  <a:srgbClr val="16165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61656"/>
                </a:solidFill>
                <a:latin typeface="Arial"/>
              </a:rPr>
              <a:t>– формирование у учащихся навыков самостоятельного решения проблемы, системного мышления, осознания многочисленных связей в окружающей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1616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61656"/>
                </a:solidFill>
                <a:uFillTx/>
                <a:latin typeface="Arial"/>
              </a:rPr>
              <a:t>Интеграционное</a:t>
            </a:r>
            <a:r>
              <a:rPr b="1" lang="ru-RU" sz="1800" spc="-1" strike="noStrike">
                <a:solidFill>
                  <a:srgbClr val="161656"/>
                </a:solidFill>
                <a:latin typeface="Arial"/>
              </a:rPr>
              <a:t> – это совместная работа над экологическим проектом учащихся и педагогов школ города Санкт-Петербур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cec1"/>
            </a:gs>
            <a:gs pos="100000">
              <a:srgbClr val="d9672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IMG_1316"/>
          <p:cNvPicPr/>
          <p:nvPr/>
        </p:nvPicPr>
        <p:blipFill>
          <a:blip r:embed="rId1"/>
          <a:stretch/>
        </p:blipFill>
        <p:spPr>
          <a:xfrm>
            <a:off x="1547640" y="162864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900000" y="404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c00ac"/>
                </a:solidFill>
                <a:latin typeface="Comic Sans MS"/>
              </a:rPr>
              <a:t>Сотрудничество лицея №82 с ДЭЦ ГУП «Водокана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1ff"/>
            </a:gs>
            <a:gs pos="50000">
              <a:srgbClr val="ffbdff"/>
            </a:gs>
            <a:gs pos="100000">
              <a:srgbClr val="ff6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7"/>
          <p:cNvSpPr/>
          <p:nvPr/>
        </p:nvSpPr>
        <p:spPr>
          <a:xfrm>
            <a:off x="611280" y="549360"/>
            <a:ext cx="345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Занятия учащихся лицея №82 в химической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932360" y="371628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Исследование проб воды на загряз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3"/>
            </a:gs>
            <a:gs pos="50000">
              <a:srgbClr val="f8f200"/>
            </a:gs>
            <a:gs pos="100000">
              <a:srgbClr val="ffff9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6"/>
          <p:cNvSpPr txBox="1"/>
          <p:nvPr/>
        </p:nvSpPr>
        <p:spPr>
          <a:xfrm>
            <a:off x="900000" y="333360"/>
            <a:ext cx="12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5724360" y="1628640"/>
            <a:ext cx="25210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тро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324000" y="4797360"/>
            <a:ext cx="388764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водопро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1476360" y="189000"/>
            <a:ext cx="604836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правл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Picture 6" descr="залив со спутника"/>
          <p:cNvPicPr/>
          <p:nvPr/>
        </p:nvPicPr>
        <p:blipFill>
          <a:blip r:embed="rId3"/>
          <a:stretch/>
        </p:blipFill>
        <p:spPr>
          <a:xfrm>
            <a:off x="539640" y="1844640"/>
            <a:ext cx="4465800" cy="4465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5219640" y="1844640"/>
            <a:ext cx="3600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7f00"/>
                </a:solidFill>
                <a:latin typeface="Arial"/>
              </a:rPr>
              <a:t>Мониторинг состояния воды бассейна Финского залива и водохозяйственная обстановка Санкт-Петербу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рыбка в маске"/>
          <p:cNvPicPr/>
          <p:nvPr/>
        </p:nvPicPr>
        <p:blipFill>
          <a:blip r:embed="rId1"/>
          <a:stretch/>
        </p:blipFill>
        <p:spPr>
          <a:xfrm>
            <a:off x="5651640" y="3573360"/>
            <a:ext cx="3132000" cy="243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рис дядя на цветке"/>
          <p:cNvPicPr/>
          <p:nvPr/>
        </p:nvPicPr>
        <p:blipFill>
          <a:blip r:embed="rId2"/>
          <a:stretch/>
        </p:blipFill>
        <p:spPr>
          <a:xfrm>
            <a:off x="539640" y="333360"/>
            <a:ext cx="2370240" cy="2384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851280" y="476280"/>
            <a:ext cx="4824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тийское море – международное, поэтому бороться с его загрязнением надо сооб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этого в 1974 году страны Балтийского региона подписали Хельсинскую конвенцию, которая вступила в силу в 1980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3068640"/>
            <a:ext cx="4680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92 году Хельсинская комиссия (ХЕЛКОМ) составила список из 132 «горячих точек» - наиболее опасных источников загрязнения моря, которые надо ликвидировать в первую очер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территории России оказалось 18 таких «горячих точ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 заметных успехов добился Санкт-Петербург, где в 2006 году удалось «закрыть» 3 «горячие точки», связанные с очисткой сточных 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2ad42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0" y="260280"/>
            <a:ext cx="88200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ленькое море - большие проблем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6" descr="залив планктон"/>
          <p:cNvPicPr/>
          <p:nvPr/>
        </p:nvPicPr>
        <p:blipFill>
          <a:blip r:embed="rId1"/>
          <a:stretch/>
        </p:blipFill>
        <p:spPr>
          <a:xfrm>
            <a:off x="3635280" y="2133720"/>
            <a:ext cx="5291280" cy="3963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1773360"/>
            <a:ext cx="3564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а водосборе Балтийского моря интенсивно развивается промышленность и сельское хозяйство. Реки несут в море множество неочищенных и недостаточно очищенных отходов жизнедеятельност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результате в Балтийском море сократились уловы таких ценных пород рыб, как килька, корюшка, минога. Исчезают стоянки перелетных птиц. Пышным цветом «зацвел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»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фитопланкт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2124000" y="-316080"/>
            <a:ext cx="47545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ктуальн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2852640"/>
            <a:ext cx="939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анный проект направлен на воспитание подрастающего поколения, осознающего свою ответственность за сохранение окружающей среды и преумножение ее богатств, умеющего работать в команде и участвовать в принятии ре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971640" y="260280"/>
            <a:ext cx="720072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 проект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268360" y="2565360"/>
            <a:ext cx="48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Обратить внимание учащихся на экологическое состояние водных объектов Санкт–Петербурга; помочь учащимся задуматься о связи качества водной среды и качеств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"/>
          <p:cNvSpPr txBox="1"/>
          <p:nvPr/>
        </p:nvSpPr>
        <p:spPr>
          <a:xfrm>
            <a:off x="1476360" y="189000"/>
            <a:ext cx="6551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дачи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971640" y="1628640"/>
            <a:ext cx="698508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оспитание ответственности и формирование гражданской ответствен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алаживание сотрудничества с жителями, организациями и муниципальными сове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асширение знания об окружающей с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здание возможности проведения интегрированных уроков и применение новых метод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азмещение информации  о деятельности лицея на международной страничке в интер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едоставление возможности участия в международных программах эко-шк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19"/>
          <p:cNvSpPr txBox="1"/>
          <p:nvPr/>
        </p:nvSpPr>
        <p:spPr>
          <a:xfrm>
            <a:off x="1258920" y="0"/>
            <a:ext cx="6913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остоятельные исследовани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WordArt 20"/>
          <p:cNvSpPr txBox="1"/>
          <p:nvPr/>
        </p:nvSpPr>
        <p:spPr>
          <a:xfrm>
            <a:off x="1547640" y="692280"/>
            <a:ext cx="583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ащихся лицея №8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WordArt 21"/>
          <p:cNvSpPr txBox="1"/>
          <p:nvPr/>
        </p:nvSpPr>
        <p:spPr>
          <a:xfrm>
            <a:off x="1835280" y="1197000"/>
            <a:ext cx="525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. Санкт-Петербург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WordArt 22"/>
          <p:cNvSpPr txBox="1"/>
          <p:nvPr/>
        </p:nvSpPr>
        <p:spPr>
          <a:xfrm>
            <a:off x="2268360" y="1700280"/>
            <a:ext cx="453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рамках проек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539640" y="2276640"/>
            <a:ext cx="381636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оведение анализа проб воды из Финского залива, Невы, Ладожского озера и водопровода Санкт- 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Участие в проектной деятельности ДЭЦ ГУП «Водоканал» СП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оведение социологического опроса учащихся по вопросу водосбере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7"/>
          <p:cNvSpPr txBox="1"/>
          <p:nvPr/>
        </p:nvSpPr>
        <p:spPr>
          <a:xfrm>
            <a:off x="2916360" y="2565360"/>
            <a:ext cx="36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астники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3419640" y="3429000"/>
            <a:ext cx="25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ект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1908000" y="3933720"/>
            <a:ext cx="1152720" cy="865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684360" y="501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Учащиеся ГБОУ лицей №82 СП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 flipH="1">
            <a:off x="3708360" y="4221000"/>
            <a:ext cx="50472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3276720" y="5084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5437080" y="4292640"/>
            <a:ext cx="503280" cy="64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5435640" y="5013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едаг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6516720" y="3933720"/>
            <a:ext cx="1224000" cy="93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7020000" y="50846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Муниципальный округ Пасад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 flipH="1" flipV="1">
            <a:off x="1835280" y="1628280"/>
            <a:ext cx="100800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395280" y="692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ДЭЦ ГУП «Водокан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 flipH="1" flipV="1">
            <a:off x="3564000" y="1413000"/>
            <a:ext cx="28728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2627280" y="476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Планет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4"/>
          <p:cNvSpPr/>
          <p:nvPr/>
        </p:nvSpPr>
        <p:spPr>
          <a:xfrm flipV="1">
            <a:off x="5219640" y="1341000"/>
            <a:ext cx="28908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5003640" y="765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Пб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6"/>
          <p:cNvSpPr/>
          <p:nvPr/>
        </p:nvSpPr>
        <p:spPr>
          <a:xfrm flipV="1">
            <a:off x="6227640" y="1484280"/>
            <a:ext cx="100836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7"/>
          <p:cNvSpPr/>
          <p:nvPr/>
        </p:nvSpPr>
        <p:spPr>
          <a:xfrm>
            <a:off x="7164360" y="404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СПбГ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12:51:32Z</dcterms:created>
  <dc:creator>Плехов</dc:creator>
  <dc:description/>
  <dc:language>en-US</dc:language>
  <cp:lastModifiedBy>Пользователь Windows</cp:lastModifiedBy>
  <cp:lastPrinted>2012-04-05T17:49:23Z</cp:lastPrinted>
  <dcterms:modified xsi:type="dcterms:W3CDTF">2012-04-05T17:57:15Z</dcterms:modified>
  <cp:revision>14</cp:revision>
  <dc:subject/>
  <dc:title>Экологический проект</dc:title>
</cp:coreProperties>
</file>