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3A9-5110-4C46-B804-74D6A37F6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4E6-6CFB-4515-94B7-26D6111F1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E84-B335-42AA-BBE5-3E1C00249C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DAB-47F2-4CF3-9749-D04481EA1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64A4-BCD7-4ACB-B69E-AE1A24110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2549-CD68-457E-A6B4-CCC2938BD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60DD-92D4-4CD0-8240-E55A5436F8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8A16-10A0-4818-9893-B68B1E71E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9356-F226-44AC-9BB4-98572FB07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333-5684-4E97-B861-E0608C03F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4412-BF79-4109-9AD3-4E64DB4C7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31D-2561-4756-A7A3-1C4F037C7C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25F-3CD7-4DF0-B72E-531994413A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ED60-C798-4D57-8AAA-E5B09FCD9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EB98-CA8A-4D67-9DCC-EEF2A3003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B8D-27F3-4156-916E-5F50007C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BEC-6984-45C8-A197-99988B9F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13C-C23C-49E0-B6B0-7AB6BCA9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71B-6816-4992-B52A-58DDB197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BDF-A24D-45A4-BF13-B98057CA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B0B-A8A0-4BDD-BC61-62750EE2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C14-0896-40BE-B8D0-5A546533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D1C-9696-4123-89D7-D3BF8DBD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411-1CDC-4A05-B32A-2C81BE29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EF8-C38E-473A-A5A5-FDA31F19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9341-AB14-463F-983F-FA74FE6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EB1-508F-477F-94EC-802E28D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D27-7D76-4619-A6E6-1FB4E5597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489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82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маленьких дел, которые делаются множеством маленьких людей во многих маленьких местах, могут изменить лиц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тайская погов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042920" y="1268280"/>
            <a:ext cx="71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ир воды Санкт-Петербург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8000" y="4076640"/>
            <a:ext cx="6767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Авто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Згибай Т.Н, учитель геогра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Есаян.Н.А,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Мовсисян Л.В, педагог-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907920"/>
            <a:ext cx="8280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жидаемые результа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87280" y="162864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здание инициативной группы педагогов и учащихся для участия ОУ Санкт-Петербурга в экологическом про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403280" y="333360"/>
            <a:ext cx="612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новные направления рабо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826920" y="1844640"/>
            <a:ext cx="727416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Информационное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 – сбор информации о качестве вод Невской губы и о загрязнении вод экосистем бассейна Финского за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Образовательное</a:t>
            </a:r>
            <a:r>
              <a:rPr b="1" lang="ru-RU" sz="2400" spc="-1" strike="noStrike">
                <a:solidFill>
                  <a:srgbClr val="16165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– формирование у учащихся навыков самостоятельного решения проблемы, системного мышления, осознания многочисленных связей в окружающе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1616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61656"/>
                </a:solidFill>
                <a:uFillTx/>
                <a:latin typeface="Arial"/>
              </a:rPr>
              <a:t>Интеграционное</a:t>
            </a:r>
            <a:r>
              <a:rPr b="1" lang="ru-RU" sz="1800" spc="-1" strike="noStrike">
                <a:solidFill>
                  <a:srgbClr val="161656"/>
                </a:solidFill>
                <a:latin typeface="Arial"/>
              </a:rPr>
              <a:t> – это совместная работа над экологическим проектом учащихся и педагогов школ города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cec1"/>
            </a:gs>
            <a:gs pos="100000">
              <a:srgbClr val="d9672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MG_1316"/>
          <p:cNvPicPr/>
          <p:nvPr/>
        </p:nvPicPr>
        <p:blipFill>
          <a:blip r:embed="rId1"/>
          <a:stretch/>
        </p:blipFill>
        <p:spPr>
          <a:xfrm>
            <a:off x="1547640" y="162864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00000" y="40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c00ac"/>
                </a:solidFill>
                <a:latin typeface="Comic Sans MS"/>
              </a:rPr>
              <a:t>Сотрудничество лицея №82 с ДЭЦ ГУП «Водокан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1ff"/>
            </a:gs>
            <a:gs pos="50000">
              <a:srgbClr val="ffbdff"/>
            </a:gs>
            <a:gs pos="100000">
              <a:srgbClr val="ff6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611280" y="549360"/>
            <a:ext cx="34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Занятия учащихся лицея №82 в химической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932360" y="3716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Исследование проб воды на загряз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3"/>
            </a:gs>
            <a:gs pos="50000">
              <a:srgbClr val="f8f200"/>
            </a:gs>
            <a:gs pos="100000">
              <a:srgbClr val="ffff9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900000" y="333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5724360" y="1628640"/>
            <a:ext cx="2521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тро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324000" y="4797360"/>
            <a:ext cx="388764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водопр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1476360" y="189000"/>
            <a:ext cx="60483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равл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6" descr="залив со спутника"/>
          <p:cNvPicPr/>
          <p:nvPr/>
        </p:nvPicPr>
        <p:blipFill>
          <a:blip r:embed="rId3"/>
          <a:stretch/>
        </p:blipFill>
        <p:spPr>
          <a:xfrm>
            <a:off x="539640" y="18446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5219640" y="1844640"/>
            <a:ext cx="3600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7f00"/>
                </a:solidFill>
                <a:latin typeface="Arial"/>
              </a:rPr>
              <a:t>Мониторинг состояния воды бассейна Финского залива и водохозяйственная обстановка 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рыбка в маске"/>
          <p:cNvPicPr/>
          <p:nvPr/>
        </p:nvPicPr>
        <p:blipFill>
          <a:blip r:embed="rId1"/>
          <a:stretch/>
        </p:blipFill>
        <p:spPr>
          <a:xfrm>
            <a:off x="5651640" y="3573360"/>
            <a:ext cx="3132000" cy="243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рис дядя на цветке"/>
          <p:cNvPicPr/>
          <p:nvPr/>
        </p:nvPicPr>
        <p:blipFill>
          <a:blip r:embed="rId2"/>
          <a:stretch/>
        </p:blipFill>
        <p:spPr>
          <a:xfrm>
            <a:off x="539640" y="333360"/>
            <a:ext cx="2370240" cy="2384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851280" y="476280"/>
            <a:ext cx="482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тийское море – международное, поэтому бороться с его загрязнением надо сооб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этого в 1974 году страны Балтийского региона подписали Хельсинскую конвенцию, которая вступила в силу в 1980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3068640"/>
            <a:ext cx="4680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2 году Хельсинская комиссия (ХЕЛКОМ) составила список из 132 «горячих точек» - наиболее опасных источников загрязнения моря, которые надо ликвидировать в первую очер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территории России оказалось 18 таких «горячих точ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 заметных успехов добился Санкт-Петербург, где в 2006 году удалось «закрыть» 3 «горячие точки», связанные с очисткой сточных 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2ad42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>
            <a:off x="0" y="260280"/>
            <a:ext cx="8820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енькое море - большие пробле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6" descr="залив планктон"/>
          <p:cNvPicPr/>
          <p:nvPr/>
        </p:nvPicPr>
        <p:blipFill>
          <a:blip r:embed="rId1"/>
          <a:stretch/>
        </p:blipFill>
        <p:spPr>
          <a:xfrm>
            <a:off x="3635280" y="2133720"/>
            <a:ext cx="5291280" cy="39639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1773360"/>
            <a:ext cx="356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На водосборе Балтийского моря интенсивно развивается промышленность и сельское хозяйство. Реки несут в море множество неочищенных и недостаточно очищенных отходов жизнедеятельност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В результате в Балтийском море сократились уловы таких ценных пород рыб, как килька, корюшка, минога. Исчезают стоянки перелетных птиц. Пышным цветом «зацвел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»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фитопланкт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2124000" y="-316080"/>
            <a:ext cx="475452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уальнос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852640"/>
            <a:ext cx="939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анный проект направлен на воспитание подрастающего поколения, осознающего свою ответственность за сохранение окружающей среды и преумножение ее богатств, умеющего работать в команде и участвовать в принятии ре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971640" y="260280"/>
            <a:ext cx="72007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ь проект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268360" y="2565360"/>
            <a:ext cx="48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Обратить внимание учащихся на экологическое состояние водных объектов Санкт–Петербурга; помочь учащимся задуматься о связи качества водной среды и качеств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4"/>
          <p:cNvSpPr txBox="1"/>
          <p:nvPr/>
        </p:nvSpPr>
        <p:spPr>
          <a:xfrm>
            <a:off x="1476360" y="189000"/>
            <a:ext cx="655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и проек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71640" y="1628640"/>
            <a:ext cx="698508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оспитание ответственности и формирование гражданской ответственност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алаживание сотрудничества с жителями, организациями и муниципальными сове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сширение знания об окружающе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здание возможности проведения интегрированных уроков и применение новых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азмещение информации  о деятельности лицея на международной страничке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0066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едоставление возможности участия в международных программах эко-шк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19"/>
          <p:cNvSpPr txBox="1"/>
          <p:nvPr/>
        </p:nvSpPr>
        <p:spPr>
          <a:xfrm>
            <a:off x="1258920" y="0"/>
            <a:ext cx="6913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амостоятельные исследования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20"/>
          <p:cNvSpPr txBox="1"/>
          <p:nvPr/>
        </p:nvSpPr>
        <p:spPr>
          <a:xfrm>
            <a:off x="1547640" y="692280"/>
            <a:ext cx="583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чащихся лицея №82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WordArt 21"/>
          <p:cNvSpPr txBox="1"/>
          <p:nvPr/>
        </p:nvSpPr>
        <p:spPr>
          <a:xfrm>
            <a:off x="1835280" y="1197000"/>
            <a:ext cx="5257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. Санкт-Петербур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WordArt 22"/>
          <p:cNvSpPr txBox="1"/>
          <p:nvPr/>
        </p:nvSpPr>
        <p:spPr>
          <a:xfrm>
            <a:off x="2268360" y="1700280"/>
            <a:ext cx="453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мках проек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539640" y="2276640"/>
            <a:ext cx="381636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ведение анализа проб воды из Финского залива, Невы, Ладожского озера и водопровода Санкт- 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частие в проектной деятельности ДЭЦ ГУП «Водоканал» СП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оведение социологического опроса учащихся по вопросу вод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7"/>
          <p:cNvSpPr txBox="1"/>
          <p:nvPr/>
        </p:nvSpPr>
        <p:spPr>
          <a:xfrm>
            <a:off x="2916360" y="256536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астники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3419640" y="3429000"/>
            <a:ext cx="25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ект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1908000" y="3933720"/>
            <a:ext cx="115272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84360" y="501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Учащиеся ГБОУ лицей №82 СП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 flipH="1">
            <a:off x="3708360" y="4221000"/>
            <a:ext cx="504720" cy="7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276720" y="5084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5437080" y="4292640"/>
            <a:ext cx="503280" cy="64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435640" y="5013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6516720" y="3933720"/>
            <a:ext cx="1224000" cy="93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20000" y="50846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Муниципальный округ Пасад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H="1" flipV="1">
            <a:off x="1835280" y="1628280"/>
            <a:ext cx="100800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395280" y="692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Arial"/>
              </a:rPr>
              <a:t>ДЭЦ ГУП «Водокан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H="1" flipV="1">
            <a:off x="3564000" y="1413000"/>
            <a:ext cx="287280" cy="107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2627280" y="476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00"/>
                </a:solidFill>
                <a:latin typeface="Arial"/>
              </a:rPr>
              <a:t>Планета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4"/>
          <p:cNvSpPr/>
          <p:nvPr/>
        </p:nvSpPr>
        <p:spPr>
          <a:xfrm flipV="1">
            <a:off x="5219640" y="1341000"/>
            <a:ext cx="28908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5003640" y="76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Пб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6"/>
          <p:cNvSpPr/>
          <p:nvPr/>
        </p:nvSpPr>
        <p:spPr>
          <a:xfrm flipV="1">
            <a:off x="6227640" y="1484280"/>
            <a:ext cx="100836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7"/>
          <p:cNvSpPr/>
          <p:nvPr/>
        </p:nvSpPr>
        <p:spPr>
          <a:xfrm>
            <a:off x="7164360" y="404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66"/>
                </a:solidFill>
                <a:latin typeface="Arial"/>
              </a:rPr>
              <a:t>СПбГ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2:51:32Z</dcterms:created>
  <dc:creator>Плехов</dc:creator>
  <dc:description/>
  <dc:language>en-US</dc:language>
  <cp:lastModifiedBy>Пользователь Windows</cp:lastModifiedBy>
  <cp:lastPrinted>2012-04-05T17:49:23Z</cp:lastPrinted>
  <dcterms:modified xsi:type="dcterms:W3CDTF">2012-04-05T17:57:15Z</dcterms:modified>
  <cp:revision>14</cp:revision>
  <dc:subject/>
  <dc:title>Экологический проект</dc:title>
</cp:coreProperties>
</file>