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B1D-1998-4D67-9245-1FAEE9C1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707-9D5E-45DE-8AD0-E9A38780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807-5E67-48F4-AE87-24D98E4A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E00-E90E-48EE-8C7F-6FCA30E0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B4B-D06C-4629-B92A-F3C5CE9D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93C-EC24-42E1-A7F8-1B4A6EEB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DB4-0BAA-4A73-9FC4-1DC19B9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E1F-DAFA-4FD5-83A1-7EB833EE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51D-9006-43C7-A800-479BE2EC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B50-2666-4020-AFA7-AA50A3D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383-21E5-46AF-B78B-F402850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3F1-DEEC-414D-B10E-D6E0E2D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6E6F-5A38-41F8-ACC4-EFA07898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2276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Безопорная мостовая ко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49360"/>
            <a:ext cx="532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БОУ НПО Профессиональное училище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ен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149720"/>
            <a:ext cx="5256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мпьютерная презент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ыполнил обучающийся Сергей Кривон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уководитель: преподаватель спецпредметов Банцыкин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620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спытание бумажного стержня на рас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844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1628640"/>
            <a:ext cx="142920" cy="1656000"/>
          </a:xfrm>
          <a:prstGeom prst="rect">
            <a:avLst/>
          </a:prstGeom>
          <a:solidFill>
            <a:srgbClr val="8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22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21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549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хема испытания конструкции распределенной нагру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492280"/>
            <a:ext cx="503280" cy="5050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2492280"/>
            <a:ext cx="503280" cy="5050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205000"/>
            <a:ext cx="3816360" cy="287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2565360"/>
            <a:ext cx="360360" cy="151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17733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57200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851280" y="1915920"/>
            <a:ext cx="79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4000" y="278136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580000" y="3429000"/>
            <a:ext cx="936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155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4581360"/>
            <a:ext cx="3168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ределенная нагру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ер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мерение стрелы прог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716280"/>
            <a:ext cx="51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Испытание бумажных стержней дало большой разброс результатов по нескольким причи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Максимальная разрушающая нагрузка составила 250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Это соответствует напряжению 17,76 М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На устойчивость при сжатии стержни показали очень низки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119400"/>
                <a:gridCol w="1513080"/>
                <a:gridCol w="1463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059280" y="148428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1413000"/>
            <a:ext cx="3095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155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-г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557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-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42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 Собственный 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407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ношение А/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479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24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42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2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0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0072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486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486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40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зультаты испыт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95640" y="333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268280"/>
            <a:ext cx="83516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иперболическая конструкция при собственном весе 3,5Н выдерживает длительную статическую нагрузку без остаточной деформации 64Н, отношение составляет 18,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ростое геометрическое увеличение размеров до ширины 21м позволяет получить равнопрочную конструкцию с расстоянием между опорами 249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Предел прочности Ст.3 на растяжение-сжатие - 157МПа, это превышает аналогичный показатель бумажных стержней в 8,8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Устойчивость сжатых стержней из Ст.3 многократно превосходит устойчивость бума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. Данная конструкция заслуживает теоретического и экспериментального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5877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476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770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художник и архитектор Тим Тайлер предложил создавать гиперболические мосты огромной протяженности, составленные из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мосты пока не построены и существуют только модельные вари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, что здесь открывается огромное поле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465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аша задача – проверить на эксперименте нагрузочную способность такой ко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468360" y="3212640"/>
            <a:ext cx="4535280" cy="151308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2565360"/>
            <a:ext cx="3529080" cy="115272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2720" y="4005000"/>
            <a:ext cx="4822920" cy="158580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39640" y="371808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718080"/>
            <a:ext cx="792000" cy="64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47640" y="335772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357720"/>
            <a:ext cx="865440" cy="72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29080" y="3069720"/>
            <a:ext cx="142560" cy="100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3070080"/>
            <a:ext cx="865440" cy="64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39280" y="472572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726080"/>
            <a:ext cx="1152720" cy="503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20360" y="436536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20720" y="4365720"/>
            <a:ext cx="1152720" cy="503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674440" y="399708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9080" y="4078440"/>
            <a:ext cx="1152360" cy="5029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12720" y="487044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9080" y="487044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92360" y="4510080"/>
            <a:ext cx="576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451008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414972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414972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9080" y="3573000"/>
            <a:ext cx="3959280" cy="12970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0720" y="4365720"/>
            <a:ext cx="647640" cy="14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9080" y="4078440"/>
            <a:ext cx="718920" cy="71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726080"/>
            <a:ext cx="649440" cy="14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2360" y="3789360"/>
            <a:ext cx="142920" cy="1800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2360" y="3357720"/>
            <a:ext cx="71280" cy="180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6720" y="3429000"/>
            <a:ext cx="934920" cy="1512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71640" y="306972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55640" y="3644640"/>
            <a:ext cx="433440" cy="11523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8720" y="3718080"/>
            <a:ext cx="1512720" cy="79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763640" y="3286080"/>
            <a:ext cx="504720" cy="1152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3357720"/>
            <a:ext cx="1513080" cy="79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3069720"/>
            <a:ext cx="505080" cy="1079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37080" y="2709360"/>
            <a:ext cx="142920" cy="100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679560" y="367308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718080"/>
            <a:ext cx="1152720" cy="5029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52720" y="378936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7080" y="3718080"/>
            <a:ext cx="718920" cy="71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52720" y="270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4720" y="3070080"/>
            <a:ext cx="1513080" cy="7923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852360" y="2709360"/>
            <a:ext cx="505080" cy="1079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43000" y="3499920"/>
            <a:ext cx="4221000" cy="138276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9080" y="479736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75308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6520" y="543384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00" y="460548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3480" y="363060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99736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08644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328608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429408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3160" y="394812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0784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263700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43700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3080" y="371808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57336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365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5493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Конструктивная схема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13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ни, закрепленные в узлах, образуют треугольники – жестки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3716280"/>
            <a:ext cx="3745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ни: бумага, свернутая в тру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лы: клей ПВА для сборки, бумага, эпоксидный клей для креп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76360" y="692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озможное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341360"/>
            <a:ext cx="7129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Расширение действующих мо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Строительство мостов в горах, через проливы, где можно исключить строительство очень высоких о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троительство конструкций на береговом шельфе при добыче полезных ископаемых нанесет меньше вреда окружающе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мещение промышленных и гражданских объектов над окружающим ландшафтом позволит дистанцировать человека от вредных воздействий окружающей среды и уменьшить в свою очередь воздействие человеческого фактора на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Создание  коммуникаций в городской среде, например, переходы между небоскребами, которые могут использоваться также и как эвакуацион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76360" y="26028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7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Монтаж готовых констру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981000"/>
            <a:ext cx="360360" cy="489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581200">
            <a:off x="2053800" y="1469880"/>
            <a:ext cx="360360" cy="482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519280" y="2528640"/>
            <a:ext cx="36036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907920"/>
            <a:ext cx="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300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981000"/>
            <a:ext cx="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5300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869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4000" y="407664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544500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0"/>
                </a:moveTo>
                <a:lnTo>
                  <a:pt x="726" y="362"/>
                </a:lnTo>
                <a:lnTo>
                  <a:pt x="14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1268280"/>
            <a:ext cx="367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моста выполняется на бере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таж производится поворотом моста вокруг о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4221000"/>
            <a:ext cx="3672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ходное поло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межуточное поло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ончательная устан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ь повор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реговые ли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2360" y="549360"/>
            <a:ext cx="590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Монтаж готовых конструк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Вариант для большой ширины мостового переход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484280"/>
            <a:ext cx="35892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18900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254800">
            <a:off x="1507680" y="1735200"/>
            <a:ext cx="35892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1125360"/>
            <a:ext cx="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052000" y="2321280"/>
            <a:ext cx="35856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480000" y="2283840"/>
            <a:ext cx="358920" cy="44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063800">
            <a:off x="7189920" y="1661760"/>
            <a:ext cx="35856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1557360"/>
            <a:ext cx="358560" cy="42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437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4437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24320" y="4270320"/>
            <a:ext cx="2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64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084640"/>
            <a:ext cx="43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тыковочный узел.  2,3 левая и правая части м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7640" y="54936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ворот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( вариант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286080"/>
            <a:ext cx="21600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6240" y="3070080"/>
            <a:ext cx="2016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286080"/>
            <a:ext cx="57600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3286080"/>
            <a:ext cx="57636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386244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451008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51008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86244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565360"/>
            <a:ext cx="5473440" cy="504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565360"/>
            <a:ext cx="2448000" cy="504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7720"/>
            <a:ext cx="100800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31840" y="3052800"/>
            <a:ext cx="3019320" cy="2490840"/>
          </a:xfrm>
          <a:custGeom>
            <a:avLst/>
            <a:gdLst/>
            <a:ahLst/>
            <a:rect l="l" t="t" r="r" b="b"/>
            <a:pathLst>
              <a:path w="1902" h="1569">
                <a:moveTo>
                  <a:pt x="0" y="0"/>
                </a:moveTo>
                <a:cubicBezTo>
                  <a:pt x="12" y="49"/>
                  <a:pt x="8" y="95"/>
                  <a:pt x="37" y="137"/>
                </a:cubicBezTo>
                <a:cubicBezTo>
                  <a:pt x="47" y="253"/>
                  <a:pt x="56" y="368"/>
                  <a:pt x="64" y="485"/>
                </a:cubicBezTo>
                <a:cubicBezTo>
                  <a:pt x="68" y="541"/>
                  <a:pt x="64" y="576"/>
                  <a:pt x="101" y="613"/>
                </a:cubicBezTo>
                <a:cubicBezTo>
                  <a:pt x="106" y="627"/>
                  <a:pt x="127" y="681"/>
                  <a:pt x="137" y="695"/>
                </a:cubicBezTo>
                <a:cubicBezTo>
                  <a:pt x="196" y="777"/>
                  <a:pt x="138" y="671"/>
                  <a:pt x="183" y="750"/>
                </a:cubicBezTo>
                <a:cubicBezTo>
                  <a:pt x="190" y="762"/>
                  <a:pt x="194" y="775"/>
                  <a:pt x="201" y="786"/>
                </a:cubicBezTo>
                <a:cubicBezTo>
                  <a:pt x="212" y="805"/>
                  <a:pt x="238" y="841"/>
                  <a:pt x="238" y="841"/>
                </a:cubicBezTo>
                <a:cubicBezTo>
                  <a:pt x="244" y="860"/>
                  <a:pt x="259" y="876"/>
                  <a:pt x="265" y="896"/>
                </a:cubicBezTo>
                <a:cubicBezTo>
                  <a:pt x="303" y="1027"/>
                  <a:pt x="294" y="1212"/>
                  <a:pt x="393" y="1317"/>
                </a:cubicBezTo>
                <a:cubicBezTo>
                  <a:pt x="406" y="1355"/>
                  <a:pt x="428" y="1377"/>
                  <a:pt x="466" y="1390"/>
                </a:cubicBezTo>
                <a:cubicBezTo>
                  <a:pt x="544" y="1464"/>
                  <a:pt x="578" y="1466"/>
                  <a:pt x="677" y="1490"/>
                </a:cubicBezTo>
                <a:cubicBezTo>
                  <a:pt x="715" y="1530"/>
                  <a:pt x="943" y="1525"/>
                  <a:pt x="988" y="1527"/>
                </a:cubicBezTo>
                <a:cubicBezTo>
                  <a:pt x="1473" y="1512"/>
                  <a:pt x="1166" y="1569"/>
                  <a:pt x="1317" y="1472"/>
                </a:cubicBezTo>
                <a:cubicBezTo>
                  <a:pt x="1332" y="1428"/>
                  <a:pt x="1348" y="1424"/>
                  <a:pt x="1390" y="1399"/>
                </a:cubicBezTo>
                <a:cubicBezTo>
                  <a:pt x="1410" y="1336"/>
                  <a:pt x="1383" y="1407"/>
                  <a:pt x="1426" y="1344"/>
                </a:cubicBezTo>
                <a:cubicBezTo>
                  <a:pt x="1431" y="1336"/>
                  <a:pt x="1430" y="1325"/>
                  <a:pt x="1436" y="1317"/>
                </a:cubicBezTo>
                <a:cubicBezTo>
                  <a:pt x="1449" y="1300"/>
                  <a:pt x="1481" y="1271"/>
                  <a:pt x="1481" y="1271"/>
                </a:cubicBezTo>
                <a:cubicBezTo>
                  <a:pt x="1499" y="1215"/>
                  <a:pt x="1503" y="1144"/>
                  <a:pt x="1564" y="1125"/>
                </a:cubicBezTo>
                <a:cubicBezTo>
                  <a:pt x="1613" y="1049"/>
                  <a:pt x="1550" y="1134"/>
                  <a:pt x="1609" y="1088"/>
                </a:cubicBezTo>
                <a:cubicBezTo>
                  <a:pt x="1634" y="1069"/>
                  <a:pt x="1666" y="1013"/>
                  <a:pt x="1692" y="987"/>
                </a:cubicBezTo>
                <a:cubicBezTo>
                  <a:pt x="1716" y="914"/>
                  <a:pt x="1792" y="884"/>
                  <a:pt x="1820" y="814"/>
                </a:cubicBezTo>
                <a:cubicBezTo>
                  <a:pt x="1823" y="807"/>
                  <a:pt x="1841" y="748"/>
                  <a:pt x="1847" y="731"/>
                </a:cubicBezTo>
                <a:cubicBezTo>
                  <a:pt x="1850" y="722"/>
                  <a:pt x="1856" y="704"/>
                  <a:pt x="1856" y="704"/>
                </a:cubicBezTo>
                <a:cubicBezTo>
                  <a:pt x="1889" y="471"/>
                  <a:pt x="1902" y="246"/>
                  <a:pt x="1902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258920" y="170028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220500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640" y="3429000"/>
            <a:ext cx="129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2920" y="4076640"/>
            <a:ext cx="1441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42560" y="472428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15640" y="5084640"/>
            <a:ext cx="1655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042560" y="5373720"/>
            <a:ext cx="20890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1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148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835280" y="2133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484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112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284640"/>
            <a:ext cx="43927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ально-упорный подшип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альные подшип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воротная 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пус подшип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Ферма м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Консоль для установки противов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Временный противов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198900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58840" y="2060640"/>
            <a:ext cx="4637160" cy="3103560"/>
          </a:xfrm>
          <a:custGeom>
            <a:avLst/>
            <a:gdLst/>
            <a:ahLst/>
            <a:rect l="l" t="t" r="r" b="b"/>
            <a:pathLst>
              <a:path w="2753" h="1955">
                <a:moveTo>
                  <a:pt x="660" y="1838"/>
                </a:moveTo>
                <a:cubicBezTo>
                  <a:pt x="632" y="1835"/>
                  <a:pt x="603" y="1838"/>
                  <a:pt x="577" y="1829"/>
                </a:cubicBezTo>
                <a:cubicBezTo>
                  <a:pt x="532" y="1814"/>
                  <a:pt x="533" y="1796"/>
                  <a:pt x="504" y="1774"/>
                </a:cubicBezTo>
                <a:cubicBezTo>
                  <a:pt x="419" y="1707"/>
                  <a:pt x="547" y="1814"/>
                  <a:pt x="440" y="1737"/>
                </a:cubicBezTo>
                <a:cubicBezTo>
                  <a:pt x="430" y="1730"/>
                  <a:pt x="423" y="1718"/>
                  <a:pt x="413" y="1710"/>
                </a:cubicBezTo>
                <a:cubicBezTo>
                  <a:pt x="396" y="1696"/>
                  <a:pt x="379" y="1678"/>
                  <a:pt x="358" y="1673"/>
                </a:cubicBezTo>
                <a:cubicBezTo>
                  <a:pt x="334" y="1667"/>
                  <a:pt x="285" y="1655"/>
                  <a:pt x="285" y="1655"/>
                </a:cubicBezTo>
                <a:cubicBezTo>
                  <a:pt x="246" y="1630"/>
                  <a:pt x="223" y="1627"/>
                  <a:pt x="175" y="1619"/>
                </a:cubicBezTo>
                <a:cubicBezTo>
                  <a:pt x="145" y="1598"/>
                  <a:pt x="116" y="1594"/>
                  <a:pt x="93" y="1564"/>
                </a:cubicBezTo>
                <a:cubicBezTo>
                  <a:pt x="79" y="1547"/>
                  <a:pt x="56" y="1509"/>
                  <a:pt x="56" y="1509"/>
                </a:cubicBezTo>
                <a:cubicBezTo>
                  <a:pt x="29" y="1425"/>
                  <a:pt x="40" y="1473"/>
                  <a:pt x="29" y="1363"/>
                </a:cubicBezTo>
                <a:cubicBezTo>
                  <a:pt x="33" y="1205"/>
                  <a:pt x="0" y="963"/>
                  <a:pt x="84" y="805"/>
                </a:cubicBezTo>
                <a:cubicBezTo>
                  <a:pt x="105" y="718"/>
                  <a:pt x="166" y="670"/>
                  <a:pt x="221" y="604"/>
                </a:cubicBezTo>
                <a:cubicBezTo>
                  <a:pt x="235" y="531"/>
                  <a:pt x="250" y="448"/>
                  <a:pt x="303" y="393"/>
                </a:cubicBezTo>
                <a:cubicBezTo>
                  <a:pt x="327" y="321"/>
                  <a:pt x="409" y="297"/>
                  <a:pt x="477" y="284"/>
                </a:cubicBezTo>
                <a:cubicBezTo>
                  <a:pt x="591" y="234"/>
                  <a:pt x="534" y="248"/>
                  <a:pt x="724" y="265"/>
                </a:cubicBezTo>
                <a:cubicBezTo>
                  <a:pt x="753" y="268"/>
                  <a:pt x="806" y="293"/>
                  <a:pt x="806" y="293"/>
                </a:cubicBezTo>
                <a:cubicBezTo>
                  <a:pt x="849" y="290"/>
                  <a:pt x="892" y="292"/>
                  <a:pt x="934" y="284"/>
                </a:cubicBezTo>
                <a:cubicBezTo>
                  <a:pt x="956" y="280"/>
                  <a:pt x="963" y="257"/>
                  <a:pt x="980" y="247"/>
                </a:cubicBezTo>
                <a:cubicBezTo>
                  <a:pt x="994" y="239"/>
                  <a:pt x="1010" y="235"/>
                  <a:pt x="1025" y="229"/>
                </a:cubicBezTo>
                <a:cubicBezTo>
                  <a:pt x="1070" y="187"/>
                  <a:pt x="1114" y="180"/>
                  <a:pt x="1172" y="165"/>
                </a:cubicBezTo>
                <a:cubicBezTo>
                  <a:pt x="1191" y="160"/>
                  <a:pt x="1227" y="147"/>
                  <a:pt x="1227" y="147"/>
                </a:cubicBezTo>
                <a:cubicBezTo>
                  <a:pt x="1268" y="103"/>
                  <a:pt x="1335" y="108"/>
                  <a:pt x="1391" y="92"/>
                </a:cubicBezTo>
                <a:cubicBezTo>
                  <a:pt x="1427" y="82"/>
                  <a:pt x="1456" y="55"/>
                  <a:pt x="1492" y="46"/>
                </a:cubicBezTo>
                <a:cubicBezTo>
                  <a:pt x="1543" y="33"/>
                  <a:pt x="1587" y="10"/>
                  <a:pt x="1638" y="0"/>
                </a:cubicBezTo>
                <a:cubicBezTo>
                  <a:pt x="1720" y="3"/>
                  <a:pt x="1803" y="1"/>
                  <a:pt x="1885" y="9"/>
                </a:cubicBezTo>
                <a:cubicBezTo>
                  <a:pt x="1899" y="10"/>
                  <a:pt x="1908" y="23"/>
                  <a:pt x="1921" y="28"/>
                </a:cubicBezTo>
                <a:cubicBezTo>
                  <a:pt x="1971" y="47"/>
                  <a:pt x="2026" y="58"/>
                  <a:pt x="2077" y="73"/>
                </a:cubicBezTo>
                <a:cubicBezTo>
                  <a:pt x="2129" y="88"/>
                  <a:pt x="2180" y="102"/>
                  <a:pt x="2232" y="119"/>
                </a:cubicBezTo>
                <a:cubicBezTo>
                  <a:pt x="2257" y="127"/>
                  <a:pt x="2305" y="147"/>
                  <a:pt x="2305" y="147"/>
                </a:cubicBezTo>
                <a:cubicBezTo>
                  <a:pt x="2386" y="223"/>
                  <a:pt x="2256" y="106"/>
                  <a:pt x="2351" y="174"/>
                </a:cubicBezTo>
                <a:cubicBezTo>
                  <a:pt x="2365" y="184"/>
                  <a:pt x="2374" y="200"/>
                  <a:pt x="2388" y="211"/>
                </a:cubicBezTo>
                <a:cubicBezTo>
                  <a:pt x="2430" y="244"/>
                  <a:pt x="2429" y="232"/>
                  <a:pt x="2470" y="256"/>
                </a:cubicBezTo>
                <a:cubicBezTo>
                  <a:pt x="2551" y="304"/>
                  <a:pt x="2496" y="283"/>
                  <a:pt x="2552" y="302"/>
                </a:cubicBezTo>
                <a:cubicBezTo>
                  <a:pt x="2573" y="317"/>
                  <a:pt x="2594" y="333"/>
                  <a:pt x="2616" y="348"/>
                </a:cubicBezTo>
                <a:cubicBezTo>
                  <a:pt x="2625" y="354"/>
                  <a:pt x="2635" y="360"/>
                  <a:pt x="2644" y="366"/>
                </a:cubicBezTo>
                <a:cubicBezTo>
                  <a:pt x="2653" y="372"/>
                  <a:pt x="2671" y="384"/>
                  <a:pt x="2671" y="384"/>
                </a:cubicBezTo>
                <a:cubicBezTo>
                  <a:pt x="2691" y="646"/>
                  <a:pt x="2669" y="338"/>
                  <a:pt x="2689" y="750"/>
                </a:cubicBezTo>
                <a:cubicBezTo>
                  <a:pt x="2693" y="827"/>
                  <a:pt x="2684" y="906"/>
                  <a:pt x="2708" y="979"/>
                </a:cubicBezTo>
                <a:cubicBezTo>
                  <a:pt x="2715" y="1001"/>
                  <a:pt x="2740" y="1014"/>
                  <a:pt x="2753" y="1033"/>
                </a:cubicBezTo>
                <a:cubicBezTo>
                  <a:pt x="2738" y="1125"/>
                  <a:pt x="2733" y="1220"/>
                  <a:pt x="2680" y="1299"/>
                </a:cubicBezTo>
                <a:cubicBezTo>
                  <a:pt x="2659" y="1361"/>
                  <a:pt x="2675" y="1339"/>
                  <a:pt x="2644" y="1372"/>
                </a:cubicBezTo>
                <a:cubicBezTo>
                  <a:pt x="2636" y="1425"/>
                  <a:pt x="2640" y="1510"/>
                  <a:pt x="2598" y="1555"/>
                </a:cubicBezTo>
                <a:cubicBezTo>
                  <a:pt x="2560" y="1669"/>
                  <a:pt x="2438" y="1707"/>
                  <a:pt x="2342" y="1756"/>
                </a:cubicBezTo>
                <a:cubicBezTo>
                  <a:pt x="2332" y="1780"/>
                  <a:pt x="2331" y="1809"/>
                  <a:pt x="2315" y="1829"/>
                </a:cubicBezTo>
                <a:cubicBezTo>
                  <a:pt x="2300" y="1847"/>
                  <a:pt x="2279" y="1847"/>
                  <a:pt x="2260" y="1856"/>
                </a:cubicBezTo>
                <a:cubicBezTo>
                  <a:pt x="2131" y="1912"/>
                  <a:pt x="2131" y="1914"/>
                  <a:pt x="1958" y="1920"/>
                </a:cubicBezTo>
                <a:cubicBezTo>
                  <a:pt x="1845" y="1924"/>
                  <a:pt x="1733" y="1926"/>
                  <a:pt x="1620" y="1929"/>
                </a:cubicBezTo>
                <a:cubicBezTo>
                  <a:pt x="1380" y="1955"/>
                  <a:pt x="1149" y="1944"/>
                  <a:pt x="907" y="1939"/>
                </a:cubicBezTo>
                <a:cubicBezTo>
                  <a:pt x="853" y="1920"/>
                  <a:pt x="820" y="1891"/>
                  <a:pt x="769" y="1875"/>
                </a:cubicBezTo>
                <a:cubicBezTo>
                  <a:pt x="760" y="1865"/>
                  <a:pt x="738" y="1840"/>
                  <a:pt x="724" y="1838"/>
                </a:cubicBezTo>
                <a:cubicBezTo>
                  <a:pt x="647" y="1830"/>
                  <a:pt x="686" y="1864"/>
                  <a:pt x="660" y="1838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619280" y="1915920"/>
            <a:ext cx="223200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2133720"/>
            <a:ext cx="237672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64000" y="3644640"/>
            <a:ext cx="2376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4581360"/>
            <a:ext cx="36036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716280"/>
            <a:ext cx="36072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2997360"/>
            <a:ext cx="360360" cy="35856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3860640"/>
            <a:ext cx="36036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716280"/>
            <a:ext cx="43200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33600">
            <a:off x="3312720" y="2455560"/>
            <a:ext cx="720720" cy="36036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620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хема создания новой среды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84360" y="4437000"/>
            <a:ext cx="13665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11280" y="3429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16360" y="2133360"/>
            <a:ext cx="647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5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5229360"/>
            <a:ext cx="60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773360"/>
            <a:ext cx="287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опор миним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оры устанавливаются там, где это удобно по многим критер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5516640"/>
            <a:ext cx="71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Фрагмент сельвы Амазонки.  2. Транспортные артерии.  3. Класте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10920" y="227664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92360" y="5493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ширение существующих мо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1844640"/>
            <a:ext cx="6121440" cy="72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1413000"/>
            <a:ext cx="61214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565360"/>
            <a:ext cx="6121440" cy="432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32000" y="2709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58920" y="155736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258920" y="2133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1989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270972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709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66920" y="32130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уществующий мост.  2. Дополнительные ко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573360"/>
            <a:ext cx="792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е конструкции не увеличивают нагрузку на опоры моста, имея достаточную несущую способ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ющий мост обеспечивает необходимую  устойчивость дополнительных конструкций, например, исключая зарождение и развитие резонансных колебаний при воздействии ветровых нагру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ая схема является предпочтительной на первых безопорных конструкциях, обеспечивая дополнительную надежность при возникновении непредвиденных обстоятельств при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00:30:31Z</dcterms:created>
  <dc:creator>Сергей</dc:creator>
  <dc:description/>
  <dc:language>en-US</dc:language>
  <cp:lastModifiedBy>Сергей</cp:lastModifiedBy>
  <dcterms:modified xsi:type="dcterms:W3CDTF">2006-01-01T00:57:25Z</dcterms:modified>
  <cp:revision>5</cp:revision>
  <dc:subject/>
  <dc:title>Слайд 1</dc:title>
</cp:coreProperties>
</file>