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2FC-F872-498D-85A4-A41BC9A8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2510-FD23-4BD0-B855-02A8CE5F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93C-864C-4501-A5A1-C365A730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BCD-75B3-453D-847D-9DF390A1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BAD-44AA-4063-ACC9-2E6C3618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528-A0A1-4592-A02A-214D800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8EE-0875-499B-B0F3-CE912403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A0D-BCF8-4D02-AB02-BE56DA6F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B40-E323-4D9B-9E54-EBCDC7B1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BC9-44DA-4479-A1C7-7FDF0B63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70E-1DE7-4119-9725-CF48397D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DF5-531B-4FF6-B70F-171747F8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334E-EF2A-4C0B-A07E-E82A6D357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227664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Безопорная мостовая констру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49360"/>
            <a:ext cx="532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ГБОУ НПО Профессиональное училище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Лен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149720"/>
            <a:ext cx="5256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мпьютерная презент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Выполнил обучающийся Сергей Кривоно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уководитель: преподаватель спецпредметов Банцыкин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623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6206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Испытание бумажного стержня на рас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18446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2360" y="1628640"/>
            <a:ext cx="142920" cy="1656000"/>
          </a:xfrm>
          <a:prstGeom prst="rect">
            <a:avLst/>
          </a:prstGeom>
          <a:solidFill>
            <a:srgbClr val="8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3640" y="328464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79640" y="22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рж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3213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у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54936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Схема испытания конструкции распределенной нагруз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492280"/>
            <a:ext cx="503280" cy="5050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12000" y="2492280"/>
            <a:ext cx="503280" cy="5050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72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81200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364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436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436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2205000"/>
            <a:ext cx="3816360" cy="287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0720" y="2565360"/>
            <a:ext cx="360360" cy="15130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17733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572000" y="155700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851280" y="1915920"/>
            <a:ext cx="792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924000" y="278136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580000" y="3429000"/>
            <a:ext cx="936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112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155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2720" y="3716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0000" y="4581360"/>
            <a:ext cx="31687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спределенная нагруз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ер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мерение стрелы прог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716280"/>
            <a:ext cx="511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Испытание бумажных стержней дало большой разброс результатов по нескольким причи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Максимальная разрушающая нагрузка составила 250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Это соответствует напряжению 17,76 М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На устойчивость при сжатии стержни показали очень низки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3119400"/>
                <a:gridCol w="1513080"/>
                <a:gridCol w="146376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3059280" y="148428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148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7640" y="1844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547640" y="1413000"/>
            <a:ext cx="309564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155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оу-г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1557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бо-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242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. Собственный в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528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 Нагру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407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ношение А/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4797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и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59280" y="24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00720" y="2421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2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0072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407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0072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59280" y="4869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486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,5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08000" y="404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езультаты испыт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195640" y="333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268280"/>
            <a:ext cx="83516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иперболическая конструкция при собственном весе 3,5Н выдерживает длительную статическую нагрузку без остаточной деформации 64Н, отношение составляет 18,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Простое геометрическое увеличение размеров до ширины 21м позволяет получить равнопрочную конструкцию с расстоянием между опорами 249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Предел прочности Ст.3 на растяжение-сжатие - 157МПа, это превышает аналогичный показатель бумажных стержней в 8,8 р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Устойчивость сжатых стержней из Ст.3 многократно превосходит устойчивость бума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. Данная конструкция заслуживает теоретического и экспериментального ис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5877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476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остановка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341360"/>
            <a:ext cx="770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мериканский художник и архитектор Тим Тайлер предложил создавать гиперболические мосты огромной протяженности, составленные из треуг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е мосты пока не построены и существуют только модельные вариа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о, что здесь открывается огромное поле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465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Наша задача – проверить на эксперименте нагрузочную способность такой ко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468360" y="3212640"/>
            <a:ext cx="4535280" cy="151308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55640" y="2565360"/>
            <a:ext cx="3529080" cy="115272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12720" y="4005000"/>
            <a:ext cx="4822920" cy="158580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39640" y="3718080"/>
            <a:ext cx="216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3718080"/>
            <a:ext cx="792000" cy="647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547640" y="3357720"/>
            <a:ext cx="216000" cy="100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3357720"/>
            <a:ext cx="865440" cy="72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629080" y="3069720"/>
            <a:ext cx="142560" cy="1008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3070080"/>
            <a:ext cx="865440" cy="648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539280" y="4725720"/>
            <a:ext cx="73080" cy="8636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726080"/>
            <a:ext cx="1152720" cy="5032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620360" y="4365360"/>
            <a:ext cx="73080" cy="8636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20720" y="4365720"/>
            <a:ext cx="1152720" cy="5032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674440" y="3997080"/>
            <a:ext cx="73080" cy="8636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9080" y="4078440"/>
            <a:ext cx="1152360" cy="5029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12720" y="4870440"/>
            <a:ext cx="57636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9080" y="4870440"/>
            <a:ext cx="50328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92360" y="4510080"/>
            <a:ext cx="57600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68360" y="4510080"/>
            <a:ext cx="50328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771640" y="4149720"/>
            <a:ext cx="57636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4149720"/>
            <a:ext cx="503280" cy="35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189080" y="3573000"/>
            <a:ext cx="3959280" cy="129708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20720" y="4365720"/>
            <a:ext cx="647640" cy="144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9080" y="4078440"/>
            <a:ext cx="718920" cy="71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726080"/>
            <a:ext cx="649440" cy="144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12360" y="3789360"/>
            <a:ext cx="142920" cy="18003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692360" y="3357720"/>
            <a:ext cx="71280" cy="1800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6720" y="3429000"/>
            <a:ext cx="934920" cy="15127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71640" y="306972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55640" y="3644640"/>
            <a:ext cx="433440" cy="115236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8720" y="3718080"/>
            <a:ext cx="1512720" cy="792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1763640" y="3286080"/>
            <a:ext cx="504720" cy="1152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3357720"/>
            <a:ext cx="1513080" cy="79200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771280" y="3069720"/>
            <a:ext cx="505080" cy="1079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37080" y="2709360"/>
            <a:ext cx="142920" cy="1008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679560" y="3673080"/>
            <a:ext cx="73080" cy="86364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718080"/>
            <a:ext cx="1152720" cy="50292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852720" y="3789360"/>
            <a:ext cx="576360" cy="71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7080" y="3718080"/>
            <a:ext cx="718920" cy="71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852720" y="270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4720" y="3070080"/>
            <a:ext cx="1513080" cy="79236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852360" y="2709360"/>
            <a:ext cx="505080" cy="1079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43000" y="3499920"/>
            <a:ext cx="4221000" cy="138276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9080" y="4797360"/>
            <a:ext cx="21564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475308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6520" y="5433840"/>
            <a:ext cx="21564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200" y="4605480"/>
            <a:ext cx="21600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3480" y="3630600"/>
            <a:ext cx="21600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2997360"/>
            <a:ext cx="21600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0720" y="5086440"/>
            <a:ext cx="21600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3286080"/>
            <a:ext cx="21564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4294080"/>
            <a:ext cx="21600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3160" y="3948120"/>
            <a:ext cx="21564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40784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08360" y="2637000"/>
            <a:ext cx="21600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4437000"/>
            <a:ext cx="21600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3080" y="371808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3573360"/>
            <a:ext cx="216000" cy="216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436572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54936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Конструктивная схема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13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ржни, закрепленные в узлах, образуют треугольники – жесткие фиг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3716280"/>
            <a:ext cx="3745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ржни: бумага, свернутая в труб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злы: клей ПВА для сборки, бумага, эпоксидный клей для креп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76360" y="692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Возможное 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341360"/>
            <a:ext cx="7129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Расширение действующих мо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Строительство мостов в горах, через проливы, где можно исключить строительство очень высоких оп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троительство конструкций на береговом шельфе при добыче полезных ископаемых нанесет меньше вреда окружающе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Размещение промышленных и гражданских объектов над окружающим ландшафтом позволит дистанцировать человека от вредных воздействий окружающей среды и уменьшить в свою очередь воздействие человеческого фактора на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Создание  коммуникаций в городской среде, например, переходы между небоскребами, которые могут использоваться также и как эвакуацион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76360" y="26028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76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Монтаж готовых констру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981000"/>
            <a:ext cx="360360" cy="489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581200">
            <a:off x="2053800" y="1469880"/>
            <a:ext cx="360360" cy="482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2519280" y="2528640"/>
            <a:ext cx="360360" cy="4897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907920"/>
            <a:ext cx="0" cy="302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530064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981000"/>
            <a:ext cx="0" cy="36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530064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86900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907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7640" y="17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400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84000" y="4076640"/>
            <a:ext cx="43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5445000"/>
            <a:ext cx="2305080" cy="574920"/>
          </a:xfrm>
          <a:custGeom>
            <a:avLst/>
            <a:gdLst/>
            <a:ahLst/>
            <a:rect l="l" t="t" r="r" b="b"/>
            <a:pathLst>
              <a:path w="1452" h="362">
                <a:moveTo>
                  <a:pt x="0" y="0"/>
                </a:moveTo>
                <a:lnTo>
                  <a:pt x="726" y="362"/>
                </a:lnTo>
                <a:lnTo>
                  <a:pt x="14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61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1268280"/>
            <a:ext cx="3672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а моста выполняется на бере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нтаж производится поворотом моста вокруг о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0" y="4221000"/>
            <a:ext cx="3672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ходное полож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межуточное полож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кончательная установ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ь повор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реговые ли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92360" y="549360"/>
            <a:ext cx="59040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Монтаж готовых конструкц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Вариант для большой ширины мостового перехода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484280"/>
            <a:ext cx="35892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189000"/>
            <a:ext cx="0" cy="61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254800">
            <a:off x="1507680" y="1735200"/>
            <a:ext cx="35892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1125360"/>
            <a:ext cx="0" cy="504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2052000" y="2321280"/>
            <a:ext cx="358560" cy="439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6480000" y="2283840"/>
            <a:ext cx="358920" cy="44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063800">
            <a:off x="7189920" y="1661760"/>
            <a:ext cx="358560" cy="439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1557360"/>
            <a:ext cx="358560" cy="42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4437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4437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24320" y="4270320"/>
            <a:ext cx="21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364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3933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4076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4005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5084640"/>
            <a:ext cx="43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Стыковочный узел.  2,3 левая и правая части мо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47640" y="54936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Поворотно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устр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( вариант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00360" y="3286080"/>
            <a:ext cx="216000" cy="18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76240" y="3070080"/>
            <a:ext cx="2016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3286080"/>
            <a:ext cx="576000" cy="358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3286080"/>
            <a:ext cx="576360" cy="358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3862440"/>
            <a:ext cx="36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40000" y="4510080"/>
            <a:ext cx="36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510080"/>
            <a:ext cx="36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862440"/>
            <a:ext cx="36036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565360"/>
            <a:ext cx="5473440" cy="504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2565360"/>
            <a:ext cx="2448000" cy="504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7720"/>
            <a:ext cx="100800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31840" y="3052800"/>
            <a:ext cx="3019320" cy="2490840"/>
          </a:xfrm>
          <a:custGeom>
            <a:avLst/>
            <a:gdLst/>
            <a:ahLst/>
            <a:rect l="l" t="t" r="r" b="b"/>
            <a:pathLst>
              <a:path w="1902" h="1569">
                <a:moveTo>
                  <a:pt x="0" y="0"/>
                </a:moveTo>
                <a:cubicBezTo>
                  <a:pt x="12" y="49"/>
                  <a:pt x="8" y="95"/>
                  <a:pt x="37" y="137"/>
                </a:cubicBezTo>
                <a:cubicBezTo>
                  <a:pt x="47" y="253"/>
                  <a:pt x="56" y="368"/>
                  <a:pt x="64" y="485"/>
                </a:cubicBezTo>
                <a:cubicBezTo>
                  <a:pt x="68" y="541"/>
                  <a:pt x="64" y="576"/>
                  <a:pt x="101" y="613"/>
                </a:cubicBezTo>
                <a:cubicBezTo>
                  <a:pt x="106" y="627"/>
                  <a:pt x="127" y="681"/>
                  <a:pt x="137" y="695"/>
                </a:cubicBezTo>
                <a:cubicBezTo>
                  <a:pt x="196" y="777"/>
                  <a:pt x="138" y="671"/>
                  <a:pt x="183" y="750"/>
                </a:cubicBezTo>
                <a:cubicBezTo>
                  <a:pt x="190" y="762"/>
                  <a:pt x="194" y="775"/>
                  <a:pt x="201" y="786"/>
                </a:cubicBezTo>
                <a:cubicBezTo>
                  <a:pt x="212" y="805"/>
                  <a:pt x="238" y="841"/>
                  <a:pt x="238" y="841"/>
                </a:cubicBezTo>
                <a:cubicBezTo>
                  <a:pt x="244" y="860"/>
                  <a:pt x="259" y="876"/>
                  <a:pt x="265" y="896"/>
                </a:cubicBezTo>
                <a:cubicBezTo>
                  <a:pt x="303" y="1027"/>
                  <a:pt x="294" y="1212"/>
                  <a:pt x="393" y="1317"/>
                </a:cubicBezTo>
                <a:cubicBezTo>
                  <a:pt x="406" y="1355"/>
                  <a:pt x="428" y="1377"/>
                  <a:pt x="466" y="1390"/>
                </a:cubicBezTo>
                <a:cubicBezTo>
                  <a:pt x="544" y="1464"/>
                  <a:pt x="578" y="1466"/>
                  <a:pt x="677" y="1490"/>
                </a:cubicBezTo>
                <a:cubicBezTo>
                  <a:pt x="715" y="1530"/>
                  <a:pt x="943" y="1525"/>
                  <a:pt x="988" y="1527"/>
                </a:cubicBezTo>
                <a:cubicBezTo>
                  <a:pt x="1473" y="1512"/>
                  <a:pt x="1166" y="1569"/>
                  <a:pt x="1317" y="1472"/>
                </a:cubicBezTo>
                <a:cubicBezTo>
                  <a:pt x="1332" y="1428"/>
                  <a:pt x="1348" y="1424"/>
                  <a:pt x="1390" y="1399"/>
                </a:cubicBezTo>
                <a:cubicBezTo>
                  <a:pt x="1410" y="1336"/>
                  <a:pt x="1383" y="1407"/>
                  <a:pt x="1426" y="1344"/>
                </a:cubicBezTo>
                <a:cubicBezTo>
                  <a:pt x="1431" y="1336"/>
                  <a:pt x="1430" y="1325"/>
                  <a:pt x="1436" y="1317"/>
                </a:cubicBezTo>
                <a:cubicBezTo>
                  <a:pt x="1449" y="1300"/>
                  <a:pt x="1481" y="1271"/>
                  <a:pt x="1481" y="1271"/>
                </a:cubicBezTo>
                <a:cubicBezTo>
                  <a:pt x="1499" y="1215"/>
                  <a:pt x="1503" y="1144"/>
                  <a:pt x="1564" y="1125"/>
                </a:cubicBezTo>
                <a:cubicBezTo>
                  <a:pt x="1613" y="1049"/>
                  <a:pt x="1550" y="1134"/>
                  <a:pt x="1609" y="1088"/>
                </a:cubicBezTo>
                <a:cubicBezTo>
                  <a:pt x="1634" y="1069"/>
                  <a:pt x="1666" y="1013"/>
                  <a:pt x="1692" y="987"/>
                </a:cubicBezTo>
                <a:cubicBezTo>
                  <a:pt x="1716" y="914"/>
                  <a:pt x="1792" y="884"/>
                  <a:pt x="1820" y="814"/>
                </a:cubicBezTo>
                <a:cubicBezTo>
                  <a:pt x="1823" y="807"/>
                  <a:pt x="1841" y="748"/>
                  <a:pt x="1847" y="731"/>
                </a:cubicBezTo>
                <a:cubicBezTo>
                  <a:pt x="1850" y="722"/>
                  <a:pt x="1856" y="704"/>
                  <a:pt x="1856" y="704"/>
                </a:cubicBezTo>
                <a:cubicBezTo>
                  <a:pt x="1889" y="471"/>
                  <a:pt x="1902" y="246"/>
                  <a:pt x="1902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258920" y="1700280"/>
            <a:ext cx="5047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88000" y="220500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971640" y="3429000"/>
            <a:ext cx="1296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42920" y="4076640"/>
            <a:ext cx="1441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042560" y="4724280"/>
            <a:ext cx="151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15640" y="5084640"/>
            <a:ext cx="165564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042560" y="5373720"/>
            <a:ext cx="20890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61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1484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835280" y="2133720"/>
            <a:ext cx="720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1484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1125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3284640"/>
            <a:ext cx="43927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диально-упорный подшип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диальные подшипн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воротная о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рпус подшип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 Ферма мос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Консоль для установки противове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Временный противов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1989000"/>
            <a:ext cx="576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58840" y="2060640"/>
            <a:ext cx="4637160" cy="3103560"/>
          </a:xfrm>
          <a:custGeom>
            <a:avLst/>
            <a:gdLst/>
            <a:ahLst/>
            <a:rect l="l" t="t" r="r" b="b"/>
            <a:pathLst>
              <a:path w="2753" h="1955">
                <a:moveTo>
                  <a:pt x="660" y="1838"/>
                </a:moveTo>
                <a:cubicBezTo>
                  <a:pt x="632" y="1835"/>
                  <a:pt x="603" y="1838"/>
                  <a:pt x="577" y="1829"/>
                </a:cubicBezTo>
                <a:cubicBezTo>
                  <a:pt x="532" y="1814"/>
                  <a:pt x="533" y="1796"/>
                  <a:pt x="504" y="1774"/>
                </a:cubicBezTo>
                <a:cubicBezTo>
                  <a:pt x="419" y="1707"/>
                  <a:pt x="547" y="1814"/>
                  <a:pt x="440" y="1737"/>
                </a:cubicBezTo>
                <a:cubicBezTo>
                  <a:pt x="430" y="1730"/>
                  <a:pt x="423" y="1718"/>
                  <a:pt x="413" y="1710"/>
                </a:cubicBezTo>
                <a:cubicBezTo>
                  <a:pt x="396" y="1696"/>
                  <a:pt x="379" y="1678"/>
                  <a:pt x="358" y="1673"/>
                </a:cubicBezTo>
                <a:cubicBezTo>
                  <a:pt x="334" y="1667"/>
                  <a:pt x="285" y="1655"/>
                  <a:pt x="285" y="1655"/>
                </a:cubicBezTo>
                <a:cubicBezTo>
                  <a:pt x="246" y="1630"/>
                  <a:pt x="223" y="1627"/>
                  <a:pt x="175" y="1619"/>
                </a:cubicBezTo>
                <a:cubicBezTo>
                  <a:pt x="145" y="1598"/>
                  <a:pt x="116" y="1594"/>
                  <a:pt x="93" y="1564"/>
                </a:cubicBezTo>
                <a:cubicBezTo>
                  <a:pt x="79" y="1547"/>
                  <a:pt x="56" y="1509"/>
                  <a:pt x="56" y="1509"/>
                </a:cubicBezTo>
                <a:cubicBezTo>
                  <a:pt x="29" y="1425"/>
                  <a:pt x="40" y="1473"/>
                  <a:pt x="29" y="1363"/>
                </a:cubicBezTo>
                <a:cubicBezTo>
                  <a:pt x="33" y="1205"/>
                  <a:pt x="0" y="963"/>
                  <a:pt x="84" y="805"/>
                </a:cubicBezTo>
                <a:cubicBezTo>
                  <a:pt x="105" y="718"/>
                  <a:pt x="166" y="670"/>
                  <a:pt x="221" y="604"/>
                </a:cubicBezTo>
                <a:cubicBezTo>
                  <a:pt x="235" y="531"/>
                  <a:pt x="250" y="448"/>
                  <a:pt x="303" y="393"/>
                </a:cubicBezTo>
                <a:cubicBezTo>
                  <a:pt x="327" y="321"/>
                  <a:pt x="409" y="297"/>
                  <a:pt x="477" y="284"/>
                </a:cubicBezTo>
                <a:cubicBezTo>
                  <a:pt x="591" y="234"/>
                  <a:pt x="534" y="248"/>
                  <a:pt x="724" y="265"/>
                </a:cubicBezTo>
                <a:cubicBezTo>
                  <a:pt x="753" y="268"/>
                  <a:pt x="806" y="293"/>
                  <a:pt x="806" y="293"/>
                </a:cubicBezTo>
                <a:cubicBezTo>
                  <a:pt x="849" y="290"/>
                  <a:pt x="892" y="292"/>
                  <a:pt x="934" y="284"/>
                </a:cubicBezTo>
                <a:cubicBezTo>
                  <a:pt x="956" y="280"/>
                  <a:pt x="963" y="257"/>
                  <a:pt x="980" y="247"/>
                </a:cubicBezTo>
                <a:cubicBezTo>
                  <a:pt x="994" y="239"/>
                  <a:pt x="1010" y="235"/>
                  <a:pt x="1025" y="229"/>
                </a:cubicBezTo>
                <a:cubicBezTo>
                  <a:pt x="1070" y="187"/>
                  <a:pt x="1114" y="180"/>
                  <a:pt x="1172" y="165"/>
                </a:cubicBezTo>
                <a:cubicBezTo>
                  <a:pt x="1191" y="160"/>
                  <a:pt x="1227" y="147"/>
                  <a:pt x="1227" y="147"/>
                </a:cubicBezTo>
                <a:cubicBezTo>
                  <a:pt x="1268" y="103"/>
                  <a:pt x="1335" y="108"/>
                  <a:pt x="1391" y="92"/>
                </a:cubicBezTo>
                <a:cubicBezTo>
                  <a:pt x="1427" y="82"/>
                  <a:pt x="1456" y="55"/>
                  <a:pt x="1492" y="46"/>
                </a:cubicBezTo>
                <a:cubicBezTo>
                  <a:pt x="1543" y="33"/>
                  <a:pt x="1587" y="10"/>
                  <a:pt x="1638" y="0"/>
                </a:cubicBezTo>
                <a:cubicBezTo>
                  <a:pt x="1720" y="3"/>
                  <a:pt x="1803" y="1"/>
                  <a:pt x="1885" y="9"/>
                </a:cubicBezTo>
                <a:cubicBezTo>
                  <a:pt x="1899" y="10"/>
                  <a:pt x="1908" y="23"/>
                  <a:pt x="1921" y="28"/>
                </a:cubicBezTo>
                <a:cubicBezTo>
                  <a:pt x="1971" y="47"/>
                  <a:pt x="2026" y="58"/>
                  <a:pt x="2077" y="73"/>
                </a:cubicBezTo>
                <a:cubicBezTo>
                  <a:pt x="2129" y="88"/>
                  <a:pt x="2180" y="102"/>
                  <a:pt x="2232" y="119"/>
                </a:cubicBezTo>
                <a:cubicBezTo>
                  <a:pt x="2257" y="127"/>
                  <a:pt x="2305" y="147"/>
                  <a:pt x="2305" y="147"/>
                </a:cubicBezTo>
                <a:cubicBezTo>
                  <a:pt x="2386" y="223"/>
                  <a:pt x="2256" y="106"/>
                  <a:pt x="2351" y="174"/>
                </a:cubicBezTo>
                <a:cubicBezTo>
                  <a:pt x="2365" y="184"/>
                  <a:pt x="2374" y="200"/>
                  <a:pt x="2388" y="211"/>
                </a:cubicBezTo>
                <a:cubicBezTo>
                  <a:pt x="2430" y="244"/>
                  <a:pt x="2429" y="232"/>
                  <a:pt x="2470" y="256"/>
                </a:cubicBezTo>
                <a:cubicBezTo>
                  <a:pt x="2551" y="304"/>
                  <a:pt x="2496" y="283"/>
                  <a:pt x="2552" y="302"/>
                </a:cubicBezTo>
                <a:cubicBezTo>
                  <a:pt x="2573" y="317"/>
                  <a:pt x="2594" y="333"/>
                  <a:pt x="2616" y="348"/>
                </a:cubicBezTo>
                <a:cubicBezTo>
                  <a:pt x="2625" y="354"/>
                  <a:pt x="2635" y="360"/>
                  <a:pt x="2644" y="366"/>
                </a:cubicBezTo>
                <a:cubicBezTo>
                  <a:pt x="2653" y="372"/>
                  <a:pt x="2671" y="384"/>
                  <a:pt x="2671" y="384"/>
                </a:cubicBezTo>
                <a:cubicBezTo>
                  <a:pt x="2691" y="646"/>
                  <a:pt x="2669" y="338"/>
                  <a:pt x="2689" y="750"/>
                </a:cubicBezTo>
                <a:cubicBezTo>
                  <a:pt x="2693" y="827"/>
                  <a:pt x="2684" y="906"/>
                  <a:pt x="2708" y="979"/>
                </a:cubicBezTo>
                <a:cubicBezTo>
                  <a:pt x="2715" y="1001"/>
                  <a:pt x="2740" y="1014"/>
                  <a:pt x="2753" y="1033"/>
                </a:cubicBezTo>
                <a:cubicBezTo>
                  <a:pt x="2738" y="1125"/>
                  <a:pt x="2733" y="1220"/>
                  <a:pt x="2680" y="1299"/>
                </a:cubicBezTo>
                <a:cubicBezTo>
                  <a:pt x="2659" y="1361"/>
                  <a:pt x="2675" y="1339"/>
                  <a:pt x="2644" y="1372"/>
                </a:cubicBezTo>
                <a:cubicBezTo>
                  <a:pt x="2636" y="1425"/>
                  <a:pt x="2640" y="1510"/>
                  <a:pt x="2598" y="1555"/>
                </a:cubicBezTo>
                <a:cubicBezTo>
                  <a:pt x="2560" y="1669"/>
                  <a:pt x="2438" y="1707"/>
                  <a:pt x="2342" y="1756"/>
                </a:cubicBezTo>
                <a:cubicBezTo>
                  <a:pt x="2332" y="1780"/>
                  <a:pt x="2331" y="1809"/>
                  <a:pt x="2315" y="1829"/>
                </a:cubicBezTo>
                <a:cubicBezTo>
                  <a:pt x="2300" y="1847"/>
                  <a:pt x="2279" y="1847"/>
                  <a:pt x="2260" y="1856"/>
                </a:cubicBezTo>
                <a:cubicBezTo>
                  <a:pt x="2131" y="1912"/>
                  <a:pt x="2131" y="1914"/>
                  <a:pt x="1958" y="1920"/>
                </a:cubicBezTo>
                <a:cubicBezTo>
                  <a:pt x="1845" y="1924"/>
                  <a:pt x="1733" y="1926"/>
                  <a:pt x="1620" y="1929"/>
                </a:cubicBezTo>
                <a:cubicBezTo>
                  <a:pt x="1380" y="1955"/>
                  <a:pt x="1149" y="1944"/>
                  <a:pt x="907" y="1939"/>
                </a:cubicBezTo>
                <a:cubicBezTo>
                  <a:pt x="853" y="1920"/>
                  <a:pt x="820" y="1891"/>
                  <a:pt x="769" y="1875"/>
                </a:cubicBezTo>
                <a:cubicBezTo>
                  <a:pt x="760" y="1865"/>
                  <a:pt x="738" y="1840"/>
                  <a:pt x="724" y="1838"/>
                </a:cubicBezTo>
                <a:cubicBezTo>
                  <a:pt x="647" y="1830"/>
                  <a:pt x="686" y="1864"/>
                  <a:pt x="660" y="1838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619280" y="1915920"/>
            <a:ext cx="2232000" cy="309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2133720"/>
            <a:ext cx="2376720" cy="30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64000" y="3644640"/>
            <a:ext cx="237636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95640" y="4581360"/>
            <a:ext cx="360360" cy="35892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716280"/>
            <a:ext cx="360720" cy="35892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2997360"/>
            <a:ext cx="360360" cy="35856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19640" y="3860640"/>
            <a:ext cx="360360" cy="35892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716280"/>
            <a:ext cx="432000" cy="35892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133600">
            <a:off x="3312720" y="2455560"/>
            <a:ext cx="720720" cy="360360"/>
          </a:xfrm>
          <a:prstGeom prst="ellipse">
            <a:avLst/>
          </a:prstGeom>
          <a:solidFill>
            <a:srgbClr val="33cc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620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Схема создания новой среды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84360" y="4437000"/>
            <a:ext cx="13665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11280" y="3429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16360" y="2133360"/>
            <a:ext cx="647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45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1700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5229360"/>
            <a:ext cx="604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773360"/>
            <a:ext cx="2879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ичество опор миним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оры устанавливаются там, где это удобно по многим критер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5516640"/>
            <a:ext cx="71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Фрагмент сельвы Амазонки.  2. Транспортные артерии.  3. Класте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10920" y="227664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92360" y="54936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Расширение существующих мо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1844640"/>
            <a:ext cx="6121440" cy="72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1413000"/>
            <a:ext cx="6121440" cy="431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565360"/>
            <a:ext cx="6121440" cy="4320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332000" y="2709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258920" y="155736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258920" y="2133720"/>
            <a:ext cx="1224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2133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198900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141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2709720"/>
            <a:ext cx="4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270972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66920" y="3213000"/>
            <a:ext cx="77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Существующий мост.  2. Дополнительные констру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3573360"/>
            <a:ext cx="792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е конструкции не увеличивают нагрузку на опоры моста, имея достаточную несущую способ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ющий мост обеспечивает необходимую  устойчивость дополнительных конструкций, например, исключая зарождение и развитие резонансных колебаний при воздействии ветровых нагруз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ая схема является предпочтительной на первых безопорных конструкциях, обеспечивая дополнительную надежность при возникновении непредвиденных обстоятельств при эксплуа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1T00:30:31Z</dcterms:created>
  <dc:creator>Сергей</dc:creator>
  <dc:description/>
  <dc:language>en-US</dc:language>
  <cp:lastModifiedBy>Сергей</cp:lastModifiedBy>
  <dcterms:modified xsi:type="dcterms:W3CDTF">2006-01-01T00:57:25Z</dcterms:modified>
  <cp:revision>5</cp:revision>
  <dc:subject/>
  <dc:title>Слайд 1</dc:title>
</cp:coreProperties>
</file>