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C7C-87BC-4E03-B1B0-D6F60D65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9D6-5225-4725-A4F0-BEC1EE0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F31-13A4-4186-AF89-700FCAB8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9F9-E3B0-49BA-9FED-B688AE55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CDD-3484-4571-A7BB-BC525E7F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D1C8-496C-411E-AA51-5C9410E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1A9-DF20-4D4D-835B-E71A024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922-E1D6-42B3-9AB4-89B9285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E94-8E96-45DD-A18E-BB584D2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3252-7A82-4123-88D5-117D5263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9B09-A316-45A2-8E7A-C84CA91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8F6-0053-40F6-A47C-34926965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B187-A62E-4757-88BB-B69EA96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6143-E4C4-44AD-A34D-8EF37740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E21-7DA5-4F7F-AC50-45C457EB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13B4-B5FD-4AC5-B969-B8DEC7F7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142F-5BE3-4630-BF13-498D3448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469-5185-4D20-AF45-D6FF6DB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084-D04F-421E-8DA2-4A5EED2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313-9498-4800-8A9A-ED382690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2BF-564E-4527-B84A-F0AB40DF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8A2-1401-4F8B-ADD3-F6EDF85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B67-A127-424A-AC55-F3F0A3F5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1EB-8B0E-45CE-8A20-96510740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8EE1-DA7B-48CA-9B1E-76621F8176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1C22-A507-4DF7-BDC6-3C0EB3988C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3;&#1077;&#1083;&#1086;&#1074;&#1077;&#1082;" TargetMode="External"/><Relationship Id="rId3" Type="http://schemas.openxmlformats.org/officeDocument/2006/relationships/hyperlink" Target="http://ru.wikipedia.org/wiki/&#1043;&#1086;&#1083;&#1086;&#1074;&#1085;&#1086;&#1081;_&#1084;&#1086;&#1079;&#1075;" TargetMode="External"/><Relationship Id="rId4" Type="http://schemas.openxmlformats.org/officeDocument/2006/relationships/hyperlink" Target="http://ru.wikipedia.org/wiki/&#1063;&#1077;&#1083;&#1086;&#1074;&#1077;&#1082;&#1086;&#1086;&#1073;&#1088;&#1072;&#1079;&#1085;&#1099;&#1077;" TargetMode="External"/><Relationship Id="rId5" Type="http://schemas.openxmlformats.org/officeDocument/2006/relationships/hyperlink" Target="http://ru.wikipedia.org/wiki/&#1043;&#1086;&#1084;&#1080;&#1085;&#1080;&#1076;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3/32/A.afarensis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0/02/Taung_child_%28Frankfurt_am_Main%29_2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92;&#1088;&#1080;&#1082;&#1072;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3;&#1077;&#1083;&#1086;&#1074;&#1077;&#1082;_&#1088;&#1072;&#1079;&#1091;&#1084;&#1085;&#1099;&#1081;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3;&#1077;&#1083;&#1086;&#1074;&#1077;&#1082;_&#1088;&#1072;&#1079;&#1091;&#1084;&#1085;&#1099;&#1081;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1;&#1102;&#1076;&#1080;_(&#1088;&#1086;&#1076;)" TargetMode="External"/><Relationship Id="rId4" Type="http://schemas.openxmlformats.org/officeDocument/2006/relationships/hyperlink" Target="http://ru.wikipedia.org/wiki/&#1051;&#1102;&#1076;&#1080;_(&#1088;&#1086;&#1076;)" TargetMode="External"/><Relationship Id="rId5" Type="http://schemas.openxmlformats.org/officeDocument/2006/relationships/hyperlink" Target="http://ru.wikipedia.org/wiki/&#1043;&#1086;&#1084;&#1080;&#1085;&#1080;&#1076;&#1099;" TargetMode="External"/><Relationship Id="rId6" Type="http://schemas.openxmlformats.org/officeDocument/2006/relationships/hyperlink" Target="http://ru.wikipedia.org/wiki/&#1055;&#1088;&#1080;&#1084;&#1072;&#1090;&#1099;" TargetMode="External"/><Relationship Id="rId7" Type="http://schemas.openxmlformats.org/officeDocument/2006/relationships/hyperlink" Target="http://ru.wikipedia.org/wiki/&#1063;&#1077;&#1083;&#1086;&#1074;&#1077;&#1082;&#1086;&#1086;&#1073;&#1088;&#1072;&#1079;&#1085;&#1099;&#1077;" TargetMode="External"/><Relationship Id="rId8" Type="http://schemas.openxmlformats.org/officeDocument/2006/relationships/hyperlink" Target="http://ru.wikipedia.org/wiki/&#1056;&#1077;&#1095;&#1100;" TargetMode="External"/><Relationship Id="rId9" Type="http://schemas.openxmlformats.org/officeDocument/2006/relationships/hyperlink" Target="http://ru.wikipedia.org/wiki/&#1040;&#1073;&#1089;&#1090;&#1088;&#1072;&#1082;&#1090;&#1085;&#1086;&#1077;_&#1084;&#1099;&#1096;&#1083;&#1077;&#1085;&#1080;&#1077;" TargetMode="External"/><Relationship Id="rId10" Type="http://schemas.openxmlformats.org/officeDocument/2006/relationships/hyperlink" Target="http://ru.wikipedia.org/wiki/&#1063;&#1077;&#1083;&#1086;&#1074;&#1077;&#1095;&#1077;&#1089;&#1090;&#1074;&#1086;" TargetMode="External"/><Relationship Id="rId11" Type="http://schemas.openxmlformats.org/officeDocument/2006/relationships/hyperlink" Target="http://ru.wikipedia.org/wiki/&#1060;&#1080;&#1079;&#1080;&#1095;&#1077;&#1089;&#1082;&#1072;&#1103;_&#1072;&#1085;&#1090;&#1088;&#1086;&#1087;&#1086;&#1083;&#1086;&#1075;&#1080;&#1103;" TargetMode="External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1;&#1102;&#1076;&#1080;_(&#1088;&#1086;&#1076;)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8/Neanderthalensis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upload.wikimedia.org/wikipedia/commons/9/9b/Neanderthaler_Fund.png" TargetMode="External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9/Neanderthal_child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88;&#1072;&#1085;&#1094;&#1091;&#1079;&#1089;&#1082;&#1080;&#1081;_&#1103;&#1079;&#1099;&#1082;" TargetMode="External"/><Relationship Id="rId3" Type="http://schemas.openxmlformats.org/officeDocument/2006/relationships/hyperlink" Target="http://ru.wikipedia.org/wiki/&#1055;&#1072;&#1083;&#1077;&#1086;&#1083;&#1080;&#1090;" TargetMode="External"/><Relationship Id="rId4" Type="http://schemas.openxmlformats.org/officeDocument/2006/relationships/hyperlink" Target="http://ru.wikipedia.org/wiki/&#1052;&#1086;&#1075;&#1080;&#1083;&#1072;" TargetMode="External"/><Relationship Id="rId5" Type="http://schemas.openxmlformats.org/officeDocument/2006/relationships/hyperlink" Target="http://ru.wikipedia.org/wiki/&#1041;&#1099;&#1090;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313/alexb97.4/0_3ee8_81065bf9_XL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ecology.md/pics/2010/03/hist_illiuzia02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47.radikal.ru/i116/0809/2e/b2ed22214d26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lenta.ru/news/2006/03/07/four/pictur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mer.info/bibliotek_Buks/Science/kart_mir/bio_kart_clip_image003_0000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line.computerra.ru/pubimages/62674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cdn.bleacherreport.com/images_root/slides/photos/000/150/502/imagesCAQ5ULDS_display_image.jpg?1265258823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4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5" Type="http://schemas.openxmlformats.org/officeDocument/2006/relationships/hyperlink" Target="http://ru.wikipedia.org/wiki/&#1055;&#1088;&#1080;&#1084;&#1072;&#1090;&#1099;" TargetMode="External"/><Relationship Id="rId6" Type="http://schemas.openxmlformats.org/officeDocument/2006/relationships/hyperlink" Target="http://ru.wikipedia.org/wiki/&#1050;&#1072;&#1083;&#1072;&#1093;&#1072;&#1088;&#1080;" TargetMode="External"/><Relationship Id="rId7" Type="http://schemas.openxmlformats.org/officeDocument/2006/relationships/hyperlink" Target="http://ru.wikipedia.org/wiki/&#1070;&#1078;&#1085;&#1072;&#1103;_&#1040;&#1092;&#1088;&#1080;&#1082;&#1072;" TargetMode="External"/><Relationship Id="rId8" Type="http://schemas.openxmlformats.org/officeDocument/2006/relationships/hyperlink" Target="http://ru.wikipedia.org/wiki/1924_&#1075;&#1086;&#1076;" TargetMode="External"/><Relationship Id="rId9" Type="http://schemas.openxmlformats.org/officeDocument/2006/relationships/hyperlink" Target="http://ru.wikipedia.org/wiki/&#1042;&#1086;&#1089;&#1090;&#1086;&#1095;&#1085;&#1072;&#1103;_&#1040;&#1092;&#1088;&#1080;&#1082;&#1072;" TargetMode="External"/><Relationship Id="rId10" Type="http://schemas.openxmlformats.org/officeDocument/2006/relationships/hyperlink" Target="http://ru.wikipedia.org/wiki/&#1062;&#1077;&#1085;&#1090;&#1088;&#1072;&#1083;&#1100;&#1085;&#1072;&#1103;_&#1040;&#1092;&#1088;&#1080;&#1082;&#1072;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e/e1/Australopithecus_africanus_%28mrs._Pless%29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198900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Arial"/>
              </a:rPr>
              <a:t>Как человек появился на Земл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4936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Урок природоведения в 5 клас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человек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встралопитеков сближ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слабое развитие челю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отсутствие крупных выступающих клыков, хватательная кисть с развитым большим пальцем, опорная стопа и строение таза, приспособленное для прямохож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Головной моз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носительно крупный (500—600 см³), но по строению мало отличающийся от мозга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человекообразных обезья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о объёму он составлял не более 35 % от средних размеров мозга современного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Размеры тела также были невел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е более 120—140 см в высоту, телосложение стройное. Предполагается, что самцы были существенно крупнее самок, чем у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Файл:A.afarensi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333360"/>
            <a:ext cx="3240000" cy="626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0" y="98100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конструкция самки австралопит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284720" y="3429000"/>
            <a:ext cx="38894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айл:Taung child (Frankfurt am Main) 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89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87280" y="60213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люсти и слепок детеныша австралопи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умел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Homo ergaster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работаю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 — ископаемый вид людей, появившийся в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Африк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1,8 млн лет наза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ичия заключаются в строении черепа Средний объём черепа 880 см³. Рост — 130-170 см. Череп округлый, надбровные дуги сильно развиты, зубы мелкие, особенно в сравнении с австралопите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Файл:Homo ergaster.jpg"/>
          <p:cNvPicPr/>
          <p:nvPr/>
        </p:nvPicPr>
        <p:blipFill>
          <a:blip r:embed="rId3"/>
          <a:stretch/>
        </p:blipFill>
        <p:spPr>
          <a:xfrm>
            <a:off x="7164360" y="4797360"/>
            <a:ext cx="1716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47640" y="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удия человека умел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прямоходящ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ректу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прямоходя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ископаемый вид людей, который рассматривают как непосредственного предшественника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овременных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ектусы обладали средним ростом (1,5—1,8 м), прямой походкой, низкая лобная кость, выступающие надглазничные валики, скошенный подбородок). Объём мозга у некарликовых форм достигал 900—1200 см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прямоходящ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6575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ректу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овек прямоходящи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ископаемый вид людей, который рассматривают как непосредственного предшественника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современных люд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ректусы обладали средним ростом (1,5—1,8 м), прямой походкой, низкая лобная кость, выступающие надглазничные валики, скошенный подбородок). Объём мозга у некарликовых форм достигал 900—1200 см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Файл:Homo erectus.JPG"/>
          <p:cNvPicPr/>
          <p:nvPr/>
        </p:nvPicPr>
        <p:blipFill>
          <a:blip r:embed="rId4"/>
          <a:stretch/>
        </p:blipFill>
        <p:spPr>
          <a:xfrm>
            <a:off x="6227640" y="2060640"/>
            <a:ext cx="27561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Человек разум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́к разу́мн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sapien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единственный живущий вид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род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om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емейств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гомини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тряда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примат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От современных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человекообраз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помимо ряда анатомических особенностей, отличается значительной степенью развития материальной культуры (включая изготовление и использование орудий), способностью к членораздельной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реч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абстрактному мышлени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овокупность человеческих индивидов называют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человечеств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, как биологический вид — предмет исследования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физической антрополог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еандертале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андерта́ле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неандертальск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neanderthalen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Homo sapiens neanderthalensi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 — ископаемый вид 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люд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 обитавших 300—24 тысячи лет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произошло от реки Неандерталь 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андертальцы обладали средним ростом (около 165 см) и массивным телосложением. По объёму черепной коробки (1400—1600 см³ и выше) они даже превосходили современных людей. Их отличали мощные надбровные дуги, выступающий широкий нос и очень маленький подбород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Файл:Neanderthalensi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2686320" cy="570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Файл:Neanderthaler Fund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80000" y="981000"/>
            <a:ext cx="4848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накомить учащих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 предками человека, их образом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с человеком умелым, человеком прямоходящим, человеком разум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Файл:Neanderthal chil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404640"/>
            <a:ext cx="4543560" cy="570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907920"/>
            <a:ext cx="3456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андертальский ребе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-х лет (Институт антропологии, Цюри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оманьонец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оманьонц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ф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Homme de Cro-Magno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 — жили 40-10 тысяч лет назад (период верхнего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палеоли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Объём головного мозга равен 1200—1500 см³. Рост около 180 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дал развитой членораздельной речью, строил жилища, одевался в одежды из шкур, было развито гончарное дело. Жили родовым обществом, начали приручать животных и заниматься земледел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численные находки свидетельствуют о наличии культа охоты. Фигурки зверей пронзали стрелами, убивая таким образом зверя. Кроманьонец умел не только гравировать и рисовать на плоскости, но и научился передавать и объёмные изображ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оманьонцев существовали погребальные обряды. В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могил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лали предметы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бы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еду, украшения. Мертвых посыпали кроваво-красной охрой, надевали сетку на волосы, браслеты на руки, на лицо клали плоские камни и хоронили в согнутом положении (колени касались подборо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2960" y="700200"/>
            <a:ext cx="7858080" cy="5457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7640" y="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Жилища 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кроманьонц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260280"/>
            <a:ext cx="761976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7524720" cy="555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835280" y="260280"/>
            <a:ext cx="5976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скальная живоп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620120" cy="5343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8360" y="40464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ahoma"/>
              </a:rPr>
              <a:t>Орудия труда, украшения кроманьон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ыбери правильный отве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ками человека бы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шимпанз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горил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вымершие обезьяны дриопите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ервыми на Земле появил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человек прямоходящ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человек умелы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человек разум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итайте какую-нибудь книгу о жизни древних людей. Приготовьтесь рассказать интересный эпизод из этой книги на уро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.140-141  изучить статью (текст)., стр.144 «Проверь свои знания» (устн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54936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рвые люди на земле появились примерно около 2 млн. лет наза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ткуда они появилис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Картинка 1 из 38370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3645000"/>
            <a:ext cx="4051080" cy="2706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Картинка 47 из 1319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3716280"/>
            <a:ext cx="3311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Картинка 6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60280"/>
            <a:ext cx="4897440" cy="604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620640"/>
            <a:ext cx="280836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00"/>
                </a:solidFill>
                <a:uFillTx/>
                <a:latin typeface="Arial"/>
              </a:rPr>
              <a:t>Дриопитек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древесные обезьяны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итали на деревьях в африканских тропических лесах несколько млн.лет наз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4640"/>
            <a:ext cx="8207280" cy="610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20901600">
            <a:off x="684360" y="549000"/>
            <a:ext cx="3527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волю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Картинка 13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51600" y="189000"/>
            <a:ext cx="2317680" cy="331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2492280"/>
            <a:ext cx="302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е значение для древних людей имела способность изготавливать орудия труда и охоты,  отличавшая их от живот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476280"/>
            <a:ext cx="40384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имание вопро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5" name="" descr="Картинка 3 из 23"/>
          <p:cNvPicPr/>
          <p:nvPr/>
        </p:nvPicPr>
        <p:blipFill>
          <a:blip r:embed="rId4"/>
          <a:stretch/>
        </p:blipFill>
        <p:spPr>
          <a:xfrm>
            <a:off x="3564000" y="3141720"/>
            <a:ext cx="2558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20 из 2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981000"/>
            <a:ext cx="4362480" cy="4087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3 из 218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92720" y="1052640"/>
            <a:ext cx="3333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5280" y="1341360"/>
            <a:ext cx="8280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встралопите́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australi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южный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др.-греч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πίθηκος — обезьяна) — группа ископаемых высших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прим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сти которых впервые были обнаружены в пустыне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Калахар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Южная Афри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1924 год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а затем в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Восточн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Центральной Африк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стралопитеки были всеядны; предположительно для нападения и для защиты употребляли кости животных, палки, камни, возможно, что наиболее развитые виды умели их немного обрабат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Файл:Australopithecus africanus (mrs. Pless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3640" y="18900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6021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ереп самки австралопит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2:16:46Z</dcterms:created>
  <dc:creator>1</dc:creator>
  <dc:description/>
  <dc:language>en-US</dc:language>
  <cp:lastModifiedBy>1</cp:lastModifiedBy>
  <dcterms:modified xsi:type="dcterms:W3CDTF">2012-07-13T09:07:39Z</dcterms:modified>
  <cp:revision>5</cp:revision>
  <dc:subject/>
  <dc:title>Слайд 1</dc:title>
</cp:coreProperties>
</file>