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13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AE2-3D3C-4686-B133-973611B2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5DE-998F-4101-A2A1-853D9747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367-ADAA-4D19-8321-3CE303C2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97F-D54A-43E8-B244-489E5576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B7B4-8943-4F1E-B3AC-ECA2FA4C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E688-9F86-4BDC-BB84-5D2E687E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D70B-3979-4AC4-AE87-3D3D3D43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8206-A383-4D9E-BA57-BD90F09D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2E7E-0A0D-42D2-B357-D53B5CB0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6726-F02A-4667-9A6D-37E8BA9E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D43A-7354-4741-B5FC-4A4959A7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403-6DB4-41DB-95FA-3DCF8E99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B5F6-19D8-43C4-AE29-0C7AB0BA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281C-DE4A-4184-BB0F-A5071BD6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E282-E4DD-4919-B3A9-66813C5C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61BC-6C69-4AEE-89E1-37459425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8747-F7C7-46E8-B537-ECC28D06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EBB87-161C-4C94-884E-79BEBB7F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6263-325F-4F2E-A8C9-064E869D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C894-3F04-4254-9531-0AB05193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F181B-A7F4-43B3-B44F-656846EC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2F6D2-0C21-4806-A184-2B56B57E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690-09EB-45DE-A871-0B02731B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54E3A-4A82-4DD1-9C17-CA75AEFF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F8DF7-4193-4B2E-9CD5-4F543E5C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E1E7B-D400-463A-BF09-AA8F8259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E648-631F-4EC7-8C71-D8BCD45A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9457C-125B-4E26-8B37-D696C59D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F61DC-F714-4527-8AB9-5F5B51B0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3C900-9043-46A9-9EE2-BFF9E1A0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4AD6D-7FAB-468F-8886-A42E378B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B90E6-472F-467B-8DB4-97068C78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4E103-3776-496D-816D-03F69F5F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A76-A17B-47FA-9DC8-61A67F73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BC13C-4AF9-45B4-A095-495331DC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89878-AB95-4D2D-851A-0E6D58B7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FDD74-8068-40B9-9EE0-4400F06E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CE201-0EF6-4BC8-BCE8-AB6B468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A2429-772C-4CA1-A476-DBFB544F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D8F22-D7A4-49A2-8949-0307BE3F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561F2-0720-43C1-BE40-C261F4CB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82ECF-F718-4320-BD49-FB79ED39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44222-B31F-448D-87E3-83D75F69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EDC6E-340C-4DE6-94B1-2C8842F0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8F9-7708-4E22-A0DB-45136C92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1A853-FA93-4F38-A4BA-E1A284EA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E646D-D40F-4F40-B5EE-E368D557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2BA0E-2B3A-4BC3-9962-995FCE52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E84A3-1B42-4D53-BC20-1EEA20E6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16222-C89A-4B8E-AFF3-195BE603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AD8F2-8756-46E7-B4D0-91C07FE1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94891-0DEF-488B-9685-9DCCFAA0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2141C-B388-41F3-8FA0-4C8E63C7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D81F0-3EFC-416C-BF29-8061ECCF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DCC95-1D8F-4166-812D-91C2E91B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B90-6732-4BC8-B9AB-E3BDC5A5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D83BC-127A-403B-B089-31DC33BD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373A-3120-4E72-88EF-40AFAC1D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88C-AF13-4D68-909A-6AE65E40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223-1118-4FC6-A97A-2C563754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460D-B68E-48AD-8506-A55B7C5F045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6879-2DC9-4329-8964-C1FC082A31BB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B933-772A-4C4C-A74D-7B7F6A247E77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E6CA-6710-4DD0-A6F0-DD2413D62C87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AE9B-DD04-4C78-BA11-FB4C78A7520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hyperlink" Target="http://www.physics.uni-altai.ru/gallery/wp/beach024?full=1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physics.uni-altai.ru/gallery/wp/River_07?full=1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physics.uni-altai.ru/gallery/wp/Sunrise_03?full=1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school.uni-altai.ru/astro/SolarSys/earth.jpg.html" TargetMode="External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atani.ru/waterfall/2403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atani.ru/waterfall/814/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atani.ru/under_water/3492/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natani.ru/under_water/2329/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atani.ru/ocean/3526/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natani.ru/ocean/3559/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atani.ru/waterfall/2403/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natani.ru/waterfall/814/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d0d0d"/>
                </a:solidFill>
                <a:latin typeface="Trebuchet MS"/>
              </a:rPr>
              <a:t>ЗЕМЛЯ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3571920" y="528624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Урок в 5 классе  по природовед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Пляж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0200" y="2928960"/>
            <a:ext cx="1905120" cy="14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Горная речк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00120" y="4500720"/>
            <a:ext cx="1905120" cy="147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Закат на мор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7120" y="3143160"/>
            <a:ext cx="1905120" cy="147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Земля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0"/>
            <a:ext cx="30002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Планета Земля - взгляд из космос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285840"/>
            <a:ext cx="7048800" cy="5286240"/>
          </a:xfrm>
          <a:prstGeom prst="rect">
            <a:avLst/>
          </a:prstGeom>
          <a:ln w="0">
            <a:noFill/>
          </a:ln>
        </p:spPr>
      </p:pic>
      <p:sp>
        <p:nvSpPr>
          <p:cNvPr id="249" name="TextBox 2"/>
          <p:cNvSpPr/>
          <p:nvPr/>
        </p:nvSpPr>
        <p:spPr>
          <a:xfrm>
            <a:off x="2000160" y="578628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Циклон Альбер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Планета Земля - взгляд из космос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35712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2143080" y="592920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айфун Эпси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Красивые фото Земли из космоса"/>
          <p:cNvPicPr/>
          <p:nvPr/>
        </p:nvPicPr>
        <p:blipFill>
          <a:blip r:embed="rId1"/>
          <a:stretch/>
        </p:blipFill>
        <p:spPr>
          <a:xfrm>
            <a:off x="571680" y="571680"/>
            <a:ext cx="7333920" cy="55004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050920" y="189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мля из косм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Фото земли из космоса (19 фото)"/>
          <p:cNvPicPr/>
          <p:nvPr/>
        </p:nvPicPr>
        <p:blipFill>
          <a:blip r:embed="rId1"/>
          <a:stretch/>
        </p:blipFill>
        <p:spPr>
          <a:xfrm>
            <a:off x="250920" y="9079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476360" y="26028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вержение вулк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Фото земли из космоса (19 фото)"/>
          <p:cNvPicPr/>
          <p:nvPr/>
        </p:nvPicPr>
        <p:blipFill>
          <a:blip r:embed="rId1"/>
          <a:stretch/>
        </p:blipFill>
        <p:spPr>
          <a:xfrm>
            <a:off x="285840" y="357120"/>
            <a:ext cx="78026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Фото земли из космоса (19 фото)"/>
          <p:cNvPicPr/>
          <p:nvPr/>
        </p:nvPicPr>
        <p:blipFill>
          <a:blip r:embed="rId1"/>
          <a:stretch/>
        </p:blipFill>
        <p:spPr>
          <a:xfrm>
            <a:off x="500040" y="357120"/>
            <a:ext cx="78105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://www.natani.ru/img/401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981000"/>
            <a:ext cx="3544920" cy="5357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www.natani.ru/img/386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1052640"/>
            <a:ext cx="3387600" cy="52862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55640" y="260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ько Земля обладает огромными запасами воды. Это удивительное веществ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www.natani.ru/img/279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836640"/>
            <a:ext cx="3860640" cy="5291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://www.natani.ru/img/278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4720" y="836640"/>
            <a:ext cx="3859200" cy="52894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908000" y="26028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http://www.natani.ru/img/413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981000"/>
            <a:ext cx="4065480" cy="5429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http://www.natani.ru/img/414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981000"/>
            <a:ext cx="3962160" cy="5429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979640" y="260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2441520" cy="3744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628800" cy="26575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Картинка 20 из 9988"/>
          <p:cNvPicPr/>
          <p:nvPr/>
        </p:nvPicPr>
        <p:blipFill>
          <a:blip r:embed="rId3"/>
          <a:stretch/>
        </p:blipFill>
        <p:spPr>
          <a:xfrm>
            <a:off x="3132000" y="2924280"/>
            <a:ext cx="5653080" cy="38098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50920" y="62064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лько наша планета имеет почву- верхний плодородный слой Земли.  Почва содержит вещества, необходимые для роста и развития раст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de66"/>
                </a:solidFill>
                <a:uFillTx/>
                <a:latin typeface="Trebuchet MS"/>
              </a:rPr>
              <a:t>Оборудование: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132000" y="1916280"/>
            <a:ext cx="550872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Trebuchet MS"/>
              </a:rPr>
              <a:t>Глобус Земли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Trebuchet MS"/>
              </a:rPr>
              <a:t>Физическая карта мира, полушарий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e66"/>
                </a:solidFill>
                <a:latin typeface="Trebuchet MS"/>
              </a:rPr>
              <a:t>Фотографии Земли из космос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2017800" cy="1395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39640" y="4508640"/>
            <a:ext cx="20163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://www.natani.ru/img/1972.jpg"/>
          <p:cNvPicPr/>
          <p:nvPr/>
        </p:nvPicPr>
        <p:blipFill>
          <a:blip r:embed="rId1"/>
          <a:stretch/>
        </p:blipFill>
        <p:spPr>
          <a:xfrm>
            <a:off x="357120" y="214200"/>
            <a:ext cx="2346480" cy="3214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www.natani.ru/img/1997.jpg"/>
          <p:cNvPicPr/>
          <p:nvPr/>
        </p:nvPicPr>
        <p:blipFill>
          <a:blip r:embed="rId2"/>
          <a:stretch/>
        </p:blipFill>
        <p:spPr>
          <a:xfrm>
            <a:off x="3214800" y="285840"/>
            <a:ext cx="2357280" cy="3230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http://www.natani.ru/img/1883.jpg"/>
          <p:cNvPicPr/>
          <p:nvPr/>
        </p:nvPicPr>
        <p:blipFill>
          <a:blip r:embed="rId3"/>
          <a:stretch/>
        </p:blipFill>
        <p:spPr>
          <a:xfrm>
            <a:off x="1042920" y="3141720"/>
            <a:ext cx="2500560" cy="3425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http://www.natani.ru/img/1885.jpg"/>
          <p:cNvPicPr/>
          <p:nvPr/>
        </p:nvPicPr>
        <p:blipFill>
          <a:blip r:embed="rId4"/>
          <a:stretch/>
        </p:blipFill>
        <p:spPr>
          <a:xfrm>
            <a:off x="4140360" y="3284640"/>
            <a:ext cx="2428560" cy="3328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http://www.natani.ru/img/2029.jpg"/>
          <p:cNvPicPr/>
          <p:nvPr/>
        </p:nvPicPr>
        <p:blipFill>
          <a:blip r:embed="rId5"/>
          <a:stretch/>
        </p:blipFill>
        <p:spPr>
          <a:xfrm>
            <a:off x="5724360" y="189000"/>
            <a:ext cx="264348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580000" y="333360"/>
            <a:ext cx="3024360" cy="2276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1731960" cy="2808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024000" cy="2262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348000" y="189000"/>
            <a:ext cx="2232000" cy="1666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5724360" y="2565360"/>
            <a:ext cx="2880000" cy="2151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395280" y="2708280"/>
            <a:ext cx="2735280" cy="2060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468360" y="4724280"/>
            <a:ext cx="2590920" cy="1951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3132000" y="4941720"/>
            <a:ext cx="2592360" cy="17226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5940360" y="4653000"/>
            <a:ext cx="2592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alt"/>
          <p:cNvPicPr/>
          <p:nvPr/>
        </p:nvPicPr>
        <p:blipFill>
          <a:blip r:embed="rId1"/>
          <a:stretch/>
        </p:blipFill>
        <p:spPr>
          <a:xfrm>
            <a:off x="611280" y="1268280"/>
            <a:ext cx="7453080" cy="52498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826920" y="260280"/>
            <a:ext cx="71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аздо больше  воды заключено в </a:t>
            </a:r>
            <a:r>
              <a:rPr b="1" lang="en-US" sz="1800" spc="-1" strike="noStrike" u="sng">
                <a:solidFill>
                  <a:srgbClr val="003399"/>
                </a:solidFill>
                <a:uFillTx/>
                <a:latin typeface="Arial"/>
              </a:rPr>
              <a:t>ледника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около 2%. Они возникают там, где снега выпадает больше, чем он успевает растаять. Ледниками покрыта примерно 1/10  часть с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alt"/>
          <p:cNvPicPr/>
          <p:nvPr/>
        </p:nvPicPr>
        <p:blipFill>
          <a:blip r:embed="rId1"/>
          <a:stretch/>
        </p:blipFill>
        <p:spPr>
          <a:xfrm>
            <a:off x="285840" y="142920"/>
            <a:ext cx="8197920" cy="6215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Фото ледников (19 фото)"/>
          <p:cNvPicPr/>
          <p:nvPr/>
        </p:nvPicPr>
        <p:blipFill>
          <a:blip r:embed="rId2"/>
          <a:stretch/>
        </p:blipFill>
        <p:spPr>
          <a:xfrm>
            <a:off x="7205760" y="4435560"/>
            <a:ext cx="1938240" cy="24224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564000" y="4653000"/>
            <a:ext cx="2808360" cy="863640"/>
          </a:xfrm>
          <a:prstGeom prst="wedgeRectCallout">
            <a:avLst>
              <a:gd name="adj1" fmla="val 106981"/>
              <a:gd name="adj2" fmla="val 53675"/>
            </a:avLst>
          </a:prstGeom>
          <a:solidFill>
            <a:srgbClr val="dffd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64000" y="4869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регите природ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Trebuchet MS"/>
              </a:rPr>
              <a:t>Основные понятия темы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1780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Ядр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Мант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емная кор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ельеф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Горная пород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Минера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Землетряс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улка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онтинен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рхипелаг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"/>
          <p:cNvSpPr/>
          <p:nvPr/>
        </p:nvSpPr>
        <p:spPr>
          <a:xfrm>
            <a:off x="4932360" y="1844640"/>
            <a:ext cx="32400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тмосф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г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лим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Гидросф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Мировой оке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916360" y="2349360"/>
            <a:ext cx="191268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Trebuchet MS"/>
              </a:rPr>
              <a:t>Домашнее задание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72388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Изучить статью «Неповторимая планета Земля» на с. 86-87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знакомиться с выводами об уникальности  Земли на с.91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95360" indent="-49536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бъяснить в словаре значение «озон», «озоновый слой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5796000" y="333360"/>
            <a:ext cx="208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68360" y="1915920"/>
            <a:ext cx="72388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Чем лед в Северном Ледовитом океане отличается от льда в Антарктиды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В чем разница между рекой, озером и болотом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7343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3399"/>
                </a:solidFill>
                <a:uFillTx/>
                <a:latin typeface="Arial"/>
              </a:rPr>
              <a:t>Река</a:t>
            </a:r>
            <a:r>
              <a:rPr b="0" i="1" lang="en-US" sz="2600" spc="-1" strike="noStrike">
                <a:solidFill>
                  <a:srgbClr val="8a2e4e"/>
                </a:solidFill>
                <a:latin typeface="Arial"/>
              </a:rPr>
              <a:t> – водяной поток, текущий в естественном русле и питающийся за счет поверхностного и подземного стока с их бассейн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3399"/>
                </a:solidFill>
                <a:uFillTx/>
                <a:latin typeface="Arial"/>
              </a:rPr>
              <a:t>Озеро</a:t>
            </a:r>
            <a:r>
              <a:rPr b="0" i="1" lang="en-US" sz="2600" spc="-1" strike="noStrike">
                <a:solidFill>
                  <a:srgbClr val="8a2e4e"/>
                </a:solidFill>
                <a:latin typeface="Arial"/>
              </a:rPr>
              <a:t> – природный водоем в углублении суши и не имеющий одностороннего уклон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3399"/>
                </a:solidFill>
                <a:uFillTx/>
                <a:latin typeface="Arial"/>
              </a:rPr>
              <a:t>Болото</a:t>
            </a:r>
            <a:r>
              <a:rPr b="0" i="1" lang="en-US" sz="2600" spc="-1" strike="noStrike">
                <a:solidFill>
                  <a:srgbClr val="8a2e4e"/>
                </a:solidFill>
                <a:latin typeface="Arial"/>
              </a:rPr>
              <a:t>- избыточно увлажненный участок земной поверхности, заросший влаголюбивой растительностью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1052640"/>
            <a:ext cx="748836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Земля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– колыбель человечества и наш общий д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Чтобы лучше понять уникальность нашей планеты, выполним 1,2,3 задания в рубрике «Подумайт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84720" y="4365720"/>
            <a:ext cx="15512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642960" y="28584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дания №1,2,3 в рубрике «Подумайте» на стр 9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71680" y="1285920"/>
          <a:ext cx="7168680" cy="4951080"/>
        </p:xfrm>
        <a:graphic>
          <a:graphicData uri="http://schemas.openxmlformats.org/drawingml/2006/table">
            <a:tbl>
              <a:tblPr/>
              <a:tblGrid>
                <a:gridCol w="578880"/>
                <a:gridCol w="2027520"/>
                <a:gridCol w="2172600"/>
                <a:gridCol w="238968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звание пла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на планет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рку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400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ен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+500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ем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 -50 до + 50 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р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70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Юпи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130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атур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170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р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т данных, но не ниже чем на Сатур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пту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лут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239" name="Picture 2" descr="Солнечная система"/>
          <p:cNvPicPr/>
          <p:nvPr/>
        </p:nvPicPr>
        <p:blipFill>
          <a:blip r:embed="rId1"/>
          <a:stretch/>
        </p:blipFill>
        <p:spPr>
          <a:xfrm>
            <a:off x="7715160" y="0"/>
            <a:ext cx="12384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571680" y="928800"/>
          <a:ext cx="7048440" cy="5083200"/>
        </p:xfrm>
        <a:graphic>
          <a:graphicData uri="http://schemas.openxmlformats.org/drawingml/2006/table">
            <a:tbl>
              <a:tblPr/>
              <a:tblGrid>
                <a:gridCol w="428400"/>
                <a:gridCol w="1643040"/>
                <a:gridCol w="3214800"/>
                <a:gridCol w="176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звание пла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личие и состав атмосф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ы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рку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ене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азовая оболочка из углекислого газа (СО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ем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тмосфера из азота. Кислорода и углекислого г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р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зреженная атмосфера из углекислого г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Юпит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д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атур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д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р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д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пту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д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лут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д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41" name="TextBox 2"/>
          <p:cNvSpPr/>
          <p:nvPr/>
        </p:nvSpPr>
        <p:spPr>
          <a:xfrm>
            <a:off x="1571760" y="285840"/>
            <a:ext cx="52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Задание №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1071720" y="28584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Вопрос №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642960" y="1000080"/>
            <a:ext cx="60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2e4e"/>
                </a:solidFill>
                <a:latin typeface="Trebuchet MS"/>
              </a:rPr>
              <a:t>Какую роль для живого играет на планете в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857160" y="27147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Вопрос №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714240" y="3429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2e4e"/>
                </a:solidFill>
                <a:latin typeface="Trebuchet MS"/>
              </a:rPr>
              <a:t>Каково значение почвы для жизни на Земл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18302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http://img.blogonline.ru/bl/posts/54/1205450454_earth_01.jpg"/>
          <p:cNvPicPr/>
          <p:nvPr/>
        </p:nvPicPr>
        <p:blipFill>
          <a:blip r:embed="rId1"/>
          <a:stretch/>
        </p:blipFill>
        <p:spPr>
          <a:xfrm>
            <a:off x="357120" y="214200"/>
            <a:ext cx="84772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2:37:54Z</dcterms:created>
  <dc:creator>123</dc:creator>
  <dc:description/>
  <dc:language>en-US</dc:language>
  <cp:lastModifiedBy>1</cp:lastModifiedBy>
  <dcterms:modified xsi:type="dcterms:W3CDTF">2012-07-13T08:57:01Z</dcterms:modified>
  <cp:revision>7</cp:revision>
  <dc:subject/>
  <dc:title>Уникальность планеты</dc:title>
</cp:coreProperties>
</file>