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F68-6C0C-4C9B-90A2-FC04F901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6F7-A371-4030-B73B-43F60EDE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146-8C07-4BEB-B6B4-679158CC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7CC-BB69-4541-981E-A9AD6B4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3E23-33EB-4D9F-B3BE-7EC82300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E7B-0A61-4BAC-8862-3BE09BE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21A3-4391-47F9-9B87-7F11D0E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54C3-8C6F-4E5E-A336-0CAECB7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91AA-E50E-45D3-BA09-DD5B87BF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B6F6-D09C-44DA-AAF1-3F01028F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DB8-7196-4D45-8478-623A832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8CF-C078-4B32-8CFB-4FFBA951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F6D-BAA0-48DC-9A7F-A91F470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1F2E-8B85-4356-B5AF-5C373E4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41A-4E9C-4A15-8D63-309B8CB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DA23-B901-4F39-AD95-7DBCB831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F00-125A-4588-B11E-DDB25073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9577-158B-45ED-BB85-0F30928C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47B2-F6B1-4DDE-B1A5-382A6C3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0BCA-7257-484F-BB5C-EE1509C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7257-2D0C-4FB0-ACF9-2B8113B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29E8-610C-4EA8-BFB4-A3B301C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67A-4913-41FB-9D70-07BE332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06C9-7FE6-457F-AC32-19BFBA4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04FB-0E96-4F7B-8C8D-B61A9E5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3C1B-C30E-402E-A22D-6371E5F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BF70-D5C5-46CC-9F7E-7A5698F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DD8C-399F-465E-99CF-7D3D591A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6501-18B3-48C3-8B7B-5077FB1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A2FB-3B77-47A7-A574-CE64CE7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117B-8CCB-4CEB-B707-65380961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594F-A58D-451D-8F52-AF0DA35B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E785-85A8-45EA-9F6F-88FF6E0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7FD-F91E-4AD8-A430-90ED543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C159-55BB-4E0D-9BF9-A294019C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22FA-80D8-48D3-B202-6433835C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0D9A-B497-47EB-9BFE-DA532625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44EE-EF87-4716-B847-82D24595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E3C0-392C-4129-969E-454A7C1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A709-FECC-450D-A673-DFDFB47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21DD-FE3D-4029-B9DF-2354F66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41D4-34DC-431B-B177-423F99D7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2C29-9E69-40C5-BBF8-FD7FA796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47F0-961C-487C-BDDE-691E68AC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666-A1BB-408F-A13D-88A7501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41EC-4E3A-4979-B89B-AFEBE4FA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4732-485F-4C7E-8CF1-AF439FCC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A3F4-7F72-47C1-A2F3-F807A2F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3914-FFAC-489A-9583-49223CA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B12C-35C5-4CAA-BAC5-DF084E8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34436-30BC-4A34-B72C-9A5EC19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0F18-FD09-4DA5-8706-039A0CC5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0BFA-0B56-44EE-9881-9E1A510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7E95A-743B-4C35-9032-7D98096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CE68-0031-4C11-8263-F1119AED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DBE-5904-4B28-852E-77F36DE7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492F-CB81-472A-8265-1C884B4D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648-2107-43A8-85B2-E53D955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C21-5DAD-4839-BC2D-897B518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02E-9457-4213-95F9-20F902B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20F0-428D-4FF5-A889-CEB5ED16ACB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F16-63C9-4EBE-A453-1B42838CA3F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E93-BD90-4EF4-8CBC-5B3F80A047D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E6F0-DF61-4EAC-B9C5-6DE4D65F611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F1B-6A0E-430A-ACD3-CB1AB25BB07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www.physics.uni-altai.ru/gallery/wp/beach024?full=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physics.uni-altai.ru/gallery/wp/River_07?full=1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physics.uni-altai.ru/gallery/wp/Sunrise_03?full=1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school.uni-altai.ru/astro/SolarSys/earth.jpg.html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2403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814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atani.ru/under_water/3492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natani.ru/under_water/2329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atani.ru/ocean/3526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natani.ru/ocean/3559/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2403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natani.ru/waterfall/814/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d0d0d"/>
                </a:solidFill>
                <a:latin typeface="Trebuchet MS"/>
              </a:rPr>
              <a:t>ЗЕМЛЯ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571920" y="52862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Урок в 5 классе  по природове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Пляж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292896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орная реч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00120" y="45007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Закат на мор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7120" y="314316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Земля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Планета Земля - взгляд из космос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85840"/>
            <a:ext cx="7048800" cy="5286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2000160" y="5786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Циклон Альбер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Планета Земля - взгляд из космос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712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2143080" y="59292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йфун Эпси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сивые фото Земли из космоса"/>
          <p:cNvPicPr/>
          <p:nvPr/>
        </p:nvPicPr>
        <p:blipFill>
          <a:blip r:embed="rId1"/>
          <a:stretch/>
        </p:blipFill>
        <p:spPr>
          <a:xfrm>
            <a:off x="571680" y="571680"/>
            <a:ext cx="7333920" cy="5500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50920" y="189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я из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250920" y="907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7636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вержение вул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285840" y="357120"/>
            <a:ext cx="7802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500040" y="35712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www.natani.ru/img/40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3544920" cy="5357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natani.ru/img/38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052640"/>
            <a:ext cx="3387600" cy="5286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564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Земля обладает огромными запасами воды. Это удивительное веществ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natani.ru/img/279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860640" cy="5291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natani.ru/img/27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836640"/>
            <a:ext cx="3859200" cy="5289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08000" y="260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www.natani.ru/img/413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4065480" cy="5429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www.natani.ru/img/414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981000"/>
            <a:ext cx="3962160" cy="5429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7964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441520" cy="374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8800" cy="2657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Картинка 20 из 9988"/>
          <p:cNvPicPr/>
          <p:nvPr/>
        </p:nvPicPr>
        <p:blipFill>
          <a:blip r:embed="rId3"/>
          <a:stretch/>
        </p:blipFill>
        <p:spPr>
          <a:xfrm>
            <a:off x="3132000" y="2924280"/>
            <a:ext cx="5653080" cy="3809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0920" y="62064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наша планета имеет почву- верхний плодородный слой Земли.  Почва содержит вещества, необходимые для роста и развития раст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de66"/>
                </a:solidFill>
                <a:uFillTx/>
                <a:latin typeface="Trebuchet MS"/>
              </a:rPr>
              <a:t>Оборудование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32000" y="1916280"/>
            <a:ext cx="550872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Глобус Земл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Физическая карта мира, полушарий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Фотографии Земли из космос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017800" cy="1395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2016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natani.ru/img/1972.jpg"/>
          <p:cNvPicPr/>
          <p:nvPr/>
        </p:nvPicPr>
        <p:blipFill>
          <a:blip r:embed="rId1"/>
          <a:stretch/>
        </p:blipFill>
        <p:spPr>
          <a:xfrm>
            <a:off x="357120" y="21420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www.natani.ru/img/1997.jpg"/>
          <p:cNvPicPr/>
          <p:nvPr/>
        </p:nvPicPr>
        <p:blipFill>
          <a:blip r:embed="rId2"/>
          <a:stretch/>
        </p:blipFill>
        <p:spPr>
          <a:xfrm>
            <a:off x="3214800" y="285840"/>
            <a:ext cx="2357280" cy="3230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www.natani.ru/img/1883.jpg"/>
          <p:cNvPicPr/>
          <p:nvPr/>
        </p:nvPicPr>
        <p:blipFill>
          <a:blip r:embed="rId3"/>
          <a:stretch/>
        </p:blipFill>
        <p:spPr>
          <a:xfrm>
            <a:off x="1042920" y="3141720"/>
            <a:ext cx="2500560" cy="3425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http://www.natani.ru/img/1885.jpg"/>
          <p:cNvPicPr/>
          <p:nvPr/>
        </p:nvPicPr>
        <p:blipFill>
          <a:blip r:embed="rId4"/>
          <a:stretch/>
        </p:blipFill>
        <p:spPr>
          <a:xfrm>
            <a:off x="4140360" y="3284640"/>
            <a:ext cx="2428560" cy="3328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http://www.natani.ru/img/2029.jpg"/>
          <p:cNvPicPr/>
          <p:nvPr/>
        </p:nvPicPr>
        <p:blipFill>
          <a:blip r:embed="rId5"/>
          <a:stretch/>
        </p:blipFill>
        <p:spPr>
          <a:xfrm>
            <a:off x="5724360" y="189000"/>
            <a:ext cx="26434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580000" y="33336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1731960" cy="28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024000" cy="2262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348000" y="189000"/>
            <a:ext cx="2232000" cy="1666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5724360" y="2565360"/>
            <a:ext cx="2880000" cy="2151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395280" y="270828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468360" y="4724280"/>
            <a:ext cx="2590920" cy="1951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3132000" y="4941720"/>
            <a:ext cx="2592360" cy="1722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5940360" y="4653000"/>
            <a:ext cx="2592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alt"/>
          <p:cNvPicPr/>
          <p:nvPr/>
        </p:nvPicPr>
        <p:blipFill>
          <a:blip r:embed="rId1"/>
          <a:stretch/>
        </p:blipFill>
        <p:spPr>
          <a:xfrm>
            <a:off x="611280" y="1268280"/>
            <a:ext cx="7453080" cy="52498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26920" y="26028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аздо больше  воды заключено в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ледник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около 2%. Они возникают там, где снега выпадает больше, чем он успевает растаять. Ледниками покрыта примерно 1/10  часть с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lt"/>
          <p:cNvPicPr/>
          <p:nvPr/>
        </p:nvPicPr>
        <p:blipFill>
          <a:blip r:embed="rId1"/>
          <a:stretch/>
        </p:blipFill>
        <p:spPr>
          <a:xfrm>
            <a:off x="285840" y="142920"/>
            <a:ext cx="8197920" cy="6215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Фото ледников (19 фото)"/>
          <p:cNvPicPr/>
          <p:nvPr/>
        </p:nvPicPr>
        <p:blipFill>
          <a:blip r:embed="rId2"/>
          <a:stretch/>
        </p:blipFill>
        <p:spPr>
          <a:xfrm>
            <a:off x="7205760" y="4435560"/>
            <a:ext cx="1938240" cy="2422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564000" y="4653000"/>
            <a:ext cx="2808360" cy="863640"/>
          </a:xfrm>
          <a:prstGeom prst="wedgeRectCallout">
            <a:avLst>
              <a:gd name="adj1" fmla="val 106981"/>
              <a:gd name="adj2" fmla="val 53675"/>
            </a:avLst>
          </a:prstGeom>
          <a:solidFill>
            <a:srgbClr val="dffd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486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гите прир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rebuchet MS"/>
              </a:rPr>
              <a:t>Основные понятия темы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1780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Ядр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ант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емная ко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лье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орная поро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ине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емлетряс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улк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нтинен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рхипелаг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/>
          <p:nvPr/>
        </p:nvSpPr>
        <p:spPr>
          <a:xfrm>
            <a:off x="4932360" y="1844640"/>
            <a:ext cx="3240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тмосф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им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идросф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ировой оке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19126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rebuchet MS"/>
              </a:rPr>
              <a:t>Домашнее задание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2388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учить статью «Неповторимая планета Земля» на с. 86-8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знакомиться с выводами об уникальности  Земли на с.9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ъяснить в словаре значение «озон», «озоновый слой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08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68360" y="1915920"/>
            <a:ext cx="72388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Чем лед в Северном Ледовитом океане отличается от льда в Антарктиды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В чем разница между рекой, озером и болотом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7343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Река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 – водяной поток, текущий в естественном русле и питающийся за счет поверхностного и подземного стока с их бассейн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Озеро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 – природный водоем в углублении суши и не имеющий одностороннего укло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Болото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- избыточно увлажненный участок земной поверхности, заросший влаголюбивой раститель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1052640"/>
            <a:ext cx="7488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Земля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– колыбель человечества и наш общий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обы лучше понять уникальность нашей планеты, выполним 1,2,3 задания в рубрике «Подумай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15512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642960" y="2858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дания №1,2,3 в рубрике «Подумайте» на стр 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71680" y="1285920"/>
          <a:ext cx="7168680" cy="4951080"/>
        </p:xfrm>
        <a:graphic>
          <a:graphicData uri="http://schemas.openxmlformats.org/drawingml/2006/table">
            <a:tbl>
              <a:tblPr/>
              <a:tblGrid>
                <a:gridCol w="578880"/>
                <a:gridCol w="2027520"/>
                <a:gridCol w="2172600"/>
                <a:gridCol w="23896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звание пл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на плане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рку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40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н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50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-50 до + 50 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7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пи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13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ту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17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 данных, но не ниже чем на Сатур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т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ут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39" name="Picture 2" descr="Солнечная система"/>
          <p:cNvPicPr/>
          <p:nvPr/>
        </p:nvPicPr>
        <p:blipFill>
          <a:blip r:embed="rId1"/>
          <a:stretch/>
        </p:blipFill>
        <p:spPr>
          <a:xfrm>
            <a:off x="7715160" y="0"/>
            <a:ext cx="1238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571680" y="928800"/>
          <a:ext cx="7048440" cy="5083200"/>
        </p:xfrm>
        <a:graphic>
          <a:graphicData uri="http://schemas.openxmlformats.org/drawingml/2006/table">
            <a:tbl>
              <a:tblPr/>
              <a:tblGrid>
                <a:gridCol w="428400"/>
                <a:gridCol w="1643040"/>
                <a:gridCol w="3214800"/>
                <a:gridCol w="176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звание пл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и состав атмо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рку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н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азовая оболочка из углекислого газа (СО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тмосфера из азота. Кислорода и углекислог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реженная атмосфера из углекислог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пи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ту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т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ут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2"/>
          <p:cNvSpPr/>
          <p:nvPr/>
        </p:nvSpPr>
        <p:spPr>
          <a:xfrm>
            <a:off x="1571760" y="28584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Задание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071720" y="2858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опрос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642960" y="100008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2e4e"/>
                </a:solidFill>
                <a:latin typeface="Trebuchet MS"/>
              </a:rPr>
              <a:t>Какую роль для живого играет на планете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857160" y="2714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опрос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714240" y="3429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2e4e"/>
                </a:solidFill>
                <a:latin typeface="Trebuchet MS"/>
              </a:rPr>
              <a:t>Каково значение почвы для жизни на Зем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img.blogonline.ru/bl/posts/54/1205450454_earth_01.jpg"/>
          <p:cNvPicPr/>
          <p:nvPr/>
        </p:nvPicPr>
        <p:blipFill>
          <a:blip r:embed="rId1"/>
          <a:stretch/>
        </p:blipFill>
        <p:spPr>
          <a:xfrm>
            <a:off x="35712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37:54Z</dcterms:created>
  <dc:creator>123</dc:creator>
  <dc:description/>
  <dc:language>en-US</dc:language>
  <cp:lastModifiedBy>1</cp:lastModifiedBy>
  <dcterms:modified xsi:type="dcterms:W3CDTF">2012-07-13T08:57:01Z</dcterms:modified>
  <cp:revision>7</cp:revision>
  <dc:subject/>
  <dc:title>Уникальность планеты</dc:title>
</cp:coreProperties>
</file>