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B5BD-2748-4BC8-A5F4-273797C6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DD8-D1DF-4CE6-80C8-169980B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C1B-1BE0-4FB3-89CE-831B1E53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DB0-0F92-4459-AF57-13E04A01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ED6-0F45-4266-BBA2-3FB385EB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BDCA-BE83-444B-A2DE-23012DF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97DD-E632-4410-B565-B267321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9874-421C-445F-A9BA-DB352E3B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E1E-04BD-4272-B65D-E1628BB4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82C8-9F9A-4D0F-ACA0-47D5536B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CA07-FE1D-454F-8CDD-3629C6B1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655-2CD2-475C-8D10-1AE3471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83D-F1DE-470F-8DF2-3B09806E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CDDD-539E-43CA-87B2-D0697032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CA6E-CA43-4BA2-891E-E18CCA87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6BE0-31E3-460E-AEF6-A40A207AB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1FD5-C513-4638-8CF8-80328F5F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7F6E-A351-4BF9-BA2C-3BF5FF3C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4B8-8F6B-4187-B2AB-0EC7C623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7D5-D590-4798-B480-C4CD093A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ACD-63CC-4494-A7EE-F38C5C95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3CF-25E7-4BFC-AE8B-2B455EE0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084-BF6F-461A-AD9A-FD6C5D7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4F0-AB68-4640-B3D7-AC70245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50B8-85B3-4CC5-9AB2-B84FEBA807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513-5E97-4022-9034-3DB9751F76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Organization Chart 7"/>
          <p:cNvGrpSpPr/>
          <p:nvPr/>
        </p:nvGrpSpPr>
        <p:grpSpPr>
          <a:xfrm>
            <a:off x="324000" y="836640"/>
            <a:ext cx="8565120" cy="5214600"/>
            <a:chOff x="324000" y="836640"/>
            <a:chExt cx="8565120" cy="5214600"/>
          </a:xfrm>
        </p:grpSpPr>
        <p:cxnSp>
          <p:nvCxnSpPr>
            <p:cNvPr id="100" name="_s1028"/>
            <p:cNvCxnSpPr>
              <a:stCxn id="101" idx="0"/>
              <a:endCxn id="102" idx="2"/>
            </p:cNvCxnSpPr>
            <p:nvPr/>
          </p:nvCxnSpPr>
          <p:spPr>
            <a:xfrm flipV="1" rot="16200000">
              <a:off x="5583960" y="1944720"/>
              <a:ext cx="1043280" cy="2998440"/>
            </a:xfrm>
            <a:prstGeom prst="bentConnector3">
              <a:avLst>
                <a:gd name="adj1" fmla="val 49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29"/>
            <p:cNvCxnSpPr>
              <a:stCxn id="104" idx="0"/>
              <a:endCxn id="102" idx="2"/>
            </p:cNvCxnSpPr>
            <p:nvPr/>
          </p:nvCxnSpPr>
          <p:spPr>
            <a:xfrm rot="16200000">
              <a:off x="4084920" y="3443760"/>
              <a:ext cx="10432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30"/>
            <p:cNvCxnSpPr>
              <a:stCxn id="106" idx="0"/>
              <a:endCxn id="102" idx="2"/>
            </p:cNvCxnSpPr>
            <p:nvPr/>
          </p:nvCxnSpPr>
          <p:spPr>
            <a:xfrm flipH="1" flipV="1" rot="5400000">
              <a:off x="2585520" y="1945080"/>
              <a:ext cx="1043280" cy="2998080"/>
            </a:xfrm>
            <a:prstGeom prst="bentConnector3">
              <a:avLst>
                <a:gd name="adj1" fmla="val 499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_s1031"/>
            <p:cNvSpPr/>
            <p:nvPr/>
          </p:nvSpPr>
          <p:spPr>
            <a:xfrm>
              <a:off x="3321720" y="83664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Готовность</a:t>
              </a:r>
              <a:endParaRPr b="0" lang="en-US" sz="31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к школе</a:t>
              </a:r>
              <a:endParaRPr b="0" lang="en-US" sz="3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240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Физиологическа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(состояние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здоровья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332172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Психологическ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_s1034"/>
            <p:cNvSpPr/>
            <p:nvPr/>
          </p:nvSpPr>
          <p:spPr>
            <a:xfrm>
              <a:off x="63198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Социальная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взаимоотношения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 окружающими,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Отношение к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амому себе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ahoma"/>
              </a:rPr>
              <a:t>Упражнения с предметам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1840" y="2275920"/>
            <a:ext cx="2631960" cy="3396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раненый каранда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6" descr="File0001"/>
          <p:cNvPicPr/>
          <p:nvPr/>
        </p:nvPicPr>
        <p:blipFill>
          <a:blip r:embed="rId1"/>
          <a:stretch/>
        </p:blipFill>
        <p:spPr>
          <a:xfrm>
            <a:off x="468360" y="3933720"/>
            <a:ext cx="1535040" cy="165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4955760" y="243828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тушка из-под нит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932360" y="2060640"/>
            <a:ext cx="3168720" cy="2332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тушка из-под нит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9" descr="File0002"/>
          <p:cNvPicPr/>
          <p:nvPr/>
        </p:nvPicPr>
        <p:blipFill>
          <a:blip r:embed="rId2"/>
          <a:stretch/>
        </p:blipFill>
        <p:spPr>
          <a:xfrm>
            <a:off x="5940360" y="3213000"/>
            <a:ext cx="1554120" cy="104292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/>
          <p:cNvSpPr/>
          <p:nvPr/>
        </p:nvSpPr>
        <p:spPr>
          <a:xfrm>
            <a:off x="5219640" y="4797360"/>
            <a:ext cx="2971800" cy="1752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5219640" y="5013360"/>
            <a:ext cx="456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льев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но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ветны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щеп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icture 12"/>
          <p:cNvSpPr/>
          <p:nvPr/>
        </p:nvSpPr>
        <p:spPr>
          <a:xfrm>
            <a:off x="6948360" y="5157720"/>
            <a:ext cx="1127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ahoma"/>
              </a:rPr>
              <a:t>ПЕСКОТЕРАП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P3160003"/>
          <p:cNvPicPr/>
          <p:nvPr/>
        </p:nvPicPr>
        <p:blipFill>
          <a:blip r:embed="rId1"/>
          <a:stretch/>
        </p:blipFill>
        <p:spPr>
          <a:xfrm>
            <a:off x="4427640" y="2060640"/>
            <a:ext cx="4343400" cy="2819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2421000"/>
            <a:ext cx="51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рапсихолог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тверждают,  что пес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глощает негативну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нергию  человек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билизирует е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моциональное состоя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О чтении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заучивайте азбуку наизусть, а так делают, к сожалению. Не читайте по пять раз одно и то же. Выучите все буквы сразу и поищите книги с кратким текстом. Развесьте слова в комнате и научите их узнавать. Потом прочитайте книгу вместе с ребёнком (две книжечки за неделю – достаточно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Для математи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пишите или покупайте детские журналы и разгадывайте ребусы, кроссворды, находите различия в картинках и сходство. Это позволит освоить сравнение в математике. Отгадывание ребусов даст целостность, тут как бы стыковка математики и русского языка. И в них есть слова, знакомые в обиходе, но непонятные по отношению к листу бумаги (это слова “за”, “над”, “под”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Формируйте у будущего школьника ряд простых и сложных привычек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остым привычк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которые становятся потребностью человека, относятся привычка здороваться или прощаться, благодарить за оказанную помощь или услугу; привычка вежливого обращения к другом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более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ложным привычкам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ы отнесем ответственность при выполнении порученного дела, привычка вести себя в соответствии с принятыми правилами и нормами, внимательное отношение к людям, уважение к старши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иучайте детей к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самообслуживанию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брать портфель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вязать шнурк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еть спортивный костюм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брать за собой в столовой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многое другое в школе придется делать самому, да еще в условиях ограниченного переменой времен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изическая подготовка и развитие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ановление ценностей здорового образа жизни, удовлетворение естественной потребности в двигательной активности, формирование элементарной осведомленности о режиме дня, выработка культурно-гигиенических навыков (самостоятельно умываться, чистить зубы, одеваться, быть аккуратным, опрятным). Учите детей бережному отношению к своему организму, приучайте к безопасному поведению в различных ситуациях (на природе, у воды, рядом с опасными предметами – электроприборы, режущие и колющие инструменты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лагодарю за внимани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3" name="Picture 4" descr="ученик"/>
          <p:cNvPicPr/>
          <p:nvPr/>
        </p:nvPicPr>
        <p:blipFill>
          <a:blip r:embed="rId1"/>
          <a:stretch/>
        </p:blipFill>
        <p:spPr>
          <a:xfrm>
            <a:off x="3708360" y="2165400"/>
            <a:ext cx="2879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050920" y="2781360"/>
            <a:ext cx="6769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тическое мышл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Логическое запомин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мение работать по образц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ровень речевого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тивацион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979640" y="2924280"/>
            <a:ext cx="662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Желание принять новую социальную рол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зитивная информация о школ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нутренняя позиция школьни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Мотивы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11280" y="2924280"/>
            <a:ext cx="58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ность ставить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мение длительно выполнять не очень привлекательную рабо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произво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icture 5"/>
          <p:cNvSpPr/>
          <p:nvPr/>
        </p:nvSpPr>
        <p:spPr>
          <a:xfrm>
            <a:off x="6877080" y="4838760"/>
            <a:ext cx="194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сихологическа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никативная гото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5640" y="2997360"/>
            <a:ext cx="640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ействия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подчинять свои действия правил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внимательно слушать говорящего и точно выполнять указ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ддержка доброжелательного отношения с окружающи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Главная задача родителей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–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ть общую установку, общую позицию ребенка по отношению к школе и учению. Такая позиция должна сделать поступление в школу радостно ожидаемым событием, вызвать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оложительное отношение к предстоящему учени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 другими ребятами в школе и сделать само учение радостным и интересным заняти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готовка к школе требует от детей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мения слуша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ля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нимать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 чем он говорит,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полнять его указани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14560" y="214200"/>
            <a:ext cx="8137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3399"/>
                </a:solidFill>
                <a:latin typeface="Arial"/>
              </a:rPr>
              <a:t>Развитие мелкой моторик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(пальчиков рук) является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ahoma"/>
              </a:rPr>
              <a:t>основой</a:t>
            </a: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ahoma"/>
              </a:rPr>
              <a:t>обучения ребенка письму.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Brush Script MT"/>
              </a:rPr>
              <a:t>Пальчиковая гимнастик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4" descr="P3160002"/>
          <p:cNvPicPr/>
          <p:nvPr/>
        </p:nvPicPr>
        <p:blipFill>
          <a:blip r:embed="rId1"/>
          <a:stretch/>
        </p:blipFill>
        <p:spPr>
          <a:xfrm>
            <a:off x="4716360" y="2276640"/>
            <a:ext cx="4038840" cy="3924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79280" y="270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 мнению ученых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альчиковая гимнаст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ктивизирует рабо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чевых зон в к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ловного моз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Admin</cp:lastModifiedBy>
  <dcterms:modified xsi:type="dcterms:W3CDTF">2010-12-16T04:39:06Z</dcterms:modified>
  <cp:revision>12</cp:revision>
  <dc:subject/>
  <dc:title>Готовность к школьному обучению  детей 6-7 лет </dc:title>
</cp:coreProperties>
</file>