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AA34-7DB5-4E9D-8706-BEC75F30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0D2-9B3D-4B76-82D9-A3B3A8C5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F176-2388-4F4B-B314-64BE0E3F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02CE-2507-4B79-A97F-0FEEF36D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51CA-4ECA-4E46-84AD-8AE01684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3EB0-BA19-46B6-B5A4-A42E95B9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357E-69F6-4656-86C3-8D8545CB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876D-5844-4D44-9679-F2CDFED9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C085-EB2D-415B-9D83-FB6A0DE4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1983-3CEC-4195-93AA-2C9B8376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F839-3D73-4F01-9698-49A06F5C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491-AA22-4B1C-AEAA-0BF8AEEB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0849-8FD8-47FC-ABC1-75EAEF12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0438-C6F3-48B6-A14C-DF9A1AA4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75E6-2356-4B96-AD07-6F85AE45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9623-9804-4725-A97E-6037AEF9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9DDF-00FC-48FF-8B90-B0576967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BF30-F93A-408D-8D8B-1BCD9342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4EC-74F2-4B86-97C4-83CCCA88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D063-567A-4C96-B0FB-F6858221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8BF-0724-4F3B-A1A9-FEF5DD71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2BF-5BFA-4D33-A86F-3C2BA225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630-02D3-4AB0-BD68-BFDD64AC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2B7-96D2-43E8-9182-F27E269B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A09D-5AD0-4B87-A193-241F198B02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1188-61AA-4889-A379-C15A7AB7BD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Organization Chart 7"/>
          <p:cNvGrpSpPr/>
          <p:nvPr/>
        </p:nvGrpSpPr>
        <p:grpSpPr>
          <a:xfrm>
            <a:off x="324000" y="836640"/>
            <a:ext cx="8565120" cy="5214600"/>
            <a:chOff x="324000" y="836640"/>
            <a:chExt cx="8565120" cy="5214600"/>
          </a:xfrm>
        </p:grpSpPr>
        <p:cxnSp>
          <p:nvCxnSpPr>
            <p:cNvPr id="100" name="_s1028"/>
            <p:cNvCxnSpPr>
              <a:stCxn id="101" idx="0"/>
              <a:endCxn id="102" idx="2"/>
            </p:cNvCxnSpPr>
            <p:nvPr/>
          </p:nvCxnSpPr>
          <p:spPr>
            <a:xfrm flipV="1" rot="16200000">
              <a:off x="5583960" y="1944720"/>
              <a:ext cx="1043280" cy="2998440"/>
            </a:xfrm>
            <a:prstGeom prst="bentConnector3">
              <a:avLst>
                <a:gd name="adj1" fmla="val 499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29"/>
            <p:cNvCxnSpPr>
              <a:stCxn id="104" idx="0"/>
              <a:endCxn id="102" idx="2"/>
            </p:cNvCxnSpPr>
            <p:nvPr/>
          </p:nvCxnSpPr>
          <p:spPr>
            <a:xfrm rot="16200000">
              <a:off x="4084920" y="3443760"/>
              <a:ext cx="10432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0"/>
              <a:endCxn id="102" idx="2"/>
            </p:cNvCxnSpPr>
            <p:nvPr/>
          </p:nvCxnSpPr>
          <p:spPr>
            <a:xfrm flipH="1" flipV="1" rot="5400000">
              <a:off x="2585520" y="1945080"/>
              <a:ext cx="1043280" cy="2998080"/>
            </a:xfrm>
            <a:prstGeom prst="bentConnector3">
              <a:avLst>
                <a:gd name="adj1" fmla="val 499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1031"/>
            <p:cNvSpPr/>
            <p:nvPr/>
          </p:nvSpPr>
          <p:spPr>
            <a:xfrm>
              <a:off x="3321720" y="836640"/>
              <a:ext cx="2569320" cy="2085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0000"/>
                  </a:solidFill>
                  <a:latin typeface="Tahoma"/>
                </a:rPr>
                <a:t>Готовность</a:t>
              </a:r>
              <a:endParaRPr b="0" lang="en-US" sz="3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3100" spc="-1" strike="noStrike">
                  <a:solidFill>
                    <a:srgbClr val="ff0000"/>
                  </a:solidFill>
                  <a:latin typeface="Tahoma"/>
                </a:rPr>
                <a:t>к школе</a:t>
              </a:r>
              <a:endParaRPr b="0" lang="en-US" sz="3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>
              <a:off x="324000" y="3965400"/>
              <a:ext cx="2569320" cy="2085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Физиологическа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(состояние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здоровья</a:t>
              </a: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_s1033"/>
            <p:cNvSpPr/>
            <p:nvPr/>
          </p:nvSpPr>
          <p:spPr>
            <a:xfrm>
              <a:off x="3321720" y="3965400"/>
              <a:ext cx="2569320" cy="2085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ahoma"/>
                </a:rPr>
                <a:t>Психологическая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_s1034"/>
            <p:cNvSpPr/>
            <p:nvPr/>
          </p:nvSpPr>
          <p:spPr>
            <a:xfrm>
              <a:off x="6319800" y="3965400"/>
              <a:ext cx="2569320" cy="2085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ahoma"/>
                </a:rPr>
                <a:t>Социальная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взаимоотношения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с окружающими,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Отношение к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самому себе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ahoma"/>
              </a:rPr>
              <a:t>Упражнения с предметами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41840" y="2275920"/>
            <a:ext cx="2631960" cy="3396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раненый каранда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6" descr="File0001"/>
          <p:cNvPicPr/>
          <p:nvPr/>
        </p:nvPicPr>
        <p:blipFill>
          <a:blip r:embed="rId1"/>
          <a:stretch/>
        </p:blipFill>
        <p:spPr>
          <a:xfrm>
            <a:off x="468360" y="3933720"/>
            <a:ext cx="1535040" cy="1656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4955760" y="243828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тушка из-под нит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4932360" y="2060640"/>
            <a:ext cx="3168720" cy="2332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атушка из-под нито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9" descr="File0002"/>
          <p:cNvPicPr/>
          <p:nvPr/>
        </p:nvPicPr>
        <p:blipFill>
          <a:blip r:embed="rId2"/>
          <a:stretch/>
        </p:blipFill>
        <p:spPr>
          <a:xfrm>
            <a:off x="5940360" y="3213000"/>
            <a:ext cx="1554120" cy="104292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0"/>
          <p:cNvSpPr/>
          <p:nvPr/>
        </p:nvSpPr>
        <p:spPr>
          <a:xfrm>
            <a:off x="5219640" y="4797360"/>
            <a:ext cx="2971800" cy="17528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5219640" y="5013360"/>
            <a:ext cx="456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ельев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но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вет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щеп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icture 12"/>
          <p:cNvSpPr/>
          <p:nvPr/>
        </p:nvSpPr>
        <p:spPr>
          <a:xfrm>
            <a:off x="6948360" y="5157720"/>
            <a:ext cx="1127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ahoma"/>
              </a:rPr>
              <a:t>ПЕСКОТЕРАП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Picture 4" descr="P3160003"/>
          <p:cNvPicPr/>
          <p:nvPr/>
        </p:nvPicPr>
        <p:blipFill>
          <a:blip r:embed="rId1"/>
          <a:stretch/>
        </p:blipFill>
        <p:spPr>
          <a:xfrm>
            <a:off x="4427640" y="2060640"/>
            <a:ext cx="4343400" cy="28191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0" y="2421000"/>
            <a:ext cx="518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арапсихолог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тверждают,  что пес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глощает негативну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энергию  человек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абилизирует е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эмоциональное состоя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О чтении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заучивайте азбуку наизусть, а так делают, к сожалению. Не читайте по пять раз одно и то же. Выучите все буквы сразу и поищите книги с кратким текстом. Развесьте слова в комнате и научите их узнавать. Потом прочитайте книгу вместе с ребёнком (две книжечки за неделю – достаточно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Для математики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пишите или покупайте детские журналы и разгадывайте ребусы, кроссворды, находите различия в картинках и сходство. Это позволит освоить сравнение в математике. Отгадывание ребусов даст целостность, тут как бы стыковка математики и русского языка. И в них есть слова, знакомые в обиходе, но непонятные по отношению к листу бумаги (это слова “за”, “над”, “под”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Формируйте у будущего школьника ряд простых и сложных привычек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остым привычка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которые становятся потребностью человека, относятся привычка здороваться или прощаться, благодарить за оказанную помощь или услугу; привычка вежливого обращения к другом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 более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сложным привычка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мы отнесем ответственность при выполнении порученного дела, привычка вести себя в соответствии с принятыми правилами и нормами, внимательное отношение к людям, уважение к старши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Приучайте детей к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самообслуживанию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брать портфель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вязать шнурки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деть спортивный костюм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брать за собой в столовой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 многое другое в школе придется делать самому, да еще в условиях ограниченного переменой времен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Физическая подготовка и развитие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ановление ценностей здорового образа жизни, удовлетворение естественной потребности в двигательной активности, формирование элементарной осведомленности о режиме дня, выработка культурно-гигиенических навыков (самостоятельно умываться, чистить зубы, одеваться, быть аккуратным, опрятным). Учите детей бережному отношению к своему организму, приучайте к безопасному поведению в различных ситуациях (на природе, у воды, рядом с опасными предметами – электроприборы, режущие и колющие инструменты.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Благодарю за внимани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Picture 4" descr="ученик"/>
          <p:cNvPicPr/>
          <p:nvPr/>
        </p:nvPicPr>
        <p:blipFill>
          <a:blip r:embed="rId1"/>
          <a:stretch/>
        </p:blipFill>
        <p:spPr>
          <a:xfrm>
            <a:off x="3708360" y="2165400"/>
            <a:ext cx="28796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сихологическа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нтеллектуальная гото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908000" y="2852640"/>
            <a:ext cx="65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050920" y="2781360"/>
            <a:ext cx="67690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Развитие памяти, вним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Аналитическое мышл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Логическое запомина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Ориентировка во времени и пространств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Умение работать по образц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Уровень речевого разви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сихологическа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отивационная гото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979640" y="2924280"/>
            <a:ext cx="662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Желание принять новую социальную рол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Позитивная информация о школ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Внутренняя позиция школьн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Мотивы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сихологическа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левая гото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11280" y="2924280"/>
            <a:ext cx="5832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пособность ставить цель, принимать реш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мение длительно выполнять не очень привлекательную работ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звитие произво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icture 5"/>
          <p:cNvSpPr/>
          <p:nvPr/>
        </p:nvSpPr>
        <p:spPr>
          <a:xfrm>
            <a:off x="6877080" y="4838760"/>
            <a:ext cx="1942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сихологическа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муникативная гото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5640" y="2997360"/>
            <a:ext cx="6408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Действия совместно с другими деть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Умение подчинять свои действия правил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Умение внимательно слушать говорящего и точно выполнять указ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Поддержка доброжелательного отношения с окружающи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Главная задача родителей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–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здать общую установку, общую позицию ребенка по отношению к школе и учению. Такая позиция должна сделать поступление в школу радостно ожидаемым событием, вызвать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оложительное отношение к предстоящему учени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с другими ребятами в школе и сделать само учение радостным и интересным занятие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дготовка к школе требует от детей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мения слушать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ля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нимать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 чем он говорит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ыполнять его указания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4560" y="214200"/>
            <a:ext cx="81374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99"/>
                </a:solidFill>
                <a:latin typeface="Arial"/>
              </a:rPr>
              <a:t>Развитие мелкой моторики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(пальчиков рук) является 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ahoma"/>
              </a:rPr>
              <a:t>основой</a:t>
            </a: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обучения ребенка письму.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Brush Script MT"/>
              </a:rPr>
              <a:t>Пальчиковая гимнастика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4" descr="P3160002"/>
          <p:cNvPicPr/>
          <p:nvPr/>
        </p:nvPicPr>
        <p:blipFill>
          <a:blip r:embed="rId1"/>
          <a:stretch/>
        </p:blipFill>
        <p:spPr>
          <a:xfrm>
            <a:off x="4716360" y="2276640"/>
            <a:ext cx="4038840" cy="3924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179280" y="270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 мнению ученых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альчиковая гимнасти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ктивизирует работ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чевых зон в кор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ловного моз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5:02:02Z</dcterms:created>
  <dc:creator>OEM</dc:creator>
  <dc:description/>
  <dc:language>en-US</dc:language>
  <cp:lastModifiedBy>Admin</cp:lastModifiedBy>
  <dcterms:modified xsi:type="dcterms:W3CDTF">2010-12-16T04:39:06Z</dcterms:modified>
  <cp:revision>12</cp:revision>
  <dc:subject/>
  <dc:title>Готовность к школьному обучению  детей 6-7 лет </dc:title>
</cp:coreProperties>
</file>