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7E3-9F4D-4DA9-B81B-368F96CA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E65-CA65-4F76-9445-C3D2D6AE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AF2-7830-4852-92E9-95F81783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E7D-D487-4D21-B264-42D70818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8914-3838-4AD7-AC3B-86D037E1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9CF7-3753-458F-BE42-B1E62E08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60E2-CC44-487A-9421-0220BE50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2151-08A2-498E-B08C-C235028A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542E-6CA4-47D2-90EB-422A4ED2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ECB4-6512-49F0-900D-25B06BA6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B759-C8F8-40D8-8FB7-C2D52215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17D-AE52-4E17-B84E-4A0BBCC1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4277-DF95-43A8-BBAF-9A922B8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9497-725D-4EF7-AB41-3615407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91B4-E4C7-4830-9AB5-63AEE04D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9D03-FE65-4031-967F-E00F642A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E7E2-52DB-48D5-A178-FA7160A4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F68-9F8C-4740-AF89-80A91A73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A9D-4DAD-4A9A-9658-442AFAEC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983-2B04-4AB4-A77A-ED88E727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00A-4283-4CA7-AA40-84BC6B4E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D55-62E2-4ADB-A50E-1F1B8779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E47-D6DC-43B5-A593-6FF1AF02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A96-75DF-49A6-92BE-483B756C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3C9C-0270-416E-9207-DA1D417C07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F4A3-2C0D-4857-8CEE-925A5464A5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Родственные слова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яева Е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Задание 1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11280" y="1557360"/>
            <a:ext cx="863640" cy="338436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700360" y="2997360"/>
            <a:ext cx="863640" cy="194436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619280" y="2565360"/>
            <a:ext cx="863640" cy="237636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716360" y="3357720"/>
            <a:ext cx="863640" cy="158400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3708360" y="2276640"/>
            <a:ext cx="863640" cy="266508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724360" y="2421000"/>
            <a:ext cx="863640" cy="252072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6804000" y="1916280"/>
            <a:ext cx="863640" cy="302544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33"/>
                </a:solidFill>
                <a:latin typeface="Times New Roman"/>
              </a:rPr>
              <a:t>Б А Р А Б А Н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410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раба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ный музыкальный инструмент , верх и низ которого обтянуты кож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H="1">
            <a:off x="6084720" y="189000"/>
            <a:ext cx="432000" cy="28728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3203640" y="1268280"/>
            <a:ext cx="504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4427640" y="1268280"/>
            <a:ext cx="504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981f86bbb370"/>
          <p:cNvPicPr/>
          <p:nvPr/>
        </p:nvPicPr>
        <p:blipFill>
          <a:blip r:embed="rId1"/>
          <a:stretch/>
        </p:blipFill>
        <p:spPr>
          <a:xfrm>
            <a:off x="4788000" y="2013120"/>
            <a:ext cx="3531960" cy="32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ятел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6899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ятел –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барабанщ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Бьёт дятел в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бараба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сной. Барабан для дятла – это звонкий сухой сучок. А дробь на нем получается настоящая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барабанн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Барабани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ятел своим собственным н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 По Н. Сладкову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1984754"/>
          <p:cNvPicPr/>
          <p:nvPr/>
        </p:nvPicPr>
        <p:blipFill>
          <a:blip r:embed="rId1"/>
          <a:stretch/>
        </p:blipFill>
        <p:spPr>
          <a:xfrm>
            <a:off x="5964120" y="3716280"/>
            <a:ext cx="2414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713880"/>
            <a:ext cx="770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Родственные слова.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22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Барабанщик, бараба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барабанит, барабанн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928800" y="0"/>
            <a:ext cx="3313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900000" y="0"/>
            <a:ext cx="71294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4140360" y="0"/>
            <a:ext cx="388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уга 12"/>
          <p:cNvSpPr/>
          <p:nvPr/>
        </p:nvSpPr>
        <p:spPr>
          <a:xfrm>
            <a:off x="684360" y="2205000"/>
            <a:ext cx="2160360" cy="647640"/>
          </a:xfrm>
          <a:prstGeom prst="pie">
            <a:avLst/>
          </a:prstGeom>
          <a:noFill/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714240" y="5000760"/>
            <a:ext cx="621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40000"/>
                </a:solidFill>
                <a:latin typeface="Arial"/>
              </a:rPr>
              <a:t>Однокоренные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Дуга 12"/>
          <p:cNvSpPr/>
          <p:nvPr/>
        </p:nvSpPr>
        <p:spPr>
          <a:xfrm>
            <a:off x="4067280" y="2205000"/>
            <a:ext cx="2160360" cy="647640"/>
          </a:xfrm>
          <a:prstGeom prst="pie">
            <a:avLst/>
          </a:prstGeom>
          <a:noFill/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уга 12"/>
          <p:cNvSpPr/>
          <p:nvPr/>
        </p:nvSpPr>
        <p:spPr>
          <a:xfrm>
            <a:off x="3635280" y="3645000"/>
            <a:ext cx="2160720" cy="647640"/>
          </a:xfrm>
          <a:prstGeom prst="pie">
            <a:avLst/>
          </a:prstGeom>
          <a:noFill/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уга 12"/>
          <p:cNvSpPr/>
          <p:nvPr/>
        </p:nvSpPr>
        <p:spPr>
          <a:xfrm>
            <a:off x="684360" y="3645000"/>
            <a:ext cx="2160360" cy="647640"/>
          </a:xfrm>
          <a:prstGeom prst="pie">
            <a:avLst/>
          </a:prstGeom>
          <a:noFill/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хема к сегодняшнему уроку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2692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900000" y="1916280"/>
            <a:ext cx="7632720" cy="93636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ственные (однокоренные)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26920" y="3429000"/>
            <a:ext cx="7777440" cy="93672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ют общую часть (корен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826920" y="5013360"/>
            <a:ext cx="7777440" cy="93672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ют обще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4572000" y="2852640"/>
            <a:ext cx="0" cy="576360"/>
          </a:xfrm>
          <a:prstGeom prst="line">
            <a:avLst/>
          </a:prstGeom>
          <a:ln w="76320">
            <a:solidFill>
              <a:srgbClr val="33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4572000" y="4365720"/>
            <a:ext cx="0" cy="647640"/>
          </a:xfrm>
          <a:prstGeom prst="line">
            <a:avLst/>
          </a:prstGeom>
          <a:ln w="76320">
            <a:solidFill>
              <a:srgbClr val="33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Arial"/>
              </a:rPr>
              <a:t>Проверка карточек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очка №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д, садовник, садик, высадить, садо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ый, беляк, белеть, белень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очк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х, плохо мне, серенькому зайке! Одно и есть утешение, что хвостик коротенький: собаке схватить не за что. Будь у меня такой хвостище, как у лисицы, куда бы с ним дев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684360" y="1808280"/>
            <a:ext cx="7189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1619280" y="1844640"/>
            <a:ext cx="7192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3780000" y="1916280"/>
            <a:ext cx="7189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5867280" y="1844640"/>
            <a:ext cx="71928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755640" y="2997360"/>
            <a:ext cx="7192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971640" y="2421000"/>
            <a:ext cx="7189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268360" y="2924280"/>
            <a:ext cx="7192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3708360" y="2852640"/>
            <a:ext cx="7192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2"/>
          <p:cNvSpPr/>
          <p:nvPr/>
        </p:nvSpPr>
        <p:spPr>
          <a:xfrm>
            <a:off x="5292720" y="2852640"/>
            <a:ext cx="7192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3"/>
          <p:cNvSpPr/>
          <p:nvPr/>
        </p:nvSpPr>
        <p:spPr>
          <a:xfrm>
            <a:off x="5508720" y="4653000"/>
            <a:ext cx="93636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5"/>
          <p:cNvSpPr/>
          <p:nvPr/>
        </p:nvSpPr>
        <p:spPr>
          <a:xfrm>
            <a:off x="5867280" y="5589720"/>
            <a:ext cx="9367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ка тес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1.Какие слова называются родствен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Слова, которые имеют общую (одинаковую) часть и обще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2.Как называется общая часть родственных с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Кор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Как иначе называются родстве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Однокор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4.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 Какое слово лиш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вод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7:01:58Z</dcterms:created>
  <dc:creator>1</dc:creator>
  <dc:description/>
  <dc:language>en-US</dc:language>
  <cp:lastModifiedBy>User</cp:lastModifiedBy>
  <dcterms:modified xsi:type="dcterms:W3CDTF">2012-07-14T08:07:35Z</dcterms:modified>
  <cp:revision>14</cp:revision>
  <dc:subject/>
  <dc:title>Задание 1.</dc:title>
</cp:coreProperties>
</file>