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D08-EE80-401B-91DA-30F0D6D6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8CE-583E-44D5-9F24-4A6D4644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A48-F171-461E-AEF7-65950AF1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B90-B2D1-4999-A6FF-E394C959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FA3B-6F6C-408D-8902-2F47434D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E35-800A-4AA6-9553-C0C66AD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338D-A761-4B4B-85BB-B50F7F70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8F95-4C9E-41D6-9ABC-9F9491E7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92AB-F420-4AE0-9FBB-C57E728B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E785-4825-42E6-AB6A-46969D3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D742-1B2A-4585-A53F-3017FD4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6D5-D221-45BC-8F2D-E8B77A92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779D-3B62-426E-970E-ED051FD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6DF-9362-492E-B26F-A68DD4E6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38C-C8AE-4BD4-ABEF-BD22DEB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C6EC-1A66-40BC-8886-8CDAD427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2DCD-EFBF-47DB-BE3B-491E879C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054-F8D6-432A-9331-987EE6EE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19FD-7040-44D2-9772-5442AE7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9CC-297E-43DF-A5A7-6497522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613-24BB-4F8F-B1F7-5FC386D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0F1-C4BE-44CB-8797-F256A2B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91A-DA8D-4752-8BD4-DB0F517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79F-8B94-47ED-ABF9-C07DA9C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0D4E-B497-4D76-8F67-B724F4BCDB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8D2-F738-43FB-98D2-455C74A3E31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Родственные слова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дяева Е.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Задание 1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11280" y="1557360"/>
            <a:ext cx="863640" cy="3384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700360" y="2997360"/>
            <a:ext cx="863640" cy="1944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619280" y="2565360"/>
            <a:ext cx="863640" cy="237636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716360" y="3357720"/>
            <a:ext cx="863640" cy="158400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708360" y="2276640"/>
            <a:ext cx="863640" cy="266508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724360" y="2421000"/>
            <a:ext cx="863640" cy="252072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6804000" y="1916280"/>
            <a:ext cx="863640" cy="3025440"/>
          </a:xfrm>
          <a:prstGeom prst="rect">
            <a:avLst/>
          </a:prstGeom>
          <a:gradFill rotWithShape="0">
            <a:gsLst>
              <a:gs pos="0">
                <a:srgbClr val="472f76"/>
              </a:gs>
              <a:gs pos="50000">
                <a:srgbClr val="9966ff"/>
              </a:gs>
              <a:gs pos="100000">
                <a:srgbClr val="472f76"/>
              </a:gs>
            </a:gsLst>
            <a:lin ang="0"/>
          </a:gradFill>
          <a:ln w="284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33"/>
                </a:solidFill>
                <a:latin typeface="Times New Roman"/>
              </a:rPr>
              <a:t>Б А Р А Б А Н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10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араба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ный музыкальный инструмент , верх и низ которого обтянуты кож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H="1">
            <a:off x="6084720" y="189000"/>
            <a:ext cx="432000" cy="28728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3203640" y="1268280"/>
            <a:ext cx="504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4427640" y="1268280"/>
            <a:ext cx="50472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981f86bbb370"/>
          <p:cNvPicPr/>
          <p:nvPr/>
        </p:nvPicPr>
        <p:blipFill>
          <a:blip r:embed="rId1"/>
          <a:stretch/>
        </p:blipFill>
        <p:spPr>
          <a:xfrm>
            <a:off x="4788000" y="2013120"/>
            <a:ext cx="3531960" cy="32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ятел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6899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ятел –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щ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Бьёт дятел в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сной. Барабан для дятла – это звонкий сухой сучок. А дробь на нем получается настоящая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на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Барабани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ятел своим собственным но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По Н. Сладкову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1984754"/>
          <p:cNvPicPr/>
          <p:nvPr/>
        </p:nvPicPr>
        <p:blipFill>
          <a:blip r:embed="rId1"/>
          <a:stretch/>
        </p:blipFill>
        <p:spPr>
          <a:xfrm>
            <a:off x="5964120" y="3716280"/>
            <a:ext cx="2414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713880"/>
            <a:ext cx="770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Times New Roman"/>
              </a:rPr>
              <a:t>Родственные слова.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22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Барабанщик, бараба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Arial"/>
              </a:rPr>
              <a:t>барабанит, барабан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928800" y="0"/>
            <a:ext cx="3313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900000" y="0"/>
            <a:ext cx="71294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140360" y="0"/>
            <a:ext cx="3887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Дуга 12"/>
          <p:cNvSpPr/>
          <p:nvPr/>
        </p:nvSpPr>
        <p:spPr>
          <a:xfrm>
            <a:off x="684360" y="220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714240" y="5000760"/>
            <a:ext cx="621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40000"/>
                </a:solidFill>
                <a:latin typeface="Arial"/>
              </a:rPr>
              <a:t>Однокоренные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Дуга 12"/>
          <p:cNvSpPr/>
          <p:nvPr/>
        </p:nvSpPr>
        <p:spPr>
          <a:xfrm>
            <a:off x="4067280" y="220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Дуга 12"/>
          <p:cNvSpPr/>
          <p:nvPr/>
        </p:nvSpPr>
        <p:spPr>
          <a:xfrm>
            <a:off x="3635280" y="3645000"/>
            <a:ext cx="216072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Дуга 12"/>
          <p:cNvSpPr/>
          <p:nvPr/>
        </p:nvSpPr>
        <p:spPr>
          <a:xfrm>
            <a:off x="684360" y="3645000"/>
            <a:ext cx="2160360" cy="647640"/>
          </a:xfrm>
          <a:prstGeom prst="pie">
            <a:avLst/>
          </a:prstGeom>
          <a:noFill/>
          <a:ln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хема к сегодняшнему уроку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2692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900000" y="1916280"/>
            <a:ext cx="7632720" cy="93636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ственные (однокоренные)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26920" y="3429000"/>
            <a:ext cx="7777440" cy="9367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ют общую часть (корен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826920" y="5013360"/>
            <a:ext cx="7777440" cy="936720"/>
          </a:xfrm>
          <a:prstGeom prst="rect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ют обще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4572000" y="2852640"/>
            <a:ext cx="0" cy="576360"/>
          </a:xfrm>
          <a:prstGeom prst="line">
            <a:avLst/>
          </a:prstGeom>
          <a:ln w="76320">
            <a:solidFill>
              <a:srgbClr val="33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4572000" y="4365720"/>
            <a:ext cx="0" cy="647640"/>
          </a:xfrm>
          <a:prstGeom prst="line">
            <a:avLst/>
          </a:prstGeom>
          <a:ln w="76320">
            <a:solidFill>
              <a:srgbClr val="33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Arial"/>
              </a:rPr>
              <a:t>Проверка карточек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№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д, садовник, садик, высадить, садов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лый, беляк, белеть, белень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рточк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х, плохо мне, серенькому зайке! Одно и есть утешение, что хвостик коротенький: собаке схватить не за что. Будь у меня такой хвостище, как у лисицы, куда бы с ним дева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4"/>
          <p:cNvSpPr/>
          <p:nvPr/>
        </p:nvSpPr>
        <p:spPr>
          <a:xfrm>
            <a:off x="684360" y="180828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1619280" y="1844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780000" y="191628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5867280" y="1844640"/>
            <a:ext cx="719280" cy="289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755640" y="299736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971640" y="2421000"/>
            <a:ext cx="7189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268360" y="292428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3708360" y="2852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2"/>
          <p:cNvSpPr/>
          <p:nvPr/>
        </p:nvSpPr>
        <p:spPr>
          <a:xfrm>
            <a:off x="5292720" y="2852640"/>
            <a:ext cx="71928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5508720" y="4653000"/>
            <a:ext cx="93636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5867280" y="5589720"/>
            <a:ext cx="936720" cy="2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Проверка тес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1.Какие слова называются родствен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Слова, которые имеют общую (одинаковую) часть и обще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2.Как называется общая часть родственных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Кор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3.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Как иначе называются родствен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Однокор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330033"/>
                </a:solidFill>
                <a:latin typeface="Arial"/>
              </a:rPr>
              <a:t> Какое слово лиш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води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01:58Z</dcterms:created>
  <dc:creator>1</dc:creator>
  <dc:description/>
  <dc:language>en-US</dc:language>
  <cp:lastModifiedBy>User</cp:lastModifiedBy>
  <dcterms:modified xsi:type="dcterms:W3CDTF">2012-07-14T08:07:35Z</dcterms:modified>
  <cp:revision>14</cp:revision>
  <dc:subject/>
  <dc:title>Задание 1.</dc:title>
</cp:coreProperties>
</file>