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D9B3-51A3-4A5E-87B6-0FF1F2838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4852-1BB6-4CCD-95D3-00377D77A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A0CB-671D-401B-B75B-B08FDA7B2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1C87-A96F-49B6-8EE8-6C02A3612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06C4C-F2C4-4E2B-AE81-840E2FD8C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85EBB-C8B7-4C5E-BDF8-9E123F722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925C8-9261-4401-96CA-06A6F60D5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681D0-42A3-40C3-9AAE-E071B3A56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50F5F-A927-4DE1-8D4D-D61D57977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643AD-9564-4610-815A-C2FC47DBB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2B2B1-2D48-4335-A2CB-7CA66021C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6070-6589-434E-8896-B61527BAA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DE93C-B40D-42E2-A6BA-EB6F5C4FE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62B78-AABB-4620-9F91-516F3233C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7B589-13CC-40D9-AF55-421EBF98E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5CABA-8855-4FA7-8C58-85A006631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83BA5-16A9-40A9-BEED-5382326D1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B6B7E7-9F80-40A2-A310-4BD004EE9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04E0BD-7431-44AE-9CDA-ABBE6AA78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B86FC4-C382-4CA9-921A-A74A7FE2D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31D5CE-74FC-4963-9324-74D4CA106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0731C8-A07B-41F3-90A3-9AB0A66D4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B63E-C4B5-4B76-A258-D5FFC2B68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F19992-A494-460F-A0AD-82CEE5856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1A4CF2-8F3F-495B-A279-7920C6A7E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74A4EC-0DE5-4D00-9D76-83DCB7AC3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2748CD-919D-4E19-B1B0-A0BEE3FBB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1FD414-4F50-4C08-B959-8D3A48637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85D090-6408-4101-BC55-E31AE6424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FF409B-1B35-480D-B53C-F9064EDEE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E6BDF-7B5D-42C8-B99A-32015E86C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FF53A-7AD5-48DE-A443-EB4F6139A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608C8-D7CA-4FB3-9880-5E1091CD3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541D-CD91-4C96-873B-E17FD940E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327B5-2FA2-44AA-A875-50BB7FA38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DDEED-62D5-4689-AB02-A51A651A3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2050E1-63CF-49CA-8EC8-E04B9C353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AFE2B-E877-4A4E-8E93-4BE8378D5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66645-0C78-4A58-BCE9-01A69D51C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EB3E7-42C3-4FED-B431-4142DD953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1CFDB-01B5-4B51-A1F4-1CE4C8FB7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A9EA9-75E4-4767-A982-190BAF5C1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DEF35-0181-4204-B8AB-10FFE40E1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CDA5A7-C4C8-44A6-96D3-D90DF4685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DAA2-02B5-4D16-908B-2B6F8CEE5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39F464-9890-453C-8EFE-392CB1794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B20761-D0B6-474E-8B52-8EF39C0A0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E79E08-DB2B-4BC4-8547-88289733D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37E0B6-9157-45B6-A326-8DA898A9B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4820B5-C3DF-4114-A75A-52DB30076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682F70-4C13-40D7-90F6-ADB7DDC41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E89A62-D07D-468E-ABF3-935F96D09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5FD272-FABA-4ACE-93D5-217B7B225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923128-D816-4BF1-8ECC-62C9100A6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494117-5416-4D8C-8238-CFAC33C4F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0F8C-4715-4B1A-9115-8432EA752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B0B46F-367D-48F8-BFCD-0B0A98F46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003F32-993A-4802-BDD7-A7107B60A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61640B-73C4-470F-B670-466F3635B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1012B6-3D4F-493E-8EC3-8A5D60742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DF6A23-70DC-4C12-912C-610B05EA9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A9234C-A09E-4F8B-88F1-6533C4F75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785E47-8A17-469B-A893-90D8C509E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E654B0-E30B-42B5-9667-A1CFFF70E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E21D80-15A8-4D28-A4CB-236280288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E63B04-4110-4B97-9D61-5F2D350F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8621-8F3A-4E00-8C0F-E7EB03085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A202CE-6451-4BB2-B7FB-E54FAC1B8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478714-89A3-4FB2-A366-760E263B7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EB078E-61AF-4DFD-89B1-621391394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E11D53-2901-4305-8108-FCB4A7BDD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C20D2C-E76D-44BE-8C15-25E023E96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D51DA8-938F-431C-8634-65E56B0A5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2E89E4-0FA5-4563-9DFF-94D7ECC76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C5D9CF-D0A5-4277-9F6C-A918F132A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A791C6-E15E-4282-9C9A-2D6061FDF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48A297-2049-4A21-A992-D2944F2EE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0FDD-DE53-425C-BD49-6857360A4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93DA51-6EDD-4036-A548-219ADE999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C2B6A8-C9D7-475A-BDC1-4F7693851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97D36D-3B8C-40BF-A6AF-EF8CED1C3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9325E7-60BC-4097-9279-A6369AF1D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425B47-A4CB-4C54-8C6A-E5BB82C57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DAD5-3568-4D21-B92D-2C5C498CD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7D432-D3B1-4A7D-9477-6EEC54E9D55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9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1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3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0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17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19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15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1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1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0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2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23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25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24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6F0B2-166A-4E61-925E-DCC76F574C7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570E2-F0F3-4553-BA0F-A8D3A37A23E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8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9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0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1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2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13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14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15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16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1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1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19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21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22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25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B6063-2739-41AD-9B11-CFEF133828E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D7DAF-9830-4774-93CC-72AEFEF0223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9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7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8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0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1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12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1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17BFC-FE3B-46AB-AA20-E24A2BE7155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8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2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9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0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1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18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19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B228E-9F51-42D9-AFE5-BCB87DEBA00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575f6d"/>
                </a:solidFill>
                <a:latin typeface="Monotype Corsiva"/>
              </a:rPr>
              <a:t>ИЗМЕРЕНИЕ УГЛОВ</a:t>
            </a:r>
            <a:endParaRPr b="0" lang="en-US" sz="6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Методы,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Приборы 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   </a:t>
            </a: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В ЧЕМ ИЗМЕРЯЮТСЯ УГЛЫ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Градус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минута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секунда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 — общепринятые единицы измерения плоских углов. Также эти величины используются в картографии для определения координат произвольной точки земной поверхност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75f6d"/>
                </a:solidFill>
                <a:latin typeface="Century Schoolbook"/>
              </a:rPr>
              <a:t>МЕТОДЫ ИЗМЕРЕНИЯ УГЛОВ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глы изделий измеряют тремя основными методами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етодом сравнения с жесткими контрольными инструментами - угловыми мерами, угольниками, конусными калибрами и шаблонами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бсолютным гониометрическим методом, основанным на использовании приборов с угломерной шкалой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освенным тригонометрическим методом, который заключается в определении линейных параметров, связанных с измеряемым углом тригонометрической функцие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ИЗМЕРИТЕЛЬНЫЕ ПРИБОРЫ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Для хранения и передачи единицы плоского угла, градуировки угломерных приборов, а также для непосредственных измерений служат </a:t>
            </a:r>
            <a:r>
              <a:rPr b="0" i="1" lang="ru-RU" sz="1500" spc="-1" strike="noStrike">
                <a:solidFill>
                  <a:srgbClr val="000000"/>
                </a:solidFill>
                <a:latin typeface="Century Schoolbook"/>
              </a:rPr>
              <a:t>угловые призматические меры</a:t>
            </a: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. Они выпускаются в виде наборов плиток толщиной 5 мм с градацией 2 градуса, 1 градус, 1’, 15’’. Набор состоит из 93 плиток с номинальными углами до 90 градусов. Угловые меры изготавливают трех классов точности: 0, 1, 2.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Для проверки и разметки прямых углов, для контроля изделий при сборке или монтаже и т.д. предназначены </a:t>
            </a:r>
            <a:r>
              <a:rPr b="0" i="1" lang="ru-RU" sz="1500" spc="-1" strike="noStrike">
                <a:solidFill>
                  <a:srgbClr val="000000"/>
                </a:solidFill>
                <a:latin typeface="Century Schoolbook"/>
              </a:rPr>
              <a:t>угольники</a:t>
            </a: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 поверочные.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Для проверки углов конусов служат калибры-втулки (для проверки наружных конусов) и калибры-скобы (для контроля внутренних конических поверхностей).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При абсолютных измерениях величина угла определяется непосредственно в угловых единицах с помощью угломеров, делительных головок, микроскопов и других приборов. Наибольшее распространение получили нониусные угломеры, которые выпускаются двух типов: УН - для измерения наружных и внутренних углов и УМ - для измерения наружных углов. Наружными называются углы 0 - 180 градусов, внутренними - углы больше 180 градусов. Устройство нониуса универсального угломера принципиально ничем не отличается от устройства нониуса штангенинструментов.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ИЗМЕРЕНИЯ И ИЗМЕРИТЕЛЬНЫЕ ПРИБОРЫ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Законы явлений природы, как выражения количественных отношений между факторами явлений, выводятся на основании измерений этих факторов. Приборы, приспособленные к таким измерениям, называются измерительными. Всякое измерение, какой бы ни было сложности, сводится к  пространственности, времени, движения и давления, для чего могут быть избраны единицы мер (см.) условные, но постоянные или же так называемые абсолютные. Лишь световые и отчасти звуковые явления представляют исключение: сравнение силы света, испускаемого двумя источниками света, основано на физиологическом суждении о равенстве или неравенстве освещения поверхностей этими источниками. Это сравнение наиболее затруднительно для тех случаев, когда источники неодинакового цвета. Еще более затруднительно сравнение силы или напряженности двух музыкальных тонов, в особенности при различной их высоте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2" name="Содержимое 3" descr="0016-016-CHto-nuzhno-dlja-togo-chtoby-izmerit-gradusnuju-meru-ugla.jpg"/>
          <p:cNvPicPr/>
          <p:nvPr/>
        </p:nvPicPr>
        <p:blipFill>
          <a:blip r:embed="rId1"/>
          <a:stretch/>
        </p:blipFill>
        <p:spPr>
          <a:xfrm>
            <a:off x="0" y="0"/>
            <a:ext cx="8929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       </a:t>
            </a: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6T14:03:39Z</dcterms:created>
  <dc:creator>Admin</dc:creator>
  <dc:description/>
  <dc:language>en-US</dc:language>
  <cp:lastModifiedBy>Привет</cp:lastModifiedBy>
  <dcterms:modified xsi:type="dcterms:W3CDTF">2012-07-13T18:27:48Z</dcterms:modified>
  <cp:revision>22</cp:revision>
  <dc:subject/>
  <dc:title>instruments for measuring of angles</dc:title>
</cp:coreProperties>
</file>