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7E0-C9CD-4226-A2BB-2B474A71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493-85DD-4CEC-BADD-1C8A68D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E74-EC81-4FF1-A012-CFE51635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A8F-DA31-447F-A814-B0AFAA7C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862C-D63C-41E1-95E0-3530DD13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23EB-9F73-49AD-A4C7-2DCB554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7371-0FDE-4E91-B857-A52842A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991C-C5E6-40F2-A438-20A03B81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E246-B1A0-4C1B-98BA-71F8DDA9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A93C-45F3-423D-AFBA-7E629755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7A61-6A93-4F16-B1E0-134BAAAD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785-8DA5-4917-BA42-6216137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3008-18CC-4772-B84D-59D7691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2DE6-F7AB-4464-AC95-F97F55D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CF6F-5760-4F24-98A1-2D2283A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F4D9-EE5F-4613-866C-85ABFA85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1EB8-BA60-43BC-9383-332AF9A7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A4518-C2B7-4875-B0C9-5F8695C3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9658C-E4AB-421A-A420-308EB265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A7CBD-8E16-4569-9730-1A318FBA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3FD5C-3DE3-4D77-9DCD-F8028C1C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5BD13-CCE4-47CB-9C9B-71885B70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6AF-CE53-4530-B8AB-2F2A1B94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FE197-8395-4F2E-9A7B-B71BE98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94D63-D63A-4340-98AE-36E7F75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9B760-EE48-4452-A108-839C68D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DF797-7A2C-4F5E-9603-218842CB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0DD8B-5333-4B7A-A77C-C493818D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7F4A1-139A-47FB-A806-8772A494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A97B9-2ADB-497C-BD74-F384B4A1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B611-6FB1-4FC3-8EE2-62CE36E1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5B9C-D0DD-44B3-BA9D-5893E91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7C8F-FC54-49A4-A002-FF90226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E5E-9A59-400D-916A-2B19C279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9A31-CA2F-40F3-89B6-51309FFE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A7BD-0921-4D57-8F09-1B1F3D56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C9C29-CA08-4830-98C1-3158AA5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4B81-8208-4B0C-A60B-2638C56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D7D9-7836-4FBE-8DA6-94C5677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4A051-4A5E-40D3-90E5-DCD7D77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E4D69-A574-4C74-9FFD-50747197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F38B-7740-4E16-8EED-7DA6E692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916D-8844-4BE9-9294-521664C6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7E7C7-DB64-4109-82F4-D01C04B6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3E7-B8C5-4CB2-9836-DEED2598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6C4C0-32FB-474A-82BB-2CB014DE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62703-C1A6-4A8E-B20D-C3D724A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989D3-21C1-48A1-BB4B-E20E1AE5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C1AC7-DA4F-4415-8A5C-BF02185F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B91AB-88E2-4B8D-8A74-1F527761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5F0BF-A3C9-4AA3-9CF3-3430227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764A7-5E82-4428-BE34-C573557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92469-38DC-4CC6-9CBA-ED1DBE5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B89C7-3F8A-4306-B4BA-FB8C4211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6637F-A9F0-403F-87CB-A9FCA20D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357-2663-45A5-8017-97650834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57A31-55AA-4BC7-B23C-AEF500CC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8E4F8-7453-49E3-B080-9942147F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820C7-F295-4E90-9614-131534D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FB16F-5FF6-4D68-A504-DD474DE4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8502D-A65D-46D9-B452-D0926DF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2DE0D-EA18-4D56-A9A8-3CBF8149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58FDF-98B1-42C1-AB2E-F6C2A74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135D0-D73B-4A3E-A99B-23109E9B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DA477-752C-485D-A8E7-EB50383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A133E-6788-48D6-966A-AF630CE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719-8443-487F-985D-6165784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E2799-E5C5-49A7-BBFC-448204E2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90067-759A-433F-9A21-64D7C365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39273-E743-4A68-92FC-1BA37888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7BB3E-67F0-49D7-9ADD-9A8294CC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71934-BFF9-4341-B699-16C7EDF8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E545C-1C79-43FC-9DF0-CDCD2B29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C5437-1D28-4ABF-94EF-307036B1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D76EE-2E33-4E72-B6FE-DA06A6C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C1B82-DCB8-44A0-9638-3C7D3BA3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85EA5-1C20-4E4E-B659-2531E09D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55E-136D-40DB-AD99-A248B8B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9C302-D1B4-4C6C-B171-E28C549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02660-A333-46C0-93A0-A5593A3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D3FA6-EB4E-4F05-84AB-F4AE341A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D4983-F2A6-432E-8100-66E273C5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CE6FA-6DE7-48D8-B68E-1DB2F416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EEA-45AB-4059-B546-C0AB9D9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A4D8-91A9-4EF2-ADB9-BEAA105B65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2E3-4A0C-4A04-BD4D-32C1CF6744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ED08-8D2A-4A84-8AC4-E4614F88E6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7288-7B89-4EE4-B936-014373A9E9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83E-2340-4CAC-989D-A613155BDA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B82C-A551-4850-AA02-92980E61E7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B5F9-290A-4DEB-8AD8-480EA3847F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Monotype Corsiva"/>
              </a:rPr>
              <a:t>ИЗМЕРЕНИЕ УГЛОВ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етоды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риборы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ЧЕМ ИЗМЕРЯЮТСЯ УГ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радус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инут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екунд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— общепринятые единицы измерения плоских углов. Также эти величины используются в картографии для определения координат произвольной точки земной поверх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МЕТОДЫ ИЗМЕРЕНИЯ УГЛ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глы изделий измеряют тремя основными методам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ом сравнения с жесткими контрольными инструментами - угловыми мерами, угольниками, конусными калибрами и шаблона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бсолютным гониометрическим методом, основанным на использовании приборов с угломерной шкал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свенным тригонометрическим методом, который заключается в определении линейных параметров, связанных с измеряемым углом тригонометрической функц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ЗМЕРИТЕЛЬНЫЕ ПРИБО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ля хранения и передачи единицы плоского угла, градуировки угломерных приборов, а также для непосредственных измерений служат </a:t>
            </a: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угловые призматические меры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. Они выпускаются в виде наборов плиток толщиной 5 мм с градацией 2 градуса, 1 градус, 1’, 15’’. Набор состоит из 93 плиток с номинальными углами до 90 градусов. Угловые меры изготавливают трех классов точности: 0, 1, 2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ля проверки и разметки прямых углов, для контроля изделий при сборке или монтаже и т.д. предназначены </a:t>
            </a: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угольники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поверочны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ля проверки углов конусов служат калибры-втулки (для проверки наружных конусов) и калибры-скобы (для контроля внутренних конических поверхностей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и абсолютных измерениях величина угла определяется непосредственно в угловых единицах с помощью угломеров, делительных головок, микроскопов и других приборов. Наибольшее распространение получили нониусные угломеры, которые выпускаются двух типов: УН - для измерения наружных и внутренних углов и УМ - для измерения наружных углов. Наружными называются углы 0 - 180 градусов, внутренними - углы больше 180 градусов. Устройство нониуса универсального угломера принципиально ничем не отличается от устройства нониуса штангенинструментов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ЗМЕРЕНИЯ И ИЗМЕРИТЕЛЬНЫЕ ПРИБО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коны явлений природы, как выражения количественных отношений между факторами явлений, выводятся на основании измерений этих факторов. Приборы, приспособленные к таким измерениям, называются измерительными. Всякое измерение, какой бы ни было сложности, сводится к  пространственности, времени, движения и давления, для чего могут быть избраны единицы мер (см.) условные, но постоянные или же так называемые абсолютные. Лишь световые и отчасти звуковые явления представляют исключение: сравнение силы света, испускаемого двумя источниками света, основано на физиологическом суждении о равенстве или неравенстве освещения поверхностей этими источниками. Это сравнение наиболее затруднительно для тех случаев, когда источники неодинакового цвета. Еще более затруднительно сравнение силы или напряженности двух музыкальных тонов, в особенности при различной их высот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0016-016-CHto-nuzhno-dlja-togo-chtoby-izmerit-gradusnuju-meru-ugla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03:39Z</dcterms:created>
  <dc:creator>Admin</dc:creator>
  <dc:description/>
  <dc:language>en-US</dc:language>
  <cp:lastModifiedBy>Привет</cp:lastModifiedBy>
  <dcterms:modified xsi:type="dcterms:W3CDTF">2012-07-13T18:27:48Z</dcterms:modified>
  <cp:revision>22</cp:revision>
  <dc:subject/>
  <dc:title>instruments for measuring of angles</dc:title>
</cp:coreProperties>
</file>