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A54B-2974-4F22-9FC2-552B64E534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DBB4-3FE8-4B88-9637-5566BD508D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755F-A674-4C9D-A679-381D488F12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F71E-C2D5-4E82-9539-B492B4CF37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DF8A-4C85-4D3B-8941-6C3FD349AF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0F2E-8E03-444B-BFBC-863D11CBFC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7CE1-0664-4A0C-9DC2-83E5F561E4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B104-A066-4576-A1DE-F9839030DD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9DD6-1A3D-4C03-9644-66C9C03911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81A0-8D8D-4A06-8AAD-3F8A42173B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83A6-0A02-421E-9F22-EF0022E8C8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42CC-C617-4133-A97D-3DCABB4C57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EFB8-003B-4CBC-A384-39018031A2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9CA6-7BC7-4A46-989A-4ED40E29A7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D6AB-93F8-465D-A57F-8FDE6F45C6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AB61-C591-4301-B86B-6A37EEDABE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C4E8-82CC-4533-A0D4-BE08772F66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F3C2-9A3A-4BA8-97B7-AE5E1B5FFA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B5E1-B885-4F79-B1A4-7AED7B72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9E77-2F36-4145-BFB1-A1CF312D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B389-77F9-4BED-AEAD-0F76B567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1FF-5CE1-46FF-A317-5E699AB7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5CC3-52EE-4125-9C16-1902B8EF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2CFC-DCB4-4CF1-B7AF-C04AAD2E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DAB1-0F4F-4F48-A320-9E0540D7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7FC1-F349-4E80-A7F7-B08138A5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F882-22A8-4AC9-8172-8EB40EC2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603D-1857-4829-AC2B-7AD865D0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EEF7-2774-4E27-A9D3-142825AE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4CA-DBF2-4FBE-A9DA-C77C5F51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647D-FE4A-48ED-8291-B76D388A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5C47-6D4C-4175-8E68-29686203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508A-D21C-4590-965A-90EB0143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62D7-FCCC-46CC-A281-7FDA1467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59D1-4904-4045-A6F8-EDF10A35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E8CDD-0339-4AB1-B3DD-9BF3C0E4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BA933-CE49-4E32-A8FF-7156996E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71FD6-2EF6-4167-9AA7-AF4443DC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6AB08-3F57-4C20-8CE4-136AD7B5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8CDA2-736C-4564-B6E4-96593E19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93F-DF1C-486B-BEB3-A5CD9E9D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8C54A-D5FA-4F46-A256-B2749C3A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8D609-1DE3-4416-8737-8B53E5F8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A9A18-2007-4E9B-871C-8B78C729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6FE4D-8345-4F6E-96DE-BA45925B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C0288-DB47-458E-8E48-13B7FB6B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47989-E4A1-4A30-AE75-18F385F0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BB158-7375-4A2F-8555-B563DC20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1066C-B485-4E03-9560-36A5B74A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C7EB2-36DF-46A6-A8A2-F1906E61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88878-D20D-422D-BF8B-0FF8DE27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C75-1E6B-459B-8A7B-345620EC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409AA-7239-4613-BAEA-5CCADD2F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1F149-8C16-42B0-81FF-4F42064A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4974A-A7A3-4820-943B-37B61B6E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5E9D8-FFBE-4056-957A-CA3682BC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8B21D-1D5A-449E-BE60-20F543B9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35C6B-1A02-4E54-A47A-7E5D73C0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DFA12-0A2F-47FD-914A-F9342B4B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C93DC-0921-41CE-90AD-936839FC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AC1EF-5D20-4026-9388-1D79A90D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C094A-FC2C-403A-9E8A-C5794E60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3755-604C-4E33-B74E-0C69CC1F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2D298-8D13-45EB-BF99-1B866AE4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7A301-B309-455B-A0DE-82F2274C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3B5EF-5BE8-43FD-8124-15362765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E60BD-CBB6-48DB-B193-8A2B67EF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8DA83-A49B-41DE-B3CC-DFDC96EE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55686-BEFD-42E0-B809-11F12517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E716C-C4C0-4DE2-A139-B31DBC19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DAD61-6674-4FD8-9C26-23994F27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81D25-CDC9-4DB8-B101-609C4CA9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1B0E1-C4CA-4B8A-9C57-ACFC7860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931-FDFF-4A67-AAB9-9AC70FAC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0EED5-5E43-4C75-8D9F-E96E6E65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8F56D-A7DE-4161-A877-066CDC2F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7ACA2-A07D-466A-9968-2ACBCA8E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0E79F-866F-4269-9C06-CD1D3745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1D895-0FB3-44C0-936C-AC8A0899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C53EC-740A-4B7C-9466-92C22CA3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82C8E-7453-4270-9506-8AF7BEDF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9D1D3-3451-47AD-B808-7B4F8557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378C0-8BB8-47D7-B893-BC66C98C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17999-2621-438B-B6BC-1934B601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AAC5-2013-4B85-BFC2-462FD63E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AEBD1-B173-45BE-8A0C-2352301D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EDED7-B536-46D3-8724-F5604D4F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C5ED3-0786-4A58-96BC-E6F1C6C8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027D8-83BC-4C45-9C9D-3EFF4AB8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69CF3-0B86-41E4-86A4-3BD087FA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7CBF3-4FC4-46D1-961F-93011D66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F1C73-4CC6-41AE-9B9A-F5DCCC35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F0E5D-176A-4170-A53F-B0346435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4F747-CE05-4F3F-8FF5-1274267D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024A5-F1F8-4D07-B7B5-BCBA302D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399B-0B31-4A4A-B900-FDE5767D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5DBD9-A3E5-4169-AC73-60CB5F42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C1303-10EF-4867-81A1-38C48CD8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63153-9A19-4DD9-A84E-048D4E47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3E116-8823-482F-9F12-E3328DB6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49ACD-1A56-4FC3-A4A0-11D2A586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2F1E-8445-475C-9391-93FCBCAF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164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0164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2d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2c3f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3679-08EF-4147-86B2-4CCD429E7E9D}" type="slidenum">
              <a:rPr b="0" lang="en-US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0123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164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0164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2d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2c3f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29ED-E22E-4AE9-9524-FF1E4BBCF8B6}" type="slidenum">
              <a:rPr b="0" lang="en-US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0123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164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0164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2d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2c3f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8B19-E76C-407E-B9A4-6AC8540A110F}" type="slidenum">
              <a:rPr b="0" lang="en-US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164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0164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2d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2c3f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BFE2-E4B4-42EF-834F-F43BA9141853}" type="slidenum">
              <a:rPr b="0" lang="en-US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164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0164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2d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2c3f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53B3-AEE5-4897-B5C9-E253F046D06A}" type="slidenum">
              <a:rPr b="0" lang="en-US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164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0164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2d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2c3f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0642-D3F5-4E9F-A325-9E4078C1F211}" type="slidenum">
              <a:rPr b="0" lang="en-US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164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0164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2d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2c3f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5949-50D7-43F1-B59D-EE0A89022E3F}" type="slidenum">
              <a:rPr b="0" lang="en-US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1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5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1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15.xml"/><Relationship Id="rId8" Type="http://schemas.openxmlformats.org/officeDocument/2006/relationships/slide" Target="slide13.xml"/><Relationship Id="rId9" Type="http://schemas.openxmlformats.org/officeDocument/2006/relationships/slide" Target="slide1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0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4.png"/><Relationship Id="rId26" Type="http://schemas.openxmlformats.org/officeDocument/2006/relationships/image" Target="../media/image15.png"/><Relationship Id="rId27" Type="http://schemas.openxmlformats.org/officeDocument/2006/relationships/image" Target="../media/image16.png"/><Relationship Id="rId28" Type="http://schemas.openxmlformats.org/officeDocument/2006/relationships/image" Target="../media/image10.png"/><Relationship Id="rId29" Type="http://schemas.openxmlformats.org/officeDocument/2006/relationships/image" Target="../media/image16.png"/><Relationship Id="rId30" Type="http://schemas.openxmlformats.org/officeDocument/2006/relationships/image" Target="../media/image10.png"/><Relationship Id="rId31" Type="http://schemas.openxmlformats.org/officeDocument/2006/relationships/image" Target="../media/image16.png"/><Relationship Id="rId32" Type="http://schemas.openxmlformats.org/officeDocument/2006/relationships/image" Target="../media/image10.png"/><Relationship Id="rId33" Type="http://schemas.openxmlformats.org/officeDocument/2006/relationships/image" Target="../media/image17.png"/><Relationship Id="rId34" Type="http://schemas.openxmlformats.org/officeDocument/2006/relationships/image" Target="../media/image18.png"/><Relationship Id="rId35" Type="http://schemas.openxmlformats.org/officeDocument/2006/relationships/image" Target="../media/image17.png"/><Relationship Id="rId36" Type="http://schemas.openxmlformats.org/officeDocument/2006/relationships/image" Target="../media/image18.png"/><Relationship Id="rId37" Type="http://schemas.openxmlformats.org/officeDocument/2006/relationships/image" Target="../media/image17.png"/><Relationship Id="rId38" Type="http://schemas.openxmlformats.org/officeDocument/2006/relationships/image" Target="../media/image18.png"/><Relationship Id="rId39" Type="http://schemas.openxmlformats.org/officeDocument/2006/relationships/image" Target="../media/image16.png"/><Relationship Id="rId40" Type="http://schemas.openxmlformats.org/officeDocument/2006/relationships/image" Target="../media/image10.png"/><Relationship Id="rId41" Type="http://schemas.openxmlformats.org/officeDocument/2006/relationships/image" Target="../media/image16.png"/><Relationship Id="rId42" Type="http://schemas.openxmlformats.org/officeDocument/2006/relationships/image" Target="../media/image10.png"/><Relationship Id="rId43" Type="http://schemas.openxmlformats.org/officeDocument/2006/relationships/image" Target="../media/image16.png"/><Relationship Id="rId44" Type="http://schemas.openxmlformats.org/officeDocument/2006/relationships/image" Target="../media/image10.png"/><Relationship Id="rId45" Type="http://schemas.openxmlformats.org/officeDocument/2006/relationships/image" Target="../media/image19.png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12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Заголовок 1"/>
          <p:cNvSpPr/>
          <p:nvPr/>
        </p:nvSpPr>
        <p:spPr>
          <a:xfrm>
            <a:off x="684360" y="333360"/>
            <a:ext cx="814356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3200" spc="-1" strike="noStrike">
                <a:solidFill>
                  <a:srgbClr val="495a74"/>
                </a:solidFill>
                <a:latin typeface="a_AlgeriusCaps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495a74"/>
                </a:solidFill>
                <a:latin typeface="a_AlgeriusCaps"/>
              </a:rPr>
              <a:t>Соотношения между сторонами и углами треугольника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Заголовок 1"/>
          <p:cNvSpPr/>
          <p:nvPr/>
        </p:nvSpPr>
        <p:spPr>
          <a:xfrm>
            <a:off x="1000080" y="-71280"/>
            <a:ext cx="171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5a74"/>
                </a:solidFill>
                <a:latin typeface="Corbel"/>
              </a:rPr>
              <a:t>Дано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1" name="Группа 4"/>
          <p:cNvGrpSpPr/>
          <p:nvPr/>
        </p:nvGrpSpPr>
        <p:grpSpPr>
          <a:xfrm>
            <a:off x="1285920" y="500040"/>
            <a:ext cx="2286000" cy="857160"/>
            <a:chOff x="1285920" y="500040"/>
            <a:chExt cx="2286000" cy="857160"/>
          </a:xfrm>
        </p:grpSpPr>
        <p:sp>
          <p:nvSpPr>
            <p:cNvPr id="552" name="Равнобедренный треугольник 5"/>
            <p:cNvSpPr/>
            <p:nvPr/>
          </p:nvSpPr>
          <p:spPr>
            <a:xfrm>
              <a:off x="1285920" y="857160"/>
              <a:ext cx="326520" cy="214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53" name="Заголовок 1"/>
            <p:cNvSpPr/>
            <p:nvPr/>
          </p:nvSpPr>
          <p:spPr>
            <a:xfrm>
              <a:off x="1612440" y="500040"/>
              <a:ext cx="19594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95a74"/>
                  </a:solidFill>
                  <a:latin typeface="Gill Sans MT"/>
                </a:rPr>
                <a:t>ABC – </a:t>
              </a:r>
              <a:r>
                <a:rPr b="0" lang="ru-RU" sz="3200" spc="-1" strike="noStrike">
                  <a:solidFill>
                    <a:srgbClr val="495a74"/>
                  </a:solidFill>
                  <a:latin typeface="Corbel"/>
                </a:rPr>
                <a:t>Р/с</a:t>
              </a:r>
              <a:endParaRPr b="0" lang="en-US" sz="3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54" name="Заголовок 1"/>
          <p:cNvSpPr/>
          <p:nvPr/>
        </p:nvSpPr>
        <p:spPr>
          <a:xfrm>
            <a:off x="1000080" y="1285920"/>
            <a:ext cx="1928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95a74"/>
                </a:solidFill>
                <a:latin typeface="Corbel"/>
              </a:rPr>
              <a:t>Док-ть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5" name="Группа 8"/>
          <p:cNvGrpSpPr/>
          <p:nvPr/>
        </p:nvGrpSpPr>
        <p:grpSpPr>
          <a:xfrm>
            <a:off x="1071720" y="1928880"/>
            <a:ext cx="3000240" cy="733320"/>
            <a:chOff x="1071720" y="1928880"/>
            <a:chExt cx="3000240" cy="733320"/>
          </a:xfrm>
        </p:grpSpPr>
        <p:sp>
          <p:nvSpPr>
            <p:cNvPr id="556" name="Заголовок 1"/>
            <p:cNvSpPr/>
            <p:nvPr/>
          </p:nvSpPr>
          <p:spPr>
            <a:xfrm>
              <a:off x="1071720" y="1928880"/>
              <a:ext cx="300024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1=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2=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3=60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557" name="Группа 24"/>
            <p:cNvGrpSpPr/>
            <p:nvPr/>
          </p:nvGrpSpPr>
          <p:grpSpPr>
            <a:xfrm>
              <a:off x="1832760" y="2314800"/>
              <a:ext cx="238320" cy="147240"/>
              <a:chOff x="1832760" y="2314800"/>
              <a:chExt cx="238320" cy="147240"/>
            </a:xfrm>
          </p:grpSpPr>
          <p:sp>
            <p:nvSpPr>
              <p:cNvPr id="558" name="Прямая соединительная линия 17"/>
              <p:cNvSpPr/>
              <p:nvPr/>
            </p:nvSpPr>
            <p:spPr>
              <a:xfrm flipH="1">
                <a:off x="1833120" y="23148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59" name="Прямая соединительная линия 18"/>
              <p:cNvSpPr/>
              <p:nvPr/>
            </p:nvSpPr>
            <p:spPr>
              <a:xfrm>
                <a:off x="1832760" y="24620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560" name="Группа 29"/>
            <p:cNvGrpSpPr/>
            <p:nvPr/>
          </p:nvGrpSpPr>
          <p:grpSpPr>
            <a:xfrm>
              <a:off x="1227960" y="2314800"/>
              <a:ext cx="238320" cy="147240"/>
              <a:chOff x="1227960" y="2314800"/>
              <a:chExt cx="238320" cy="147240"/>
            </a:xfrm>
          </p:grpSpPr>
          <p:sp>
            <p:nvSpPr>
              <p:cNvPr id="561" name="Прямая соединительная линия 15"/>
              <p:cNvSpPr/>
              <p:nvPr/>
            </p:nvSpPr>
            <p:spPr>
              <a:xfrm flipH="1">
                <a:off x="1228320" y="23148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62" name="Прямая соединительная линия 16"/>
              <p:cNvSpPr/>
              <p:nvPr/>
            </p:nvSpPr>
            <p:spPr>
              <a:xfrm>
                <a:off x="1227960" y="24620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563" name="Группа 32"/>
            <p:cNvGrpSpPr/>
            <p:nvPr/>
          </p:nvGrpSpPr>
          <p:grpSpPr>
            <a:xfrm>
              <a:off x="2499840" y="2314800"/>
              <a:ext cx="238320" cy="147240"/>
              <a:chOff x="2499840" y="2314800"/>
              <a:chExt cx="238320" cy="147240"/>
            </a:xfrm>
          </p:grpSpPr>
          <p:sp>
            <p:nvSpPr>
              <p:cNvPr id="564" name="Прямая соединительная линия 13"/>
              <p:cNvSpPr/>
              <p:nvPr/>
            </p:nvSpPr>
            <p:spPr>
              <a:xfrm flipH="1">
                <a:off x="2500200" y="23148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65" name="Прямая соединительная линия 14"/>
              <p:cNvSpPr/>
              <p:nvPr/>
            </p:nvSpPr>
            <p:spPr>
              <a:xfrm>
                <a:off x="2499840" y="24620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pic>
        <p:nvPicPr>
          <p:cNvPr id="566" name="Прямая соединительная линия 19" descr=""/>
          <p:cNvPicPr/>
          <p:nvPr/>
        </p:nvPicPr>
        <p:blipFill>
          <a:blip r:embed="rId2"/>
          <a:stretch/>
        </p:blipFill>
        <p:spPr>
          <a:xfrm>
            <a:off x="895320" y="1225440"/>
            <a:ext cx="3206880" cy="268560"/>
          </a:xfrm>
          <a:prstGeom prst="rect">
            <a:avLst/>
          </a:prstGeom>
          <a:ln w="0">
            <a:noFill/>
          </a:ln>
        </p:spPr>
      </p:pic>
      <p:pic>
        <p:nvPicPr>
          <p:cNvPr id="567" name="Прямая соединительная линия 20" descr=""/>
          <p:cNvPicPr/>
          <p:nvPr/>
        </p:nvPicPr>
        <p:blipFill>
          <a:blip r:embed="rId3"/>
          <a:stretch/>
        </p:blipFill>
        <p:spPr>
          <a:xfrm>
            <a:off x="3865680" y="-103320"/>
            <a:ext cx="268200" cy="38530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214960" y="-142920"/>
            <a:ext cx="3929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95a74"/>
                </a:solidFill>
                <a:latin typeface="Corbel"/>
              </a:rPr>
              <a:t>Доказательство:</a:t>
            </a: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grpSp>
        <p:nvGrpSpPr>
          <p:cNvPr id="569" name="Группа 69"/>
          <p:cNvGrpSpPr/>
          <p:nvPr/>
        </p:nvGrpSpPr>
        <p:grpSpPr>
          <a:xfrm>
            <a:off x="2857680" y="3929040"/>
            <a:ext cx="3214440" cy="2926440"/>
            <a:chOff x="2857680" y="3929040"/>
            <a:chExt cx="3214440" cy="2926440"/>
          </a:xfrm>
        </p:grpSpPr>
        <p:sp>
          <p:nvSpPr>
            <p:cNvPr id="570" name="TextBox 27"/>
            <p:cNvSpPr/>
            <p:nvPr/>
          </p:nvSpPr>
          <p:spPr>
            <a:xfrm>
              <a:off x="4000680" y="392904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571" name="Группа 29"/>
            <p:cNvGrpSpPr/>
            <p:nvPr/>
          </p:nvGrpSpPr>
          <p:grpSpPr>
            <a:xfrm>
              <a:off x="2857680" y="4214520"/>
              <a:ext cx="3214440" cy="2640960"/>
              <a:chOff x="2857680" y="4214520"/>
              <a:chExt cx="3214440" cy="2640960"/>
            </a:xfrm>
          </p:grpSpPr>
          <p:sp>
            <p:nvSpPr>
              <p:cNvPr id="572" name="Равнобедренный треугольник 22"/>
              <p:cNvSpPr/>
              <p:nvPr/>
            </p:nvSpPr>
            <p:spPr>
              <a:xfrm>
                <a:off x="3286080" y="4214520"/>
                <a:ext cx="2428920" cy="2131560"/>
              </a:xfrm>
              <a:prstGeom prst="triangle">
                <a:avLst>
                  <a:gd name="adj" fmla="val 48889"/>
                </a:avLst>
              </a:prstGeom>
              <a:solidFill>
                <a:srgbClr val="ffffff"/>
              </a:solidFill>
              <a:ln w="38160">
                <a:solidFill>
                  <a:srgbClr val="161f39"/>
                </a:solidFill>
                <a:miter/>
              </a:ln>
              <a:effectLst>
                <a:outerShdw dist="38160" dir="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73" name="TextBox 23"/>
              <p:cNvSpPr/>
              <p:nvPr/>
            </p:nvSpPr>
            <p:spPr>
              <a:xfrm>
                <a:off x="3571920" y="5786280"/>
                <a:ext cx="428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74" name="TextBox 24"/>
              <p:cNvSpPr/>
              <p:nvPr/>
            </p:nvSpPr>
            <p:spPr>
              <a:xfrm>
                <a:off x="4286160" y="4428720"/>
                <a:ext cx="428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75" name="TextBox 25"/>
              <p:cNvSpPr/>
              <p:nvPr/>
            </p:nvSpPr>
            <p:spPr>
              <a:xfrm>
                <a:off x="5072040" y="5786280"/>
                <a:ext cx="428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76" name="TextBox 26"/>
              <p:cNvSpPr/>
              <p:nvPr/>
            </p:nvSpPr>
            <p:spPr>
              <a:xfrm>
                <a:off x="2857680" y="6143760"/>
                <a:ext cx="428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77" name="TextBox 28"/>
              <p:cNvSpPr/>
              <p:nvPr/>
            </p:nvSpPr>
            <p:spPr>
              <a:xfrm>
                <a:off x="5643720" y="6334920"/>
                <a:ext cx="428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578" name="Группа 88"/>
          <p:cNvGrpSpPr/>
          <p:nvPr/>
        </p:nvGrpSpPr>
        <p:grpSpPr>
          <a:xfrm>
            <a:off x="4143240" y="500040"/>
            <a:ext cx="5000760" cy="714240"/>
            <a:chOff x="4143240" y="500040"/>
            <a:chExt cx="5000760" cy="714240"/>
          </a:xfrm>
        </p:grpSpPr>
        <p:sp>
          <p:nvSpPr>
            <p:cNvPr id="579" name="Заголовок 1"/>
            <p:cNvSpPr/>
            <p:nvPr/>
          </p:nvSpPr>
          <p:spPr>
            <a:xfrm>
              <a:off x="4143240" y="500040"/>
              <a:ext cx="5000760" cy="71424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1=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2=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3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580" name="Группа 24"/>
            <p:cNvGrpSpPr/>
            <p:nvPr/>
          </p:nvGrpSpPr>
          <p:grpSpPr>
            <a:xfrm>
              <a:off x="6454080" y="928440"/>
              <a:ext cx="260640" cy="142560"/>
              <a:chOff x="6454080" y="928440"/>
              <a:chExt cx="260640" cy="142560"/>
            </a:xfrm>
          </p:grpSpPr>
          <p:sp>
            <p:nvSpPr>
              <p:cNvPr id="581" name="Прямая соединительная линия 42"/>
              <p:cNvSpPr/>
              <p:nvPr/>
            </p:nvSpPr>
            <p:spPr>
              <a:xfrm flipH="1">
                <a:off x="6454080" y="928440"/>
                <a:ext cx="260640" cy="1425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82" name="Прямая соединительная линия 43"/>
              <p:cNvSpPr/>
              <p:nvPr/>
            </p:nvSpPr>
            <p:spPr>
              <a:xfrm>
                <a:off x="6454080" y="1071000"/>
                <a:ext cx="26064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583" name="Группа 29"/>
            <p:cNvGrpSpPr/>
            <p:nvPr/>
          </p:nvGrpSpPr>
          <p:grpSpPr>
            <a:xfrm>
              <a:off x="5769000" y="928440"/>
              <a:ext cx="260640" cy="142560"/>
              <a:chOff x="5769000" y="928440"/>
              <a:chExt cx="260640" cy="142560"/>
            </a:xfrm>
          </p:grpSpPr>
          <p:sp>
            <p:nvSpPr>
              <p:cNvPr id="584" name="Прямая соединительная линия 40"/>
              <p:cNvSpPr/>
              <p:nvPr/>
            </p:nvSpPr>
            <p:spPr>
              <a:xfrm flipH="1">
                <a:off x="5769000" y="928440"/>
                <a:ext cx="260640" cy="1425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85" name="Прямая соединительная линия 41"/>
              <p:cNvSpPr/>
              <p:nvPr/>
            </p:nvSpPr>
            <p:spPr>
              <a:xfrm>
                <a:off x="5769000" y="1071000"/>
                <a:ext cx="26064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586" name="Группа 32"/>
            <p:cNvGrpSpPr/>
            <p:nvPr/>
          </p:nvGrpSpPr>
          <p:grpSpPr>
            <a:xfrm>
              <a:off x="7168680" y="928440"/>
              <a:ext cx="260640" cy="142560"/>
              <a:chOff x="7168680" y="928440"/>
              <a:chExt cx="260640" cy="142560"/>
            </a:xfrm>
          </p:grpSpPr>
          <p:sp>
            <p:nvSpPr>
              <p:cNvPr id="587" name="Прямая соединительная линия 38"/>
              <p:cNvSpPr/>
              <p:nvPr/>
            </p:nvSpPr>
            <p:spPr>
              <a:xfrm flipH="1">
                <a:off x="7168680" y="928440"/>
                <a:ext cx="260640" cy="1425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88" name="Прямая соединительная линия 39"/>
              <p:cNvSpPr/>
              <p:nvPr/>
            </p:nvSpPr>
            <p:spPr>
              <a:xfrm>
                <a:off x="7168680" y="1071000"/>
                <a:ext cx="26064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589" name="Группа 87"/>
          <p:cNvGrpSpPr/>
          <p:nvPr/>
        </p:nvGrpSpPr>
        <p:grpSpPr>
          <a:xfrm>
            <a:off x="4143240" y="1000080"/>
            <a:ext cx="5000760" cy="714600"/>
            <a:chOff x="4143240" y="1000080"/>
            <a:chExt cx="5000760" cy="714600"/>
          </a:xfrm>
        </p:grpSpPr>
        <p:sp>
          <p:nvSpPr>
            <p:cNvPr id="590" name="Заголовок 1"/>
            <p:cNvSpPr/>
            <p:nvPr/>
          </p:nvSpPr>
          <p:spPr>
            <a:xfrm>
              <a:off x="4143240" y="1000080"/>
              <a:ext cx="5000760" cy="71460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1+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2+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3=180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591" name="Группа 24"/>
            <p:cNvGrpSpPr/>
            <p:nvPr/>
          </p:nvGrpSpPr>
          <p:grpSpPr>
            <a:xfrm>
              <a:off x="5848200" y="1428120"/>
              <a:ext cx="295200" cy="143640"/>
              <a:chOff x="5848200" y="1428120"/>
              <a:chExt cx="295200" cy="143640"/>
            </a:xfrm>
          </p:grpSpPr>
          <p:sp>
            <p:nvSpPr>
              <p:cNvPr id="592" name="Прямая соединительная линия 53"/>
              <p:cNvSpPr/>
              <p:nvPr/>
            </p:nvSpPr>
            <p:spPr>
              <a:xfrm flipH="1">
                <a:off x="5848200" y="1428120"/>
                <a:ext cx="294840" cy="1429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93" name="Прямая соединительная линия 54"/>
              <p:cNvSpPr/>
              <p:nvPr/>
            </p:nvSpPr>
            <p:spPr>
              <a:xfrm>
                <a:off x="5848560" y="1571760"/>
                <a:ext cx="29484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594" name="Группа 29"/>
            <p:cNvGrpSpPr/>
            <p:nvPr/>
          </p:nvGrpSpPr>
          <p:grpSpPr>
            <a:xfrm>
              <a:off x="5214240" y="1428120"/>
              <a:ext cx="285840" cy="143640"/>
              <a:chOff x="5214240" y="1428120"/>
              <a:chExt cx="285840" cy="143640"/>
            </a:xfrm>
          </p:grpSpPr>
          <p:sp>
            <p:nvSpPr>
              <p:cNvPr id="595" name="Прямая соединительная линия 51"/>
              <p:cNvSpPr/>
              <p:nvPr/>
            </p:nvSpPr>
            <p:spPr>
              <a:xfrm flipH="1">
                <a:off x="5214240" y="1428120"/>
                <a:ext cx="228600" cy="1429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96" name="Прямая соединительная линия 52"/>
              <p:cNvSpPr/>
              <p:nvPr/>
            </p:nvSpPr>
            <p:spPr>
              <a:xfrm>
                <a:off x="5214600" y="1571760"/>
                <a:ext cx="2854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597" name="Группа 32"/>
            <p:cNvGrpSpPr/>
            <p:nvPr/>
          </p:nvGrpSpPr>
          <p:grpSpPr>
            <a:xfrm>
              <a:off x="6549120" y="1428120"/>
              <a:ext cx="295200" cy="143640"/>
              <a:chOff x="6549120" y="1428120"/>
              <a:chExt cx="295200" cy="143640"/>
            </a:xfrm>
          </p:grpSpPr>
          <p:sp>
            <p:nvSpPr>
              <p:cNvPr id="598" name="Прямая соединительная линия 49"/>
              <p:cNvSpPr/>
              <p:nvPr/>
            </p:nvSpPr>
            <p:spPr>
              <a:xfrm flipH="1">
                <a:off x="6549120" y="1428120"/>
                <a:ext cx="294840" cy="1429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99" name="Прямая соединительная линия 50"/>
              <p:cNvSpPr/>
              <p:nvPr/>
            </p:nvSpPr>
            <p:spPr>
              <a:xfrm>
                <a:off x="6549480" y="1571760"/>
                <a:ext cx="29484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600" name="Группа 55"/>
          <p:cNvGrpSpPr/>
          <p:nvPr/>
        </p:nvGrpSpPr>
        <p:grpSpPr>
          <a:xfrm>
            <a:off x="4286160" y="2143080"/>
            <a:ext cx="4857840" cy="714600"/>
            <a:chOff x="4286160" y="2143080"/>
            <a:chExt cx="4857840" cy="714600"/>
          </a:xfrm>
        </p:grpSpPr>
        <p:sp>
          <p:nvSpPr>
            <p:cNvPr id="601" name="Заголовок 1"/>
            <p:cNvSpPr/>
            <p:nvPr/>
          </p:nvSpPr>
          <p:spPr>
            <a:xfrm>
              <a:off x="4286160" y="2143080"/>
              <a:ext cx="4857840" cy="71460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1=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2=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3=180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:3=60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602" name="Группа 24"/>
            <p:cNvGrpSpPr/>
            <p:nvPr/>
          </p:nvGrpSpPr>
          <p:grpSpPr>
            <a:xfrm>
              <a:off x="5379480" y="2571120"/>
              <a:ext cx="253440" cy="143640"/>
              <a:chOff x="5379480" y="2571120"/>
              <a:chExt cx="253440" cy="143640"/>
            </a:xfrm>
          </p:grpSpPr>
          <p:sp>
            <p:nvSpPr>
              <p:cNvPr id="603" name="Прямая соединительная линия 64"/>
              <p:cNvSpPr/>
              <p:nvPr/>
            </p:nvSpPr>
            <p:spPr>
              <a:xfrm flipH="1">
                <a:off x="5379840" y="2571120"/>
                <a:ext cx="253080" cy="1429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04" name="Прямая соединительная линия 65"/>
              <p:cNvSpPr/>
              <p:nvPr/>
            </p:nvSpPr>
            <p:spPr>
              <a:xfrm>
                <a:off x="5379480" y="2714760"/>
                <a:ext cx="2530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605" name="Группа 29"/>
            <p:cNvGrpSpPr/>
            <p:nvPr/>
          </p:nvGrpSpPr>
          <p:grpSpPr>
            <a:xfrm>
              <a:off x="4713840" y="2571120"/>
              <a:ext cx="253440" cy="143640"/>
              <a:chOff x="4713840" y="2571120"/>
              <a:chExt cx="253440" cy="143640"/>
            </a:xfrm>
          </p:grpSpPr>
          <p:sp>
            <p:nvSpPr>
              <p:cNvPr id="606" name="Прямая соединительная линия 62"/>
              <p:cNvSpPr/>
              <p:nvPr/>
            </p:nvSpPr>
            <p:spPr>
              <a:xfrm flipH="1">
                <a:off x="4714200" y="2571120"/>
                <a:ext cx="253080" cy="1429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07" name="Прямая соединительная линия 63"/>
              <p:cNvSpPr/>
              <p:nvPr/>
            </p:nvSpPr>
            <p:spPr>
              <a:xfrm>
                <a:off x="4713840" y="2714760"/>
                <a:ext cx="2530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608" name="Группа 32"/>
            <p:cNvGrpSpPr/>
            <p:nvPr/>
          </p:nvGrpSpPr>
          <p:grpSpPr>
            <a:xfrm>
              <a:off x="6073560" y="2571120"/>
              <a:ext cx="253440" cy="143640"/>
              <a:chOff x="6073560" y="2571120"/>
              <a:chExt cx="253440" cy="143640"/>
            </a:xfrm>
          </p:grpSpPr>
          <p:sp>
            <p:nvSpPr>
              <p:cNvPr id="609" name="Прямая соединительная линия 60"/>
              <p:cNvSpPr/>
              <p:nvPr/>
            </p:nvSpPr>
            <p:spPr>
              <a:xfrm flipH="1">
                <a:off x="6073920" y="2571120"/>
                <a:ext cx="253080" cy="1429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10" name="Прямая соединительная линия 61"/>
              <p:cNvSpPr/>
              <p:nvPr/>
            </p:nvSpPr>
            <p:spPr>
              <a:xfrm>
                <a:off x="6073560" y="2714760"/>
                <a:ext cx="2530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611" name="Стрелка вправо с вырезом 66"/>
          <p:cNvSpPr/>
          <p:nvPr/>
        </p:nvSpPr>
        <p:spPr>
          <a:xfrm rot="5400000">
            <a:off x="6393600" y="1678680"/>
            <a:ext cx="714240" cy="642960"/>
          </a:xfrm>
          <a:custGeom>
            <a:avLst/>
            <a:gdLst>
              <a:gd name="textAreaLeft" fmla="*/ 160560 w 714240"/>
              <a:gd name="textAreaRight" fmla="*/ 553680 w 714240"/>
              <a:gd name="textAreaTop" fmla="*/ 160560 h 642960"/>
              <a:gd name="textAreaBottom" fmla="*/ 482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880" y="5400"/>
                </a:lnTo>
                <a:lnTo>
                  <a:pt x="11880" y="0"/>
                </a:lnTo>
                <a:lnTo>
                  <a:pt x="21600" y="10800"/>
                </a:lnTo>
                <a:lnTo>
                  <a:pt x="11880" y="21600"/>
                </a:lnTo>
                <a:lnTo>
                  <a:pt x="11880" y="16200"/>
                </a:lnTo>
                <a:lnTo>
                  <a:pt x="0" y="16200"/>
                </a:lnTo>
                <a:lnTo>
                  <a:pt x="48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1030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12" name="TextBox 67" descr=""/>
          <p:cNvPicPr/>
          <p:nvPr/>
        </p:nvPicPr>
        <p:blipFill>
          <a:blip r:embed="rId4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8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Заголовок 1" descr=""/>
          <p:cNvPicPr/>
          <p:nvPr/>
        </p:nvPicPr>
        <p:blipFill>
          <a:blip r:embed="rId2"/>
          <a:stretch/>
        </p:blipFill>
        <p:spPr>
          <a:xfrm>
            <a:off x="1432080" y="268200"/>
            <a:ext cx="7510320" cy="152424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nsellarist"/>
              </a:rPr>
              <a:t>	</a:t>
            </a:r>
            <a:r>
              <a:rPr b="0" lang="en-US" sz="3600" spc="-1" strike="noStrike">
                <a:solidFill>
                  <a:srgbClr val="001645"/>
                </a:solidFill>
                <a:latin typeface="Cansellarist"/>
              </a:rPr>
              <a:t>Внешний угол, проведённый к основанию равнобедренного треугольника, равен 115</a:t>
            </a:r>
            <a:r>
              <a:rPr b="0" lang="en-US" sz="3600" spc="-1" strike="noStrike" baseline="30000">
                <a:solidFill>
                  <a:srgbClr val="001645"/>
                </a:solidFill>
                <a:latin typeface="Cansellarist"/>
              </a:rPr>
              <a:t>0</a:t>
            </a:r>
            <a:r>
              <a:rPr b="0" lang="en-US" sz="3600" spc="-1" strike="noStrike">
                <a:solidFill>
                  <a:srgbClr val="001645"/>
                </a:solidFill>
                <a:latin typeface="Cansellarist"/>
              </a:rPr>
              <a:t>. Найдите все углы треугольник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15" name="TextBox 5" descr=""/>
          <p:cNvPicPr/>
          <p:nvPr/>
        </p:nvPicPr>
        <p:blipFill>
          <a:blip r:embed="rId3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Заголовок 1"/>
          <p:cNvSpPr/>
          <p:nvPr/>
        </p:nvSpPr>
        <p:spPr>
          <a:xfrm>
            <a:off x="1000080" y="-214200"/>
            <a:ext cx="171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5a74"/>
                </a:solidFill>
                <a:latin typeface="Corbel"/>
              </a:rPr>
              <a:t>Дано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617" name="Группа 5"/>
          <p:cNvGrpSpPr/>
          <p:nvPr/>
        </p:nvGrpSpPr>
        <p:grpSpPr>
          <a:xfrm>
            <a:off x="1285920" y="642960"/>
            <a:ext cx="2286000" cy="857160"/>
            <a:chOff x="1285920" y="642960"/>
            <a:chExt cx="2286000" cy="857160"/>
          </a:xfrm>
        </p:grpSpPr>
        <p:sp>
          <p:nvSpPr>
            <p:cNvPr id="618" name="Равнобедренный треугольник 6"/>
            <p:cNvSpPr/>
            <p:nvPr/>
          </p:nvSpPr>
          <p:spPr>
            <a:xfrm>
              <a:off x="1285920" y="1000080"/>
              <a:ext cx="326520" cy="214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19" name="Заголовок 1"/>
            <p:cNvSpPr/>
            <p:nvPr/>
          </p:nvSpPr>
          <p:spPr>
            <a:xfrm>
              <a:off x="1612440" y="642960"/>
              <a:ext cx="19594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95a74"/>
                  </a:solidFill>
                  <a:latin typeface="Gill Sans MT"/>
                </a:rPr>
                <a:t>ABC – </a:t>
              </a:r>
              <a:r>
                <a:rPr b="0" lang="ru-RU" sz="3200" spc="-1" strike="noStrike">
                  <a:solidFill>
                    <a:srgbClr val="495a74"/>
                  </a:solidFill>
                  <a:latin typeface="Corbel"/>
                </a:rPr>
                <a:t>Р/б</a:t>
              </a:r>
              <a:endParaRPr b="0" lang="en-US" sz="3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620" name="Группа 8"/>
          <p:cNvGrpSpPr/>
          <p:nvPr/>
        </p:nvGrpSpPr>
        <p:grpSpPr>
          <a:xfrm>
            <a:off x="1071720" y="2786040"/>
            <a:ext cx="3000240" cy="733320"/>
            <a:chOff x="1071720" y="2786040"/>
            <a:chExt cx="3000240" cy="733320"/>
          </a:xfrm>
        </p:grpSpPr>
        <p:sp>
          <p:nvSpPr>
            <p:cNvPr id="621" name="Заголовок 1"/>
            <p:cNvSpPr/>
            <p:nvPr/>
          </p:nvSpPr>
          <p:spPr>
            <a:xfrm>
              <a:off x="1071720" y="2786040"/>
              <a:ext cx="300024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1, 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2, 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3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622" name="Группа 24"/>
            <p:cNvGrpSpPr/>
            <p:nvPr/>
          </p:nvGrpSpPr>
          <p:grpSpPr>
            <a:xfrm>
              <a:off x="1832760" y="3171960"/>
              <a:ext cx="238320" cy="147240"/>
              <a:chOff x="1832760" y="3171960"/>
              <a:chExt cx="238320" cy="147240"/>
            </a:xfrm>
          </p:grpSpPr>
          <p:sp>
            <p:nvSpPr>
              <p:cNvPr id="623" name="Прямая соединительная линия 17"/>
              <p:cNvSpPr/>
              <p:nvPr/>
            </p:nvSpPr>
            <p:spPr>
              <a:xfrm flipH="1">
                <a:off x="1833120" y="317196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24" name="Прямая соединительная линия 18"/>
              <p:cNvSpPr/>
              <p:nvPr/>
            </p:nvSpPr>
            <p:spPr>
              <a:xfrm>
                <a:off x="1832760" y="331920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625" name="Группа 29"/>
            <p:cNvGrpSpPr/>
            <p:nvPr/>
          </p:nvGrpSpPr>
          <p:grpSpPr>
            <a:xfrm>
              <a:off x="1227960" y="3171960"/>
              <a:ext cx="238320" cy="147240"/>
              <a:chOff x="1227960" y="3171960"/>
              <a:chExt cx="238320" cy="147240"/>
            </a:xfrm>
          </p:grpSpPr>
          <p:sp>
            <p:nvSpPr>
              <p:cNvPr id="626" name="Прямая соединительная линия 15"/>
              <p:cNvSpPr/>
              <p:nvPr/>
            </p:nvSpPr>
            <p:spPr>
              <a:xfrm flipH="1">
                <a:off x="1228320" y="317196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27" name="Прямая соединительная линия 16"/>
              <p:cNvSpPr/>
              <p:nvPr/>
            </p:nvSpPr>
            <p:spPr>
              <a:xfrm>
                <a:off x="1227960" y="331920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628" name="Группа 32"/>
            <p:cNvGrpSpPr/>
            <p:nvPr/>
          </p:nvGrpSpPr>
          <p:grpSpPr>
            <a:xfrm>
              <a:off x="2428200" y="3171960"/>
              <a:ext cx="238320" cy="147240"/>
              <a:chOff x="2428200" y="3171960"/>
              <a:chExt cx="238320" cy="147240"/>
            </a:xfrm>
          </p:grpSpPr>
          <p:sp>
            <p:nvSpPr>
              <p:cNvPr id="629" name="Прямая соединительная линия 13"/>
              <p:cNvSpPr/>
              <p:nvPr/>
            </p:nvSpPr>
            <p:spPr>
              <a:xfrm flipH="1">
                <a:off x="2428560" y="317196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30" name="Прямая соединительная линия 14"/>
              <p:cNvSpPr/>
              <p:nvPr/>
            </p:nvSpPr>
            <p:spPr>
              <a:xfrm>
                <a:off x="2428200" y="331920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631" name="Группа 19"/>
          <p:cNvGrpSpPr/>
          <p:nvPr/>
        </p:nvGrpSpPr>
        <p:grpSpPr>
          <a:xfrm>
            <a:off x="1285920" y="1357200"/>
            <a:ext cx="3000240" cy="733680"/>
            <a:chOff x="1285920" y="1357200"/>
            <a:chExt cx="3000240" cy="733680"/>
          </a:xfrm>
        </p:grpSpPr>
        <p:sp>
          <p:nvSpPr>
            <p:cNvPr id="632" name="Заголовок 1"/>
            <p:cNvSpPr/>
            <p:nvPr/>
          </p:nvSpPr>
          <p:spPr>
            <a:xfrm>
              <a:off x="1285920" y="1357200"/>
              <a:ext cx="3000240" cy="733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4=115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633" name="Группа 29"/>
            <p:cNvGrpSpPr/>
            <p:nvPr/>
          </p:nvGrpSpPr>
          <p:grpSpPr>
            <a:xfrm>
              <a:off x="1442160" y="1743480"/>
              <a:ext cx="238320" cy="147240"/>
              <a:chOff x="1442160" y="1743480"/>
              <a:chExt cx="238320" cy="147240"/>
            </a:xfrm>
          </p:grpSpPr>
          <p:sp>
            <p:nvSpPr>
              <p:cNvPr id="634" name="Прямая соединительная линия 26"/>
              <p:cNvSpPr/>
              <p:nvPr/>
            </p:nvSpPr>
            <p:spPr>
              <a:xfrm flipH="1">
                <a:off x="1442520" y="174348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35" name="Прямая соединительная линия 27"/>
              <p:cNvSpPr/>
              <p:nvPr/>
            </p:nvSpPr>
            <p:spPr>
              <a:xfrm>
                <a:off x="1442160" y="189072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636" name="Заголовок 1"/>
          <p:cNvSpPr/>
          <p:nvPr/>
        </p:nvSpPr>
        <p:spPr>
          <a:xfrm>
            <a:off x="1071720" y="1928880"/>
            <a:ext cx="19285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5a74"/>
                </a:solidFill>
                <a:latin typeface="Corbel"/>
              </a:rPr>
              <a:t>Найти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637" name="Группа 31"/>
          <p:cNvGrpSpPr/>
          <p:nvPr/>
        </p:nvGrpSpPr>
        <p:grpSpPr>
          <a:xfrm>
            <a:off x="2000160" y="3786120"/>
            <a:ext cx="5286600" cy="3133080"/>
            <a:chOff x="2000160" y="3786120"/>
            <a:chExt cx="5286600" cy="3133080"/>
          </a:xfrm>
        </p:grpSpPr>
        <p:grpSp>
          <p:nvGrpSpPr>
            <p:cNvPr id="638" name="Группа 10"/>
            <p:cNvGrpSpPr/>
            <p:nvPr/>
          </p:nvGrpSpPr>
          <p:grpSpPr>
            <a:xfrm>
              <a:off x="2500200" y="4286160"/>
              <a:ext cx="4786560" cy="2633040"/>
              <a:chOff x="2500200" y="4286160"/>
              <a:chExt cx="4786560" cy="2633040"/>
            </a:xfrm>
          </p:grpSpPr>
          <p:pic>
            <p:nvPicPr>
              <p:cNvPr id="639" name="Группа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0200" y="4286160"/>
                <a:ext cx="4786560" cy="263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0" name="TextBox 37"/>
              <p:cNvSpPr/>
              <p:nvPr/>
            </p:nvSpPr>
            <p:spPr>
              <a:xfrm>
                <a:off x="2900520" y="6262920"/>
                <a:ext cx="41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41" name="TextBox 38"/>
              <p:cNvSpPr/>
              <p:nvPr/>
            </p:nvSpPr>
            <p:spPr>
              <a:xfrm>
                <a:off x="4008600" y="4696920"/>
                <a:ext cx="41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42" name="TextBox 39"/>
              <p:cNvSpPr/>
              <p:nvPr/>
            </p:nvSpPr>
            <p:spPr>
              <a:xfrm>
                <a:off x="5047200" y="6233040"/>
                <a:ext cx="41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43" name="TextBox 40"/>
              <p:cNvSpPr/>
              <p:nvPr/>
            </p:nvSpPr>
            <p:spPr>
              <a:xfrm>
                <a:off x="5947560" y="5709960"/>
                <a:ext cx="41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644" name="TextBox 33"/>
            <p:cNvSpPr/>
            <p:nvPr/>
          </p:nvSpPr>
          <p:spPr>
            <a:xfrm>
              <a:off x="2000160" y="600120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45" name="TextBox 34"/>
            <p:cNvSpPr/>
            <p:nvPr/>
          </p:nvSpPr>
          <p:spPr>
            <a:xfrm>
              <a:off x="4000320" y="378612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46" name="TextBox 35"/>
            <p:cNvSpPr/>
            <p:nvPr/>
          </p:nvSpPr>
          <p:spPr>
            <a:xfrm>
              <a:off x="5786640" y="614412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647" name="Прямая соединительная линия 46" descr=""/>
          <p:cNvPicPr/>
          <p:nvPr/>
        </p:nvPicPr>
        <p:blipFill>
          <a:blip r:embed="rId3"/>
          <a:stretch/>
        </p:blipFill>
        <p:spPr>
          <a:xfrm>
            <a:off x="895320" y="1938240"/>
            <a:ext cx="3206880" cy="268560"/>
          </a:xfrm>
          <a:prstGeom prst="rect">
            <a:avLst/>
          </a:prstGeom>
          <a:ln w="0">
            <a:noFill/>
          </a:ln>
        </p:spPr>
      </p:pic>
      <p:pic>
        <p:nvPicPr>
          <p:cNvPr id="648" name="Прямая соединительная линия 47" descr=""/>
          <p:cNvPicPr/>
          <p:nvPr/>
        </p:nvPicPr>
        <p:blipFill>
          <a:blip r:embed="rId4"/>
          <a:stretch/>
        </p:blipFill>
        <p:spPr>
          <a:xfrm>
            <a:off x="3865680" y="-103320"/>
            <a:ext cx="268200" cy="385308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214880" y="-214560"/>
            <a:ext cx="39290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Решение: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grpSp>
        <p:nvGrpSpPr>
          <p:cNvPr id="650" name="Группа 59"/>
          <p:cNvGrpSpPr/>
          <p:nvPr/>
        </p:nvGrpSpPr>
        <p:grpSpPr>
          <a:xfrm>
            <a:off x="5143680" y="1000080"/>
            <a:ext cx="3786120" cy="733320"/>
            <a:chOff x="5143680" y="1000080"/>
            <a:chExt cx="3786120" cy="733320"/>
          </a:xfrm>
        </p:grpSpPr>
        <p:grpSp>
          <p:nvGrpSpPr>
            <p:cNvPr id="651" name="Группа 51"/>
            <p:cNvGrpSpPr/>
            <p:nvPr/>
          </p:nvGrpSpPr>
          <p:grpSpPr>
            <a:xfrm>
              <a:off x="5143680" y="1000080"/>
              <a:ext cx="3786120" cy="733320"/>
              <a:chOff x="5143680" y="1000080"/>
              <a:chExt cx="3786120" cy="733320"/>
            </a:xfrm>
          </p:grpSpPr>
          <p:sp>
            <p:nvSpPr>
              <p:cNvPr id="652" name="Заголовок 1"/>
              <p:cNvSpPr/>
              <p:nvPr/>
            </p:nvSpPr>
            <p:spPr>
              <a:xfrm>
                <a:off x="5143680" y="1000080"/>
                <a:ext cx="3786120" cy="733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60" dir="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495a74"/>
                    </a:solidFill>
                    <a:latin typeface="Gill Sans MT"/>
                  </a:rPr>
                  <a:t>   </a:t>
                </a:r>
                <a:r>
                  <a:rPr b="0" lang="ru-RU" sz="2800" spc="-1" strike="noStrike">
                    <a:solidFill>
                      <a:srgbClr val="495a74"/>
                    </a:solidFill>
                    <a:latin typeface="Corbel"/>
                  </a:rPr>
                  <a:t>4 и    3 - смежные 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grpSp>
            <p:nvGrpSpPr>
              <p:cNvPr id="653" name="Группа 29"/>
              <p:cNvGrpSpPr/>
              <p:nvPr/>
            </p:nvGrpSpPr>
            <p:grpSpPr>
              <a:xfrm>
                <a:off x="5214960" y="1428120"/>
                <a:ext cx="300240" cy="147240"/>
                <a:chOff x="5214960" y="1428120"/>
                <a:chExt cx="300240" cy="147240"/>
              </a:xfrm>
            </p:grpSpPr>
            <p:sp>
              <p:nvSpPr>
                <p:cNvPr id="654" name="Прямая соединительная линия 54"/>
                <p:cNvSpPr/>
                <p:nvPr/>
              </p:nvSpPr>
              <p:spPr>
                <a:xfrm flipH="1">
                  <a:off x="5214960" y="1428120"/>
                  <a:ext cx="300240" cy="146520"/>
                </a:xfrm>
                <a:prstGeom prst="line">
                  <a:avLst/>
                </a:prstGeom>
                <a:ln w="19080">
                  <a:solidFill>
                    <a:srgbClr val="001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655" name="Прямая соединительная линия 55"/>
                <p:cNvSpPr/>
                <p:nvPr/>
              </p:nvSpPr>
              <p:spPr>
                <a:xfrm>
                  <a:off x="5214960" y="1575360"/>
                  <a:ext cx="300240" cy="0"/>
                </a:xfrm>
                <a:prstGeom prst="line">
                  <a:avLst/>
                </a:prstGeom>
                <a:ln w="19080">
                  <a:solidFill>
                    <a:srgbClr val="001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</p:grpSp>
        <p:sp>
          <p:nvSpPr>
            <p:cNvPr id="656" name="Прямая соединительная линия 56"/>
            <p:cNvSpPr/>
            <p:nvPr/>
          </p:nvSpPr>
          <p:spPr>
            <a:xfrm flipH="1">
              <a:off x="6048000" y="1428120"/>
              <a:ext cx="237960" cy="146520"/>
            </a:xfrm>
            <a:prstGeom prst="line">
              <a:avLst/>
            </a:prstGeom>
            <a:ln w="19080">
              <a:solidFill>
                <a:srgbClr val="001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57" name="Прямая соединительная линия 57"/>
            <p:cNvSpPr/>
            <p:nvPr/>
          </p:nvSpPr>
          <p:spPr>
            <a:xfrm>
              <a:off x="6047640" y="1575360"/>
              <a:ext cx="237960" cy="0"/>
            </a:xfrm>
            <a:prstGeom prst="line">
              <a:avLst/>
            </a:prstGeom>
            <a:ln w="19080">
              <a:solidFill>
                <a:srgbClr val="001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658" name="Стрелка вправо с вырезом 58"/>
          <p:cNvSpPr/>
          <p:nvPr/>
        </p:nvSpPr>
        <p:spPr>
          <a:xfrm rot="5400000">
            <a:off x="6179400" y="1678680"/>
            <a:ext cx="714240" cy="642960"/>
          </a:xfrm>
          <a:custGeom>
            <a:avLst/>
            <a:gdLst>
              <a:gd name="textAreaLeft" fmla="*/ 160560 w 714240"/>
              <a:gd name="textAreaRight" fmla="*/ 553680 w 714240"/>
              <a:gd name="textAreaTop" fmla="*/ 160560 h 642960"/>
              <a:gd name="textAreaBottom" fmla="*/ 482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880" y="5400"/>
                </a:lnTo>
                <a:lnTo>
                  <a:pt x="11880" y="0"/>
                </a:lnTo>
                <a:lnTo>
                  <a:pt x="21600" y="10800"/>
                </a:lnTo>
                <a:lnTo>
                  <a:pt x="11880" y="21600"/>
                </a:lnTo>
                <a:lnTo>
                  <a:pt x="11880" y="16200"/>
                </a:lnTo>
                <a:lnTo>
                  <a:pt x="0" y="16200"/>
                </a:lnTo>
                <a:lnTo>
                  <a:pt x="48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1030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659" name="Группа 68"/>
          <p:cNvGrpSpPr/>
          <p:nvPr/>
        </p:nvGrpSpPr>
        <p:grpSpPr>
          <a:xfrm>
            <a:off x="4929120" y="2286000"/>
            <a:ext cx="4143600" cy="733320"/>
            <a:chOff x="4929120" y="2286000"/>
            <a:chExt cx="4143600" cy="733320"/>
          </a:xfrm>
        </p:grpSpPr>
        <p:sp>
          <p:nvSpPr>
            <p:cNvPr id="660" name="Заголовок 1"/>
            <p:cNvSpPr/>
            <p:nvPr/>
          </p:nvSpPr>
          <p:spPr>
            <a:xfrm>
              <a:off x="4929120" y="2286000"/>
              <a:ext cx="414360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3=180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-115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=65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661" name="Группа 29"/>
            <p:cNvGrpSpPr/>
            <p:nvPr/>
          </p:nvGrpSpPr>
          <p:grpSpPr>
            <a:xfrm>
              <a:off x="5085360" y="2671920"/>
              <a:ext cx="238320" cy="147240"/>
              <a:chOff x="5085360" y="2671920"/>
              <a:chExt cx="238320" cy="147240"/>
            </a:xfrm>
          </p:grpSpPr>
          <p:sp>
            <p:nvSpPr>
              <p:cNvPr id="662" name="Прямая соединительная линия 71"/>
              <p:cNvSpPr/>
              <p:nvPr/>
            </p:nvSpPr>
            <p:spPr>
              <a:xfrm flipH="1">
                <a:off x="5085720" y="267192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63" name="Прямая соединительная линия 72"/>
              <p:cNvSpPr/>
              <p:nvPr/>
            </p:nvSpPr>
            <p:spPr>
              <a:xfrm>
                <a:off x="5085360" y="281916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664" name="TextBox 73"/>
          <p:cNvSpPr/>
          <p:nvPr/>
        </p:nvSpPr>
        <p:spPr>
          <a:xfrm>
            <a:off x="4143240" y="857160"/>
            <a:ext cx="857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1848"/>
                </a:solidFill>
                <a:latin typeface="Corbel"/>
              </a:rPr>
              <a:t>1)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665" name="Группа 115"/>
          <p:cNvGrpSpPr/>
          <p:nvPr/>
        </p:nvGrpSpPr>
        <p:grpSpPr>
          <a:xfrm>
            <a:off x="4071960" y="642960"/>
            <a:ext cx="5214960" cy="2000160"/>
            <a:chOff x="4071960" y="642960"/>
            <a:chExt cx="5214960" cy="2000160"/>
          </a:xfrm>
        </p:grpSpPr>
        <p:sp>
          <p:nvSpPr>
            <p:cNvPr id="666" name="TextBox 78"/>
            <p:cNvSpPr/>
            <p:nvPr/>
          </p:nvSpPr>
          <p:spPr>
            <a:xfrm>
              <a:off x="4071960" y="820800"/>
              <a:ext cx="1000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1848"/>
                  </a:solidFill>
                  <a:latin typeface="Corbel"/>
                </a:rPr>
                <a:t>2)</a:t>
              </a:r>
              <a:endParaRPr b="0" lang="en-US" sz="6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667" name="Группа 79"/>
            <p:cNvGrpSpPr/>
            <p:nvPr/>
          </p:nvGrpSpPr>
          <p:grpSpPr>
            <a:xfrm>
              <a:off x="4286160" y="642960"/>
              <a:ext cx="4714920" cy="733320"/>
              <a:chOff x="4286160" y="642960"/>
              <a:chExt cx="4714920" cy="733320"/>
            </a:xfrm>
          </p:grpSpPr>
          <p:grpSp>
            <p:nvGrpSpPr>
              <p:cNvPr id="668" name="Группа 51"/>
              <p:cNvGrpSpPr/>
              <p:nvPr/>
            </p:nvGrpSpPr>
            <p:grpSpPr>
              <a:xfrm>
                <a:off x="4286160" y="642960"/>
                <a:ext cx="4714920" cy="733320"/>
                <a:chOff x="4286160" y="642960"/>
                <a:chExt cx="4714920" cy="733320"/>
              </a:xfrm>
            </p:grpSpPr>
            <p:sp>
              <p:nvSpPr>
                <p:cNvPr id="669" name="Заголовок 1"/>
                <p:cNvSpPr/>
                <p:nvPr/>
              </p:nvSpPr>
              <p:spPr>
                <a:xfrm>
                  <a:off x="4286160" y="642960"/>
                  <a:ext cx="4714920" cy="733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38160" dir="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500" spc="-1" strike="noStrike">
                      <a:solidFill>
                        <a:srgbClr val="495a74"/>
                      </a:solidFill>
                      <a:latin typeface="Gill Sans MT"/>
                    </a:rPr>
                    <a:t>   </a:t>
                  </a:r>
                  <a:r>
                    <a:rPr b="0" lang="ru-RU" sz="2800" spc="-1" strike="noStrike">
                      <a:solidFill>
                        <a:srgbClr val="495a74"/>
                      </a:solidFill>
                      <a:latin typeface="Corbel"/>
                    </a:rPr>
                    <a:t>1 =    3</a:t>
                  </a:r>
                  <a:endParaRPr b="0" lang="en-US" sz="2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grpSp>
              <p:nvGrpSpPr>
                <p:cNvPr id="670" name="Группа 29"/>
                <p:cNvGrpSpPr/>
                <p:nvPr/>
              </p:nvGrpSpPr>
              <p:grpSpPr>
                <a:xfrm>
                  <a:off x="6057360" y="1071000"/>
                  <a:ext cx="300240" cy="147240"/>
                  <a:chOff x="6057360" y="1071000"/>
                  <a:chExt cx="300240" cy="147240"/>
                </a:xfrm>
              </p:grpSpPr>
              <p:sp>
                <p:nvSpPr>
                  <p:cNvPr id="671" name="Прямая соединительная линия 85"/>
                  <p:cNvSpPr/>
                  <p:nvPr/>
                </p:nvSpPr>
                <p:spPr>
                  <a:xfrm flipH="1">
                    <a:off x="6057360" y="1071000"/>
                    <a:ext cx="300240" cy="146520"/>
                  </a:xfrm>
                  <a:prstGeom prst="line">
                    <a:avLst/>
                  </a:prstGeom>
                  <a:ln w="19080">
                    <a:solidFill>
                      <a:srgbClr val="0010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  <p:sp>
                <p:nvSpPr>
                  <p:cNvPr id="672" name="Прямая соединительная линия 86"/>
                  <p:cNvSpPr/>
                  <p:nvPr/>
                </p:nvSpPr>
                <p:spPr>
                  <a:xfrm>
                    <a:off x="6057360" y="1218240"/>
                    <a:ext cx="300240" cy="0"/>
                  </a:xfrm>
                  <a:prstGeom prst="line">
                    <a:avLst/>
                  </a:prstGeom>
                  <a:ln w="19080">
                    <a:solidFill>
                      <a:srgbClr val="0010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</p:grpSp>
          </p:grpSp>
          <p:sp>
            <p:nvSpPr>
              <p:cNvPr id="673" name="Прямая соединительная линия 81"/>
              <p:cNvSpPr/>
              <p:nvPr/>
            </p:nvSpPr>
            <p:spPr>
              <a:xfrm flipH="1">
                <a:off x="6762240" y="10710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74" name="Прямая соединительная линия 82"/>
              <p:cNvSpPr/>
              <p:nvPr/>
            </p:nvSpPr>
            <p:spPr>
              <a:xfrm>
                <a:off x="6761880" y="12182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675" name="Стрелка вправо с вырезом 87"/>
            <p:cNvSpPr/>
            <p:nvPr/>
          </p:nvSpPr>
          <p:spPr>
            <a:xfrm rot="5400000">
              <a:off x="6331680" y="1321560"/>
              <a:ext cx="714240" cy="642960"/>
            </a:xfrm>
            <a:custGeom>
              <a:avLst/>
              <a:gdLst>
                <a:gd name="textAreaLeft" fmla="*/ 160560 w 714240"/>
                <a:gd name="textAreaRight" fmla="*/ 553680 w 714240"/>
                <a:gd name="textAreaTop" fmla="*/ 160560 h 642960"/>
                <a:gd name="textAreaBottom" fmla="*/ 48240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1880" y="5400"/>
                  </a:lnTo>
                  <a:lnTo>
                    <a:pt x="11880" y="0"/>
                  </a:lnTo>
                  <a:lnTo>
                    <a:pt x="21600" y="10800"/>
                  </a:lnTo>
                  <a:lnTo>
                    <a:pt x="11880" y="21600"/>
                  </a:lnTo>
                  <a:lnTo>
                    <a:pt x="11880" y="16200"/>
                  </a:lnTo>
                  <a:lnTo>
                    <a:pt x="0" y="16200"/>
                  </a:lnTo>
                  <a:lnTo>
                    <a:pt x="486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1030"/>
              </a:solidFill>
              <a:miter/>
            </a:ln>
            <a:effectLst>
              <a:outerShdw dist="38183" dir="189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676" name="Группа 88"/>
            <p:cNvGrpSpPr/>
            <p:nvPr/>
          </p:nvGrpSpPr>
          <p:grpSpPr>
            <a:xfrm>
              <a:off x="4286160" y="1909800"/>
              <a:ext cx="5000760" cy="733320"/>
              <a:chOff x="4286160" y="1909800"/>
              <a:chExt cx="5000760" cy="733320"/>
            </a:xfrm>
          </p:grpSpPr>
          <p:sp>
            <p:nvSpPr>
              <p:cNvPr id="677" name="Заголовок 1"/>
              <p:cNvSpPr/>
              <p:nvPr/>
            </p:nvSpPr>
            <p:spPr>
              <a:xfrm>
                <a:off x="4286160" y="1909800"/>
                <a:ext cx="5000760" cy="733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60" dir="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495a74"/>
                    </a:solidFill>
                    <a:latin typeface="Gill Sans MT"/>
                  </a:rPr>
                  <a:t> </a:t>
                </a:r>
                <a:r>
                  <a:rPr b="0" lang="ru-RU" sz="3500" spc="-1" strike="noStrike">
                    <a:solidFill>
                      <a:srgbClr val="495a74"/>
                    </a:solidFill>
                    <a:latin typeface="Corbel"/>
                  </a:rPr>
                  <a:t>1=65</a:t>
                </a:r>
                <a:r>
                  <a:rPr b="0" lang="ru-RU" sz="3500" spc="-1" strike="noStrike" baseline="30000">
                    <a:solidFill>
                      <a:srgbClr val="495a74"/>
                    </a:solidFill>
                    <a:latin typeface="Corbel"/>
                  </a:rPr>
                  <a:t>0</a:t>
                </a:r>
                <a:endParaRPr b="0" lang="en-US" sz="35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grpSp>
            <p:nvGrpSpPr>
              <p:cNvPr id="678" name="Группа 29"/>
              <p:cNvGrpSpPr/>
              <p:nvPr/>
            </p:nvGrpSpPr>
            <p:grpSpPr>
              <a:xfrm>
                <a:off x="6085800" y="2295720"/>
                <a:ext cx="238320" cy="147240"/>
                <a:chOff x="6085800" y="2295720"/>
                <a:chExt cx="238320" cy="147240"/>
              </a:xfrm>
            </p:grpSpPr>
            <p:sp>
              <p:nvSpPr>
                <p:cNvPr id="679" name="Прямая соединительная линия 91"/>
                <p:cNvSpPr/>
                <p:nvPr/>
              </p:nvSpPr>
              <p:spPr>
                <a:xfrm flipH="1">
                  <a:off x="6086160" y="2295720"/>
                  <a:ext cx="237960" cy="146520"/>
                </a:xfrm>
                <a:prstGeom prst="line">
                  <a:avLst/>
                </a:prstGeom>
                <a:ln w="19080">
                  <a:solidFill>
                    <a:srgbClr val="001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680" name="Прямая соединительная линия 92"/>
                <p:cNvSpPr/>
                <p:nvPr/>
              </p:nvSpPr>
              <p:spPr>
                <a:xfrm>
                  <a:off x="6085800" y="2442960"/>
                  <a:ext cx="237960" cy="0"/>
                </a:xfrm>
                <a:prstGeom prst="line">
                  <a:avLst/>
                </a:prstGeom>
                <a:ln w="19080">
                  <a:solidFill>
                    <a:srgbClr val="001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</p:grpSp>
      </p:grpSp>
      <p:sp>
        <p:nvSpPr>
          <p:cNvPr id="681" name="Заголовок 1"/>
          <p:cNvSpPr/>
          <p:nvPr/>
        </p:nvSpPr>
        <p:spPr>
          <a:xfrm>
            <a:off x="4143240" y="1071720"/>
            <a:ext cx="3929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682" name="Группа 94"/>
          <p:cNvGrpSpPr/>
          <p:nvPr/>
        </p:nvGrpSpPr>
        <p:grpSpPr>
          <a:xfrm>
            <a:off x="5143680" y="766800"/>
            <a:ext cx="3000240" cy="733320"/>
            <a:chOff x="5143680" y="766800"/>
            <a:chExt cx="3000240" cy="733320"/>
          </a:xfrm>
        </p:grpSpPr>
        <p:sp>
          <p:nvSpPr>
            <p:cNvPr id="683" name="Заголовок 1"/>
            <p:cNvSpPr/>
            <p:nvPr/>
          </p:nvSpPr>
          <p:spPr>
            <a:xfrm>
              <a:off x="5143680" y="766800"/>
              <a:ext cx="300024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000" spc="-1" strike="noStrike">
                  <a:solidFill>
                    <a:srgbClr val="495a74"/>
                  </a:solidFill>
                  <a:latin typeface="Corbel"/>
                </a:rPr>
                <a:t>2=180</a:t>
              </a:r>
              <a:r>
                <a:rPr b="0" lang="ru-RU" sz="30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r>
                <a:rPr b="0" lang="ru-RU" sz="3000" spc="-1" strike="noStrike">
                  <a:solidFill>
                    <a:srgbClr val="495a74"/>
                  </a:solidFill>
                  <a:latin typeface="Corbel"/>
                </a:rPr>
                <a:t>-( </a:t>
              </a:r>
              <a:r>
                <a:rPr b="0" lang="en-US" sz="3000" spc="-1" strike="noStrike">
                  <a:solidFill>
                    <a:srgbClr val="495a74"/>
                  </a:solidFill>
                  <a:latin typeface="Gill Sans MT"/>
                </a:rPr>
                <a:t> </a:t>
              </a:r>
              <a:r>
                <a:rPr b="0" lang="ru-RU" sz="3000" spc="-1" strike="noStrike">
                  <a:solidFill>
                    <a:srgbClr val="495a74"/>
                  </a:solidFill>
                  <a:latin typeface="Corbel"/>
                </a:rPr>
                <a:t>1 + </a:t>
              </a:r>
              <a:r>
                <a:rPr b="0" lang="en-US" sz="3000" spc="-1" strike="noStrike">
                  <a:solidFill>
                    <a:srgbClr val="495a74"/>
                  </a:solidFill>
                  <a:latin typeface="Gill Sans MT"/>
                </a:rPr>
                <a:t> </a:t>
              </a:r>
              <a:r>
                <a:rPr b="0" lang="ru-RU" sz="3000" spc="-1" strike="noStrike">
                  <a:solidFill>
                    <a:srgbClr val="495a74"/>
                  </a:solidFill>
                  <a:latin typeface="Corbel"/>
                </a:rPr>
                <a:t>3)</a:t>
              </a:r>
              <a:endParaRPr b="0" lang="en-US" sz="3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684" name="Группа 24"/>
            <p:cNvGrpSpPr/>
            <p:nvPr/>
          </p:nvGrpSpPr>
          <p:grpSpPr>
            <a:xfrm>
              <a:off x="6833520" y="1123200"/>
              <a:ext cx="238320" cy="147240"/>
              <a:chOff x="6833520" y="1123200"/>
              <a:chExt cx="238320" cy="147240"/>
            </a:xfrm>
          </p:grpSpPr>
          <p:sp>
            <p:nvSpPr>
              <p:cNvPr id="685" name="Прямая соединительная линия 103"/>
              <p:cNvSpPr/>
              <p:nvPr/>
            </p:nvSpPr>
            <p:spPr>
              <a:xfrm flipH="1">
                <a:off x="6833880" y="11232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86" name="Прямая соединительная линия 104"/>
              <p:cNvSpPr/>
              <p:nvPr/>
            </p:nvSpPr>
            <p:spPr>
              <a:xfrm>
                <a:off x="6833520" y="12704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687" name="Группа 29"/>
            <p:cNvGrpSpPr/>
            <p:nvPr/>
          </p:nvGrpSpPr>
          <p:grpSpPr>
            <a:xfrm>
              <a:off x="5299920" y="1152720"/>
              <a:ext cx="238320" cy="147240"/>
              <a:chOff x="5299920" y="1152720"/>
              <a:chExt cx="238320" cy="147240"/>
            </a:xfrm>
          </p:grpSpPr>
          <p:sp>
            <p:nvSpPr>
              <p:cNvPr id="688" name="Прямая соединительная линия 101"/>
              <p:cNvSpPr/>
              <p:nvPr/>
            </p:nvSpPr>
            <p:spPr>
              <a:xfrm flipH="1">
                <a:off x="5300280" y="115272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89" name="Прямая соединительная линия 102"/>
              <p:cNvSpPr/>
              <p:nvPr/>
            </p:nvSpPr>
            <p:spPr>
              <a:xfrm>
                <a:off x="5299920" y="129996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690" name="Группа 32"/>
            <p:cNvGrpSpPr/>
            <p:nvPr/>
          </p:nvGrpSpPr>
          <p:grpSpPr>
            <a:xfrm>
              <a:off x="7405200" y="1123200"/>
              <a:ext cx="238320" cy="147240"/>
              <a:chOff x="7405200" y="1123200"/>
              <a:chExt cx="238320" cy="147240"/>
            </a:xfrm>
          </p:grpSpPr>
          <p:sp>
            <p:nvSpPr>
              <p:cNvPr id="691" name="Прямая соединительная линия 99"/>
              <p:cNvSpPr/>
              <p:nvPr/>
            </p:nvSpPr>
            <p:spPr>
              <a:xfrm flipH="1">
                <a:off x="7405560" y="11232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92" name="Прямая соединительная линия 100"/>
              <p:cNvSpPr/>
              <p:nvPr/>
            </p:nvSpPr>
            <p:spPr>
              <a:xfrm>
                <a:off x="7405200" y="12704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693" name="TextBox 93"/>
          <p:cNvSpPr/>
          <p:nvPr/>
        </p:nvSpPr>
        <p:spPr>
          <a:xfrm>
            <a:off x="4143240" y="838080"/>
            <a:ext cx="100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1848"/>
                </a:solidFill>
                <a:latin typeface="Corbel"/>
              </a:rPr>
              <a:t>3)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694" name="Группа 105"/>
          <p:cNvGrpSpPr/>
          <p:nvPr/>
        </p:nvGrpSpPr>
        <p:grpSpPr>
          <a:xfrm>
            <a:off x="5214960" y="1481040"/>
            <a:ext cx="3000240" cy="733680"/>
            <a:chOff x="5214960" y="1481040"/>
            <a:chExt cx="3000240" cy="733680"/>
          </a:xfrm>
        </p:grpSpPr>
        <p:sp>
          <p:nvSpPr>
            <p:cNvPr id="695" name="Заголовок 1"/>
            <p:cNvSpPr/>
            <p:nvPr/>
          </p:nvSpPr>
          <p:spPr>
            <a:xfrm>
              <a:off x="5214960" y="1481040"/>
              <a:ext cx="3000240" cy="733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200" spc="-1" strike="noStrike">
                  <a:solidFill>
                    <a:srgbClr val="495a74"/>
                  </a:solidFill>
                  <a:latin typeface="Corbel"/>
                </a:rPr>
                <a:t>2=180</a:t>
              </a:r>
              <a:r>
                <a:rPr b="0" lang="ru-RU" sz="32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r>
                <a:rPr b="0" lang="ru-RU" sz="3200" spc="-1" strike="noStrike">
                  <a:solidFill>
                    <a:srgbClr val="495a74"/>
                  </a:solidFill>
                  <a:latin typeface="Corbel"/>
                </a:rPr>
                <a:t>-65</a:t>
              </a:r>
              <a:r>
                <a:rPr b="0" lang="ru-RU" sz="32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r>
                <a:rPr b="0" lang="ru-RU" sz="3200" spc="-1" strike="noStrike">
                  <a:solidFill>
                    <a:srgbClr val="495a74"/>
                  </a:solidFill>
                  <a:latin typeface="Corbel"/>
                </a:rPr>
                <a:t>*2</a:t>
              </a:r>
              <a:endParaRPr b="0" lang="en-US" sz="32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696" name="Группа 29"/>
            <p:cNvGrpSpPr/>
            <p:nvPr/>
          </p:nvGrpSpPr>
          <p:grpSpPr>
            <a:xfrm>
              <a:off x="5371200" y="1867320"/>
              <a:ext cx="238320" cy="147240"/>
              <a:chOff x="5371200" y="1867320"/>
              <a:chExt cx="238320" cy="147240"/>
            </a:xfrm>
          </p:grpSpPr>
          <p:sp>
            <p:nvSpPr>
              <p:cNvPr id="697" name="Прямая соединительная линия 108"/>
              <p:cNvSpPr/>
              <p:nvPr/>
            </p:nvSpPr>
            <p:spPr>
              <a:xfrm flipH="1">
                <a:off x="5371560" y="186732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98" name="Прямая соединительная линия 109"/>
              <p:cNvSpPr/>
              <p:nvPr/>
            </p:nvSpPr>
            <p:spPr>
              <a:xfrm>
                <a:off x="5371200" y="201456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699" name="Группа 110"/>
          <p:cNvGrpSpPr/>
          <p:nvPr/>
        </p:nvGrpSpPr>
        <p:grpSpPr>
          <a:xfrm>
            <a:off x="4143240" y="2266920"/>
            <a:ext cx="5000760" cy="733320"/>
            <a:chOff x="4143240" y="2266920"/>
            <a:chExt cx="5000760" cy="733320"/>
          </a:xfrm>
        </p:grpSpPr>
        <p:sp>
          <p:nvSpPr>
            <p:cNvPr id="700" name="Заголовок 1"/>
            <p:cNvSpPr/>
            <p:nvPr/>
          </p:nvSpPr>
          <p:spPr>
            <a:xfrm>
              <a:off x="4143240" y="2266920"/>
              <a:ext cx="500076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2=50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701" name="Группа 29"/>
            <p:cNvGrpSpPr/>
            <p:nvPr/>
          </p:nvGrpSpPr>
          <p:grpSpPr>
            <a:xfrm>
              <a:off x="5904720" y="2652840"/>
              <a:ext cx="238320" cy="147240"/>
              <a:chOff x="5904720" y="2652840"/>
              <a:chExt cx="238320" cy="147240"/>
            </a:xfrm>
          </p:grpSpPr>
          <p:sp>
            <p:nvSpPr>
              <p:cNvPr id="702" name="Прямая соединительная линия 113"/>
              <p:cNvSpPr/>
              <p:nvPr/>
            </p:nvSpPr>
            <p:spPr>
              <a:xfrm flipH="1">
                <a:off x="5905080" y="265284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03" name="Прямая соединительная линия 114"/>
              <p:cNvSpPr/>
              <p:nvPr/>
            </p:nvSpPr>
            <p:spPr>
              <a:xfrm>
                <a:off x="5904720" y="280008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704" name="Заголовок 1"/>
          <p:cNvSpPr/>
          <p:nvPr/>
        </p:nvSpPr>
        <p:spPr>
          <a:xfrm>
            <a:off x="4143240" y="-214200"/>
            <a:ext cx="3929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Ответ:</a:t>
            </a: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705" name="Группа 116"/>
          <p:cNvGrpSpPr/>
          <p:nvPr/>
        </p:nvGrpSpPr>
        <p:grpSpPr>
          <a:xfrm>
            <a:off x="5286240" y="857160"/>
            <a:ext cx="3000600" cy="733680"/>
            <a:chOff x="5286240" y="857160"/>
            <a:chExt cx="3000600" cy="733680"/>
          </a:xfrm>
        </p:grpSpPr>
        <p:sp>
          <p:nvSpPr>
            <p:cNvPr id="706" name="Заголовок 1"/>
            <p:cNvSpPr/>
            <p:nvPr/>
          </p:nvSpPr>
          <p:spPr>
            <a:xfrm>
              <a:off x="5286240" y="857160"/>
              <a:ext cx="3000600" cy="733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1=65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707" name="Группа 29"/>
            <p:cNvGrpSpPr/>
            <p:nvPr/>
          </p:nvGrpSpPr>
          <p:grpSpPr>
            <a:xfrm>
              <a:off x="5442480" y="1243440"/>
              <a:ext cx="238320" cy="147240"/>
              <a:chOff x="5442480" y="1243440"/>
              <a:chExt cx="238320" cy="147240"/>
            </a:xfrm>
          </p:grpSpPr>
          <p:sp>
            <p:nvSpPr>
              <p:cNvPr id="708" name="Прямая соединительная линия 119"/>
              <p:cNvSpPr/>
              <p:nvPr/>
            </p:nvSpPr>
            <p:spPr>
              <a:xfrm flipH="1">
                <a:off x="5442840" y="124344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09" name="Прямая соединительная линия 120"/>
              <p:cNvSpPr/>
              <p:nvPr/>
            </p:nvSpPr>
            <p:spPr>
              <a:xfrm>
                <a:off x="5442480" y="139068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710" name="Группа 125"/>
          <p:cNvGrpSpPr/>
          <p:nvPr/>
        </p:nvGrpSpPr>
        <p:grpSpPr>
          <a:xfrm>
            <a:off x="5286240" y="1428840"/>
            <a:ext cx="3000600" cy="733320"/>
            <a:chOff x="5286240" y="1428840"/>
            <a:chExt cx="3000600" cy="733320"/>
          </a:xfrm>
        </p:grpSpPr>
        <p:sp>
          <p:nvSpPr>
            <p:cNvPr id="711" name="Заголовок 1"/>
            <p:cNvSpPr/>
            <p:nvPr/>
          </p:nvSpPr>
          <p:spPr>
            <a:xfrm>
              <a:off x="5286240" y="1428840"/>
              <a:ext cx="300060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2=50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712" name="Группа 29"/>
            <p:cNvGrpSpPr/>
            <p:nvPr/>
          </p:nvGrpSpPr>
          <p:grpSpPr>
            <a:xfrm>
              <a:off x="5442480" y="1814760"/>
              <a:ext cx="238320" cy="147240"/>
              <a:chOff x="5442480" y="1814760"/>
              <a:chExt cx="238320" cy="147240"/>
            </a:xfrm>
          </p:grpSpPr>
          <p:sp>
            <p:nvSpPr>
              <p:cNvPr id="713" name="Прямая соединительная линия 128"/>
              <p:cNvSpPr/>
              <p:nvPr/>
            </p:nvSpPr>
            <p:spPr>
              <a:xfrm flipH="1">
                <a:off x="5442840" y="181476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14" name="Прямая соединительная линия 129"/>
              <p:cNvSpPr/>
              <p:nvPr/>
            </p:nvSpPr>
            <p:spPr>
              <a:xfrm>
                <a:off x="5442480" y="196200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715" name="Группа 130"/>
          <p:cNvGrpSpPr/>
          <p:nvPr/>
        </p:nvGrpSpPr>
        <p:grpSpPr>
          <a:xfrm>
            <a:off x="5286240" y="2000160"/>
            <a:ext cx="3000600" cy="733680"/>
            <a:chOff x="5286240" y="2000160"/>
            <a:chExt cx="3000600" cy="733680"/>
          </a:xfrm>
        </p:grpSpPr>
        <p:sp>
          <p:nvSpPr>
            <p:cNvPr id="716" name="Заголовок 1"/>
            <p:cNvSpPr/>
            <p:nvPr/>
          </p:nvSpPr>
          <p:spPr>
            <a:xfrm>
              <a:off x="5286240" y="2000160"/>
              <a:ext cx="3000600" cy="733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3=65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717" name="Группа 29"/>
            <p:cNvGrpSpPr/>
            <p:nvPr/>
          </p:nvGrpSpPr>
          <p:grpSpPr>
            <a:xfrm>
              <a:off x="5442480" y="2386440"/>
              <a:ext cx="238320" cy="147240"/>
              <a:chOff x="5442480" y="2386440"/>
              <a:chExt cx="238320" cy="147240"/>
            </a:xfrm>
          </p:grpSpPr>
          <p:sp>
            <p:nvSpPr>
              <p:cNvPr id="718" name="Прямая соединительная линия 133"/>
              <p:cNvSpPr/>
              <p:nvPr/>
            </p:nvSpPr>
            <p:spPr>
              <a:xfrm flipH="1">
                <a:off x="5442840" y="238644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19" name="Прямая соединительная линия 134"/>
              <p:cNvSpPr/>
              <p:nvPr/>
            </p:nvSpPr>
            <p:spPr>
              <a:xfrm>
                <a:off x="5442480" y="253368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pic>
        <p:nvPicPr>
          <p:cNvPr id="720" name="TextBox 124" descr=""/>
          <p:cNvPicPr/>
          <p:nvPr/>
        </p:nvPicPr>
        <p:blipFill>
          <a:blip r:embed="rId5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Заголовок 1" descr=""/>
          <p:cNvPicPr/>
          <p:nvPr/>
        </p:nvPicPr>
        <p:blipFill>
          <a:blip r:embed="rId2"/>
          <a:stretch/>
        </p:blipFill>
        <p:spPr>
          <a:xfrm>
            <a:off x="1420920" y="73080"/>
            <a:ext cx="7510320" cy="2036880"/>
          </a:xfrm>
          <a:prstGeom prst="rect">
            <a:avLst/>
          </a:prstGeom>
          <a:ln w="0">
            <a:noFill/>
          </a:ln>
        </p:spPr>
      </p:pic>
      <p:pic>
        <p:nvPicPr>
          <p:cNvPr id="722" name="Содержимое 2" descr=""/>
          <p:cNvPicPr/>
          <p:nvPr/>
        </p:nvPicPr>
        <p:blipFill>
          <a:blip r:embed="rId3"/>
          <a:stretch/>
        </p:blipFill>
        <p:spPr>
          <a:xfrm>
            <a:off x="1620720" y="1895400"/>
            <a:ext cx="7121520" cy="2700360"/>
          </a:xfrm>
          <a:prstGeom prst="rect">
            <a:avLst/>
          </a:prstGeom>
          <a:ln w="0">
            <a:noFill/>
          </a:ln>
        </p:spPr>
      </p:pic>
      <p:pic>
        <p:nvPicPr>
          <p:cNvPr id="723" name="TextBox 7" descr=""/>
          <p:cNvPicPr/>
          <p:nvPr/>
        </p:nvPicPr>
        <p:blipFill>
          <a:blip r:embed="rId4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Прямая соединительная линия 41" descr=""/>
          <p:cNvPicPr/>
          <p:nvPr/>
        </p:nvPicPr>
        <p:blipFill>
          <a:blip r:embed="rId2"/>
          <a:stretch/>
        </p:blipFill>
        <p:spPr>
          <a:xfrm>
            <a:off x="901800" y="2425680"/>
            <a:ext cx="3206520" cy="26208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857840" y="-142920"/>
            <a:ext cx="3929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95a74"/>
                </a:solidFill>
                <a:latin typeface="Corbel"/>
              </a:rPr>
              <a:t>Доказательство:</a:t>
            </a: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26" name="Заголовок 1"/>
          <p:cNvSpPr/>
          <p:nvPr/>
        </p:nvSpPr>
        <p:spPr>
          <a:xfrm>
            <a:off x="1071720" y="-71280"/>
            <a:ext cx="17143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5a74"/>
                </a:solidFill>
                <a:latin typeface="Corbel"/>
              </a:rPr>
              <a:t>Дано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727" name="Группа 49"/>
          <p:cNvGrpSpPr/>
          <p:nvPr/>
        </p:nvGrpSpPr>
        <p:grpSpPr>
          <a:xfrm>
            <a:off x="1285920" y="695160"/>
            <a:ext cx="2000160" cy="857520"/>
            <a:chOff x="1285920" y="695160"/>
            <a:chExt cx="2000160" cy="857520"/>
          </a:xfrm>
        </p:grpSpPr>
        <p:sp>
          <p:nvSpPr>
            <p:cNvPr id="728" name="Равнобедренный треугольник 50"/>
            <p:cNvSpPr/>
            <p:nvPr/>
          </p:nvSpPr>
          <p:spPr>
            <a:xfrm>
              <a:off x="1285920" y="1052280"/>
              <a:ext cx="285480" cy="214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29" name="Заголовок 1"/>
            <p:cNvSpPr/>
            <p:nvPr/>
          </p:nvSpPr>
          <p:spPr>
            <a:xfrm>
              <a:off x="1571400" y="695160"/>
              <a:ext cx="171468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ABC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30" name="Заголовок 1"/>
          <p:cNvSpPr/>
          <p:nvPr/>
        </p:nvSpPr>
        <p:spPr>
          <a:xfrm>
            <a:off x="1071720" y="2624040"/>
            <a:ext cx="19285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95a74"/>
                </a:solidFill>
                <a:latin typeface="Corbel"/>
              </a:rPr>
              <a:t>Док-ть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31" name="Прямая соединительная линия 53" descr=""/>
          <p:cNvPicPr/>
          <p:nvPr/>
        </p:nvPicPr>
        <p:blipFill>
          <a:blip r:embed="rId3"/>
          <a:stretch/>
        </p:blipFill>
        <p:spPr>
          <a:xfrm>
            <a:off x="3865680" y="-103320"/>
            <a:ext cx="268200" cy="4278600"/>
          </a:xfrm>
          <a:prstGeom prst="rect">
            <a:avLst/>
          </a:prstGeom>
          <a:ln w="0">
            <a:noFill/>
          </a:ln>
        </p:spPr>
      </p:pic>
      <p:sp>
        <p:nvSpPr>
          <p:cNvPr id="732" name="Заголовок 1"/>
          <p:cNvSpPr/>
          <p:nvPr/>
        </p:nvSpPr>
        <p:spPr>
          <a:xfrm>
            <a:off x="1214280" y="1409760"/>
            <a:ext cx="171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95a74"/>
                </a:solidFill>
                <a:latin typeface="Gill Sans MT"/>
              </a:rPr>
              <a:t>AB&gt;AC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733" name="Группа 57"/>
          <p:cNvGrpSpPr/>
          <p:nvPr/>
        </p:nvGrpSpPr>
        <p:grpSpPr>
          <a:xfrm>
            <a:off x="1000080" y="3267000"/>
            <a:ext cx="3000600" cy="733680"/>
            <a:chOff x="1000080" y="3267000"/>
            <a:chExt cx="3000600" cy="733680"/>
          </a:xfrm>
        </p:grpSpPr>
        <p:sp>
          <p:nvSpPr>
            <p:cNvPr id="734" name="Заголовок 1"/>
            <p:cNvSpPr/>
            <p:nvPr/>
          </p:nvSpPr>
          <p:spPr>
            <a:xfrm>
              <a:off x="1000080" y="3267000"/>
              <a:ext cx="3000600" cy="733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C&gt;  B  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735" name="Группа 24"/>
            <p:cNvGrpSpPr/>
            <p:nvPr/>
          </p:nvGrpSpPr>
          <p:grpSpPr>
            <a:xfrm>
              <a:off x="1975680" y="3653280"/>
              <a:ext cx="238320" cy="147240"/>
              <a:chOff x="1975680" y="3653280"/>
              <a:chExt cx="238320" cy="147240"/>
            </a:xfrm>
          </p:grpSpPr>
          <p:sp>
            <p:nvSpPr>
              <p:cNvPr id="736" name="Прямая соединительная линия 66"/>
              <p:cNvSpPr/>
              <p:nvPr/>
            </p:nvSpPr>
            <p:spPr>
              <a:xfrm flipH="1">
                <a:off x="1976040" y="365328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37" name="Прямая соединительная линия 67"/>
              <p:cNvSpPr/>
              <p:nvPr/>
            </p:nvSpPr>
            <p:spPr>
              <a:xfrm>
                <a:off x="1975680" y="380052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738" name="Группа 29"/>
            <p:cNvGrpSpPr/>
            <p:nvPr/>
          </p:nvGrpSpPr>
          <p:grpSpPr>
            <a:xfrm>
              <a:off x="1227960" y="3653280"/>
              <a:ext cx="238320" cy="147240"/>
              <a:chOff x="1227960" y="3653280"/>
              <a:chExt cx="238320" cy="147240"/>
            </a:xfrm>
          </p:grpSpPr>
          <p:sp>
            <p:nvSpPr>
              <p:cNvPr id="739" name="Прямая соединительная линия 64"/>
              <p:cNvSpPr/>
              <p:nvPr/>
            </p:nvSpPr>
            <p:spPr>
              <a:xfrm flipH="1">
                <a:off x="1228320" y="365328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40" name="Прямая соединительная линия 65"/>
              <p:cNvSpPr/>
              <p:nvPr/>
            </p:nvSpPr>
            <p:spPr>
              <a:xfrm>
                <a:off x="1227960" y="380052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741" name="Заголовок 1"/>
          <p:cNvSpPr/>
          <p:nvPr/>
        </p:nvSpPr>
        <p:spPr>
          <a:xfrm>
            <a:off x="4143240" y="714240"/>
            <a:ext cx="50007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95a74"/>
                </a:solidFill>
                <a:latin typeface="Corbel"/>
              </a:rPr>
              <a:t>Пусть </a:t>
            </a:r>
            <a:r>
              <a:rPr b="0" lang="en-US" sz="1900" spc="-1" strike="noStrike">
                <a:solidFill>
                  <a:srgbClr val="495a74"/>
                </a:solidFill>
                <a:latin typeface="Gill Sans MT"/>
              </a:rPr>
              <a:t> </a:t>
            </a:r>
            <a:r>
              <a:rPr b="0" lang="en-US" sz="1900" spc="-1" strike="noStrike">
                <a:solidFill>
                  <a:srgbClr val="495a74"/>
                </a:solidFill>
                <a:latin typeface="Corbel"/>
              </a:rPr>
              <a:t>AD=AC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742" name="Группа 76"/>
          <p:cNvGrpSpPr/>
          <p:nvPr/>
        </p:nvGrpSpPr>
        <p:grpSpPr>
          <a:xfrm>
            <a:off x="4786200" y="1714680"/>
            <a:ext cx="3000600" cy="733320"/>
            <a:chOff x="4786200" y="1714680"/>
            <a:chExt cx="3000600" cy="733320"/>
          </a:xfrm>
        </p:grpSpPr>
        <p:sp>
          <p:nvSpPr>
            <p:cNvPr id="743" name="Заголовок 1"/>
            <p:cNvSpPr/>
            <p:nvPr/>
          </p:nvSpPr>
          <p:spPr>
            <a:xfrm>
              <a:off x="4786200" y="1714680"/>
              <a:ext cx="300060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en-US" sz="2800" spc="-1" strike="noStrike">
                  <a:solidFill>
                    <a:srgbClr val="495a74"/>
                  </a:solidFill>
                  <a:latin typeface="Gill Sans MT"/>
                </a:rPr>
                <a:t>C &gt;  1  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744" name="Группа 24"/>
            <p:cNvGrpSpPr/>
            <p:nvPr/>
          </p:nvGrpSpPr>
          <p:grpSpPr>
            <a:xfrm>
              <a:off x="5761800" y="2138760"/>
              <a:ext cx="238320" cy="147240"/>
              <a:chOff x="5761800" y="2138760"/>
              <a:chExt cx="238320" cy="147240"/>
            </a:xfrm>
          </p:grpSpPr>
          <p:sp>
            <p:nvSpPr>
              <p:cNvPr id="745" name="Прямая соединительная линия 82"/>
              <p:cNvSpPr/>
              <p:nvPr/>
            </p:nvSpPr>
            <p:spPr>
              <a:xfrm flipH="1">
                <a:off x="5762160" y="213876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46" name="Прямая соединительная линия 83"/>
              <p:cNvSpPr/>
              <p:nvPr/>
            </p:nvSpPr>
            <p:spPr>
              <a:xfrm>
                <a:off x="5761800" y="228600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747" name="Группа 29"/>
            <p:cNvGrpSpPr/>
            <p:nvPr/>
          </p:nvGrpSpPr>
          <p:grpSpPr>
            <a:xfrm>
              <a:off x="4966200" y="2138760"/>
              <a:ext cx="238320" cy="147240"/>
              <a:chOff x="4966200" y="2138760"/>
              <a:chExt cx="238320" cy="147240"/>
            </a:xfrm>
          </p:grpSpPr>
          <p:sp>
            <p:nvSpPr>
              <p:cNvPr id="748" name="Прямая соединительная линия 80"/>
              <p:cNvSpPr/>
              <p:nvPr/>
            </p:nvSpPr>
            <p:spPr>
              <a:xfrm flipH="1">
                <a:off x="4966560" y="213876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49" name="Прямая соединительная линия 81"/>
              <p:cNvSpPr/>
              <p:nvPr/>
            </p:nvSpPr>
            <p:spPr>
              <a:xfrm>
                <a:off x="4966200" y="228600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750" name="Группа 96"/>
          <p:cNvGrpSpPr/>
          <p:nvPr/>
        </p:nvGrpSpPr>
        <p:grpSpPr>
          <a:xfrm>
            <a:off x="4786200" y="1285920"/>
            <a:ext cx="3000600" cy="733320"/>
            <a:chOff x="4786200" y="1285920"/>
            <a:chExt cx="3000600" cy="733320"/>
          </a:xfrm>
        </p:grpSpPr>
        <p:sp>
          <p:nvSpPr>
            <p:cNvPr id="751" name="Заголовок 1"/>
            <p:cNvSpPr/>
            <p:nvPr/>
          </p:nvSpPr>
          <p:spPr>
            <a:xfrm>
              <a:off x="4786200" y="1285920"/>
              <a:ext cx="300060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en-US" sz="2800" spc="-1" strike="noStrike">
                  <a:solidFill>
                    <a:srgbClr val="495a74"/>
                  </a:solidFill>
                  <a:latin typeface="Gill Sans MT"/>
                </a:rPr>
                <a:t>B &lt;  2  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752" name="Группа 24"/>
            <p:cNvGrpSpPr/>
            <p:nvPr/>
          </p:nvGrpSpPr>
          <p:grpSpPr>
            <a:xfrm>
              <a:off x="5761800" y="1710000"/>
              <a:ext cx="238320" cy="147240"/>
              <a:chOff x="5761800" y="1710000"/>
              <a:chExt cx="238320" cy="147240"/>
            </a:xfrm>
          </p:grpSpPr>
          <p:sp>
            <p:nvSpPr>
              <p:cNvPr id="753" name="Прямая соединительная линия 102"/>
              <p:cNvSpPr/>
              <p:nvPr/>
            </p:nvSpPr>
            <p:spPr>
              <a:xfrm flipH="1">
                <a:off x="5762160" y="17100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54" name="Прямая соединительная линия 103"/>
              <p:cNvSpPr/>
              <p:nvPr/>
            </p:nvSpPr>
            <p:spPr>
              <a:xfrm>
                <a:off x="5761800" y="18572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755" name="Группа 29"/>
            <p:cNvGrpSpPr/>
            <p:nvPr/>
          </p:nvGrpSpPr>
          <p:grpSpPr>
            <a:xfrm>
              <a:off x="4966200" y="1710000"/>
              <a:ext cx="238320" cy="147240"/>
              <a:chOff x="4966200" y="1710000"/>
              <a:chExt cx="238320" cy="147240"/>
            </a:xfrm>
          </p:grpSpPr>
          <p:sp>
            <p:nvSpPr>
              <p:cNvPr id="756" name="Прямая соединительная линия 100"/>
              <p:cNvSpPr/>
              <p:nvPr/>
            </p:nvSpPr>
            <p:spPr>
              <a:xfrm flipH="1">
                <a:off x="4966560" y="17100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57" name="Прямая соединительная линия 101"/>
              <p:cNvSpPr/>
              <p:nvPr/>
            </p:nvSpPr>
            <p:spPr>
              <a:xfrm>
                <a:off x="4966200" y="18572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758" name="Группа 104"/>
          <p:cNvGrpSpPr/>
          <p:nvPr/>
        </p:nvGrpSpPr>
        <p:grpSpPr>
          <a:xfrm>
            <a:off x="4643280" y="838080"/>
            <a:ext cx="3214800" cy="804960"/>
            <a:chOff x="4643280" y="838080"/>
            <a:chExt cx="3214800" cy="804960"/>
          </a:xfrm>
        </p:grpSpPr>
        <p:sp>
          <p:nvSpPr>
            <p:cNvPr id="759" name="Заголовок 1"/>
            <p:cNvSpPr/>
            <p:nvPr/>
          </p:nvSpPr>
          <p:spPr>
            <a:xfrm>
              <a:off x="4643280" y="838080"/>
              <a:ext cx="3214800" cy="8049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 </a:t>
              </a:r>
              <a:r>
                <a:rPr b="0" lang="en-US" sz="2800" spc="-1" strike="noStrike">
                  <a:solidFill>
                    <a:srgbClr val="495a74"/>
                  </a:solidFill>
                  <a:latin typeface="Gill Sans MT"/>
                </a:rPr>
                <a:t>1 =  2   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760" name="Группа 24"/>
            <p:cNvGrpSpPr/>
            <p:nvPr/>
          </p:nvGrpSpPr>
          <p:grpSpPr>
            <a:xfrm>
              <a:off x="5689440" y="1303560"/>
              <a:ext cx="254880" cy="161640"/>
              <a:chOff x="5689440" y="1303560"/>
              <a:chExt cx="254880" cy="161640"/>
            </a:xfrm>
          </p:grpSpPr>
          <p:sp>
            <p:nvSpPr>
              <p:cNvPr id="761" name="Прямая соединительная линия 110"/>
              <p:cNvSpPr/>
              <p:nvPr/>
            </p:nvSpPr>
            <p:spPr>
              <a:xfrm flipH="1">
                <a:off x="5689440" y="1303560"/>
                <a:ext cx="254880" cy="1609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62" name="Прямая соединительная линия 111"/>
              <p:cNvSpPr/>
              <p:nvPr/>
            </p:nvSpPr>
            <p:spPr>
              <a:xfrm>
                <a:off x="5689440" y="146520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763" name="Группа 29"/>
            <p:cNvGrpSpPr/>
            <p:nvPr/>
          </p:nvGrpSpPr>
          <p:grpSpPr>
            <a:xfrm>
              <a:off x="5000400" y="1303560"/>
              <a:ext cx="254880" cy="161640"/>
              <a:chOff x="5000400" y="1303560"/>
              <a:chExt cx="254880" cy="161640"/>
            </a:xfrm>
          </p:grpSpPr>
          <p:sp>
            <p:nvSpPr>
              <p:cNvPr id="764" name="Прямая соединительная линия 108"/>
              <p:cNvSpPr/>
              <p:nvPr/>
            </p:nvSpPr>
            <p:spPr>
              <a:xfrm flipH="1">
                <a:off x="5000400" y="1303560"/>
                <a:ext cx="254880" cy="1609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65" name="Прямая соединительная линия 109"/>
              <p:cNvSpPr/>
              <p:nvPr/>
            </p:nvSpPr>
            <p:spPr>
              <a:xfrm>
                <a:off x="5000400" y="146520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766" name="Левая фигурная скобка 112"/>
          <p:cNvSpPr/>
          <p:nvPr/>
        </p:nvSpPr>
        <p:spPr>
          <a:xfrm>
            <a:off x="4572000" y="1071720"/>
            <a:ext cx="500040" cy="1428480"/>
          </a:xfrm>
          <a:custGeom>
            <a:avLst/>
            <a:gdLst>
              <a:gd name="textAreaLeft" fmla="*/ 319680 w 500040"/>
              <a:gd name="textAreaRight" fmla="*/ 500400 w 500040"/>
              <a:gd name="textAreaTop" fmla="*/ 93600 h 1428480"/>
              <a:gd name="textAreaBottom" fmla="*/ 1334880 h 142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68"/>
                  <a:pt x="10800" y="4536"/>
                </a:cubicBezTo>
                <a:lnTo>
                  <a:pt x="10800" y="6456"/>
                </a:lnTo>
                <a:cubicBezTo>
                  <a:pt x="10800" y="8724"/>
                  <a:pt x="5400" y="10992"/>
                  <a:pt x="0" y="10992"/>
                </a:cubicBezTo>
                <a:cubicBezTo>
                  <a:pt x="5400" y="10992"/>
                  <a:pt x="10800" y="13260"/>
                  <a:pt x="10800" y="15528"/>
                </a:cubicBezTo>
                <a:lnTo>
                  <a:pt x="10800" y="17064"/>
                </a:lnTo>
                <a:cubicBezTo>
                  <a:pt x="10800" y="1933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7" name="Стрелка вправо 113"/>
          <p:cNvSpPr/>
          <p:nvPr/>
        </p:nvSpPr>
        <p:spPr>
          <a:xfrm>
            <a:off x="6500880" y="1357200"/>
            <a:ext cx="928800" cy="7146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768" name="Группа 114"/>
          <p:cNvGrpSpPr/>
          <p:nvPr/>
        </p:nvGrpSpPr>
        <p:grpSpPr>
          <a:xfrm>
            <a:off x="7215120" y="1338120"/>
            <a:ext cx="1857600" cy="733680"/>
            <a:chOff x="7215120" y="1338120"/>
            <a:chExt cx="1857600" cy="733680"/>
          </a:xfrm>
        </p:grpSpPr>
        <p:sp>
          <p:nvSpPr>
            <p:cNvPr id="769" name="Заголовок 1"/>
            <p:cNvSpPr/>
            <p:nvPr/>
          </p:nvSpPr>
          <p:spPr>
            <a:xfrm>
              <a:off x="7215120" y="1338120"/>
              <a:ext cx="1857600" cy="733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C&gt;  B  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770" name="Группа 24"/>
            <p:cNvGrpSpPr/>
            <p:nvPr/>
          </p:nvGrpSpPr>
          <p:grpSpPr>
            <a:xfrm>
              <a:off x="8190720" y="1724400"/>
              <a:ext cx="238320" cy="147240"/>
              <a:chOff x="8190720" y="1724400"/>
              <a:chExt cx="238320" cy="147240"/>
            </a:xfrm>
          </p:grpSpPr>
          <p:sp>
            <p:nvSpPr>
              <p:cNvPr id="771" name="Прямая соединительная линия 120"/>
              <p:cNvSpPr/>
              <p:nvPr/>
            </p:nvSpPr>
            <p:spPr>
              <a:xfrm flipH="1">
                <a:off x="8191080" y="17244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72" name="Прямая соединительная линия 121"/>
              <p:cNvSpPr/>
              <p:nvPr/>
            </p:nvSpPr>
            <p:spPr>
              <a:xfrm>
                <a:off x="8190720" y="18716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773" name="Группа 29"/>
            <p:cNvGrpSpPr/>
            <p:nvPr/>
          </p:nvGrpSpPr>
          <p:grpSpPr>
            <a:xfrm>
              <a:off x="7443000" y="1724400"/>
              <a:ext cx="238320" cy="147240"/>
              <a:chOff x="7443000" y="1724400"/>
              <a:chExt cx="238320" cy="147240"/>
            </a:xfrm>
          </p:grpSpPr>
          <p:sp>
            <p:nvSpPr>
              <p:cNvPr id="774" name="Прямая соединительная линия 118"/>
              <p:cNvSpPr/>
              <p:nvPr/>
            </p:nvSpPr>
            <p:spPr>
              <a:xfrm flipH="1">
                <a:off x="7443360" y="17244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75" name="Прямая соединительная линия 119"/>
              <p:cNvSpPr/>
              <p:nvPr/>
            </p:nvSpPr>
            <p:spPr>
              <a:xfrm>
                <a:off x="7443000" y="18716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pic>
        <p:nvPicPr>
          <p:cNvPr id="776" name="Группа 137" descr=""/>
          <p:cNvPicPr/>
          <p:nvPr/>
        </p:nvPicPr>
        <p:blipFill>
          <a:blip r:embed="rId4"/>
          <a:stretch/>
        </p:blipFill>
        <p:spPr>
          <a:xfrm>
            <a:off x="2425680" y="3181320"/>
            <a:ext cx="4810320" cy="2890800"/>
          </a:xfrm>
          <a:prstGeom prst="rect">
            <a:avLst/>
          </a:prstGeom>
          <a:ln w="0">
            <a:noFill/>
          </a:ln>
        </p:spPr>
      </p:pic>
      <p:grpSp>
        <p:nvGrpSpPr>
          <p:cNvPr id="777" name="Группа 71"/>
          <p:cNvGrpSpPr/>
          <p:nvPr/>
        </p:nvGrpSpPr>
        <p:grpSpPr>
          <a:xfrm>
            <a:off x="4011840" y="3857040"/>
            <a:ext cx="2134080" cy="2132640"/>
            <a:chOff x="4011840" y="3857040"/>
            <a:chExt cx="2134080" cy="2132640"/>
          </a:xfrm>
        </p:grpSpPr>
        <p:sp>
          <p:nvSpPr>
            <p:cNvPr id="778" name="TextBox 136"/>
            <p:cNvSpPr/>
            <p:nvPr/>
          </p:nvSpPr>
          <p:spPr>
            <a:xfrm>
              <a:off x="5143680" y="5286240"/>
              <a:ext cx="64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61f39"/>
                  </a:solidFill>
                  <a:latin typeface="a_AlgeriusCaps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779" name="Группа 141"/>
            <p:cNvGrpSpPr/>
            <p:nvPr/>
          </p:nvGrpSpPr>
          <p:grpSpPr>
            <a:xfrm>
              <a:off x="4011840" y="3857040"/>
              <a:ext cx="2134080" cy="2044080"/>
              <a:chOff x="4011840" y="3857040"/>
              <a:chExt cx="2134080" cy="2044080"/>
            </a:xfrm>
          </p:grpSpPr>
          <p:grpSp>
            <p:nvGrpSpPr>
              <p:cNvPr id="780" name="Группа 88"/>
              <p:cNvGrpSpPr/>
              <p:nvPr/>
            </p:nvGrpSpPr>
            <p:grpSpPr>
              <a:xfrm>
                <a:off x="4011840" y="3857040"/>
                <a:ext cx="2134080" cy="2044080"/>
                <a:chOff x="4011840" y="3857040"/>
                <a:chExt cx="2134080" cy="2044080"/>
              </a:xfrm>
            </p:grpSpPr>
            <p:grpSp>
              <p:nvGrpSpPr>
                <p:cNvPr id="781" name="Группа 94"/>
                <p:cNvGrpSpPr/>
                <p:nvPr/>
              </p:nvGrpSpPr>
              <p:grpSpPr>
                <a:xfrm>
                  <a:off x="4011840" y="3880440"/>
                  <a:ext cx="1645200" cy="1559160"/>
                  <a:chOff x="4011840" y="3880440"/>
                  <a:chExt cx="1645200" cy="1559160"/>
                </a:xfrm>
              </p:grpSpPr>
              <p:grpSp>
                <p:nvGrpSpPr>
                  <p:cNvPr id="782" name="Группа 122"/>
                  <p:cNvGrpSpPr/>
                  <p:nvPr/>
                </p:nvGrpSpPr>
                <p:grpSpPr>
                  <a:xfrm>
                    <a:off x="4011840" y="4314240"/>
                    <a:ext cx="338760" cy="963720"/>
                    <a:chOff x="4011840" y="4314240"/>
                    <a:chExt cx="338760" cy="963720"/>
                  </a:xfrm>
                </p:grpSpPr>
                <p:sp>
                  <p:nvSpPr>
                    <p:cNvPr id="783" name="Прямая соединительная линия 130"/>
                    <p:cNvSpPr/>
                    <p:nvPr/>
                  </p:nvSpPr>
                  <p:spPr>
                    <a:xfrm>
                      <a:off x="4041360" y="4926960"/>
                      <a:ext cx="276120" cy="351000"/>
                    </a:xfrm>
                    <a:prstGeom prst="line">
                      <a:avLst/>
                    </a:prstGeom>
                    <a:ln w="19080">
                      <a:solidFill>
                        <a:srgbClr val="002e8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p:txBody>
                </p:sp>
                <p:sp>
                  <p:nvSpPr>
                    <p:cNvPr id="784" name="Прямая соединительная линия 131"/>
                    <p:cNvSpPr/>
                    <p:nvPr/>
                  </p:nvSpPr>
                  <p:spPr>
                    <a:xfrm flipH="1">
                      <a:off x="4011840" y="4314240"/>
                      <a:ext cx="338760" cy="379440"/>
                    </a:xfrm>
                    <a:prstGeom prst="line">
                      <a:avLst/>
                    </a:prstGeom>
                    <a:ln w="19080">
                      <a:solidFill>
                        <a:srgbClr val="002e8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p:txBody>
                </p:sp>
              </p:grpSp>
              <p:sp>
                <p:nvSpPr>
                  <p:cNvPr id="785" name="Прямая соединительная линия 127"/>
                  <p:cNvSpPr/>
                  <p:nvPr/>
                </p:nvSpPr>
                <p:spPr>
                  <a:xfrm flipV="1">
                    <a:off x="5502600" y="3880440"/>
                    <a:ext cx="154440" cy="1559160"/>
                  </a:xfrm>
                  <a:prstGeom prst="line">
                    <a:avLst/>
                  </a:prstGeom>
                  <a:ln w="19080">
                    <a:solidFill>
                      <a:srgbClr val="002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</p:grpSp>
            <p:sp>
              <p:nvSpPr>
                <p:cNvPr id="786" name="Дуга 92"/>
                <p:cNvSpPr/>
                <p:nvPr/>
              </p:nvSpPr>
              <p:spPr>
                <a:xfrm rot="17394600">
                  <a:off x="4947480" y="5092200"/>
                  <a:ext cx="801720" cy="644040"/>
                </a:xfrm>
                <a:custGeom>
                  <a:avLst/>
                  <a:gdLst>
                    <a:gd name="textAreaLeft" fmla="*/ 404280 w 801720"/>
                    <a:gd name="textAreaRight" fmla="*/ 802080 w 801720"/>
                    <a:gd name="textAreaTop" fmla="*/ 0 h 644040"/>
                    <a:gd name="textAreaBottom" fmla="*/ 385560 h 644040"/>
                  </a:gdLst>
                  <a:ahLst/>
                  <a:rect l="textAreaLeft" t="textAreaTop" r="textAreaRight" b="textAreaBottom"/>
                  <a:pathLst>
                    <a:path stroke="0" w="642942" h="428628">
                      <a:moveTo>
                        <a:pt x="324073" y="7"/>
                      </a:moveTo>
                      <a:lnTo>
                        <a:pt x="324073" y="7"/>
                      </a:lnTo>
                      <a:arcTo wR="321471" hR="214314" stAng="-5358263" swAng="5817235"/>
                      <a:lnTo>
                        <a:pt x="321471" y="214314"/>
                      </a:lnTo>
                      <a:close/>
                    </a:path>
                    <a:path fill="none" w="642942" h="428628">
                      <a:moveTo>
                        <a:pt x="324073" y="7"/>
                      </a:moveTo>
                      <a:lnTo>
                        <a:pt x="324073" y="7"/>
                      </a:lnTo>
                      <a:arcTo wR="321471" hR="214314" stAng="-5358263" swAng="5817235"/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87" name="Дуга 93"/>
                <p:cNvSpPr/>
                <p:nvPr/>
              </p:nvSpPr>
              <p:spPr>
                <a:xfrm rot="11730600">
                  <a:off x="5126040" y="3976200"/>
                  <a:ext cx="965880" cy="534240"/>
                </a:xfrm>
                <a:custGeom>
                  <a:avLst/>
                  <a:gdLst>
                    <a:gd name="textAreaLeft" fmla="*/ 407520 w 965880"/>
                    <a:gd name="textAreaRight" fmla="*/ 966240 w 965880"/>
                    <a:gd name="textAreaTop" fmla="*/ 0 h 534240"/>
                    <a:gd name="textAreaBottom" fmla="*/ 267120 h 534240"/>
                  </a:gdLst>
                  <a:ahLst/>
                  <a:rect l="textAreaLeft" t="textAreaTop" r="textAreaRight" b="textAreaBottom"/>
                  <a:pathLst>
                    <a:path stroke="0" w="642942" h="428628">
                      <a:moveTo>
                        <a:pt x="271294" y="2627"/>
                      </a:moveTo>
                      <a:lnTo>
                        <a:pt x="271294" y="2627"/>
                      </a:lnTo>
                      <a:arcTo wR="321471" hR="214314" stAng="-6200096" swAng="6200107"/>
                      <a:lnTo>
                        <a:pt x="321471" y="214314"/>
                      </a:lnTo>
                      <a:close/>
                    </a:path>
                    <a:path fill="none" w="642942" h="428628">
                      <a:moveTo>
                        <a:pt x="271294" y="2627"/>
                      </a:moveTo>
                      <a:lnTo>
                        <a:pt x="271294" y="2627"/>
                      </a:lnTo>
                      <a:arcTo wR="321471" hR="214314" stAng="-6200096" swAng="6200107"/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  <p:sp>
            <p:nvSpPr>
              <p:cNvPr id="788" name="TextBox 139"/>
              <p:cNvSpPr/>
              <p:nvPr/>
            </p:nvSpPr>
            <p:spPr>
              <a:xfrm>
                <a:off x="4858200" y="4642920"/>
                <a:ext cx="388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161f39"/>
                    </a:solidFill>
                    <a:latin typeface="a_AlgeriusCap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89" name="TextBox 140"/>
              <p:cNvSpPr/>
              <p:nvPr/>
            </p:nvSpPr>
            <p:spPr>
              <a:xfrm>
                <a:off x="5001120" y="4142520"/>
                <a:ext cx="388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161f39"/>
                    </a:solidFill>
                    <a:latin typeface="a_AlgeriusCap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pic>
        <p:nvPicPr>
          <p:cNvPr id="790" name="TextBox 73" descr=""/>
          <p:cNvPicPr/>
          <p:nvPr/>
        </p:nvPicPr>
        <p:blipFill>
          <a:blip r:embed="rId5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60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3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901800" y="1584360"/>
            <a:ext cx="3206520" cy="263520"/>
          </a:xfrm>
          <a:prstGeom prst="rect">
            <a:avLst/>
          </a:prstGeom>
          <a:ln w="0">
            <a:noFill/>
          </a:ln>
        </p:spPr>
      </p:pic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214960" y="-142920"/>
            <a:ext cx="3929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95a74"/>
                </a:solidFill>
                <a:latin typeface="Corbel"/>
              </a:rPr>
              <a:t>Доказательство:</a:t>
            </a: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93" name="Заголовок 1"/>
          <p:cNvSpPr/>
          <p:nvPr/>
        </p:nvSpPr>
        <p:spPr>
          <a:xfrm>
            <a:off x="1000080" y="-142920"/>
            <a:ext cx="171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5a74"/>
                </a:solidFill>
                <a:latin typeface="Corbel"/>
              </a:rPr>
              <a:t>Дано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794" name="Группа 12"/>
          <p:cNvGrpSpPr/>
          <p:nvPr/>
        </p:nvGrpSpPr>
        <p:grpSpPr>
          <a:xfrm>
            <a:off x="1143000" y="428760"/>
            <a:ext cx="2000160" cy="857160"/>
            <a:chOff x="1143000" y="428760"/>
            <a:chExt cx="2000160" cy="857160"/>
          </a:xfrm>
        </p:grpSpPr>
        <p:sp>
          <p:nvSpPr>
            <p:cNvPr id="795" name="Равнобедренный треугольник 13"/>
            <p:cNvSpPr/>
            <p:nvPr/>
          </p:nvSpPr>
          <p:spPr>
            <a:xfrm>
              <a:off x="1143000" y="785880"/>
              <a:ext cx="285480" cy="214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96" name="Заголовок 1"/>
            <p:cNvSpPr/>
            <p:nvPr/>
          </p:nvSpPr>
          <p:spPr>
            <a:xfrm>
              <a:off x="1428480" y="428760"/>
              <a:ext cx="17146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ABC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97" name="Заголовок 1"/>
          <p:cNvSpPr/>
          <p:nvPr/>
        </p:nvSpPr>
        <p:spPr>
          <a:xfrm>
            <a:off x="1071720" y="1785960"/>
            <a:ext cx="19285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95a74"/>
                </a:solidFill>
                <a:latin typeface="Corbel"/>
              </a:rPr>
              <a:t>Док-ть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98" name="Прямая соединительная линия 16" descr=""/>
          <p:cNvPicPr/>
          <p:nvPr/>
        </p:nvPicPr>
        <p:blipFill>
          <a:blip r:embed="rId3"/>
          <a:stretch/>
        </p:blipFill>
        <p:spPr>
          <a:xfrm>
            <a:off x="3865680" y="-103320"/>
            <a:ext cx="268200" cy="3853080"/>
          </a:xfrm>
          <a:prstGeom prst="rect">
            <a:avLst/>
          </a:prstGeom>
          <a:ln w="0">
            <a:noFill/>
          </a:ln>
        </p:spPr>
      </p:pic>
      <p:grpSp>
        <p:nvGrpSpPr>
          <p:cNvPr id="799" name="Группа 17"/>
          <p:cNvGrpSpPr/>
          <p:nvPr/>
        </p:nvGrpSpPr>
        <p:grpSpPr>
          <a:xfrm>
            <a:off x="928800" y="1000080"/>
            <a:ext cx="3000240" cy="733320"/>
            <a:chOff x="928800" y="1000080"/>
            <a:chExt cx="3000240" cy="733320"/>
          </a:xfrm>
        </p:grpSpPr>
        <p:sp>
          <p:nvSpPr>
            <p:cNvPr id="800" name="Заголовок 1"/>
            <p:cNvSpPr/>
            <p:nvPr/>
          </p:nvSpPr>
          <p:spPr>
            <a:xfrm>
              <a:off x="928800" y="1000080"/>
              <a:ext cx="300024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C&gt;  B  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801" name="Группа 24"/>
            <p:cNvGrpSpPr/>
            <p:nvPr/>
          </p:nvGrpSpPr>
          <p:grpSpPr>
            <a:xfrm>
              <a:off x="1904400" y="1386000"/>
              <a:ext cx="238320" cy="147240"/>
              <a:chOff x="1904400" y="1386000"/>
              <a:chExt cx="238320" cy="147240"/>
            </a:xfrm>
          </p:grpSpPr>
          <p:sp>
            <p:nvSpPr>
              <p:cNvPr id="802" name="Прямая соединительная линия 23"/>
              <p:cNvSpPr/>
              <p:nvPr/>
            </p:nvSpPr>
            <p:spPr>
              <a:xfrm flipH="1">
                <a:off x="1904760" y="13860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03" name="Прямая соединительная линия 24"/>
              <p:cNvSpPr/>
              <p:nvPr/>
            </p:nvSpPr>
            <p:spPr>
              <a:xfrm>
                <a:off x="1904400" y="15332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804" name="Группа 29"/>
            <p:cNvGrpSpPr/>
            <p:nvPr/>
          </p:nvGrpSpPr>
          <p:grpSpPr>
            <a:xfrm>
              <a:off x="1156680" y="1386000"/>
              <a:ext cx="238320" cy="147240"/>
              <a:chOff x="1156680" y="1386000"/>
              <a:chExt cx="238320" cy="147240"/>
            </a:xfrm>
          </p:grpSpPr>
          <p:sp>
            <p:nvSpPr>
              <p:cNvPr id="805" name="Прямая соединительная линия 21"/>
              <p:cNvSpPr/>
              <p:nvPr/>
            </p:nvSpPr>
            <p:spPr>
              <a:xfrm flipH="1">
                <a:off x="1157040" y="13860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06" name="Прямая соединительная линия 22"/>
              <p:cNvSpPr/>
              <p:nvPr/>
            </p:nvSpPr>
            <p:spPr>
              <a:xfrm>
                <a:off x="1156680" y="15332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807" name="Заголовок 1"/>
          <p:cNvSpPr/>
          <p:nvPr/>
        </p:nvSpPr>
        <p:spPr>
          <a:xfrm>
            <a:off x="1143000" y="2428920"/>
            <a:ext cx="171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95a74"/>
                </a:solidFill>
                <a:latin typeface="Gill Sans MT"/>
              </a:rPr>
              <a:t>AB&gt;AC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8" name="Заголовок 1"/>
          <p:cNvSpPr/>
          <p:nvPr/>
        </p:nvSpPr>
        <p:spPr>
          <a:xfrm>
            <a:off x="4143240" y="714240"/>
            <a:ext cx="50007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95a74"/>
                </a:solidFill>
                <a:latin typeface="Corbel"/>
              </a:rPr>
              <a:t>Пусть АВ не </a:t>
            </a:r>
            <a:r>
              <a:rPr b="0" lang="en-US" sz="1900" spc="-1" strike="noStrike">
                <a:solidFill>
                  <a:srgbClr val="495a74"/>
                </a:solidFill>
                <a:latin typeface="Corbel"/>
              </a:rPr>
              <a:t>&gt;</a:t>
            </a:r>
            <a:r>
              <a:rPr b="0" lang="en-US" sz="1900" spc="-1" strike="noStrike">
                <a:solidFill>
                  <a:srgbClr val="495a74"/>
                </a:solidFill>
                <a:latin typeface="Gill Sans MT"/>
              </a:rPr>
              <a:t> </a:t>
            </a:r>
            <a:r>
              <a:rPr b="0" lang="ru-RU" sz="1900" spc="-1" strike="noStrike">
                <a:solidFill>
                  <a:srgbClr val="495a74"/>
                </a:solidFill>
                <a:latin typeface="Corbel"/>
              </a:rPr>
              <a:t>АС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9" name="Заголовок 1"/>
          <p:cNvSpPr/>
          <p:nvPr/>
        </p:nvSpPr>
        <p:spPr>
          <a:xfrm>
            <a:off x="4572000" y="1285920"/>
            <a:ext cx="1285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5a74"/>
                </a:solidFill>
                <a:latin typeface="Gill Sans MT"/>
              </a:rPr>
              <a:t>AB</a:t>
            </a:r>
            <a:r>
              <a:rPr b="0" lang="ru-RU" sz="2400" spc="-1" strike="noStrike">
                <a:solidFill>
                  <a:srgbClr val="495a74"/>
                </a:solidFill>
                <a:latin typeface="Corbel"/>
              </a:rPr>
              <a:t>=</a:t>
            </a:r>
            <a:r>
              <a:rPr b="0" lang="en-US" sz="2400" spc="-1" strike="noStrike">
                <a:solidFill>
                  <a:srgbClr val="495a74"/>
                </a:solidFill>
                <a:latin typeface="Gill Sans MT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0" name="Заголовок 1"/>
          <p:cNvSpPr/>
          <p:nvPr/>
        </p:nvSpPr>
        <p:spPr>
          <a:xfrm>
            <a:off x="4572000" y="1714680"/>
            <a:ext cx="1214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5a74"/>
                </a:solidFill>
                <a:latin typeface="Gill Sans MT"/>
              </a:rPr>
              <a:t>AB&lt;A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1" name="Левая круглая скобка 43"/>
          <p:cNvSpPr/>
          <p:nvPr/>
        </p:nvSpPr>
        <p:spPr>
          <a:xfrm>
            <a:off x="4572000" y="1285920"/>
            <a:ext cx="142920" cy="928800"/>
          </a:xfrm>
          <a:custGeom>
            <a:avLst/>
            <a:gdLst>
              <a:gd name="textAreaLeft" fmla="*/ 42120 w 142920"/>
              <a:gd name="textAreaRight" fmla="*/ 143280 w 142920"/>
              <a:gd name="textAreaTop" fmla="*/ 5760 h 928800"/>
              <a:gd name="textAreaBottom" fmla="*/ 92304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39"/>
                  <a:pt x="0" y="277"/>
                </a:cubicBezTo>
                <a:lnTo>
                  <a:pt x="0" y="21323"/>
                </a:lnTo>
                <a:cubicBezTo>
                  <a:pt x="0" y="21462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2" name="Стрелка вправо 44"/>
          <p:cNvSpPr/>
          <p:nvPr/>
        </p:nvSpPr>
        <p:spPr>
          <a:xfrm>
            <a:off x="5857920" y="1357200"/>
            <a:ext cx="857160" cy="7146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813" name="Группа 45"/>
          <p:cNvGrpSpPr/>
          <p:nvPr/>
        </p:nvGrpSpPr>
        <p:grpSpPr>
          <a:xfrm>
            <a:off x="6786720" y="1000080"/>
            <a:ext cx="2643120" cy="646200"/>
            <a:chOff x="6786720" y="1000080"/>
            <a:chExt cx="2643120" cy="646200"/>
          </a:xfrm>
        </p:grpSpPr>
        <p:sp>
          <p:nvSpPr>
            <p:cNvPr id="814" name="Заголовок 1"/>
            <p:cNvSpPr/>
            <p:nvPr/>
          </p:nvSpPr>
          <p:spPr>
            <a:xfrm>
              <a:off x="6786720" y="1000080"/>
              <a:ext cx="2643120" cy="64620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en-US" sz="2800" spc="-1" strike="noStrike">
                  <a:solidFill>
                    <a:srgbClr val="495a74"/>
                  </a:solidFill>
                  <a:latin typeface="Gill Sans MT"/>
                </a:rPr>
                <a:t>C=  B  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815" name="Группа 24"/>
            <p:cNvGrpSpPr/>
            <p:nvPr/>
          </p:nvGrpSpPr>
          <p:grpSpPr>
            <a:xfrm>
              <a:off x="7643880" y="1356480"/>
              <a:ext cx="209520" cy="129960"/>
              <a:chOff x="7643880" y="1356480"/>
              <a:chExt cx="209520" cy="129960"/>
            </a:xfrm>
          </p:grpSpPr>
          <p:sp>
            <p:nvSpPr>
              <p:cNvPr id="816" name="Прямая соединительная линия 51"/>
              <p:cNvSpPr/>
              <p:nvPr/>
            </p:nvSpPr>
            <p:spPr>
              <a:xfrm flipH="1">
                <a:off x="7643880" y="1356480"/>
                <a:ext cx="209520" cy="12924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17" name="Прямая соединительная линия 52"/>
              <p:cNvSpPr/>
              <p:nvPr/>
            </p:nvSpPr>
            <p:spPr>
              <a:xfrm>
                <a:off x="7643880" y="1486440"/>
                <a:ext cx="20952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818" name="Группа 29"/>
            <p:cNvGrpSpPr/>
            <p:nvPr/>
          </p:nvGrpSpPr>
          <p:grpSpPr>
            <a:xfrm>
              <a:off x="6987960" y="1339920"/>
              <a:ext cx="209520" cy="129960"/>
              <a:chOff x="6987960" y="1339920"/>
              <a:chExt cx="209520" cy="129960"/>
            </a:xfrm>
          </p:grpSpPr>
          <p:sp>
            <p:nvSpPr>
              <p:cNvPr id="819" name="Прямая соединительная линия 49"/>
              <p:cNvSpPr/>
              <p:nvPr/>
            </p:nvSpPr>
            <p:spPr>
              <a:xfrm flipH="1">
                <a:off x="6987960" y="1339920"/>
                <a:ext cx="209520" cy="12924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20" name="Прямая соединительная линия 50"/>
              <p:cNvSpPr/>
              <p:nvPr/>
            </p:nvSpPr>
            <p:spPr>
              <a:xfrm>
                <a:off x="6987960" y="1469880"/>
                <a:ext cx="20952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821" name="Группа 61"/>
          <p:cNvGrpSpPr/>
          <p:nvPr/>
        </p:nvGrpSpPr>
        <p:grpSpPr>
          <a:xfrm>
            <a:off x="6786720" y="1496880"/>
            <a:ext cx="2643120" cy="646200"/>
            <a:chOff x="6786720" y="1496880"/>
            <a:chExt cx="2643120" cy="646200"/>
          </a:xfrm>
        </p:grpSpPr>
        <p:sp>
          <p:nvSpPr>
            <p:cNvPr id="822" name="Заголовок 1"/>
            <p:cNvSpPr/>
            <p:nvPr/>
          </p:nvSpPr>
          <p:spPr>
            <a:xfrm>
              <a:off x="6786720" y="1496880"/>
              <a:ext cx="2643120" cy="64620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en-US" sz="2800" spc="-1" strike="noStrike">
                  <a:solidFill>
                    <a:srgbClr val="495a74"/>
                  </a:solidFill>
                  <a:latin typeface="Gill Sans MT"/>
                </a:rPr>
                <a:t>C&lt;  B  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823" name="Группа 24"/>
            <p:cNvGrpSpPr/>
            <p:nvPr/>
          </p:nvGrpSpPr>
          <p:grpSpPr>
            <a:xfrm>
              <a:off x="7643880" y="1853280"/>
              <a:ext cx="209520" cy="129960"/>
              <a:chOff x="7643880" y="1853280"/>
              <a:chExt cx="209520" cy="129960"/>
            </a:xfrm>
          </p:grpSpPr>
          <p:sp>
            <p:nvSpPr>
              <p:cNvPr id="824" name="Прямая соединительная линия 67"/>
              <p:cNvSpPr/>
              <p:nvPr/>
            </p:nvSpPr>
            <p:spPr>
              <a:xfrm flipH="1">
                <a:off x="7643880" y="1853280"/>
                <a:ext cx="209520" cy="12924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25" name="Прямая соединительная линия 68"/>
              <p:cNvSpPr/>
              <p:nvPr/>
            </p:nvSpPr>
            <p:spPr>
              <a:xfrm>
                <a:off x="7643880" y="1983240"/>
                <a:ext cx="20952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826" name="Группа 29"/>
            <p:cNvGrpSpPr/>
            <p:nvPr/>
          </p:nvGrpSpPr>
          <p:grpSpPr>
            <a:xfrm>
              <a:off x="6987960" y="1836720"/>
              <a:ext cx="209520" cy="129960"/>
              <a:chOff x="6987960" y="1836720"/>
              <a:chExt cx="209520" cy="129960"/>
            </a:xfrm>
          </p:grpSpPr>
          <p:sp>
            <p:nvSpPr>
              <p:cNvPr id="827" name="Прямая соединительная линия 65"/>
              <p:cNvSpPr/>
              <p:nvPr/>
            </p:nvSpPr>
            <p:spPr>
              <a:xfrm flipH="1">
                <a:off x="6987960" y="1836720"/>
                <a:ext cx="209520" cy="12924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28" name="Прямая соединительная линия 66"/>
              <p:cNvSpPr/>
              <p:nvPr/>
            </p:nvSpPr>
            <p:spPr>
              <a:xfrm>
                <a:off x="6987960" y="1966680"/>
                <a:ext cx="20952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829" name="Левая круглая скобка 69"/>
          <p:cNvSpPr/>
          <p:nvPr/>
        </p:nvSpPr>
        <p:spPr>
          <a:xfrm>
            <a:off x="6858000" y="1214280"/>
            <a:ext cx="142920" cy="928800"/>
          </a:xfrm>
          <a:custGeom>
            <a:avLst/>
            <a:gdLst>
              <a:gd name="textAreaLeft" fmla="*/ 42120 w 142920"/>
              <a:gd name="textAreaRight" fmla="*/ 143280 w 142920"/>
              <a:gd name="textAreaTop" fmla="*/ 5760 h 928800"/>
              <a:gd name="textAreaBottom" fmla="*/ 92304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39"/>
                  <a:pt x="0" y="277"/>
                </a:cubicBezTo>
                <a:lnTo>
                  <a:pt x="0" y="21323"/>
                </a:lnTo>
                <a:cubicBezTo>
                  <a:pt x="0" y="21462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0" name="Умножение 70"/>
          <p:cNvSpPr/>
          <p:nvPr/>
        </p:nvSpPr>
        <p:spPr>
          <a:xfrm>
            <a:off x="6643800" y="571680"/>
            <a:ext cx="1785960" cy="2143080"/>
          </a:xfrm>
          <a:custGeom>
            <a:avLst/>
            <a:gdLst>
              <a:gd name="textAreaLeft" fmla="*/ 267480 w 1785960"/>
              <a:gd name="textAreaRight" fmla="*/ 1518480 w 1785960"/>
              <a:gd name="textAreaTop" fmla="*/ 380160 h 2143080"/>
              <a:gd name="textAreaBottom" fmla="*/ 1762920 h 2143080"/>
            </a:gdLst>
            <a:ahLst/>
            <a:rect l="textAreaLeft" t="textAreaTop" r="textAreaRight" b="textAreaBottom"/>
            <a:pathLst>
              <a:path w="1785950" h="2143140">
                <a:moveTo>
                  <a:pt x="267593" y="649185"/>
                </a:moveTo>
                <a:lnTo>
                  <a:pt x="590288" y="380272"/>
                </a:lnTo>
                <a:lnTo>
                  <a:pt x="892975" y="743496"/>
                </a:lnTo>
                <a:lnTo>
                  <a:pt x="1195662" y="380272"/>
                </a:lnTo>
                <a:lnTo>
                  <a:pt x="1518357" y="649185"/>
                </a:lnTo>
                <a:lnTo>
                  <a:pt x="1166370" y="1071570"/>
                </a:lnTo>
                <a:lnTo>
                  <a:pt x="1518357" y="1493955"/>
                </a:lnTo>
                <a:lnTo>
                  <a:pt x="1195662" y="1762868"/>
                </a:lnTo>
                <a:lnTo>
                  <a:pt x="892975" y="1399644"/>
                </a:lnTo>
                <a:lnTo>
                  <a:pt x="590288" y="1762868"/>
                </a:lnTo>
                <a:lnTo>
                  <a:pt x="267593" y="1493955"/>
                </a:lnTo>
                <a:lnTo>
                  <a:pt x="619580" y="1071570"/>
                </a:lnTo>
                <a:close/>
              </a:path>
            </a:pathLst>
          </a:custGeom>
          <a:solidFill>
            <a:srgbClr val="002060"/>
          </a:solidFill>
          <a:ln w="38160">
            <a:solidFill>
              <a:srgbClr val="001444"/>
            </a:solidFill>
            <a:round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1" name="Стрелка вниз 71"/>
          <p:cNvSpPr/>
          <p:nvPr/>
        </p:nvSpPr>
        <p:spPr>
          <a:xfrm>
            <a:off x="7143840" y="2428920"/>
            <a:ext cx="785880" cy="10000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2" name="Заголовок 1"/>
          <p:cNvSpPr/>
          <p:nvPr/>
        </p:nvSpPr>
        <p:spPr>
          <a:xfrm>
            <a:off x="6643800" y="3429000"/>
            <a:ext cx="17143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95a74"/>
                </a:solidFill>
                <a:latin typeface="Gill Sans MT"/>
              </a:rPr>
              <a:t>AB&gt;AC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833" name="Группа 57"/>
          <p:cNvGrpSpPr/>
          <p:nvPr/>
        </p:nvGrpSpPr>
        <p:grpSpPr>
          <a:xfrm>
            <a:off x="2286000" y="3792600"/>
            <a:ext cx="4286160" cy="2554560"/>
            <a:chOff x="2286000" y="3792600"/>
            <a:chExt cx="4286160" cy="2554560"/>
          </a:xfrm>
        </p:grpSpPr>
        <p:sp>
          <p:nvSpPr>
            <p:cNvPr id="834" name="Равнобедренный треугольник 5"/>
            <p:cNvSpPr/>
            <p:nvPr/>
          </p:nvSpPr>
          <p:spPr>
            <a:xfrm rot="779400">
              <a:off x="2952720" y="4250160"/>
              <a:ext cx="3234600" cy="1429200"/>
            </a:xfrm>
            <a:prstGeom prst="triangle">
              <a:avLst>
                <a:gd name="adj" fmla="val 65227"/>
              </a:avLst>
            </a:prstGeom>
            <a:solidFill>
              <a:srgbClr val="ffffff"/>
            </a:solidFill>
            <a:ln w="38160">
              <a:solidFill>
                <a:srgbClr val="002e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35" name="TextBox 54"/>
            <p:cNvSpPr/>
            <p:nvPr/>
          </p:nvSpPr>
          <p:spPr>
            <a:xfrm>
              <a:off x="2286000" y="4786200"/>
              <a:ext cx="642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61f39"/>
                  </a:solidFill>
                  <a:latin typeface="a_AlgeriusCaps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36" name="TextBox 55"/>
            <p:cNvSpPr/>
            <p:nvPr/>
          </p:nvSpPr>
          <p:spPr>
            <a:xfrm>
              <a:off x="5929200" y="5643720"/>
              <a:ext cx="642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61f39"/>
                  </a:solidFill>
                  <a:latin typeface="a_AlgeriusCaps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37" name="TextBox 56"/>
            <p:cNvSpPr/>
            <p:nvPr/>
          </p:nvSpPr>
          <p:spPr>
            <a:xfrm>
              <a:off x="5000760" y="3792600"/>
              <a:ext cx="642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61f39"/>
                  </a:solidFill>
                  <a:latin typeface="a_AlgeriusCaps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838" name="TextBox 58" descr=""/>
          <p:cNvPicPr/>
          <p:nvPr/>
        </p:nvPicPr>
        <p:blipFill>
          <a:blip r:embed="rId4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6" dur="500" fill="hold"/>
                                        <p:tgtEl>
                                          <p:spTgt spid="7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5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Заголовок 1" descr=""/>
          <p:cNvPicPr/>
          <p:nvPr/>
        </p:nvPicPr>
        <p:blipFill>
          <a:blip r:embed="rId2"/>
          <a:stretch/>
        </p:blipFill>
        <p:spPr>
          <a:xfrm>
            <a:off x="1420920" y="6480"/>
            <a:ext cx="7510320" cy="2340000"/>
          </a:xfrm>
          <a:prstGeom prst="rect">
            <a:avLst/>
          </a:prstGeom>
          <a:ln w="0">
            <a:noFill/>
          </a:ln>
        </p:spPr>
      </p:pic>
      <p:pic>
        <p:nvPicPr>
          <p:cNvPr id="840" name="Содержимое 2" descr=""/>
          <p:cNvPicPr/>
          <p:nvPr/>
        </p:nvPicPr>
        <p:blipFill>
          <a:blip r:embed="rId3"/>
          <a:stretch/>
        </p:blipFill>
        <p:spPr>
          <a:xfrm>
            <a:off x="1620720" y="1865160"/>
            <a:ext cx="7121520" cy="2803680"/>
          </a:xfrm>
          <a:prstGeom prst="rect">
            <a:avLst/>
          </a:prstGeom>
          <a:ln w="0">
            <a:noFill/>
          </a:ln>
        </p:spPr>
      </p:pic>
      <p:pic>
        <p:nvPicPr>
          <p:cNvPr id="841" name="TextBox 7" descr=""/>
          <p:cNvPicPr/>
          <p:nvPr/>
        </p:nvPicPr>
        <p:blipFill>
          <a:blip r:embed="rId4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Заголовок 1"/>
          <p:cNvSpPr/>
          <p:nvPr/>
        </p:nvSpPr>
        <p:spPr>
          <a:xfrm>
            <a:off x="1000080" y="-71280"/>
            <a:ext cx="171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5a74"/>
                </a:solidFill>
                <a:latin typeface="Corbel"/>
              </a:rPr>
              <a:t>Дано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843" name="Группа 5"/>
          <p:cNvGrpSpPr/>
          <p:nvPr/>
        </p:nvGrpSpPr>
        <p:grpSpPr>
          <a:xfrm>
            <a:off x="1214280" y="785880"/>
            <a:ext cx="2000160" cy="857160"/>
            <a:chOff x="1214280" y="785880"/>
            <a:chExt cx="2000160" cy="857160"/>
          </a:xfrm>
        </p:grpSpPr>
        <p:sp>
          <p:nvSpPr>
            <p:cNvPr id="844" name="Равнобедренный треугольник 6"/>
            <p:cNvSpPr/>
            <p:nvPr/>
          </p:nvSpPr>
          <p:spPr>
            <a:xfrm>
              <a:off x="1214280" y="1143000"/>
              <a:ext cx="285480" cy="214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45" name="Заголовок 1"/>
            <p:cNvSpPr/>
            <p:nvPr/>
          </p:nvSpPr>
          <p:spPr>
            <a:xfrm>
              <a:off x="1499760" y="785880"/>
              <a:ext cx="17146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ABC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846" name="Заголовок 1"/>
          <p:cNvSpPr/>
          <p:nvPr/>
        </p:nvSpPr>
        <p:spPr>
          <a:xfrm>
            <a:off x="1000080" y="1857240"/>
            <a:ext cx="19288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95a74"/>
                </a:solidFill>
                <a:latin typeface="Corbel"/>
              </a:rPr>
              <a:t>Док-ть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47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895320" y="1792440"/>
            <a:ext cx="3206880" cy="268200"/>
          </a:xfrm>
          <a:prstGeom prst="rect">
            <a:avLst/>
          </a:prstGeom>
          <a:ln w="0">
            <a:noFill/>
          </a:ln>
        </p:spPr>
      </p:pic>
      <p:pic>
        <p:nvPicPr>
          <p:cNvPr id="848" name="Прямая соединительная линия 10" descr=""/>
          <p:cNvPicPr/>
          <p:nvPr/>
        </p:nvPicPr>
        <p:blipFill>
          <a:blip r:embed="rId3"/>
          <a:stretch/>
        </p:blipFill>
        <p:spPr>
          <a:xfrm>
            <a:off x="3865680" y="-103320"/>
            <a:ext cx="268200" cy="385308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214880" y="-142920"/>
            <a:ext cx="3929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95a74"/>
                </a:solidFill>
                <a:latin typeface="Corbel"/>
              </a:rPr>
              <a:t>Доказательство:</a:t>
            </a: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grpSp>
        <p:nvGrpSpPr>
          <p:cNvPr id="850" name="Группа 76"/>
          <p:cNvGrpSpPr/>
          <p:nvPr/>
        </p:nvGrpSpPr>
        <p:grpSpPr>
          <a:xfrm>
            <a:off x="1000080" y="4071960"/>
            <a:ext cx="3187800" cy="2449800"/>
            <a:chOff x="1000080" y="4071960"/>
            <a:chExt cx="3187800" cy="2449800"/>
          </a:xfrm>
        </p:grpSpPr>
        <p:sp>
          <p:nvSpPr>
            <p:cNvPr id="851" name="Равнобедренный треугольник 24"/>
            <p:cNvSpPr/>
            <p:nvPr/>
          </p:nvSpPr>
          <p:spPr>
            <a:xfrm>
              <a:off x="1385280" y="4570200"/>
              <a:ext cx="2641320" cy="1431000"/>
            </a:xfrm>
            <a:prstGeom prst="triangle">
              <a:avLst>
                <a:gd name="adj" fmla="val 58435"/>
              </a:avLst>
            </a:prstGeom>
            <a:solidFill>
              <a:srgbClr val="ffffff"/>
            </a:solidFill>
            <a:ln w="38160">
              <a:solidFill>
                <a:srgbClr val="002e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52" name="TextBox 14"/>
            <p:cNvSpPr/>
            <p:nvPr/>
          </p:nvSpPr>
          <p:spPr>
            <a:xfrm>
              <a:off x="1000080" y="5786640"/>
              <a:ext cx="33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53" name="TextBox 15"/>
            <p:cNvSpPr/>
            <p:nvPr/>
          </p:nvSpPr>
          <p:spPr>
            <a:xfrm>
              <a:off x="2714760" y="4071960"/>
              <a:ext cx="33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54" name="TextBox 16"/>
            <p:cNvSpPr/>
            <p:nvPr/>
          </p:nvSpPr>
          <p:spPr>
            <a:xfrm>
              <a:off x="3857760" y="6001200"/>
              <a:ext cx="33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855" name="Группа 77"/>
          <p:cNvGrpSpPr/>
          <p:nvPr/>
        </p:nvGrpSpPr>
        <p:grpSpPr>
          <a:xfrm>
            <a:off x="2928960" y="4572000"/>
            <a:ext cx="4116240" cy="1735560"/>
            <a:chOff x="2928960" y="4572000"/>
            <a:chExt cx="4116240" cy="1735560"/>
          </a:xfrm>
        </p:grpSpPr>
        <p:grpSp>
          <p:nvGrpSpPr>
            <p:cNvPr id="856" name="Группа 44"/>
            <p:cNvGrpSpPr/>
            <p:nvPr/>
          </p:nvGrpSpPr>
          <p:grpSpPr>
            <a:xfrm>
              <a:off x="2928960" y="4572000"/>
              <a:ext cx="3714840" cy="1644120"/>
              <a:chOff x="2928960" y="4572000"/>
              <a:chExt cx="3714840" cy="1644120"/>
            </a:xfrm>
          </p:grpSpPr>
          <p:sp>
            <p:nvSpPr>
              <p:cNvPr id="857" name="TextBox 18"/>
              <p:cNvSpPr/>
              <p:nvPr/>
            </p:nvSpPr>
            <p:spPr>
              <a:xfrm>
                <a:off x="3429000" y="4857840"/>
                <a:ext cx="330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58" name="TextBox 19"/>
              <p:cNvSpPr/>
              <p:nvPr/>
            </p:nvSpPr>
            <p:spPr>
              <a:xfrm>
                <a:off x="5429520" y="5572800"/>
                <a:ext cx="330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grpSp>
            <p:nvGrpSpPr>
              <p:cNvPr id="859" name="Группа 35"/>
              <p:cNvGrpSpPr/>
              <p:nvPr/>
            </p:nvGrpSpPr>
            <p:grpSpPr>
              <a:xfrm>
                <a:off x="2928960" y="4572000"/>
                <a:ext cx="3714840" cy="1429920"/>
                <a:chOff x="2928960" y="4572000"/>
                <a:chExt cx="3714840" cy="1429920"/>
              </a:xfrm>
            </p:grpSpPr>
            <p:sp>
              <p:nvSpPr>
                <p:cNvPr id="860" name="Прямая соединительная линия 32"/>
                <p:cNvSpPr/>
                <p:nvPr/>
              </p:nvSpPr>
              <p:spPr>
                <a:xfrm>
                  <a:off x="3999600" y="6001920"/>
                  <a:ext cx="2641320" cy="0"/>
                </a:xfrm>
                <a:prstGeom prst="line">
                  <a:avLst/>
                </a:prstGeom>
                <a:ln w="38160">
                  <a:solidFill>
                    <a:srgbClr val="002e8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861" name="Прямая соединительная линия 33"/>
                <p:cNvSpPr/>
                <p:nvPr/>
              </p:nvSpPr>
              <p:spPr>
                <a:xfrm>
                  <a:off x="2928960" y="4572000"/>
                  <a:ext cx="3714840" cy="1429920"/>
                </a:xfrm>
                <a:prstGeom prst="line">
                  <a:avLst/>
                </a:prstGeom>
                <a:ln w="38160">
                  <a:solidFill>
                    <a:srgbClr val="002e8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  <p:sp>
            <p:nvSpPr>
              <p:cNvPr id="862" name="Прямая соединительная линия 36"/>
              <p:cNvSpPr/>
              <p:nvPr/>
            </p:nvSpPr>
            <p:spPr>
              <a:xfrm flipV="1">
                <a:off x="3429000" y="5357880"/>
                <a:ext cx="357120" cy="214200"/>
              </a:xfrm>
              <a:prstGeom prst="line">
                <a:avLst/>
              </a:prstGeom>
              <a:ln w="38160">
                <a:solidFill>
                  <a:srgbClr val="002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63" name="Прямая соединительная линия 39"/>
              <p:cNvSpPr/>
              <p:nvPr/>
            </p:nvSpPr>
            <p:spPr>
              <a:xfrm>
                <a:off x="4929120" y="5858640"/>
                <a:ext cx="357120" cy="357480"/>
              </a:xfrm>
              <a:prstGeom prst="line">
                <a:avLst/>
              </a:prstGeom>
              <a:ln w="38160">
                <a:solidFill>
                  <a:srgbClr val="002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864" name="TextBox 43"/>
            <p:cNvSpPr/>
            <p:nvPr/>
          </p:nvSpPr>
          <p:spPr>
            <a:xfrm>
              <a:off x="6715080" y="5787000"/>
              <a:ext cx="33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865" name="Группа 45"/>
          <p:cNvGrpSpPr/>
          <p:nvPr/>
        </p:nvGrpSpPr>
        <p:grpSpPr>
          <a:xfrm>
            <a:off x="4357800" y="714240"/>
            <a:ext cx="2643120" cy="646200"/>
            <a:chOff x="4357800" y="714240"/>
            <a:chExt cx="2643120" cy="646200"/>
          </a:xfrm>
        </p:grpSpPr>
        <p:sp>
          <p:nvSpPr>
            <p:cNvPr id="866" name="Заголовок 1"/>
            <p:cNvSpPr/>
            <p:nvPr/>
          </p:nvSpPr>
          <p:spPr>
            <a:xfrm>
              <a:off x="4357800" y="714240"/>
              <a:ext cx="2643120" cy="64620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en-US" sz="2800" spc="-1" strike="noStrike">
                  <a:solidFill>
                    <a:srgbClr val="495a74"/>
                  </a:solidFill>
                  <a:latin typeface="Gill Sans MT"/>
                </a:rPr>
                <a:t>1=  2  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867" name="Группа 24"/>
            <p:cNvGrpSpPr/>
            <p:nvPr/>
          </p:nvGrpSpPr>
          <p:grpSpPr>
            <a:xfrm>
              <a:off x="5143680" y="1070640"/>
              <a:ext cx="209520" cy="129960"/>
              <a:chOff x="5143680" y="1070640"/>
              <a:chExt cx="209520" cy="129960"/>
            </a:xfrm>
          </p:grpSpPr>
          <p:sp>
            <p:nvSpPr>
              <p:cNvPr id="868" name="Прямая соединительная линия 51"/>
              <p:cNvSpPr/>
              <p:nvPr/>
            </p:nvSpPr>
            <p:spPr>
              <a:xfrm flipH="1">
                <a:off x="5143680" y="1070640"/>
                <a:ext cx="209520" cy="12924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69" name="Прямая соединительная линия 52"/>
              <p:cNvSpPr/>
              <p:nvPr/>
            </p:nvSpPr>
            <p:spPr>
              <a:xfrm>
                <a:off x="5143680" y="1200600"/>
                <a:ext cx="20952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870" name="Группа 29"/>
            <p:cNvGrpSpPr/>
            <p:nvPr/>
          </p:nvGrpSpPr>
          <p:grpSpPr>
            <a:xfrm>
              <a:off x="4559040" y="1054080"/>
              <a:ext cx="209520" cy="129960"/>
              <a:chOff x="4559040" y="1054080"/>
              <a:chExt cx="209520" cy="129960"/>
            </a:xfrm>
          </p:grpSpPr>
          <p:sp>
            <p:nvSpPr>
              <p:cNvPr id="871" name="Прямая соединительная линия 49"/>
              <p:cNvSpPr/>
              <p:nvPr/>
            </p:nvSpPr>
            <p:spPr>
              <a:xfrm flipH="1">
                <a:off x="4559040" y="1054080"/>
                <a:ext cx="209520" cy="12924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72" name="Прямая соединительная линия 50"/>
              <p:cNvSpPr/>
              <p:nvPr/>
            </p:nvSpPr>
            <p:spPr>
              <a:xfrm>
                <a:off x="4559040" y="1184040"/>
                <a:ext cx="20952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873" name="Группа 53"/>
          <p:cNvGrpSpPr/>
          <p:nvPr/>
        </p:nvGrpSpPr>
        <p:grpSpPr>
          <a:xfrm>
            <a:off x="4357800" y="1143000"/>
            <a:ext cx="2643120" cy="646200"/>
            <a:chOff x="4357800" y="1143000"/>
            <a:chExt cx="2643120" cy="646200"/>
          </a:xfrm>
        </p:grpSpPr>
        <p:sp>
          <p:nvSpPr>
            <p:cNvPr id="874" name="Заголовок 1"/>
            <p:cNvSpPr/>
            <p:nvPr/>
          </p:nvSpPr>
          <p:spPr>
            <a:xfrm>
              <a:off x="4357800" y="1143000"/>
              <a:ext cx="2643120" cy="64620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en-US" sz="2800" spc="-1" strike="noStrike">
                  <a:solidFill>
                    <a:srgbClr val="495a74"/>
                  </a:solidFill>
                  <a:latin typeface="Gill Sans MT"/>
                </a:rPr>
                <a:t>ABD&gt;  1  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875" name="Группа 24"/>
            <p:cNvGrpSpPr/>
            <p:nvPr/>
          </p:nvGrpSpPr>
          <p:grpSpPr>
            <a:xfrm>
              <a:off x="5715000" y="1513080"/>
              <a:ext cx="209520" cy="129960"/>
              <a:chOff x="5715000" y="1513080"/>
              <a:chExt cx="209520" cy="129960"/>
            </a:xfrm>
          </p:grpSpPr>
          <p:sp>
            <p:nvSpPr>
              <p:cNvPr id="876" name="Прямая соединительная линия 59"/>
              <p:cNvSpPr/>
              <p:nvPr/>
            </p:nvSpPr>
            <p:spPr>
              <a:xfrm flipH="1">
                <a:off x="5715000" y="1513080"/>
                <a:ext cx="209520" cy="12924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77" name="Прямая соединительная линия 60"/>
              <p:cNvSpPr/>
              <p:nvPr/>
            </p:nvSpPr>
            <p:spPr>
              <a:xfrm>
                <a:off x="5715000" y="1643040"/>
                <a:ext cx="20952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878" name="Группа 29"/>
            <p:cNvGrpSpPr/>
            <p:nvPr/>
          </p:nvGrpSpPr>
          <p:grpSpPr>
            <a:xfrm>
              <a:off x="4559040" y="1482840"/>
              <a:ext cx="209520" cy="129960"/>
              <a:chOff x="4559040" y="1482840"/>
              <a:chExt cx="209520" cy="129960"/>
            </a:xfrm>
          </p:grpSpPr>
          <p:sp>
            <p:nvSpPr>
              <p:cNvPr id="879" name="Прямая соединительная линия 57"/>
              <p:cNvSpPr/>
              <p:nvPr/>
            </p:nvSpPr>
            <p:spPr>
              <a:xfrm flipH="1">
                <a:off x="4559040" y="1482840"/>
                <a:ext cx="209520" cy="12924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80" name="Прямая соединительная линия 58"/>
              <p:cNvSpPr/>
              <p:nvPr/>
            </p:nvSpPr>
            <p:spPr>
              <a:xfrm>
                <a:off x="4559040" y="1612800"/>
                <a:ext cx="20952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881" name="Группа 61"/>
          <p:cNvGrpSpPr/>
          <p:nvPr/>
        </p:nvGrpSpPr>
        <p:grpSpPr>
          <a:xfrm>
            <a:off x="4357800" y="1643040"/>
            <a:ext cx="2643120" cy="646200"/>
            <a:chOff x="4357800" y="1643040"/>
            <a:chExt cx="2643120" cy="646200"/>
          </a:xfrm>
        </p:grpSpPr>
        <p:sp>
          <p:nvSpPr>
            <p:cNvPr id="882" name="Заголовок 1"/>
            <p:cNvSpPr/>
            <p:nvPr/>
          </p:nvSpPr>
          <p:spPr>
            <a:xfrm>
              <a:off x="4357800" y="1643040"/>
              <a:ext cx="2643120" cy="64620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en-US" sz="2800" spc="-1" strike="noStrike">
                  <a:solidFill>
                    <a:srgbClr val="495a74"/>
                  </a:solidFill>
                  <a:latin typeface="Gill Sans MT"/>
                </a:rPr>
                <a:t>ABD&gt;  2  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883" name="Группа 24"/>
            <p:cNvGrpSpPr/>
            <p:nvPr/>
          </p:nvGrpSpPr>
          <p:grpSpPr>
            <a:xfrm>
              <a:off x="5715000" y="2013120"/>
              <a:ext cx="209520" cy="129960"/>
              <a:chOff x="5715000" y="2013120"/>
              <a:chExt cx="209520" cy="129960"/>
            </a:xfrm>
          </p:grpSpPr>
          <p:sp>
            <p:nvSpPr>
              <p:cNvPr id="884" name="Прямая соединительная линия 67"/>
              <p:cNvSpPr/>
              <p:nvPr/>
            </p:nvSpPr>
            <p:spPr>
              <a:xfrm flipH="1">
                <a:off x="5715000" y="2013120"/>
                <a:ext cx="209520" cy="12924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85" name="Прямая соединительная линия 68"/>
              <p:cNvSpPr/>
              <p:nvPr/>
            </p:nvSpPr>
            <p:spPr>
              <a:xfrm>
                <a:off x="5715000" y="2143080"/>
                <a:ext cx="20952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886" name="Группа 29"/>
            <p:cNvGrpSpPr/>
            <p:nvPr/>
          </p:nvGrpSpPr>
          <p:grpSpPr>
            <a:xfrm>
              <a:off x="4559040" y="1982880"/>
              <a:ext cx="209520" cy="129960"/>
              <a:chOff x="4559040" y="1982880"/>
              <a:chExt cx="209520" cy="129960"/>
            </a:xfrm>
          </p:grpSpPr>
          <p:sp>
            <p:nvSpPr>
              <p:cNvPr id="887" name="Прямая соединительная линия 65"/>
              <p:cNvSpPr/>
              <p:nvPr/>
            </p:nvSpPr>
            <p:spPr>
              <a:xfrm flipH="1">
                <a:off x="4559040" y="1982880"/>
                <a:ext cx="209520" cy="12924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88" name="Прямая соединительная линия 66"/>
              <p:cNvSpPr/>
              <p:nvPr/>
            </p:nvSpPr>
            <p:spPr>
              <a:xfrm>
                <a:off x="4559040" y="2112840"/>
                <a:ext cx="20952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889" name="Заголовок 1"/>
          <p:cNvSpPr/>
          <p:nvPr/>
        </p:nvSpPr>
        <p:spPr>
          <a:xfrm>
            <a:off x="1143000" y="2714760"/>
            <a:ext cx="2357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5a74"/>
                </a:solidFill>
                <a:latin typeface="Gill Sans MT"/>
              </a:rPr>
              <a:t>AB&lt;AC+CB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0" name="Заголовок 1"/>
          <p:cNvSpPr/>
          <p:nvPr/>
        </p:nvSpPr>
        <p:spPr>
          <a:xfrm>
            <a:off x="4429080" y="2714760"/>
            <a:ext cx="2428920" cy="5000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5a74"/>
                </a:solidFill>
                <a:latin typeface="Gill Sans MT"/>
              </a:rPr>
              <a:t>AD=AC+CB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1" name="Левая фигурная скобка 73"/>
          <p:cNvSpPr/>
          <p:nvPr/>
        </p:nvSpPr>
        <p:spPr>
          <a:xfrm>
            <a:off x="4143240" y="857160"/>
            <a:ext cx="500040" cy="24289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38960 h 2428920"/>
              <a:gd name="textAreaBottom" fmla="*/ 22899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5"/>
                  <a:pt x="10800" y="3949"/>
                </a:cubicBezTo>
                <a:lnTo>
                  <a:pt x="10800" y="6851"/>
                </a:lnTo>
                <a:cubicBezTo>
                  <a:pt x="10800" y="8826"/>
                  <a:pt x="5400" y="10800"/>
                  <a:pt x="0" y="10800"/>
                </a:cubicBezTo>
                <a:cubicBezTo>
                  <a:pt x="5400" y="10800"/>
                  <a:pt x="10800" y="12775"/>
                  <a:pt x="10800" y="14749"/>
                </a:cubicBezTo>
                <a:lnTo>
                  <a:pt x="10800" y="17651"/>
                </a:lnTo>
                <a:cubicBezTo>
                  <a:pt x="10800" y="1962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2" name="Стрелка вправо 74"/>
          <p:cNvSpPr/>
          <p:nvPr/>
        </p:nvSpPr>
        <p:spPr>
          <a:xfrm>
            <a:off x="6357960" y="1571760"/>
            <a:ext cx="857160" cy="7142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3" name="Заголовок 1"/>
          <p:cNvSpPr/>
          <p:nvPr/>
        </p:nvSpPr>
        <p:spPr>
          <a:xfrm>
            <a:off x="7215120" y="1571760"/>
            <a:ext cx="20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95a74"/>
                </a:solidFill>
                <a:latin typeface="Gill Sans MT"/>
              </a:rPr>
              <a:t>AB&lt;AC+CB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4" name="Заголовок 1"/>
          <p:cNvSpPr/>
          <p:nvPr/>
        </p:nvSpPr>
        <p:spPr>
          <a:xfrm>
            <a:off x="4429080" y="2214720"/>
            <a:ext cx="2428920" cy="5000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5a74"/>
                </a:solidFill>
                <a:latin typeface="Gill Sans MT"/>
              </a:rPr>
              <a:t>AB&lt;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95" name="TextBox 72" descr=""/>
          <p:cNvPicPr/>
          <p:nvPr/>
        </p:nvPicPr>
        <p:blipFill>
          <a:blip r:embed="rId4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4000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6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a_AlgeriusCaps"/>
              </a:rPr>
              <a:t>План.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00080" y="1428840"/>
            <a:ext cx="814392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001644"/>
              </a:buClr>
              <a:buFont typeface="a_AlgeriusCap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2d89"/>
                </a:solidFill>
                <a:uFillTx/>
                <a:latin typeface="a_AlgeriusCaps"/>
                <a:hlinkClick r:id="rId2" action="ppaction://hlinksldjump"/>
              </a:rPr>
              <a:t>Сумма углов треугольник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1117440" indent="-514080">
              <a:lnSpc>
                <a:spcPct val="90000"/>
              </a:lnSpc>
              <a:spcBef>
                <a:spcPts val="425"/>
              </a:spcBef>
              <a:buClr>
                <a:srgbClr val="ff0000"/>
              </a:buClr>
              <a:buFont typeface="a_AlgeriusCap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2d89"/>
                </a:solidFill>
                <a:uFillTx/>
                <a:latin typeface="a_AlgeriusCaps"/>
                <a:hlinkClick r:id="rId3" action="ppaction://hlinksldjump"/>
              </a:rPr>
              <a:t>Теорема о сумме углов треугольника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17440" indent="-514080">
              <a:lnSpc>
                <a:spcPct val="90000"/>
              </a:lnSpc>
              <a:spcBef>
                <a:spcPts val="425"/>
              </a:spcBef>
              <a:buClr>
                <a:srgbClr val="ff0000"/>
              </a:buClr>
              <a:buFont typeface="a_AlgeriusCap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2d89"/>
                </a:solidFill>
                <a:uFillTx/>
                <a:latin typeface="a_AlgeriusCaps"/>
                <a:hlinkClick r:id="rId4" action="ppaction://hlinksldjump"/>
              </a:rPr>
              <a:t>Внешний угол треугольника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17440" indent="-514080">
              <a:lnSpc>
                <a:spcPct val="90000"/>
              </a:lnSpc>
              <a:spcBef>
                <a:spcPts val="425"/>
              </a:spcBef>
              <a:buClr>
                <a:srgbClr val="ff0000"/>
              </a:buClr>
              <a:buFont typeface="a_AlgeriusCap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2d89"/>
                </a:solidFill>
                <a:uFillTx/>
                <a:latin typeface="a_AlgeriusCaps"/>
                <a:hlinkClick r:id="rId5" action="ppaction://hlinksldjump"/>
              </a:rPr>
              <a:t>Теорема о внешнем угле треугольника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17440" indent="-514080">
              <a:lnSpc>
                <a:spcPct val="90000"/>
              </a:lnSpc>
              <a:spcBef>
                <a:spcPts val="425"/>
              </a:spcBef>
              <a:buClr>
                <a:srgbClr val="ff0000"/>
              </a:buClr>
              <a:buFont typeface="a_AlgeriusCap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_AlgeriusCaps"/>
              </a:rPr>
              <a:t>Остроугольный, прямоугольный и тупоугольный треугольники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17440" indent="-514080">
              <a:lnSpc>
                <a:spcPct val="90000"/>
              </a:lnSpc>
              <a:spcBef>
                <a:spcPts val="425"/>
              </a:spcBef>
              <a:buClr>
                <a:srgbClr val="ff0000"/>
              </a:buClr>
              <a:buFont typeface="a_AlgeriusCap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2d89"/>
                </a:solidFill>
                <a:uFillTx/>
                <a:latin typeface="a_AlgeriusCaps"/>
                <a:hlinkClick r:id="rId6" action="ppaction://hlinksldjump"/>
              </a:rPr>
              <a:t>Задачи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001644"/>
              </a:buClr>
              <a:buFont typeface="a_AlgeriusCap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2d89"/>
                </a:solidFill>
                <a:uFillTx/>
                <a:latin typeface="a_AlgeriusCaps"/>
                <a:hlinkClick r:id="rId7" action="ppaction://hlinksldjump"/>
              </a:rPr>
              <a:t>Соотношение между сторонами и углами треугольник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1117440" indent="-514080">
              <a:lnSpc>
                <a:spcPct val="90000"/>
              </a:lnSpc>
              <a:spcBef>
                <a:spcPts val="425"/>
              </a:spcBef>
              <a:buClr>
                <a:srgbClr val="ff0000"/>
              </a:buClr>
              <a:buFont typeface="a_AlgeriusCap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2d89"/>
                </a:solidFill>
                <a:uFillTx/>
                <a:latin typeface="a_AlgeriusCaps"/>
                <a:hlinkClick r:id="rId8" action="ppaction://hlinksldjump"/>
              </a:rPr>
              <a:t>Теорема о соотношениях между сторонами и углами треугольника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17440" indent="-514080">
              <a:lnSpc>
                <a:spcPct val="90000"/>
              </a:lnSpc>
              <a:spcBef>
                <a:spcPts val="425"/>
              </a:spcBef>
              <a:buClr>
                <a:srgbClr val="ff0000"/>
              </a:buClr>
              <a:buFont typeface="a_AlgeriusCap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2d89"/>
                </a:solidFill>
                <a:uFillTx/>
                <a:latin typeface="a_AlgeriusCaps"/>
                <a:hlinkClick r:id="rId9" action="ppaction://hlinksldjump"/>
              </a:rPr>
              <a:t>Неравенство треугольника</a:t>
            </a:r>
            <a:r>
              <a:rPr b="0" lang="ru-RU" sz="1700" spc="-1" strike="noStrike">
                <a:solidFill>
                  <a:srgbClr val="000000"/>
                </a:solidFill>
                <a:latin typeface="a_AlgeriusCaps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17440" indent="-514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001644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117440" indent="-514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2"/>
          <a:stretch/>
        </p:blipFill>
        <p:spPr>
          <a:xfrm>
            <a:off x="1420920" y="1590840"/>
            <a:ext cx="7510320" cy="2122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Прямая соединительная линия 38" descr=""/>
          <p:cNvPicPr/>
          <p:nvPr/>
        </p:nvPicPr>
        <p:blipFill>
          <a:blip r:embed="rId2"/>
          <a:stretch/>
        </p:blipFill>
        <p:spPr>
          <a:xfrm>
            <a:off x="901800" y="1085760"/>
            <a:ext cx="3206520" cy="2620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214960" y="-142920"/>
            <a:ext cx="3929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95a74"/>
                </a:solidFill>
                <a:latin typeface="Corbel"/>
              </a:rPr>
              <a:t>Доказательство:</a:t>
            </a: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grpSp>
        <p:nvGrpSpPr>
          <p:cNvPr id="331" name="Группа 208"/>
          <p:cNvGrpSpPr/>
          <p:nvPr/>
        </p:nvGrpSpPr>
        <p:grpSpPr>
          <a:xfrm>
            <a:off x="1000080" y="3643200"/>
            <a:ext cx="5857920" cy="3000240"/>
            <a:chOff x="1000080" y="3643200"/>
            <a:chExt cx="5857920" cy="3000240"/>
          </a:xfrm>
        </p:grpSpPr>
        <p:sp>
          <p:nvSpPr>
            <p:cNvPr id="332" name="Равнобедренный треугольник 4"/>
            <p:cNvSpPr/>
            <p:nvPr/>
          </p:nvSpPr>
          <p:spPr>
            <a:xfrm>
              <a:off x="1500120" y="4214520"/>
              <a:ext cx="4857840" cy="2000520"/>
            </a:xfrm>
            <a:prstGeom prst="triangle">
              <a:avLst>
                <a:gd name="adj" fmla="val 73861"/>
              </a:avLst>
            </a:prstGeom>
            <a:solidFill>
              <a:srgbClr val="ffffff"/>
            </a:solidFill>
            <a:ln w="38160">
              <a:solidFill>
                <a:srgbClr val="002e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33" name="TextBox 5"/>
            <p:cNvSpPr/>
            <p:nvPr/>
          </p:nvSpPr>
          <p:spPr>
            <a:xfrm>
              <a:off x="1000080" y="6000840"/>
              <a:ext cx="50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1848"/>
                  </a:solidFill>
                  <a:latin typeface="a_LatinoRgNr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34" name="TextBox 6"/>
            <p:cNvSpPr/>
            <p:nvPr/>
          </p:nvSpPr>
          <p:spPr>
            <a:xfrm>
              <a:off x="4857840" y="3643200"/>
              <a:ext cx="50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1848"/>
                  </a:solidFill>
                  <a:latin typeface="a_LatinoRgNr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35" name="TextBox 7"/>
            <p:cNvSpPr/>
            <p:nvPr/>
          </p:nvSpPr>
          <p:spPr>
            <a:xfrm>
              <a:off x="6357960" y="5929200"/>
              <a:ext cx="50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1848"/>
                  </a:solidFill>
                  <a:latin typeface="a_LatinoRgNr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36" name="Заголовок 1"/>
          <p:cNvSpPr/>
          <p:nvPr/>
        </p:nvSpPr>
        <p:spPr>
          <a:xfrm>
            <a:off x="1000080" y="-71280"/>
            <a:ext cx="171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5a74"/>
                </a:solidFill>
                <a:latin typeface="Corbel"/>
              </a:rPr>
              <a:t>Дано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37" name="Группа 133"/>
          <p:cNvGrpSpPr/>
          <p:nvPr/>
        </p:nvGrpSpPr>
        <p:grpSpPr>
          <a:xfrm>
            <a:off x="1285920" y="571680"/>
            <a:ext cx="2000160" cy="857160"/>
            <a:chOff x="1285920" y="571680"/>
            <a:chExt cx="2000160" cy="857160"/>
          </a:xfrm>
        </p:grpSpPr>
        <p:sp>
          <p:nvSpPr>
            <p:cNvPr id="338" name="Равнобедренный треугольник 11"/>
            <p:cNvSpPr/>
            <p:nvPr/>
          </p:nvSpPr>
          <p:spPr>
            <a:xfrm>
              <a:off x="1285920" y="928800"/>
              <a:ext cx="285480" cy="214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39" name="Заголовок 1"/>
            <p:cNvSpPr/>
            <p:nvPr/>
          </p:nvSpPr>
          <p:spPr>
            <a:xfrm>
              <a:off x="1571400" y="571680"/>
              <a:ext cx="17146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ABC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40" name="Заголовок 1"/>
          <p:cNvSpPr/>
          <p:nvPr/>
        </p:nvSpPr>
        <p:spPr>
          <a:xfrm>
            <a:off x="1000080" y="1143000"/>
            <a:ext cx="1928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95a74"/>
                </a:solidFill>
                <a:latin typeface="Corbel"/>
              </a:rPr>
              <a:t>Док-ть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41" name="Группа 141"/>
          <p:cNvGrpSpPr/>
          <p:nvPr/>
        </p:nvGrpSpPr>
        <p:grpSpPr>
          <a:xfrm>
            <a:off x="4143240" y="1071720"/>
            <a:ext cx="5000760" cy="1143000"/>
            <a:chOff x="4143240" y="1071720"/>
            <a:chExt cx="5000760" cy="1143000"/>
          </a:xfrm>
        </p:grpSpPr>
        <p:grpSp>
          <p:nvGrpSpPr>
            <p:cNvPr id="342" name="Группа 132"/>
            <p:cNvGrpSpPr/>
            <p:nvPr/>
          </p:nvGrpSpPr>
          <p:grpSpPr>
            <a:xfrm>
              <a:off x="4143240" y="1071720"/>
              <a:ext cx="5000760" cy="1143000"/>
              <a:chOff x="4143240" y="1071720"/>
              <a:chExt cx="5000760" cy="1143000"/>
            </a:xfrm>
          </p:grpSpPr>
          <p:sp>
            <p:nvSpPr>
              <p:cNvPr id="343" name="Заголовок 1"/>
              <p:cNvSpPr/>
              <p:nvPr/>
            </p:nvSpPr>
            <p:spPr>
              <a:xfrm>
                <a:off x="4143240" y="1071720"/>
                <a:ext cx="5000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95a74"/>
                    </a:solidFill>
                    <a:latin typeface="Corbel"/>
                  </a:rPr>
                  <a:t>   </a:t>
                </a:r>
                <a:r>
                  <a:rPr b="0" lang="en-US" sz="2800" spc="-1" strike="noStrike">
                    <a:solidFill>
                      <a:srgbClr val="495a74"/>
                    </a:solidFill>
                    <a:latin typeface="Corbel"/>
                  </a:rPr>
                  <a:t>1 и     4 –накрест лежащие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grpSp>
            <p:nvGrpSpPr>
              <p:cNvPr id="344" name="Группа 122"/>
              <p:cNvGrpSpPr/>
              <p:nvPr/>
            </p:nvGrpSpPr>
            <p:grpSpPr>
              <a:xfrm>
                <a:off x="4143240" y="1571760"/>
                <a:ext cx="5000760" cy="642960"/>
                <a:chOff x="4143240" y="1571760"/>
                <a:chExt cx="5000760" cy="642960"/>
              </a:xfrm>
            </p:grpSpPr>
            <p:sp>
              <p:nvSpPr>
                <p:cNvPr id="345" name="Заголовок 1"/>
                <p:cNvSpPr/>
                <p:nvPr/>
              </p:nvSpPr>
              <p:spPr>
                <a:xfrm>
                  <a:off x="4143240" y="1571760"/>
                  <a:ext cx="5000760" cy="64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495a74"/>
                      </a:solidFill>
                      <a:latin typeface="Corbel"/>
                    </a:rPr>
                    <a:t>   </a:t>
                  </a:r>
                  <a:r>
                    <a:rPr b="0" lang="en-US" sz="2800" spc="-1" strike="noStrike">
                      <a:solidFill>
                        <a:srgbClr val="495a74"/>
                      </a:solidFill>
                      <a:latin typeface="Corbel"/>
                    </a:rPr>
                    <a:t>3 и     5 –накрест лежащие</a:t>
                  </a:r>
                  <a:endParaRPr b="0" lang="en-US" sz="2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grpSp>
              <p:nvGrpSpPr>
                <p:cNvPr id="346" name="Группа 95"/>
                <p:cNvGrpSpPr/>
                <p:nvPr/>
              </p:nvGrpSpPr>
              <p:grpSpPr>
                <a:xfrm>
                  <a:off x="4380480" y="1928880"/>
                  <a:ext cx="1119960" cy="142920"/>
                  <a:chOff x="4380480" y="1928880"/>
                  <a:chExt cx="1119960" cy="142920"/>
                </a:xfrm>
              </p:grpSpPr>
              <p:grpSp>
                <p:nvGrpSpPr>
                  <p:cNvPr id="347" name="Группа 87"/>
                  <p:cNvGrpSpPr/>
                  <p:nvPr/>
                </p:nvGrpSpPr>
                <p:grpSpPr>
                  <a:xfrm>
                    <a:off x="4380480" y="1928880"/>
                    <a:ext cx="260280" cy="142920"/>
                    <a:chOff x="4380480" y="1928880"/>
                    <a:chExt cx="260280" cy="142920"/>
                  </a:xfrm>
                </p:grpSpPr>
                <p:pic>
                  <p:nvPicPr>
                    <p:cNvPr id="348" name="Прямая соединительная линия 10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380480" y="1928880"/>
                      <a:ext cx="260280" cy="14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49" name="Прямая соединительная линия 10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83720" y="1982520"/>
                      <a:ext cx="253800" cy="8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50" name="Группа 90"/>
                  <p:cNvGrpSpPr/>
                  <p:nvPr/>
                </p:nvGrpSpPr>
                <p:grpSpPr>
                  <a:xfrm>
                    <a:off x="5240160" y="1928880"/>
                    <a:ext cx="260280" cy="142920"/>
                    <a:chOff x="5240160" y="1928880"/>
                    <a:chExt cx="260280" cy="142920"/>
                  </a:xfrm>
                </p:grpSpPr>
                <p:pic>
                  <p:nvPicPr>
                    <p:cNvPr id="351" name="Прямая соединительная линия 9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40160" y="1928880"/>
                      <a:ext cx="260280" cy="14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52" name="Прямая соединительная линия 9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43400" y="1982520"/>
                      <a:ext cx="253800" cy="8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  <p:grpSp>
          <p:nvGrpSpPr>
            <p:cNvPr id="353" name="Группа 115"/>
            <p:cNvGrpSpPr/>
            <p:nvPr/>
          </p:nvGrpSpPr>
          <p:grpSpPr>
            <a:xfrm>
              <a:off x="4380480" y="1428840"/>
              <a:ext cx="1119960" cy="142560"/>
              <a:chOff x="4380480" y="1428840"/>
              <a:chExt cx="1119960" cy="142560"/>
            </a:xfrm>
          </p:grpSpPr>
          <p:grpSp>
            <p:nvGrpSpPr>
              <p:cNvPr id="354" name="Группа 87"/>
              <p:cNvGrpSpPr/>
              <p:nvPr/>
            </p:nvGrpSpPr>
            <p:grpSpPr>
              <a:xfrm>
                <a:off x="4380480" y="1428840"/>
                <a:ext cx="260280" cy="142560"/>
                <a:chOff x="4380480" y="1428840"/>
                <a:chExt cx="260280" cy="142560"/>
              </a:xfrm>
            </p:grpSpPr>
            <p:pic>
              <p:nvPicPr>
                <p:cNvPr id="355" name="Прямая соединительная линия 1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380480" y="1428840"/>
                  <a:ext cx="260280" cy="140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Прямая соединительная линия 12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383720" y="1482120"/>
                  <a:ext cx="253800" cy="89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57" name="Группа 90"/>
              <p:cNvGrpSpPr/>
              <p:nvPr/>
            </p:nvGrpSpPr>
            <p:grpSpPr>
              <a:xfrm>
                <a:off x="5240160" y="1428840"/>
                <a:ext cx="260280" cy="142560"/>
                <a:chOff x="5240160" y="1428840"/>
                <a:chExt cx="260280" cy="142560"/>
              </a:xfrm>
            </p:grpSpPr>
            <p:pic>
              <p:nvPicPr>
                <p:cNvPr id="358" name="Прямая соединительная линия 1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240160" y="1428840"/>
                  <a:ext cx="260280" cy="140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Прямая соединительная линия 11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243400" y="1482120"/>
                  <a:ext cx="253800" cy="89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360" name="Группа 134"/>
          <p:cNvGrpSpPr/>
          <p:nvPr/>
        </p:nvGrpSpPr>
        <p:grpSpPr>
          <a:xfrm>
            <a:off x="1071720" y="1857240"/>
            <a:ext cx="3000240" cy="714600"/>
            <a:chOff x="1071720" y="1857240"/>
            <a:chExt cx="3000240" cy="714600"/>
          </a:xfrm>
        </p:grpSpPr>
        <p:sp>
          <p:nvSpPr>
            <p:cNvPr id="361" name="Заголовок 1"/>
            <p:cNvSpPr/>
            <p:nvPr/>
          </p:nvSpPr>
          <p:spPr>
            <a:xfrm>
              <a:off x="1071720" y="1857240"/>
              <a:ext cx="30002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en-US" sz="2700" spc="-1" strike="noStrike">
                  <a:solidFill>
                    <a:srgbClr val="495a74"/>
                  </a:solidFill>
                  <a:latin typeface="Gill Sans MT"/>
                </a:rPr>
                <a:t>A+   B+  C=180</a:t>
              </a:r>
              <a:r>
                <a:rPr b="0" lang="en-US" sz="2700" spc="-1" strike="noStrike" baseline="30000">
                  <a:solidFill>
                    <a:srgbClr val="495a74"/>
                  </a:solidFill>
                  <a:latin typeface="Gill Sans MT"/>
                </a:rPr>
                <a:t>0</a:t>
              </a:r>
              <a:endParaRPr b="0" lang="en-US" sz="27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362" name="Группа 24"/>
            <p:cNvGrpSpPr/>
            <p:nvPr/>
          </p:nvGrpSpPr>
          <p:grpSpPr>
            <a:xfrm>
              <a:off x="1857240" y="2143080"/>
              <a:ext cx="237960" cy="142920"/>
              <a:chOff x="1857240" y="2143080"/>
              <a:chExt cx="237960" cy="142920"/>
            </a:xfrm>
          </p:grpSpPr>
          <p:pic>
            <p:nvPicPr>
              <p:cNvPr id="363" name="Прямая соединительная линия 2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857240" y="2143080"/>
                <a:ext cx="237960" cy="14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Прямая соединительная линия 26" descr=""/>
              <p:cNvPicPr/>
              <p:nvPr/>
            </p:nvPicPr>
            <p:blipFill>
              <a:blip r:embed="rId12"/>
              <a:stretch/>
            </p:blipFill>
            <p:spPr>
              <a:xfrm>
                <a:off x="1863360" y="2195280"/>
                <a:ext cx="225720" cy="90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5" name="Группа 29"/>
            <p:cNvGrpSpPr/>
            <p:nvPr/>
          </p:nvGrpSpPr>
          <p:grpSpPr>
            <a:xfrm>
              <a:off x="1119240" y="2143080"/>
              <a:ext cx="237960" cy="142920"/>
              <a:chOff x="1119240" y="2143080"/>
              <a:chExt cx="237960" cy="142920"/>
            </a:xfrm>
          </p:grpSpPr>
          <p:pic>
            <p:nvPicPr>
              <p:cNvPr id="366" name="Прямая соединительная линия 30" descr=""/>
              <p:cNvPicPr/>
              <p:nvPr/>
            </p:nvPicPr>
            <p:blipFill>
              <a:blip r:embed="rId13"/>
              <a:stretch/>
            </p:blipFill>
            <p:spPr>
              <a:xfrm>
                <a:off x="1119240" y="2143080"/>
                <a:ext cx="237960" cy="14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" name="Прямая соединительная линия 31" descr=""/>
              <p:cNvPicPr/>
              <p:nvPr/>
            </p:nvPicPr>
            <p:blipFill>
              <a:blip r:embed="rId14"/>
              <a:stretch/>
            </p:blipFill>
            <p:spPr>
              <a:xfrm>
                <a:off x="1125360" y="2195280"/>
                <a:ext cx="225720" cy="90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8" name="Группа 32"/>
            <p:cNvGrpSpPr/>
            <p:nvPr/>
          </p:nvGrpSpPr>
          <p:grpSpPr>
            <a:xfrm>
              <a:off x="2500560" y="2143080"/>
              <a:ext cx="237960" cy="142920"/>
              <a:chOff x="2500560" y="2143080"/>
              <a:chExt cx="237960" cy="142920"/>
            </a:xfrm>
          </p:grpSpPr>
          <p:pic>
            <p:nvPicPr>
              <p:cNvPr id="369" name="Прямая соединительная линия 33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00560" y="2143080"/>
                <a:ext cx="237960" cy="14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Прямая соединительная линия 34" descr=""/>
              <p:cNvPicPr/>
              <p:nvPr/>
            </p:nvPicPr>
            <p:blipFill>
              <a:blip r:embed="rId16"/>
              <a:stretch/>
            </p:blipFill>
            <p:spPr>
              <a:xfrm>
                <a:off x="2506680" y="2195280"/>
                <a:ext cx="225720" cy="90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71" name="Прямая соединительная линия 36" descr=""/>
          <p:cNvPicPr/>
          <p:nvPr/>
        </p:nvPicPr>
        <p:blipFill>
          <a:blip r:embed="rId17"/>
          <a:stretch/>
        </p:blipFill>
        <p:spPr>
          <a:xfrm>
            <a:off x="3865680" y="-103320"/>
            <a:ext cx="268200" cy="3853080"/>
          </a:xfrm>
          <a:prstGeom prst="rect">
            <a:avLst/>
          </a:prstGeom>
          <a:ln w="0">
            <a:noFill/>
          </a:ln>
        </p:spPr>
      </p:pic>
      <p:grpSp>
        <p:nvGrpSpPr>
          <p:cNvPr id="372" name="Группа 209"/>
          <p:cNvGrpSpPr/>
          <p:nvPr/>
        </p:nvGrpSpPr>
        <p:grpSpPr>
          <a:xfrm>
            <a:off x="1214280" y="3241800"/>
            <a:ext cx="6143760" cy="3764880"/>
            <a:chOff x="1214280" y="3241800"/>
            <a:chExt cx="6143760" cy="3764880"/>
          </a:xfrm>
        </p:grpSpPr>
        <p:sp>
          <p:nvSpPr>
            <p:cNvPr id="373" name="TextBox 53"/>
            <p:cNvSpPr/>
            <p:nvPr/>
          </p:nvSpPr>
          <p:spPr>
            <a:xfrm>
              <a:off x="6858000" y="3643560"/>
              <a:ext cx="35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_LatinoRgNr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374" name="Группа 139"/>
            <p:cNvGrpSpPr/>
            <p:nvPr/>
          </p:nvGrpSpPr>
          <p:grpSpPr>
            <a:xfrm>
              <a:off x="1214280" y="3241800"/>
              <a:ext cx="6143760" cy="3764880"/>
              <a:chOff x="1214280" y="3241800"/>
              <a:chExt cx="6143760" cy="3764880"/>
            </a:xfrm>
          </p:grpSpPr>
          <p:pic>
            <p:nvPicPr>
              <p:cNvPr id="375" name="Прямая соединительная линия 49" descr=""/>
              <p:cNvPicPr/>
              <p:nvPr/>
            </p:nvPicPr>
            <p:blipFill>
              <a:blip r:embed="rId18"/>
              <a:stretch/>
            </p:blipFill>
            <p:spPr>
              <a:xfrm>
                <a:off x="1214280" y="4084560"/>
                <a:ext cx="6143760" cy="261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6" name="Группа 138"/>
              <p:cNvGrpSpPr/>
              <p:nvPr/>
            </p:nvGrpSpPr>
            <p:grpSpPr>
              <a:xfrm>
                <a:off x="1287000" y="3241800"/>
                <a:ext cx="5730480" cy="3764880"/>
                <a:chOff x="1287000" y="3241800"/>
                <a:chExt cx="5730480" cy="3764880"/>
              </a:xfrm>
            </p:grpSpPr>
            <p:grpSp>
              <p:nvGrpSpPr>
                <p:cNvPr id="377" name="Группа 137"/>
                <p:cNvGrpSpPr/>
                <p:nvPr/>
              </p:nvGrpSpPr>
              <p:grpSpPr>
                <a:xfrm>
                  <a:off x="1287000" y="3241800"/>
                  <a:ext cx="5730480" cy="3764880"/>
                  <a:chOff x="1287000" y="3241800"/>
                  <a:chExt cx="5730480" cy="3764880"/>
                </a:xfrm>
              </p:grpSpPr>
              <p:grpSp>
                <p:nvGrpSpPr>
                  <p:cNvPr id="378" name="Группа 59"/>
                  <p:cNvGrpSpPr/>
                  <p:nvPr/>
                </p:nvGrpSpPr>
                <p:grpSpPr>
                  <a:xfrm>
                    <a:off x="4414320" y="3363840"/>
                    <a:ext cx="1399320" cy="1519200"/>
                    <a:chOff x="4414320" y="3363840"/>
                    <a:chExt cx="1399320" cy="1519200"/>
                  </a:xfrm>
                </p:grpSpPr>
                <p:sp>
                  <p:nvSpPr>
                    <p:cNvPr id="379" name="Дуга 54"/>
                    <p:cNvSpPr/>
                    <p:nvPr/>
                  </p:nvSpPr>
                  <p:spPr>
                    <a:xfrm rot="3811800">
                      <a:off x="4469040" y="3645000"/>
                      <a:ext cx="1142640" cy="830160"/>
                    </a:xfrm>
                    <a:custGeom>
                      <a:avLst/>
                      <a:gdLst>
                        <a:gd name="textAreaLeft" fmla="*/ 903240 w 1142640"/>
                        <a:gd name="textAreaRight" fmla="*/ 1143000 w 1142640"/>
                        <a:gd name="textAreaTop" fmla="*/ 77040 h 830160"/>
                        <a:gd name="textAreaBottom" fmla="*/ 415080 h 830160"/>
                      </a:gdLst>
                      <a:ahLst/>
                      <a:rect l="textAreaLeft" t="textAreaTop" r="textAreaRight" b="textAreaBottom"/>
                      <a:pathLst>
                        <a:path stroke="0" w="1143008" h="857256">
                          <a:moveTo>
                            <a:pt x="903337" y="79654"/>
                          </a:moveTo>
                          <a:lnTo>
                            <a:pt x="903337" y="79654"/>
                          </a:lnTo>
                          <a:arcTo wR="571504" hR="428628" stAng="-2786535" swAng="2786548"/>
                          <a:lnTo>
                            <a:pt x="571504" y="428628"/>
                          </a:lnTo>
                          <a:close/>
                        </a:path>
                        <a:path fill="none" w="1143008" h="857256">
                          <a:moveTo>
                            <a:pt x="903337" y="79654"/>
                          </a:moveTo>
                          <a:lnTo>
                            <a:pt x="903337" y="79654"/>
                          </a:lnTo>
                          <a:arcTo wR="571504" hR="428628" stAng="-2786535" swAng="2786548"/>
                        </a:path>
                      </a:pathLst>
                    </a:custGeom>
                    <a:noFill/>
                    <a:ln w="12600">
                      <a:solidFill>
                        <a:srgbClr val="002e8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p:txBody>
                </p:sp>
                <p:sp>
                  <p:nvSpPr>
                    <p:cNvPr id="380" name="Дуга 55"/>
                    <p:cNvSpPr/>
                    <p:nvPr/>
                  </p:nvSpPr>
                  <p:spPr>
                    <a:xfrm rot="3811800">
                      <a:off x="4630680" y="3774240"/>
                      <a:ext cx="1113480" cy="843840"/>
                    </a:xfrm>
                    <a:custGeom>
                      <a:avLst/>
                      <a:gdLst>
                        <a:gd name="textAreaLeft" fmla="*/ 771120 w 1113480"/>
                        <a:gd name="textAreaRight" fmla="*/ 1113840 w 1113480"/>
                        <a:gd name="textAreaTop" fmla="*/ 32400 h 843840"/>
                        <a:gd name="textAreaBottom" fmla="*/ 452520 h 843840"/>
                      </a:gdLst>
                      <a:ahLst/>
                      <a:rect l="textAreaLeft" t="textAreaTop" r="textAreaRight" b="textAreaBottom"/>
                      <a:pathLst>
                        <a:path stroke="0" w="1113601" h="871429">
                          <a:moveTo>
                            <a:pt x="771006" y="33533"/>
                          </a:moveTo>
                          <a:lnTo>
                            <a:pt x="771006" y="33533"/>
                          </a:lnTo>
                          <a:arcTo wR="556801" hR="435715" stAng="-3717595" swAng="3913336"/>
                          <a:lnTo>
                            <a:pt x="556801" y="435715"/>
                          </a:lnTo>
                          <a:close/>
                        </a:path>
                        <a:path fill="none" w="1113601" h="871429">
                          <a:moveTo>
                            <a:pt x="771006" y="33533"/>
                          </a:moveTo>
                          <a:lnTo>
                            <a:pt x="771006" y="33533"/>
                          </a:lnTo>
                          <a:arcTo wR="556801" hR="435715" stAng="-3717595" swAng="3913336"/>
                        </a:path>
                      </a:pathLst>
                    </a:custGeom>
                    <a:noFill/>
                    <a:ln w="12600">
                      <a:solidFill>
                        <a:srgbClr val="002e8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p:txBody>
                </p:sp>
              </p:grpSp>
              <p:sp>
                <p:nvSpPr>
                  <p:cNvPr id="381" name="Дуга 57"/>
                  <p:cNvSpPr/>
                  <p:nvPr/>
                </p:nvSpPr>
                <p:spPr>
                  <a:xfrm rot="11370600">
                    <a:off x="4207680" y="3873960"/>
                    <a:ext cx="1098720" cy="873360"/>
                  </a:xfrm>
                  <a:custGeom>
                    <a:avLst/>
                    <a:gdLst>
                      <a:gd name="textAreaLeft" fmla="*/ 874080 w 1098720"/>
                      <a:gd name="textAreaRight" fmla="*/ 1099080 w 1098720"/>
                      <a:gd name="textAreaTop" fmla="*/ 84240 h 873360"/>
                      <a:gd name="textAreaBottom" fmla="*/ 436680 h 873360"/>
                    </a:gdLst>
                    <a:ahLst/>
                    <a:rect l="textAreaLeft" t="textAreaTop" r="textAreaRight" b="textAreaBottom"/>
                    <a:pathLst>
                      <a:path stroke="0" w="1134818" h="873709">
                        <a:moveTo>
                          <a:pt x="902585" y="84365"/>
                        </a:moveTo>
                        <a:lnTo>
                          <a:pt x="902585" y="84365"/>
                        </a:lnTo>
                        <a:arcTo wR="567409" hR="436855" stAng="-2786537" swAng="2786543"/>
                        <a:lnTo>
                          <a:pt x="567409" y="436855"/>
                        </a:lnTo>
                        <a:close/>
                      </a:path>
                      <a:path fill="none" w="1134818" h="873709">
                        <a:moveTo>
                          <a:pt x="902585" y="84365"/>
                        </a:moveTo>
                        <a:lnTo>
                          <a:pt x="902585" y="84365"/>
                        </a:lnTo>
                        <a:arcTo wR="567409" hR="436855" stAng="-2786537" swAng="2786543"/>
                      </a:path>
                    </a:pathLst>
                  </a:custGeom>
                  <a:noFill/>
                  <a:ln w="12600">
                    <a:solidFill>
                      <a:srgbClr val="002e8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  <p:sp>
                <p:nvSpPr>
                  <p:cNvPr id="382" name="Дуга 62"/>
                  <p:cNvSpPr/>
                  <p:nvPr/>
                </p:nvSpPr>
                <p:spPr>
                  <a:xfrm rot="801600">
                    <a:off x="1373040" y="5619600"/>
                    <a:ext cx="1098720" cy="873360"/>
                  </a:xfrm>
                  <a:custGeom>
                    <a:avLst/>
                    <a:gdLst>
                      <a:gd name="textAreaLeft" fmla="*/ 874080 w 1098720"/>
                      <a:gd name="textAreaRight" fmla="*/ 1099080 w 1098720"/>
                      <a:gd name="textAreaTop" fmla="*/ 84240 h 873360"/>
                      <a:gd name="textAreaBottom" fmla="*/ 436680 h 873360"/>
                    </a:gdLst>
                    <a:ahLst/>
                    <a:rect l="textAreaLeft" t="textAreaTop" r="textAreaRight" b="textAreaBottom"/>
                    <a:pathLst>
                      <a:path stroke="0" w="1134818" h="873709">
                        <a:moveTo>
                          <a:pt x="902585" y="84365"/>
                        </a:moveTo>
                        <a:lnTo>
                          <a:pt x="902585" y="84365"/>
                        </a:lnTo>
                        <a:arcTo wR="567409" hR="436855" stAng="-2786537" swAng="2786543"/>
                        <a:lnTo>
                          <a:pt x="567409" y="436855"/>
                        </a:lnTo>
                        <a:close/>
                      </a:path>
                      <a:path fill="none" w="1134818" h="873709">
                        <a:moveTo>
                          <a:pt x="902585" y="84365"/>
                        </a:moveTo>
                        <a:lnTo>
                          <a:pt x="902585" y="84365"/>
                        </a:lnTo>
                        <a:arcTo wR="567409" hR="436855" stAng="-2786537" swAng="2786543"/>
                      </a:path>
                    </a:pathLst>
                  </a:custGeom>
                  <a:noFill/>
                  <a:ln w="12600">
                    <a:solidFill>
                      <a:srgbClr val="002e8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  <p:grpSp>
                <p:nvGrpSpPr>
                  <p:cNvPr id="383" name="Группа 63"/>
                  <p:cNvGrpSpPr/>
                  <p:nvPr/>
                </p:nvGrpSpPr>
                <p:grpSpPr>
                  <a:xfrm>
                    <a:off x="5558040" y="5490720"/>
                    <a:ext cx="1459440" cy="1515960"/>
                    <a:chOff x="5558040" y="5490720"/>
                    <a:chExt cx="1459440" cy="1515960"/>
                  </a:xfrm>
                </p:grpSpPr>
                <p:sp>
                  <p:nvSpPr>
                    <p:cNvPr id="384" name="Дуга 64"/>
                    <p:cNvSpPr/>
                    <p:nvPr/>
                  </p:nvSpPr>
                  <p:spPr>
                    <a:xfrm rot="14260800">
                      <a:off x="5793480" y="5895000"/>
                      <a:ext cx="1144080" cy="818640"/>
                    </a:xfrm>
                    <a:custGeom>
                      <a:avLst/>
                      <a:gdLst>
                        <a:gd name="textAreaLeft" fmla="*/ 904320 w 1144080"/>
                        <a:gd name="textAreaRight" fmla="*/ 1144440 w 1144080"/>
                        <a:gd name="textAreaTop" fmla="*/ 75960 h 818640"/>
                        <a:gd name="textAreaBottom" fmla="*/ 409320 h 818640"/>
                      </a:gdLst>
                      <a:ahLst/>
                      <a:rect l="textAreaLeft" t="textAreaTop" r="textAreaRight" b="textAreaBottom"/>
                      <a:pathLst>
                        <a:path stroke="0" w="1143008" h="857256">
                          <a:moveTo>
                            <a:pt x="903337" y="79654"/>
                          </a:moveTo>
                          <a:lnTo>
                            <a:pt x="903337" y="79654"/>
                          </a:lnTo>
                          <a:arcTo wR="571504" hR="428628" stAng="-2786535" swAng="2786548"/>
                          <a:lnTo>
                            <a:pt x="571504" y="428628"/>
                          </a:lnTo>
                          <a:close/>
                        </a:path>
                        <a:path fill="none" w="1143008" h="857256">
                          <a:moveTo>
                            <a:pt x="903337" y="79654"/>
                          </a:moveTo>
                          <a:lnTo>
                            <a:pt x="903337" y="79654"/>
                          </a:lnTo>
                          <a:arcTo wR="571504" hR="428628" stAng="-2786535" swAng="2786548"/>
                        </a:path>
                      </a:pathLst>
                    </a:custGeom>
                    <a:noFill/>
                    <a:ln w="12600">
                      <a:solidFill>
                        <a:srgbClr val="002e8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p:txBody>
                </p:sp>
                <p:sp>
                  <p:nvSpPr>
                    <p:cNvPr id="385" name="Дуга 65"/>
                    <p:cNvSpPr/>
                    <p:nvPr/>
                  </p:nvSpPr>
                  <p:spPr>
                    <a:xfrm rot="14260800">
                      <a:off x="5650200" y="5767560"/>
                      <a:ext cx="1114560" cy="832320"/>
                    </a:xfrm>
                    <a:custGeom>
                      <a:avLst/>
                      <a:gdLst>
                        <a:gd name="textAreaLeft" fmla="*/ 771840 w 1114560"/>
                        <a:gd name="textAreaRight" fmla="*/ 1114920 w 1114560"/>
                        <a:gd name="textAreaTop" fmla="*/ 32040 h 832320"/>
                        <a:gd name="textAreaBottom" fmla="*/ 446400 h 832320"/>
                      </a:gdLst>
                      <a:ahLst/>
                      <a:rect l="textAreaLeft" t="textAreaTop" r="textAreaRight" b="textAreaBottom"/>
                      <a:pathLst>
                        <a:path stroke="0" w="1113601" h="871429">
                          <a:moveTo>
                            <a:pt x="771006" y="33533"/>
                          </a:moveTo>
                          <a:lnTo>
                            <a:pt x="771006" y="33533"/>
                          </a:lnTo>
                          <a:arcTo wR="556801" hR="435715" stAng="-3717595" swAng="3913336"/>
                          <a:lnTo>
                            <a:pt x="556801" y="435715"/>
                          </a:lnTo>
                          <a:close/>
                        </a:path>
                        <a:path fill="none" w="1113601" h="871429">
                          <a:moveTo>
                            <a:pt x="771006" y="33533"/>
                          </a:moveTo>
                          <a:lnTo>
                            <a:pt x="771006" y="33533"/>
                          </a:lnTo>
                          <a:arcTo wR="556801" hR="435715" stAng="-3717595" swAng="3913336"/>
                        </a:path>
                      </a:pathLst>
                    </a:custGeom>
                    <a:noFill/>
                    <a:ln w="12600">
                      <a:solidFill>
                        <a:srgbClr val="00206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p:txBody>
                </p:sp>
              </p:grpSp>
              <p:grpSp>
                <p:nvGrpSpPr>
                  <p:cNvPr id="386" name="Группа 77"/>
                  <p:cNvGrpSpPr/>
                  <p:nvPr/>
                </p:nvGrpSpPr>
                <p:grpSpPr>
                  <a:xfrm>
                    <a:off x="3862800" y="3241800"/>
                    <a:ext cx="1918800" cy="1827720"/>
                    <a:chOff x="3862800" y="3241800"/>
                    <a:chExt cx="1918800" cy="1827720"/>
                  </a:xfrm>
                </p:grpSpPr>
                <p:grpSp>
                  <p:nvGrpSpPr>
                    <p:cNvPr id="387" name="Группа 73"/>
                    <p:cNvGrpSpPr/>
                    <p:nvPr/>
                  </p:nvGrpSpPr>
                  <p:grpSpPr>
                    <a:xfrm>
                      <a:off x="4177440" y="3241800"/>
                      <a:ext cx="1585440" cy="1634760"/>
                      <a:chOff x="4177440" y="3241800"/>
                      <a:chExt cx="1585440" cy="1634760"/>
                    </a:xfrm>
                  </p:grpSpPr>
                  <p:sp>
                    <p:nvSpPr>
                      <p:cNvPr id="388" name="Дуга 74"/>
                      <p:cNvSpPr/>
                      <p:nvPr/>
                    </p:nvSpPr>
                    <p:spPr>
                      <a:xfrm rot="7396800">
                        <a:off x="4510440" y="3511080"/>
                        <a:ext cx="1107000" cy="857160"/>
                      </a:xfrm>
                      <a:custGeom>
                        <a:avLst/>
                        <a:gdLst>
                          <a:gd name="textAreaLeft" fmla="*/ 875160 w 1107000"/>
                          <a:gd name="textAreaRight" fmla="*/ 1107360 w 1107000"/>
                          <a:gd name="textAreaTop" fmla="*/ 79560 h 857160"/>
                          <a:gd name="textAreaBottom" fmla="*/ 428760 h 857160"/>
                        </a:gdLst>
                        <a:ahLst/>
                        <a:rect l="textAreaLeft" t="textAreaTop" r="textAreaRight" b="textAreaBottom"/>
                        <a:pathLst>
                          <a:path stroke="0" w="1143008" h="857256">
                            <a:moveTo>
                              <a:pt x="903337" y="79654"/>
                            </a:moveTo>
                            <a:lnTo>
                              <a:pt x="903337" y="79654"/>
                            </a:lnTo>
                            <a:arcTo wR="571504" hR="428628" stAng="-2786535" swAng="2786548"/>
                            <a:lnTo>
                              <a:pt x="571504" y="428628"/>
                            </a:lnTo>
                            <a:close/>
                          </a:path>
                          <a:path fill="none" w="1143008" h="857256">
                            <a:moveTo>
                              <a:pt x="903337" y="79654"/>
                            </a:moveTo>
                            <a:lnTo>
                              <a:pt x="903337" y="79654"/>
                            </a:lnTo>
                            <a:arcTo wR="571504" hR="428628" stAng="-2786535" swAng="2786548"/>
                          </a:path>
                        </a:pathLst>
                      </a:custGeom>
                      <a:noFill/>
                      <a:ln w="12600">
                        <a:solidFill>
                          <a:srgbClr val="002e8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rbel"/>
                        </a:endParaRPr>
                      </a:p>
                    </p:txBody>
                  </p:sp>
                  <p:sp>
                    <p:nvSpPr>
                      <p:cNvPr id="389" name="Дуга 75"/>
                      <p:cNvSpPr/>
                      <p:nvPr/>
                    </p:nvSpPr>
                    <p:spPr>
                      <a:xfrm rot="7396800">
                        <a:off x="4430880" y="3504960"/>
                        <a:ext cx="1078200" cy="1188720"/>
                      </a:xfrm>
                      <a:custGeom>
                        <a:avLst/>
                        <a:gdLst>
                          <a:gd name="textAreaLeft" fmla="*/ 751680 w 1078200"/>
                          <a:gd name="textAreaRight" fmla="*/ 1078560 w 1078200"/>
                          <a:gd name="textAreaTop" fmla="*/ 47880 h 1188720"/>
                          <a:gd name="textAreaBottom" fmla="*/ 684000 h 1188720"/>
                        </a:gdLst>
                        <a:ahLst/>
                        <a:rect l="textAreaLeft" t="textAreaTop" r="textAreaRight" b="textAreaBottom"/>
                        <a:pathLst>
                          <a:path stroke="0" w="1113601" h="1188910">
                            <a:moveTo>
                              <a:pt x="776450" y="48209"/>
                            </a:moveTo>
                            <a:lnTo>
                              <a:pt x="776450" y="48209"/>
                            </a:lnTo>
                            <a:arcTo wR="556801" hR="594455" stAng="-4085672" swAng="4640126"/>
                            <a:lnTo>
                              <a:pt x="556801" y="594455"/>
                            </a:lnTo>
                            <a:close/>
                          </a:path>
                          <a:path fill="none" w="1113601" h="1188910">
                            <a:moveTo>
                              <a:pt x="776450" y="48209"/>
                            </a:moveTo>
                            <a:lnTo>
                              <a:pt x="776450" y="48209"/>
                            </a:lnTo>
                            <a:arcTo wR="556801" hR="594455" stAng="-4085672" swAng="4640126"/>
                          </a:path>
                        </a:pathLst>
                      </a:custGeom>
                      <a:noFill/>
                      <a:ln w="12600">
                        <a:solidFill>
                          <a:srgbClr val="002e8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rbel"/>
                        </a:endParaRPr>
                      </a:p>
                    </p:txBody>
                  </p:sp>
                </p:grpSp>
                <p:sp>
                  <p:nvSpPr>
                    <p:cNvPr id="390" name="Дуга 76"/>
                    <p:cNvSpPr/>
                    <p:nvPr/>
                  </p:nvSpPr>
                  <p:spPr>
                    <a:xfrm rot="6535800">
                      <a:off x="4277520" y="3458520"/>
                      <a:ext cx="1089000" cy="1654920"/>
                    </a:xfrm>
                    <a:custGeom>
                      <a:avLst/>
                      <a:gdLst>
                        <a:gd name="textAreaLeft" fmla="*/ 835200 w 1089000"/>
                        <a:gd name="textAreaRight" fmla="*/ 1089360 w 1089000"/>
                        <a:gd name="textAreaTop" fmla="*/ 127440 h 1654920"/>
                        <a:gd name="textAreaBottom" fmla="*/ 1164600 h 1654920"/>
                      </a:gdLst>
                      <a:ahLst/>
                      <a:rect l="textAreaLeft" t="textAreaTop" r="textAreaRight" b="textAreaBottom"/>
                      <a:pathLst>
                        <a:path stroke="0" w="1089472" h="1709452">
                          <a:moveTo>
                            <a:pt x="835409" y="131854"/>
                          </a:moveTo>
                          <a:lnTo>
                            <a:pt x="835409" y="131854"/>
                          </a:lnTo>
                          <a:arcTo wR="544736" hR="854726" stAng="-4085671" swAng="6184052"/>
                          <a:lnTo>
                            <a:pt x="544736" y="854726"/>
                          </a:lnTo>
                          <a:close/>
                        </a:path>
                        <a:path fill="none" w="1089472" h="1709452">
                          <a:moveTo>
                            <a:pt x="835409" y="131854"/>
                          </a:moveTo>
                          <a:lnTo>
                            <a:pt x="835409" y="131854"/>
                          </a:lnTo>
                          <a:arcTo wR="544736" hR="854726" stAng="-4085671" swAng="6184052"/>
                        </a:path>
                      </a:pathLst>
                    </a:custGeom>
                    <a:noFill/>
                    <a:ln w="12600">
                      <a:solidFill>
                        <a:srgbClr val="002e8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p:txBody>
                </p:sp>
              </p:grpSp>
            </p:grpSp>
            <p:grpSp>
              <p:nvGrpSpPr>
                <p:cNvPr id="391" name="Группа 136"/>
                <p:cNvGrpSpPr/>
                <p:nvPr/>
              </p:nvGrpSpPr>
              <p:grpSpPr>
                <a:xfrm>
                  <a:off x="2485440" y="4215240"/>
                  <a:ext cx="3495600" cy="2020320"/>
                  <a:chOff x="2485440" y="4215240"/>
                  <a:chExt cx="3495600" cy="2020320"/>
                </a:xfrm>
              </p:grpSpPr>
              <p:sp>
                <p:nvSpPr>
                  <p:cNvPr id="392" name="TextBox 78"/>
                  <p:cNvSpPr/>
                  <p:nvPr/>
                </p:nvSpPr>
                <p:spPr>
                  <a:xfrm>
                    <a:off x="5459760" y="5643360"/>
                    <a:ext cx="313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1848"/>
                        </a:solidFill>
                        <a:latin typeface="a_LatinoRgNr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  <p:sp>
                <p:nvSpPr>
                  <p:cNvPr id="393" name="TextBox 79"/>
                  <p:cNvSpPr/>
                  <p:nvPr/>
                </p:nvSpPr>
                <p:spPr>
                  <a:xfrm>
                    <a:off x="2485440" y="5715000"/>
                    <a:ext cx="313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1848"/>
                        </a:solidFill>
                        <a:latin typeface="a_LatinoRgNr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  <p:sp>
                <p:nvSpPr>
                  <p:cNvPr id="394" name="TextBox 80"/>
                  <p:cNvSpPr/>
                  <p:nvPr/>
                </p:nvSpPr>
                <p:spPr>
                  <a:xfrm>
                    <a:off x="4768200" y="4857840"/>
                    <a:ext cx="313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1848"/>
                        </a:solidFill>
                        <a:latin typeface="a_LatinoRgNr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  <p:sp>
                <p:nvSpPr>
                  <p:cNvPr id="395" name="TextBox 81"/>
                  <p:cNvSpPr/>
                  <p:nvPr/>
                </p:nvSpPr>
                <p:spPr>
                  <a:xfrm>
                    <a:off x="5667120" y="4286520"/>
                    <a:ext cx="313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1848"/>
                        </a:solidFill>
                        <a:latin typeface="a_LatinoRgNr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  <p:sp>
                <p:nvSpPr>
                  <p:cNvPr id="396" name="TextBox 82"/>
                  <p:cNvSpPr/>
                  <p:nvPr/>
                </p:nvSpPr>
                <p:spPr>
                  <a:xfrm>
                    <a:off x="3799440" y="4215240"/>
                    <a:ext cx="313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1848"/>
                        </a:solidFill>
                        <a:latin typeface="a_LatinoRgNr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</p:grpSp>
          </p:grpSp>
        </p:grpSp>
      </p:grpSp>
      <p:sp>
        <p:nvSpPr>
          <p:cNvPr id="397" name="Заголовок 1"/>
          <p:cNvSpPr/>
          <p:nvPr/>
        </p:nvSpPr>
        <p:spPr>
          <a:xfrm>
            <a:off x="4071960" y="1143000"/>
            <a:ext cx="3929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Стрелка вправо с вырезом 102"/>
          <p:cNvSpPr/>
          <p:nvPr/>
        </p:nvSpPr>
        <p:spPr>
          <a:xfrm rot="5400000">
            <a:off x="6250320" y="2321640"/>
            <a:ext cx="714240" cy="500040"/>
          </a:xfrm>
          <a:custGeom>
            <a:avLst/>
            <a:gdLst>
              <a:gd name="textAreaLeft" fmla="*/ 124920 w 714240"/>
              <a:gd name="textAreaRight" fmla="*/ 589320 w 7142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040" y="5400"/>
                </a:ln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14040" y="16200"/>
                </a:lnTo>
                <a:lnTo>
                  <a:pt x="0" y="16200"/>
                </a:lnTo>
                <a:lnTo>
                  <a:pt x="378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103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99" name="Группа 135"/>
          <p:cNvGrpSpPr/>
          <p:nvPr/>
        </p:nvGrpSpPr>
        <p:grpSpPr>
          <a:xfrm>
            <a:off x="5286240" y="2714760"/>
            <a:ext cx="6072480" cy="642960"/>
            <a:chOff x="5286240" y="2714760"/>
            <a:chExt cx="6072480" cy="642960"/>
          </a:xfrm>
        </p:grpSpPr>
        <p:grpSp>
          <p:nvGrpSpPr>
            <p:cNvPr id="400" name="Группа 106"/>
            <p:cNvGrpSpPr/>
            <p:nvPr/>
          </p:nvGrpSpPr>
          <p:grpSpPr>
            <a:xfrm>
              <a:off x="5286240" y="2714760"/>
              <a:ext cx="4682520" cy="642960"/>
              <a:chOff x="5286240" y="2714760"/>
              <a:chExt cx="4682520" cy="642960"/>
            </a:xfrm>
          </p:grpSpPr>
          <p:sp>
            <p:nvSpPr>
              <p:cNvPr id="401" name="Заголовок 1"/>
              <p:cNvSpPr/>
              <p:nvPr/>
            </p:nvSpPr>
            <p:spPr>
              <a:xfrm>
                <a:off x="5286240" y="2714760"/>
                <a:ext cx="468252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95a74"/>
                    </a:solidFill>
                    <a:latin typeface="Corbel"/>
                  </a:rPr>
                  <a:t>   </a:t>
                </a:r>
                <a:r>
                  <a:rPr b="0" lang="en-US" sz="2800" spc="-1" strike="noStrike">
                    <a:solidFill>
                      <a:srgbClr val="495a74"/>
                    </a:solidFill>
                    <a:latin typeface="Corbel"/>
                  </a:rPr>
                  <a:t>3 =     5,  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grpSp>
            <p:nvGrpSpPr>
              <p:cNvPr id="402" name="Группа 95"/>
              <p:cNvGrpSpPr/>
              <p:nvPr/>
            </p:nvGrpSpPr>
            <p:grpSpPr>
              <a:xfrm>
                <a:off x="5286240" y="3000600"/>
                <a:ext cx="1048680" cy="142920"/>
                <a:chOff x="5286240" y="3000600"/>
                <a:chExt cx="1048680" cy="142920"/>
              </a:xfrm>
            </p:grpSpPr>
            <p:grpSp>
              <p:nvGrpSpPr>
                <p:cNvPr id="403" name="Группа 87"/>
                <p:cNvGrpSpPr/>
                <p:nvPr/>
              </p:nvGrpSpPr>
              <p:grpSpPr>
                <a:xfrm>
                  <a:off x="5286240" y="3000600"/>
                  <a:ext cx="243720" cy="142920"/>
                  <a:chOff x="5286240" y="3000600"/>
                  <a:chExt cx="243720" cy="142920"/>
                </a:xfrm>
              </p:grpSpPr>
              <p:pic>
                <p:nvPicPr>
                  <p:cNvPr id="404" name="Прямая соединительная линия 11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286240" y="3000600"/>
                    <a:ext cx="243720" cy="14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5" name="Прямая соединительная линия 1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92360" y="3054240"/>
                    <a:ext cx="231480" cy="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06" name="Группа 90"/>
                <p:cNvGrpSpPr/>
                <p:nvPr/>
              </p:nvGrpSpPr>
              <p:grpSpPr>
                <a:xfrm>
                  <a:off x="6091200" y="3000600"/>
                  <a:ext cx="243720" cy="142920"/>
                  <a:chOff x="6091200" y="3000600"/>
                  <a:chExt cx="243720" cy="142920"/>
                </a:xfrm>
              </p:grpSpPr>
              <p:pic>
                <p:nvPicPr>
                  <p:cNvPr id="407" name="Прямая соединительная линия 1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91200" y="3000600"/>
                    <a:ext cx="243720" cy="14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8" name="Прямая соединительная линия 1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97320" y="3054240"/>
                    <a:ext cx="231480" cy="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409" name="Группа 123"/>
            <p:cNvGrpSpPr/>
            <p:nvPr/>
          </p:nvGrpSpPr>
          <p:grpSpPr>
            <a:xfrm>
              <a:off x="6676200" y="2714760"/>
              <a:ext cx="4682520" cy="642960"/>
              <a:chOff x="6676200" y="2714760"/>
              <a:chExt cx="4682520" cy="642960"/>
            </a:xfrm>
          </p:grpSpPr>
          <p:sp>
            <p:nvSpPr>
              <p:cNvPr id="410" name="Заголовок 1"/>
              <p:cNvSpPr/>
              <p:nvPr/>
            </p:nvSpPr>
            <p:spPr>
              <a:xfrm>
                <a:off x="6676200" y="2714760"/>
                <a:ext cx="468252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95a74"/>
                    </a:solidFill>
                    <a:latin typeface="Corbel"/>
                  </a:rPr>
                  <a:t>   </a:t>
                </a:r>
                <a:r>
                  <a:rPr b="0" lang="en-US" sz="2800" spc="-1" strike="noStrike">
                    <a:solidFill>
                      <a:srgbClr val="495a74"/>
                    </a:solidFill>
                    <a:latin typeface="Corbel"/>
                  </a:rPr>
                  <a:t>1 =     4 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grpSp>
            <p:nvGrpSpPr>
              <p:cNvPr id="411" name="Группа 95"/>
              <p:cNvGrpSpPr/>
              <p:nvPr/>
            </p:nvGrpSpPr>
            <p:grpSpPr>
              <a:xfrm>
                <a:off x="6676200" y="3000600"/>
                <a:ext cx="1048680" cy="142920"/>
                <a:chOff x="6676200" y="3000600"/>
                <a:chExt cx="1048680" cy="142920"/>
              </a:xfrm>
            </p:grpSpPr>
            <p:grpSp>
              <p:nvGrpSpPr>
                <p:cNvPr id="412" name="Группа 87"/>
                <p:cNvGrpSpPr/>
                <p:nvPr/>
              </p:nvGrpSpPr>
              <p:grpSpPr>
                <a:xfrm>
                  <a:off x="6676200" y="3000600"/>
                  <a:ext cx="243720" cy="142920"/>
                  <a:chOff x="6676200" y="3000600"/>
                  <a:chExt cx="243720" cy="142920"/>
                </a:xfrm>
              </p:grpSpPr>
              <p:pic>
                <p:nvPicPr>
                  <p:cNvPr id="413" name="Прямая соединительная линия 130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676200" y="3000600"/>
                    <a:ext cx="243720" cy="14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4" name="Прямая соединительная линия 13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82320" y="3054240"/>
                    <a:ext cx="231480" cy="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15" name="Группа 90"/>
                <p:cNvGrpSpPr/>
                <p:nvPr/>
              </p:nvGrpSpPr>
              <p:grpSpPr>
                <a:xfrm>
                  <a:off x="7481160" y="3000600"/>
                  <a:ext cx="243720" cy="142920"/>
                  <a:chOff x="7481160" y="3000600"/>
                  <a:chExt cx="243720" cy="142920"/>
                </a:xfrm>
              </p:grpSpPr>
              <p:pic>
                <p:nvPicPr>
                  <p:cNvPr id="416" name="Прямая соединительная линия 128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481160" y="3000600"/>
                    <a:ext cx="243720" cy="14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7" name="Прямая соединительная линия 12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487280" y="3054240"/>
                    <a:ext cx="231480" cy="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418" name="Группа 191"/>
          <p:cNvGrpSpPr/>
          <p:nvPr/>
        </p:nvGrpSpPr>
        <p:grpSpPr>
          <a:xfrm>
            <a:off x="5286240" y="2786040"/>
            <a:ext cx="4143600" cy="857160"/>
            <a:chOff x="5286240" y="2786040"/>
            <a:chExt cx="4143600" cy="857160"/>
          </a:xfrm>
        </p:grpSpPr>
        <p:sp>
          <p:nvSpPr>
            <p:cNvPr id="419" name="Заголовок 1"/>
            <p:cNvSpPr/>
            <p:nvPr/>
          </p:nvSpPr>
          <p:spPr>
            <a:xfrm>
              <a:off x="5500440" y="2786040"/>
              <a:ext cx="39294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495a74"/>
                  </a:solidFill>
                  <a:latin typeface="Corbel"/>
                </a:rPr>
                <a:t>A</a:t>
              </a:r>
              <a:r>
                <a:rPr b="0" lang="ru-RU" sz="2700" spc="-1" strike="noStrike">
                  <a:solidFill>
                    <a:srgbClr val="495a74"/>
                  </a:solidFill>
                  <a:latin typeface="Corbel"/>
                </a:rPr>
                <a:t>+    </a:t>
              </a:r>
              <a:r>
                <a:rPr b="0" lang="en-US" sz="2700" spc="-1" strike="noStrike">
                  <a:solidFill>
                    <a:srgbClr val="495a74"/>
                  </a:solidFill>
                  <a:latin typeface="Corbel"/>
                </a:rPr>
                <a:t> B</a:t>
              </a:r>
              <a:r>
                <a:rPr b="0" lang="ru-RU" sz="2700" spc="-1" strike="noStrike">
                  <a:solidFill>
                    <a:srgbClr val="495a74"/>
                  </a:solidFill>
                  <a:latin typeface="Corbel"/>
                </a:rPr>
                <a:t>+   </a:t>
              </a:r>
              <a:r>
                <a:rPr b="0" lang="en-US" sz="2700" spc="-1" strike="noStrike">
                  <a:solidFill>
                    <a:srgbClr val="495a74"/>
                  </a:solidFill>
                  <a:latin typeface="Corbel"/>
                </a:rPr>
                <a:t> C</a:t>
              </a:r>
              <a:r>
                <a:rPr b="0" lang="ru-RU" sz="2700" spc="-1" strike="noStrike">
                  <a:solidFill>
                    <a:srgbClr val="495a74"/>
                  </a:solidFill>
                  <a:latin typeface="Corbel"/>
                </a:rPr>
                <a:t> = 180</a:t>
              </a:r>
              <a:r>
                <a:rPr b="0" lang="ru-RU" sz="27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27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20" name="Группа 147"/>
            <p:cNvGrpSpPr/>
            <p:nvPr/>
          </p:nvGrpSpPr>
          <p:grpSpPr>
            <a:xfrm>
              <a:off x="5286240" y="3214800"/>
              <a:ext cx="237960" cy="131760"/>
              <a:chOff x="5286240" y="3214800"/>
              <a:chExt cx="237960" cy="131760"/>
            </a:xfrm>
          </p:grpSpPr>
          <p:pic>
            <p:nvPicPr>
              <p:cNvPr id="421" name="Прямая соединительная линия 189" descr=""/>
              <p:cNvPicPr/>
              <p:nvPr/>
            </p:nvPicPr>
            <p:blipFill>
              <a:blip r:embed="rId27"/>
              <a:stretch/>
            </p:blipFill>
            <p:spPr>
              <a:xfrm>
                <a:off x="5286240" y="3214800"/>
                <a:ext cx="237960" cy="12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Прямая соединительная линия 190" descr=""/>
              <p:cNvPicPr/>
              <p:nvPr/>
            </p:nvPicPr>
            <p:blipFill>
              <a:blip r:embed="rId28"/>
              <a:stretch/>
            </p:blipFill>
            <p:spPr>
              <a:xfrm>
                <a:off x="5289120" y="3261600"/>
                <a:ext cx="228600" cy="84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Группа 148"/>
            <p:cNvGrpSpPr/>
            <p:nvPr/>
          </p:nvGrpSpPr>
          <p:grpSpPr>
            <a:xfrm>
              <a:off x="6000480" y="3214800"/>
              <a:ext cx="237960" cy="131760"/>
              <a:chOff x="6000480" y="3214800"/>
              <a:chExt cx="237960" cy="131760"/>
            </a:xfrm>
          </p:grpSpPr>
          <p:pic>
            <p:nvPicPr>
              <p:cNvPr id="424" name="Прямая соединительная линия 187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00480" y="3214800"/>
                <a:ext cx="237960" cy="12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Прямая соединительная линия 188" descr=""/>
              <p:cNvPicPr/>
              <p:nvPr/>
            </p:nvPicPr>
            <p:blipFill>
              <a:blip r:embed="rId30"/>
              <a:stretch/>
            </p:blipFill>
            <p:spPr>
              <a:xfrm>
                <a:off x="6003360" y="3261600"/>
                <a:ext cx="228600" cy="84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6" name="Группа 151"/>
            <p:cNvGrpSpPr/>
            <p:nvPr/>
          </p:nvGrpSpPr>
          <p:grpSpPr>
            <a:xfrm>
              <a:off x="6643440" y="3225600"/>
              <a:ext cx="237960" cy="131760"/>
              <a:chOff x="6643440" y="3225600"/>
              <a:chExt cx="237960" cy="131760"/>
            </a:xfrm>
          </p:grpSpPr>
          <p:pic>
            <p:nvPicPr>
              <p:cNvPr id="427" name="Прямая соединительная линия 185" descr=""/>
              <p:cNvPicPr/>
              <p:nvPr/>
            </p:nvPicPr>
            <p:blipFill>
              <a:blip r:embed="rId31"/>
              <a:stretch/>
            </p:blipFill>
            <p:spPr>
              <a:xfrm>
                <a:off x="6643440" y="3225600"/>
                <a:ext cx="237960" cy="12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8" name="Прямая соединительная линия 186" descr=""/>
              <p:cNvPicPr/>
              <p:nvPr/>
            </p:nvPicPr>
            <p:blipFill>
              <a:blip r:embed="rId32"/>
              <a:stretch/>
            </p:blipFill>
            <p:spPr>
              <a:xfrm>
                <a:off x="6646320" y="3272400"/>
                <a:ext cx="228600" cy="8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29" name="Группа 167"/>
          <p:cNvGrpSpPr/>
          <p:nvPr/>
        </p:nvGrpSpPr>
        <p:grpSpPr>
          <a:xfrm>
            <a:off x="4470480" y="642960"/>
            <a:ext cx="4673520" cy="928800"/>
            <a:chOff x="4470480" y="642960"/>
            <a:chExt cx="4673520" cy="928800"/>
          </a:xfrm>
        </p:grpSpPr>
        <p:sp>
          <p:nvSpPr>
            <p:cNvPr id="430" name="Заголовок 1"/>
            <p:cNvSpPr/>
            <p:nvPr/>
          </p:nvSpPr>
          <p:spPr>
            <a:xfrm>
              <a:off x="4470480" y="642960"/>
              <a:ext cx="467352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495a74"/>
                  </a:solidFill>
                  <a:latin typeface="Corbel"/>
                </a:rPr>
                <a:t>4+    2+    5 = 180</a:t>
              </a:r>
              <a:r>
                <a:rPr b="0" lang="en-US" sz="27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27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31" name="Группа 147"/>
            <p:cNvGrpSpPr/>
            <p:nvPr/>
          </p:nvGrpSpPr>
          <p:grpSpPr>
            <a:xfrm>
              <a:off x="5289480" y="1143000"/>
              <a:ext cx="282960" cy="142920"/>
              <a:chOff x="5289480" y="1143000"/>
              <a:chExt cx="282960" cy="142920"/>
            </a:xfrm>
          </p:grpSpPr>
          <p:pic>
            <p:nvPicPr>
              <p:cNvPr id="432" name="Прямая соединительная линия 145" descr=""/>
              <p:cNvPicPr/>
              <p:nvPr/>
            </p:nvPicPr>
            <p:blipFill>
              <a:blip r:embed="rId33"/>
              <a:stretch/>
            </p:blipFill>
            <p:spPr>
              <a:xfrm>
                <a:off x="5289480" y="1143000"/>
                <a:ext cx="282960" cy="14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3" name="Прямая соединительная линия 146" descr=""/>
              <p:cNvPicPr/>
              <p:nvPr/>
            </p:nvPicPr>
            <p:blipFill>
              <a:blip r:embed="rId34"/>
              <a:stretch/>
            </p:blipFill>
            <p:spPr>
              <a:xfrm>
                <a:off x="5292720" y="1196640"/>
                <a:ext cx="272880" cy="89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Группа 148"/>
            <p:cNvGrpSpPr/>
            <p:nvPr/>
          </p:nvGrpSpPr>
          <p:grpSpPr>
            <a:xfrm>
              <a:off x="5932080" y="1143000"/>
              <a:ext cx="282960" cy="142920"/>
              <a:chOff x="5932080" y="1143000"/>
              <a:chExt cx="282960" cy="142920"/>
            </a:xfrm>
          </p:grpSpPr>
          <p:pic>
            <p:nvPicPr>
              <p:cNvPr id="435" name="Прямая соединительная линия 149" descr=""/>
              <p:cNvPicPr/>
              <p:nvPr/>
            </p:nvPicPr>
            <p:blipFill>
              <a:blip r:embed="rId35"/>
              <a:stretch/>
            </p:blipFill>
            <p:spPr>
              <a:xfrm>
                <a:off x="5932080" y="1143000"/>
                <a:ext cx="282960" cy="14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Прямая соединительная линия 150" descr=""/>
              <p:cNvPicPr/>
              <p:nvPr/>
            </p:nvPicPr>
            <p:blipFill>
              <a:blip r:embed="rId36"/>
              <a:stretch/>
            </p:blipFill>
            <p:spPr>
              <a:xfrm>
                <a:off x="5935320" y="1196640"/>
                <a:ext cx="272880" cy="89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7" name="Группа 151"/>
            <p:cNvGrpSpPr/>
            <p:nvPr/>
          </p:nvGrpSpPr>
          <p:grpSpPr>
            <a:xfrm>
              <a:off x="6501240" y="1143000"/>
              <a:ext cx="282960" cy="142920"/>
              <a:chOff x="6501240" y="1143000"/>
              <a:chExt cx="282960" cy="142920"/>
            </a:xfrm>
          </p:grpSpPr>
          <p:pic>
            <p:nvPicPr>
              <p:cNvPr id="438" name="Прямая соединительная линия 152" descr=""/>
              <p:cNvPicPr/>
              <p:nvPr/>
            </p:nvPicPr>
            <p:blipFill>
              <a:blip r:embed="rId37"/>
              <a:stretch/>
            </p:blipFill>
            <p:spPr>
              <a:xfrm>
                <a:off x="6501240" y="1143000"/>
                <a:ext cx="282960" cy="14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Прямая соединительная линия 153" descr=""/>
              <p:cNvPicPr/>
              <p:nvPr/>
            </p:nvPicPr>
            <p:blipFill>
              <a:blip r:embed="rId38"/>
              <a:stretch/>
            </p:blipFill>
            <p:spPr>
              <a:xfrm>
                <a:off x="6504480" y="1196640"/>
                <a:ext cx="272880" cy="89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40" name="Стрелка вправо с вырезом 166"/>
          <p:cNvSpPr/>
          <p:nvPr/>
        </p:nvSpPr>
        <p:spPr>
          <a:xfrm rot="5400000">
            <a:off x="6250320" y="1393200"/>
            <a:ext cx="714600" cy="642600"/>
          </a:xfrm>
          <a:custGeom>
            <a:avLst/>
            <a:gdLst>
              <a:gd name="textAreaLeft" fmla="*/ 160560 w 714600"/>
              <a:gd name="textAreaRight" fmla="*/ 554040 w 714600"/>
              <a:gd name="textAreaTop" fmla="*/ 160560 h 642600"/>
              <a:gd name="textAreaBottom" fmla="*/ 482040 h 642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880" y="5400"/>
                </a:lnTo>
                <a:lnTo>
                  <a:pt x="11880" y="0"/>
                </a:lnTo>
                <a:lnTo>
                  <a:pt x="21600" y="10800"/>
                </a:lnTo>
                <a:lnTo>
                  <a:pt x="11880" y="21600"/>
                </a:lnTo>
                <a:lnTo>
                  <a:pt x="11880" y="16200"/>
                </a:lnTo>
                <a:lnTo>
                  <a:pt x="0" y="16200"/>
                </a:lnTo>
                <a:lnTo>
                  <a:pt x="48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103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41" name="Группа 168"/>
          <p:cNvGrpSpPr/>
          <p:nvPr/>
        </p:nvGrpSpPr>
        <p:grpSpPr>
          <a:xfrm>
            <a:off x="5286240" y="1714680"/>
            <a:ext cx="4143600" cy="857160"/>
            <a:chOff x="5286240" y="1714680"/>
            <a:chExt cx="4143600" cy="857160"/>
          </a:xfrm>
        </p:grpSpPr>
        <p:sp>
          <p:nvSpPr>
            <p:cNvPr id="442" name="Заголовок 1"/>
            <p:cNvSpPr/>
            <p:nvPr/>
          </p:nvSpPr>
          <p:spPr>
            <a:xfrm>
              <a:off x="5500440" y="1714680"/>
              <a:ext cx="39294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495a74"/>
                  </a:solidFill>
                  <a:latin typeface="Corbel"/>
                </a:rPr>
                <a:t>1+    2+    3 = 180</a:t>
              </a:r>
              <a:r>
                <a:rPr b="0" lang="en-US" sz="27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27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43" name="Группа 147"/>
            <p:cNvGrpSpPr/>
            <p:nvPr/>
          </p:nvGrpSpPr>
          <p:grpSpPr>
            <a:xfrm>
              <a:off x="5286240" y="2176200"/>
              <a:ext cx="237960" cy="131760"/>
              <a:chOff x="5286240" y="2176200"/>
              <a:chExt cx="237960" cy="131760"/>
            </a:xfrm>
          </p:grpSpPr>
          <p:pic>
            <p:nvPicPr>
              <p:cNvPr id="444" name="Прямая соединительная линия 177" descr=""/>
              <p:cNvPicPr/>
              <p:nvPr/>
            </p:nvPicPr>
            <p:blipFill>
              <a:blip r:embed="rId39"/>
              <a:stretch/>
            </p:blipFill>
            <p:spPr>
              <a:xfrm>
                <a:off x="5286240" y="2176200"/>
                <a:ext cx="237960" cy="12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Прямая соединительная линия 178" descr=""/>
              <p:cNvPicPr/>
              <p:nvPr/>
            </p:nvPicPr>
            <p:blipFill>
              <a:blip r:embed="rId40"/>
              <a:stretch/>
            </p:blipFill>
            <p:spPr>
              <a:xfrm>
                <a:off x="5289120" y="2223000"/>
                <a:ext cx="228600" cy="84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6" name="Группа 148"/>
            <p:cNvGrpSpPr/>
            <p:nvPr/>
          </p:nvGrpSpPr>
          <p:grpSpPr>
            <a:xfrm>
              <a:off x="5929200" y="2176200"/>
              <a:ext cx="237960" cy="131760"/>
              <a:chOff x="5929200" y="2176200"/>
              <a:chExt cx="237960" cy="131760"/>
            </a:xfrm>
          </p:grpSpPr>
          <p:pic>
            <p:nvPicPr>
              <p:cNvPr id="447" name="Прямая соединительная линия 175" descr=""/>
              <p:cNvPicPr/>
              <p:nvPr/>
            </p:nvPicPr>
            <p:blipFill>
              <a:blip r:embed="rId41"/>
              <a:stretch/>
            </p:blipFill>
            <p:spPr>
              <a:xfrm>
                <a:off x="5929200" y="2176200"/>
                <a:ext cx="237960" cy="12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Прямая соединительная линия 176" descr=""/>
              <p:cNvPicPr/>
              <p:nvPr/>
            </p:nvPicPr>
            <p:blipFill>
              <a:blip r:embed="rId42"/>
              <a:stretch/>
            </p:blipFill>
            <p:spPr>
              <a:xfrm>
                <a:off x="5932080" y="2223000"/>
                <a:ext cx="228600" cy="84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9" name="Группа 151"/>
            <p:cNvGrpSpPr/>
            <p:nvPr/>
          </p:nvGrpSpPr>
          <p:grpSpPr>
            <a:xfrm>
              <a:off x="6572160" y="2176200"/>
              <a:ext cx="237960" cy="131760"/>
              <a:chOff x="6572160" y="2176200"/>
              <a:chExt cx="237960" cy="131760"/>
            </a:xfrm>
          </p:grpSpPr>
          <p:pic>
            <p:nvPicPr>
              <p:cNvPr id="450" name="Прямая соединительная линия 173" descr=""/>
              <p:cNvPicPr/>
              <p:nvPr/>
            </p:nvPicPr>
            <p:blipFill>
              <a:blip r:embed="rId43"/>
              <a:stretch/>
            </p:blipFill>
            <p:spPr>
              <a:xfrm>
                <a:off x="6572160" y="2176200"/>
                <a:ext cx="237960" cy="12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1" name="Прямая соединительная линия 174" descr=""/>
              <p:cNvPicPr/>
              <p:nvPr/>
            </p:nvPicPr>
            <p:blipFill>
              <a:blip r:embed="rId44"/>
              <a:stretch/>
            </p:blipFill>
            <p:spPr>
              <a:xfrm>
                <a:off x="6575040" y="2223000"/>
                <a:ext cx="228600" cy="8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52" name="Стрелка вправо с вырезом 179"/>
          <p:cNvSpPr/>
          <p:nvPr/>
        </p:nvSpPr>
        <p:spPr>
          <a:xfrm rot="5400000">
            <a:off x="6250320" y="2393280"/>
            <a:ext cx="714600" cy="642600"/>
          </a:xfrm>
          <a:custGeom>
            <a:avLst/>
            <a:gdLst>
              <a:gd name="textAreaLeft" fmla="*/ 160560 w 714600"/>
              <a:gd name="textAreaRight" fmla="*/ 554040 w 714600"/>
              <a:gd name="textAreaTop" fmla="*/ 160560 h 642600"/>
              <a:gd name="textAreaBottom" fmla="*/ 482040 h 642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880" y="5400"/>
                </a:lnTo>
                <a:lnTo>
                  <a:pt x="11880" y="0"/>
                </a:lnTo>
                <a:lnTo>
                  <a:pt x="21600" y="10800"/>
                </a:lnTo>
                <a:lnTo>
                  <a:pt x="11880" y="21600"/>
                </a:lnTo>
                <a:lnTo>
                  <a:pt x="11880" y="16200"/>
                </a:lnTo>
                <a:lnTo>
                  <a:pt x="0" y="16200"/>
                </a:lnTo>
                <a:lnTo>
                  <a:pt x="48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103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3" name="TextBox 143" descr=""/>
          <p:cNvPicPr/>
          <p:nvPr/>
        </p:nvPicPr>
        <p:blipFill>
          <a:blip r:embed="rId45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2"/>
          <a:stretch/>
        </p:blipFill>
        <p:spPr>
          <a:xfrm>
            <a:off x="993600" y="268200"/>
            <a:ext cx="8156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455" name="Группа 16"/>
          <p:cNvGrpSpPr/>
          <p:nvPr/>
        </p:nvGrpSpPr>
        <p:grpSpPr>
          <a:xfrm>
            <a:off x="2500200" y="4286160"/>
            <a:ext cx="4786560" cy="2651040"/>
            <a:chOff x="2500200" y="4286160"/>
            <a:chExt cx="4786560" cy="2651040"/>
          </a:xfrm>
        </p:grpSpPr>
        <p:pic>
          <p:nvPicPr>
            <p:cNvPr id="456" name="Группа 14" descr=""/>
            <p:cNvPicPr/>
            <p:nvPr/>
          </p:nvPicPr>
          <p:blipFill>
            <a:blip r:embed="rId3"/>
            <a:stretch/>
          </p:blipFill>
          <p:spPr>
            <a:xfrm>
              <a:off x="2500200" y="4286160"/>
              <a:ext cx="4786560" cy="26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Box 9"/>
            <p:cNvSpPr/>
            <p:nvPr/>
          </p:nvSpPr>
          <p:spPr>
            <a:xfrm>
              <a:off x="2692800" y="6246360"/>
              <a:ext cx="41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58" name="TextBox 10"/>
            <p:cNvSpPr/>
            <p:nvPr/>
          </p:nvSpPr>
          <p:spPr>
            <a:xfrm>
              <a:off x="3246840" y="4669560"/>
              <a:ext cx="41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59" name="TextBox 12"/>
            <p:cNvSpPr/>
            <p:nvPr/>
          </p:nvSpPr>
          <p:spPr>
            <a:xfrm>
              <a:off x="5047200" y="6246360"/>
              <a:ext cx="41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60" name="TextBox 15"/>
            <p:cNvSpPr/>
            <p:nvPr/>
          </p:nvSpPr>
          <p:spPr>
            <a:xfrm>
              <a:off x="5947560" y="5720040"/>
              <a:ext cx="41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461" name="Содержимое 2" descr=""/>
          <p:cNvPicPr/>
          <p:nvPr/>
        </p:nvPicPr>
        <p:blipFill>
          <a:blip r:embed="rId4"/>
          <a:stretch/>
        </p:blipFill>
        <p:spPr>
          <a:xfrm>
            <a:off x="1689120" y="1401840"/>
            <a:ext cx="7120080" cy="1993680"/>
          </a:xfrm>
          <a:prstGeom prst="rect">
            <a:avLst/>
          </a:prstGeom>
          <a:ln w="0">
            <a:noFill/>
          </a:ln>
        </p:spPr>
      </p:pic>
      <p:pic>
        <p:nvPicPr>
          <p:cNvPr id="462" name="TextBox 18" descr=""/>
          <p:cNvPicPr/>
          <p:nvPr/>
        </p:nvPicPr>
        <p:blipFill>
          <a:blip r:embed="rId5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2"/>
          <a:stretch/>
        </p:blipFill>
        <p:spPr>
          <a:xfrm>
            <a:off x="1420920" y="1023840"/>
            <a:ext cx="7510320" cy="1932120"/>
          </a:xfrm>
          <a:prstGeom prst="rect">
            <a:avLst/>
          </a:prstGeom>
          <a:ln w="0">
            <a:noFill/>
          </a:ln>
        </p:spPr>
      </p:pic>
      <p:pic>
        <p:nvPicPr>
          <p:cNvPr id="464" name="Содержимое 2" descr=""/>
          <p:cNvPicPr/>
          <p:nvPr/>
        </p:nvPicPr>
        <p:blipFill>
          <a:blip r:embed="rId3"/>
          <a:stretch/>
        </p:blipFill>
        <p:spPr>
          <a:xfrm>
            <a:off x="1547640" y="2835360"/>
            <a:ext cx="7120080" cy="1901880"/>
          </a:xfrm>
          <a:prstGeom prst="rect">
            <a:avLst/>
          </a:prstGeom>
          <a:ln w="0">
            <a:noFill/>
          </a:ln>
        </p:spPr>
      </p:pic>
      <p:pic>
        <p:nvPicPr>
          <p:cNvPr id="465" name="TextBox 5" descr=""/>
          <p:cNvPicPr/>
          <p:nvPr/>
        </p:nvPicPr>
        <p:blipFill>
          <a:blip r:embed="rId4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Заголовок 1"/>
          <p:cNvSpPr/>
          <p:nvPr/>
        </p:nvSpPr>
        <p:spPr>
          <a:xfrm>
            <a:off x="1000080" y="-142920"/>
            <a:ext cx="171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5a74"/>
                </a:solidFill>
                <a:latin typeface="Corbel"/>
              </a:rPr>
              <a:t>Дано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67" name="Группа 6"/>
          <p:cNvGrpSpPr/>
          <p:nvPr/>
        </p:nvGrpSpPr>
        <p:grpSpPr>
          <a:xfrm>
            <a:off x="1285920" y="714240"/>
            <a:ext cx="2000160" cy="857520"/>
            <a:chOff x="1285920" y="714240"/>
            <a:chExt cx="2000160" cy="857520"/>
          </a:xfrm>
        </p:grpSpPr>
        <p:sp>
          <p:nvSpPr>
            <p:cNvPr id="468" name="Равнобедренный треугольник 7"/>
            <p:cNvSpPr/>
            <p:nvPr/>
          </p:nvSpPr>
          <p:spPr>
            <a:xfrm>
              <a:off x="1285920" y="1071360"/>
              <a:ext cx="285480" cy="214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69" name="Заголовок 1"/>
            <p:cNvSpPr/>
            <p:nvPr/>
          </p:nvSpPr>
          <p:spPr>
            <a:xfrm>
              <a:off x="1571400" y="714240"/>
              <a:ext cx="171468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ABC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470" name="Заголовок 1"/>
          <p:cNvSpPr/>
          <p:nvPr/>
        </p:nvSpPr>
        <p:spPr>
          <a:xfrm>
            <a:off x="1000080" y="1428840"/>
            <a:ext cx="1928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95a74"/>
                </a:solidFill>
                <a:latin typeface="Corbel"/>
              </a:rPr>
              <a:t>Док-ть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71" name="Группа 42"/>
          <p:cNvGrpSpPr/>
          <p:nvPr/>
        </p:nvGrpSpPr>
        <p:grpSpPr>
          <a:xfrm>
            <a:off x="1071720" y="2214720"/>
            <a:ext cx="3214440" cy="785520"/>
            <a:chOff x="1071720" y="2214720"/>
            <a:chExt cx="3214440" cy="785520"/>
          </a:xfrm>
        </p:grpSpPr>
        <p:sp>
          <p:nvSpPr>
            <p:cNvPr id="472" name="Заголовок 1"/>
            <p:cNvSpPr/>
            <p:nvPr/>
          </p:nvSpPr>
          <p:spPr>
            <a:xfrm>
              <a:off x="1071720" y="2214720"/>
              <a:ext cx="3214440" cy="7855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4=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1+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2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73" name="Группа 24"/>
            <p:cNvGrpSpPr/>
            <p:nvPr/>
          </p:nvGrpSpPr>
          <p:grpSpPr>
            <a:xfrm>
              <a:off x="2030760" y="2629080"/>
              <a:ext cx="254880" cy="156960"/>
              <a:chOff x="2030760" y="2629080"/>
              <a:chExt cx="254880" cy="156960"/>
            </a:xfrm>
          </p:grpSpPr>
          <p:sp>
            <p:nvSpPr>
              <p:cNvPr id="474" name="Прямая соединительная линия 40"/>
              <p:cNvSpPr/>
              <p:nvPr/>
            </p:nvSpPr>
            <p:spPr>
              <a:xfrm flipH="1">
                <a:off x="2030760" y="2629080"/>
                <a:ext cx="254880" cy="1569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475" name="Прямая соединительная линия 41"/>
              <p:cNvSpPr/>
              <p:nvPr/>
            </p:nvSpPr>
            <p:spPr>
              <a:xfrm>
                <a:off x="2030760" y="278604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476" name="Группа 29"/>
            <p:cNvGrpSpPr/>
            <p:nvPr/>
          </p:nvGrpSpPr>
          <p:grpSpPr>
            <a:xfrm>
              <a:off x="1239840" y="2629080"/>
              <a:ext cx="254880" cy="156960"/>
              <a:chOff x="1239840" y="2629080"/>
              <a:chExt cx="254880" cy="156960"/>
            </a:xfrm>
          </p:grpSpPr>
          <p:sp>
            <p:nvSpPr>
              <p:cNvPr id="477" name="Прямая соединительная линия 38"/>
              <p:cNvSpPr/>
              <p:nvPr/>
            </p:nvSpPr>
            <p:spPr>
              <a:xfrm flipH="1">
                <a:off x="1239840" y="2629080"/>
                <a:ext cx="254880" cy="1569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478" name="Прямая соединительная линия 39"/>
              <p:cNvSpPr/>
              <p:nvPr/>
            </p:nvSpPr>
            <p:spPr>
              <a:xfrm>
                <a:off x="1239840" y="278604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479" name="Группа 32"/>
            <p:cNvGrpSpPr/>
            <p:nvPr/>
          </p:nvGrpSpPr>
          <p:grpSpPr>
            <a:xfrm>
              <a:off x="2745360" y="2629080"/>
              <a:ext cx="254880" cy="156960"/>
              <a:chOff x="2745360" y="2629080"/>
              <a:chExt cx="254880" cy="156960"/>
            </a:xfrm>
          </p:grpSpPr>
          <p:sp>
            <p:nvSpPr>
              <p:cNvPr id="480" name="Прямая соединительная линия 36"/>
              <p:cNvSpPr/>
              <p:nvPr/>
            </p:nvSpPr>
            <p:spPr>
              <a:xfrm flipH="1">
                <a:off x="2745360" y="2629080"/>
                <a:ext cx="254880" cy="1569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481" name="Прямая соединительная линия 37"/>
              <p:cNvSpPr/>
              <p:nvPr/>
            </p:nvSpPr>
            <p:spPr>
              <a:xfrm>
                <a:off x="2745360" y="278604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pic>
        <p:nvPicPr>
          <p:cNvPr id="482" name="Прямая соединительная линия 54" descr=""/>
          <p:cNvPicPr/>
          <p:nvPr/>
        </p:nvPicPr>
        <p:blipFill>
          <a:blip r:embed="rId2"/>
          <a:stretch/>
        </p:blipFill>
        <p:spPr>
          <a:xfrm>
            <a:off x="895320" y="1365120"/>
            <a:ext cx="3206880" cy="268560"/>
          </a:xfrm>
          <a:prstGeom prst="rect">
            <a:avLst/>
          </a:prstGeom>
          <a:ln w="0">
            <a:noFill/>
          </a:ln>
        </p:spPr>
      </p:pic>
      <p:pic>
        <p:nvPicPr>
          <p:cNvPr id="483" name="Прямая соединительная линия 55" descr=""/>
          <p:cNvPicPr/>
          <p:nvPr/>
        </p:nvPicPr>
        <p:blipFill>
          <a:blip r:embed="rId3"/>
          <a:stretch/>
        </p:blipFill>
        <p:spPr>
          <a:xfrm>
            <a:off x="3865680" y="-103320"/>
            <a:ext cx="268200" cy="385308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214960" y="-142920"/>
            <a:ext cx="3929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95a74"/>
                </a:solidFill>
                <a:latin typeface="Corbel"/>
              </a:rPr>
              <a:t>Доказательство:</a:t>
            </a: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grpSp>
        <p:nvGrpSpPr>
          <p:cNvPr id="485" name="Группа 58"/>
          <p:cNvGrpSpPr/>
          <p:nvPr/>
        </p:nvGrpSpPr>
        <p:grpSpPr>
          <a:xfrm>
            <a:off x="5214960" y="1071720"/>
            <a:ext cx="3214800" cy="785520"/>
            <a:chOff x="5214960" y="1071720"/>
            <a:chExt cx="3214800" cy="785520"/>
          </a:xfrm>
        </p:grpSpPr>
        <p:sp>
          <p:nvSpPr>
            <p:cNvPr id="486" name="Заголовок 1"/>
            <p:cNvSpPr/>
            <p:nvPr/>
          </p:nvSpPr>
          <p:spPr>
            <a:xfrm>
              <a:off x="5214960" y="1071720"/>
              <a:ext cx="3214800" cy="7855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4+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3 = 180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87" name="Группа 24"/>
            <p:cNvGrpSpPr/>
            <p:nvPr/>
          </p:nvGrpSpPr>
          <p:grpSpPr>
            <a:xfrm>
              <a:off x="6031440" y="1486080"/>
              <a:ext cx="254880" cy="156960"/>
              <a:chOff x="6031440" y="1486080"/>
              <a:chExt cx="254880" cy="156960"/>
            </a:xfrm>
          </p:grpSpPr>
          <p:sp>
            <p:nvSpPr>
              <p:cNvPr id="488" name="Прямая соединительная линия 67"/>
              <p:cNvSpPr/>
              <p:nvPr/>
            </p:nvSpPr>
            <p:spPr>
              <a:xfrm flipH="1">
                <a:off x="6031440" y="1486080"/>
                <a:ext cx="254880" cy="1569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489" name="Прямая соединительная линия 68"/>
              <p:cNvSpPr/>
              <p:nvPr/>
            </p:nvSpPr>
            <p:spPr>
              <a:xfrm>
                <a:off x="6031440" y="164304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490" name="Группа 29"/>
            <p:cNvGrpSpPr/>
            <p:nvPr/>
          </p:nvGrpSpPr>
          <p:grpSpPr>
            <a:xfrm>
              <a:off x="5383080" y="1486080"/>
              <a:ext cx="254880" cy="156960"/>
              <a:chOff x="5383080" y="1486080"/>
              <a:chExt cx="254880" cy="156960"/>
            </a:xfrm>
          </p:grpSpPr>
          <p:sp>
            <p:nvSpPr>
              <p:cNvPr id="491" name="Прямая соединительная линия 65"/>
              <p:cNvSpPr/>
              <p:nvPr/>
            </p:nvSpPr>
            <p:spPr>
              <a:xfrm flipH="1">
                <a:off x="5383080" y="1486080"/>
                <a:ext cx="254880" cy="1569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492" name="Прямая соединительная линия 66"/>
              <p:cNvSpPr/>
              <p:nvPr/>
            </p:nvSpPr>
            <p:spPr>
              <a:xfrm>
                <a:off x="5383080" y="164304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493" name="Группа 69"/>
          <p:cNvGrpSpPr/>
          <p:nvPr/>
        </p:nvGrpSpPr>
        <p:grpSpPr>
          <a:xfrm>
            <a:off x="5286240" y="1785960"/>
            <a:ext cx="3214800" cy="785880"/>
            <a:chOff x="5286240" y="1785960"/>
            <a:chExt cx="3214800" cy="785880"/>
          </a:xfrm>
        </p:grpSpPr>
        <p:sp>
          <p:nvSpPr>
            <p:cNvPr id="494" name="Заголовок 1"/>
            <p:cNvSpPr/>
            <p:nvPr/>
          </p:nvSpPr>
          <p:spPr>
            <a:xfrm>
              <a:off x="5286240" y="1785960"/>
              <a:ext cx="3214800" cy="7858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1+  2+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3 = 180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95" name="Группа 24"/>
            <p:cNvGrpSpPr/>
            <p:nvPr/>
          </p:nvGrpSpPr>
          <p:grpSpPr>
            <a:xfrm>
              <a:off x="6072120" y="2200320"/>
              <a:ext cx="254880" cy="156960"/>
              <a:chOff x="6072120" y="2200320"/>
              <a:chExt cx="254880" cy="156960"/>
            </a:xfrm>
          </p:grpSpPr>
          <p:sp>
            <p:nvSpPr>
              <p:cNvPr id="496" name="Прямая соединительная линия 78"/>
              <p:cNvSpPr/>
              <p:nvPr/>
            </p:nvSpPr>
            <p:spPr>
              <a:xfrm flipH="1">
                <a:off x="6072120" y="2200320"/>
                <a:ext cx="254880" cy="1569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497" name="Прямая соединительная линия 79"/>
              <p:cNvSpPr/>
              <p:nvPr/>
            </p:nvSpPr>
            <p:spPr>
              <a:xfrm>
                <a:off x="6072120" y="235728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498" name="Группа 29"/>
            <p:cNvGrpSpPr/>
            <p:nvPr/>
          </p:nvGrpSpPr>
          <p:grpSpPr>
            <a:xfrm>
              <a:off x="5454360" y="2200320"/>
              <a:ext cx="254880" cy="156960"/>
              <a:chOff x="5454360" y="2200320"/>
              <a:chExt cx="254880" cy="156960"/>
            </a:xfrm>
          </p:grpSpPr>
          <p:sp>
            <p:nvSpPr>
              <p:cNvPr id="499" name="Прямая соединительная линия 76"/>
              <p:cNvSpPr/>
              <p:nvPr/>
            </p:nvSpPr>
            <p:spPr>
              <a:xfrm flipH="1">
                <a:off x="5454360" y="2200320"/>
                <a:ext cx="254880" cy="1569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00" name="Прямая соединительная линия 77"/>
              <p:cNvSpPr/>
              <p:nvPr/>
            </p:nvSpPr>
            <p:spPr>
              <a:xfrm>
                <a:off x="5454360" y="235728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501" name="Группа 32"/>
            <p:cNvGrpSpPr/>
            <p:nvPr/>
          </p:nvGrpSpPr>
          <p:grpSpPr>
            <a:xfrm>
              <a:off x="6715080" y="2200320"/>
              <a:ext cx="254880" cy="156960"/>
              <a:chOff x="6715080" y="2200320"/>
              <a:chExt cx="254880" cy="156960"/>
            </a:xfrm>
          </p:grpSpPr>
          <p:sp>
            <p:nvSpPr>
              <p:cNvPr id="502" name="Прямая соединительная линия 74"/>
              <p:cNvSpPr/>
              <p:nvPr/>
            </p:nvSpPr>
            <p:spPr>
              <a:xfrm flipH="1">
                <a:off x="6715080" y="2200320"/>
                <a:ext cx="254880" cy="1569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03" name="Прямая соединительная линия 75"/>
              <p:cNvSpPr/>
              <p:nvPr/>
            </p:nvSpPr>
            <p:spPr>
              <a:xfrm>
                <a:off x="6715080" y="235728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504" name="Левая фигурная скобка 80"/>
          <p:cNvSpPr/>
          <p:nvPr/>
        </p:nvSpPr>
        <p:spPr>
          <a:xfrm>
            <a:off x="5000760" y="1285920"/>
            <a:ext cx="428400" cy="1231920"/>
          </a:xfrm>
          <a:custGeom>
            <a:avLst/>
            <a:gdLst>
              <a:gd name="textAreaLeft" fmla="*/ 273600 w 428400"/>
              <a:gd name="textAreaRight" fmla="*/ 428760 w 428400"/>
              <a:gd name="textAreaTop" fmla="*/ 94680 h 1231920"/>
              <a:gd name="textAreaBottom" fmla="*/ 1137240 h 123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59"/>
                  <a:pt x="10800" y="5317"/>
                </a:cubicBezTo>
                <a:lnTo>
                  <a:pt x="10800" y="5316"/>
                </a:lnTo>
                <a:cubicBezTo>
                  <a:pt x="10800" y="7975"/>
                  <a:pt x="5400" y="10633"/>
                  <a:pt x="0" y="10633"/>
                </a:cubicBezTo>
                <a:cubicBezTo>
                  <a:pt x="5400" y="10633"/>
                  <a:pt x="10800" y="13292"/>
                  <a:pt x="10800" y="15950"/>
                </a:cubicBezTo>
                <a:lnTo>
                  <a:pt x="10800" y="16283"/>
                </a:lnTo>
                <a:cubicBezTo>
                  <a:pt x="10800" y="1894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103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Стрелка вправо с вырезом 81"/>
          <p:cNvSpPr/>
          <p:nvPr/>
        </p:nvSpPr>
        <p:spPr>
          <a:xfrm rot="5400000">
            <a:off x="6322320" y="2607480"/>
            <a:ext cx="714240" cy="642960"/>
          </a:xfrm>
          <a:custGeom>
            <a:avLst/>
            <a:gdLst>
              <a:gd name="textAreaLeft" fmla="*/ 160560 w 714240"/>
              <a:gd name="textAreaRight" fmla="*/ 553680 w 714240"/>
              <a:gd name="textAreaTop" fmla="*/ 160560 h 642960"/>
              <a:gd name="textAreaBottom" fmla="*/ 482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880" y="5400"/>
                </a:lnTo>
                <a:lnTo>
                  <a:pt x="11880" y="0"/>
                </a:lnTo>
                <a:lnTo>
                  <a:pt x="21600" y="10800"/>
                </a:lnTo>
                <a:lnTo>
                  <a:pt x="11880" y="21600"/>
                </a:lnTo>
                <a:lnTo>
                  <a:pt x="11880" y="16200"/>
                </a:lnTo>
                <a:lnTo>
                  <a:pt x="0" y="16200"/>
                </a:lnTo>
                <a:lnTo>
                  <a:pt x="48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103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6" name="Группа 82"/>
          <p:cNvGrpSpPr/>
          <p:nvPr/>
        </p:nvGrpSpPr>
        <p:grpSpPr>
          <a:xfrm>
            <a:off x="5357880" y="3071880"/>
            <a:ext cx="3214800" cy="785880"/>
            <a:chOff x="5357880" y="3071880"/>
            <a:chExt cx="3214800" cy="785880"/>
          </a:xfrm>
        </p:grpSpPr>
        <p:sp>
          <p:nvSpPr>
            <p:cNvPr id="507" name="Заголовок 1"/>
            <p:cNvSpPr/>
            <p:nvPr/>
          </p:nvSpPr>
          <p:spPr>
            <a:xfrm>
              <a:off x="5357880" y="3071880"/>
              <a:ext cx="3214800" cy="7858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4=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1+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2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508" name="Группа 24"/>
            <p:cNvGrpSpPr/>
            <p:nvPr/>
          </p:nvGrpSpPr>
          <p:grpSpPr>
            <a:xfrm>
              <a:off x="6317280" y="3486240"/>
              <a:ext cx="254880" cy="156960"/>
              <a:chOff x="6317280" y="3486240"/>
              <a:chExt cx="254880" cy="156960"/>
            </a:xfrm>
          </p:grpSpPr>
          <p:sp>
            <p:nvSpPr>
              <p:cNvPr id="509" name="Прямая соединительная линия 91"/>
              <p:cNvSpPr/>
              <p:nvPr/>
            </p:nvSpPr>
            <p:spPr>
              <a:xfrm flipH="1">
                <a:off x="6317280" y="3486240"/>
                <a:ext cx="254880" cy="1569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10" name="Прямая соединительная линия 92"/>
              <p:cNvSpPr/>
              <p:nvPr/>
            </p:nvSpPr>
            <p:spPr>
              <a:xfrm>
                <a:off x="6317280" y="364320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511" name="Группа 29"/>
            <p:cNvGrpSpPr/>
            <p:nvPr/>
          </p:nvGrpSpPr>
          <p:grpSpPr>
            <a:xfrm>
              <a:off x="5526000" y="3486240"/>
              <a:ext cx="254880" cy="156960"/>
              <a:chOff x="5526000" y="3486240"/>
              <a:chExt cx="254880" cy="156960"/>
            </a:xfrm>
          </p:grpSpPr>
          <p:sp>
            <p:nvSpPr>
              <p:cNvPr id="512" name="Прямая соединительная линия 89"/>
              <p:cNvSpPr/>
              <p:nvPr/>
            </p:nvSpPr>
            <p:spPr>
              <a:xfrm flipH="1">
                <a:off x="5526000" y="3486240"/>
                <a:ext cx="254880" cy="1569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13" name="Прямая соединительная линия 90"/>
              <p:cNvSpPr/>
              <p:nvPr/>
            </p:nvSpPr>
            <p:spPr>
              <a:xfrm>
                <a:off x="5526000" y="364320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514" name="Группа 32"/>
            <p:cNvGrpSpPr/>
            <p:nvPr/>
          </p:nvGrpSpPr>
          <p:grpSpPr>
            <a:xfrm>
              <a:off x="7031520" y="3486240"/>
              <a:ext cx="254880" cy="156960"/>
              <a:chOff x="7031520" y="3486240"/>
              <a:chExt cx="254880" cy="156960"/>
            </a:xfrm>
          </p:grpSpPr>
          <p:sp>
            <p:nvSpPr>
              <p:cNvPr id="515" name="Прямая соединительная линия 87"/>
              <p:cNvSpPr/>
              <p:nvPr/>
            </p:nvSpPr>
            <p:spPr>
              <a:xfrm flipH="1">
                <a:off x="7031520" y="3486240"/>
                <a:ext cx="254880" cy="1569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16" name="Прямая соединительная линия 88"/>
              <p:cNvSpPr/>
              <p:nvPr/>
            </p:nvSpPr>
            <p:spPr>
              <a:xfrm>
                <a:off x="7031520" y="364320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517" name="Группа 96"/>
          <p:cNvGrpSpPr/>
          <p:nvPr/>
        </p:nvGrpSpPr>
        <p:grpSpPr>
          <a:xfrm>
            <a:off x="2000160" y="3786120"/>
            <a:ext cx="5286600" cy="3151080"/>
            <a:chOff x="2000160" y="3786120"/>
            <a:chExt cx="5286600" cy="3151080"/>
          </a:xfrm>
        </p:grpSpPr>
        <p:grpSp>
          <p:nvGrpSpPr>
            <p:cNvPr id="518" name="Группа 10"/>
            <p:cNvGrpSpPr/>
            <p:nvPr/>
          </p:nvGrpSpPr>
          <p:grpSpPr>
            <a:xfrm>
              <a:off x="2500200" y="4286160"/>
              <a:ext cx="4786560" cy="2651040"/>
              <a:chOff x="2500200" y="4286160"/>
              <a:chExt cx="4786560" cy="2651040"/>
            </a:xfrm>
          </p:grpSpPr>
          <p:pic>
            <p:nvPicPr>
              <p:cNvPr id="519" name="Группа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2500200" y="4286160"/>
                <a:ext cx="4786560" cy="265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0" name="TextBox 12"/>
              <p:cNvSpPr/>
              <p:nvPr/>
            </p:nvSpPr>
            <p:spPr>
              <a:xfrm>
                <a:off x="2692800" y="6246360"/>
                <a:ext cx="41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21" name="TextBox 13"/>
              <p:cNvSpPr/>
              <p:nvPr/>
            </p:nvSpPr>
            <p:spPr>
              <a:xfrm>
                <a:off x="3246840" y="4669560"/>
                <a:ext cx="41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22" name="TextBox 14"/>
              <p:cNvSpPr/>
              <p:nvPr/>
            </p:nvSpPr>
            <p:spPr>
              <a:xfrm>
                <a:off x="5047200" y="6246360"/>
                <a:ext cx="41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23" name="TextBox 15"/>
              <p:cNvSpPr/>
              <p:nvPr/>
            </p:nvSpPr>
            <p:spPr>
              <a:xfrm>
                <a:off x="5947560" y="5720040"/>
                <a:ext cx="41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524" name="TextBox 93"/>
            <p:cNvSpPr/>
            <p:nvPr/>
          </p:nvSpPr>
          <p:spPr>
            <a:xfrm>
              <a:off x="2000160" y="600120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5" name="TextBox 94"/>
            <p:cNvSpPr/>
            <p:nvPr/>
          </p:nvSpPr>
          <p:spPr>
            <a:xfrm>
              <a:off x="3071520" y="378612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6" name="TextBox 95"/>
            <p:cNvSpPr/>
            <p:nvPr/>
          </p:nvSpPr>
          <p:spPr>
            <a:xfrm>
              <a:off x="5786640" y="614412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527" name="TextBox 98" descr=""/>
          <p:cNvPicPr/>
          <p:nvPr/>
        </p:nvPicPr>
        <p:blipFill>
          <a:blip r:embed="rId5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1" descr=""/>
          <p:cNvPicPr/>
          <p:nvPr/>
        </p:nvPicPr>
        <p:blipFill>
          <a:blip r:embed="rId2"/>
          <a:stretch/>
        </p:blipFill>
        <p:spPr>
          <a:xfrm>
            <a:off x="1305000" y="268200"/>
            <a:ext cx="7759800" cy="14511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 txBox="1"/>
          <p:nvPr/>
        </p:nvSpPr>
        <p:spPr>
          <a:xfrm>
            <a:off x="1559880" y="1702440"/>
            <a:ext cx="7238880" cy="952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2e89"/>
            </a:solidFill>
            <a:miter/>
          </a:ln>
        </p:spPr>
        <p:txBody>
          <a:bodyPr lIns="90000" rIns="90000" tIns="46800" bIns="46800" anchor="t">
            <a:normAutofit fontScale="77000"/>
          </a:bodyPr>
          <a:p>
            <a:pPr marL="280800" indent="-217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rolina"/>
              </a:rPr>
              <a:t>	</a:t>
            </a:r>
            <a:r>
              <a:rPr b="0" lang="en-US" sz="3200" spc="-1" strike="noStrike">
                <a:solidFill>
                  <a:srgbClr val="001848"/>
                </a:solidFill>
                <a:latin typeface="Cansellarist"/>
              </a:rPr>
              <a:t>В треугольнике либо все углы острые, либо два угла острые, а один прямой или тупо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30" name="Группа 17"/>
          <p:cNvGrpSpPr/>
          <p:nvPr/>
        </p:nvGrpSpPr>
        <p:grpSpPr>
          <a:xfrm>
            <a:off x="3356640" y="3460680"/>
            <a:ext cx="4215600" cy="2489760"/>
            <a:chOff x="3356640" y="3460680"/>
            <a:chExt cx="4215600" cy="2489760"/>
          </a:xfrm>
        </p:grpSpPr>
        <p:grpSp>
          <p:nvGrpSpPr>
            <p:cNvPr id="531" name="Группа 15"/>
            <p:cNvGrpSpPr/>
            <p:nvPr/>
          </p:nvGrpSpPr>
          <p:grpSpPr>
            <a:xfrm>
              <a:off x="3356640" y="3460680"/>
              <a:ext cx="2876760" cy="1818000"/>
              <a:chOff x="3356640" y="3460680"/>
              <a:chExt cx="2876760" cy="1818000"/>
            </a:xfrm>
          </p:grpSpPr>
          <p:sp>
            <p:nvSpPr>
              <p:cNvPr id="532" name="Прямая соединительная линия 7"/>
              <p:cNvSpPr/>
              <p:nvPr/>
            </p:nvSpPr>
            <p:spPr>
              <a:xfrm flipV="1">
                <a:off x="3356640" y="3460680"/>
                <a:ext cx="2876760" cy="1814760"/>
              </a:xfrm>
              <a:prstGeom prst="line">
                <a:avLst/>
              </a:prstGeom>
              <a:ln w="28440">
                <a:solidFill>
                  <a:srgbClr val="002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33" name="Прямая соединительная линия 9"/>
              <p:cNvSpPr/>
              <p:nvPr/>
            </p:nvSpPr>
            <p:spPr>
              <a:xfrm flipH="1">
                <a:off x="5432400" y="3461040"/>
                <a:ext cx="801000" cy="1817640"/>
              </a:xfrm>
              <a:prstGeom prst="line">
                <a:avLst/>
              </a:prstGeom>
              <a:ln w="28440">
                <a:solidFill>
                  <a:srgbClr val="002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34" name="Прямая соединительная линия 14"/>
              <p:cNvSpPr/>
              <p:nvPr/>
            </p:nvSpPr>
            <p:spPr>
              <a:xfrm>
                <a:off x="3356640" y="5275800"/>
                <a:ext cx="2075760" cy="2880"/>
              </a:xfrm>
              <a:prstGeom prst="line">
                <a:avLst/>
              </a:prstGeom>
              <a:ln w="28440">
                <a:solidFill>
                  <a:srgbClr val="002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535" name="TextBox 16"/>
            <p:cNvSpPr/>
            <p:nvPr/>
          </p:nvSpPr>
          <p:spPr>
            <a:xfrm>
              <a:off x="3357720" y="5429880"/>
              <a:ext cx="42145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a_AlgeriusCaps"/>
                </a:rPr>
                <a:t>Тупоугольный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536" name="Группа 21"/>
          <p:cNvGrpSpPr/>
          <p:nvPr/>
        </p:nvGrpSpPr>
        <p:grpSpPr>
          <a:xfrm>
            <a:off x="2786040" y="3714840"/>
            <a:ext cx="4643640" cy="2235600"/>
            <a:chOff x="2786040" y="3714840"/>
            <a:chExt cx="4643640" cy="2235600"/>
          </a:xfrm>
        </p:grpSpPr>
        <p:sp>
          <p:nvSpPr>
            <p:cNvPr id="537" name="TextBox 18"/>
            <p:cNvSpPr/>
            <p:nvPr/>
          </p:nvSpPr>
          <p:spPr>
            <a:xfrm>
              <a:off x="3214440" y="5429880"/>
              <a:ext cx="42152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a_AlgeriusCaps"/>
                </a:rPr>
                <a:t>Остроугольный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38" name="Равнобедренный треугольник 19"/>
            <p:cNvSpPr/>
            <p:nvPr/>
          </p:nvSpPr>
          <p:spPr>
            <a:xfrm>
              <a:off x="2786040" y="3714840"/>
              <a:ext cx="3357720" cy="1572120"/>
            </a:xfrm>
            <a:prstGeom prst="triangle">
              <a:avLst>
                <a:gd name="adj" fmla="val 87954"/>
              </a:avLst>
            </a:prstGeom>
            <a:solidFill>
              <a:srgbClr val="ffffff"/>
            </a:solidFill>
            <a:ln w="38160">
              <a:solidFill>
                <a:srgbClr val="002e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539" name="Группа 29"/>
          <p:cNvGrpSpPr/>
          <p:nvPr/>
        </p:nvGrpSpPr>
        <p:grpSpPr>
          <a:xfrm>
            <a:off x="2786040" y="3142800"/>
            <a:ext cx="4643640" cy="2807640"/>
            <a:chOff x="2786040" y="3142800"/>
            <a:chExt cx="4643640" cy="2807640"/>
          </a:xfrm>
        </p:grpSpPr>
        <p:grpSp>
          <p:nvGrpSpPr>
            <p:cNvPr id="540" name="Группа 23"/>
            <p:cNvGrpSpPr/>
            <p:nvPr/>
          </p:nvGrpSpPr>
          <p:grpSpPr>
            <a:xfrm>
              <a:off x="2786040" y="3643200"/>
              <a:ext cx="4643640" cy="2307240"/>
              <a:chOff x="2786040" y="3643200"/>
              <a:chExt cx="4643640" cy="2307240"/>
            </a:xfrm>
          </p:grpSpPr>
          <p:sp>
            <p:nvSpPr>
              <p:cNvPr id="541" name="TextBox 20"/>
              <p:cNvSpPr/>
              <p:nvPr/>
            </p:nvSpPr>
            <p:spPr>
              <a:xfrm>
                <a:off x="3214440" y="5429880"/>
                <a:ext cx="421524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60" dir="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a_AlgeriusCaps"/>
                  </a:rPr>
                  <a:t>Прямоугольный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42" name="Прямоугольный треугольник 22"/>
              <p:cNvSpPr/>
              <p:nvPr/>
            </p:nvSpPr>
            <p:spPr>
              <a:xfrm flipH="1">
                <a:off x="2786040" y="3643200"/>
                <a:ext cx="3214800" cy="1643400"/>
              </a:xfrm>
              <a:prstGeom prst="rtTriangle">
                <a:avLst/>
              </a:prstGeom>
              <a:solidFill>
                <a:srgbClr val="ffffff"/>
              </a:solidFill>
              <a:ln w="38160">
                <a:solidFill>
                  <a:srgbClr val="002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543" name="TextBox 26"/>
            <p:cNvSpPr/>
            <p:nvPr/>
          </p:nvSpPr>
          <p:spPr>
            <a:xfrm rot="19911600">
              <a:off x="3324240" y="3735000"/>
              <a:ext cx="264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1848"/>
                  </a:solidFill>
                  <a:latin typeface="a_AlgeriusCaps"/>
                </a:rPr>
                <a:t>Гипотенуза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44" name="TextBox 27"/>
            <p:cNvSpPr/>
            <p:nvPr/>
          </p:nvSpPr>
          <p:spPr>
            <a:xfrm>
              <a:off x="4071960" y="4786560"/>
              <a:ext cx="1357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1848"/>
                  </a:solidFill>
                  <a:latin typeface="a_AlgeriusCaps"/>
                </a:rPr>
                <a:t>Катет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45" name="TextBox 28"/>
            <p:cNvSpPr/>
            <p:nvPr/>
          </p:nvSpPr>
          <p:spPr>
            <a:xfrm rot="5400000">
              <a:off x="5371200" y="3991320"/>
              <a:ext cx="1357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1848"/>
                  </a:solidFill>
                  <a:latin typeface="a_AlgeriusCaps"/>
                </a:rPr>
                <a:t>Катет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546" name="TextBox 25" descr=""/>
          <p:cNvPicPr/>
          <p:nvPr/>
        </p:nvPicPr>
        <p:blipFill>
          <a:blip r:embed="rId3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Заголовок 1" descr=""/>
          <p:cNvPicPr/>
          <p:nvPr/>
        </p:nvPicPr>
        <p:blipFill>
          <a:blip r:embed="rId2"/>
          <a:stretch/>
        </p:blipFill>
        <p:spPr>
          <a:xfrm>
            <a:off x="1432080" y="201600"/>
            <a:ext cx="7510320" cy="127332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 txBox="1"/>
          <p:nvPr/>
        </p:nvSpPr>
        <p:spPr>
          <a:xfrm>
            <a:off x="1356840" y="16426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sellarist"/>
              </a:rPr>
              <a:t>	</a:t>
            </a:r>
            <a:r>
              <a:rPr b="0" lang="en-US" sz="4000" spc="-1" strike="noStrike">
                <a:solidFill>
                  <a:srgbClr val="001848"/>
                </a:solidFill>
                <a:latin typeface="Cansellarist"/>
              </a:rPr>
              <a:t>Докажите, что каждый угол равностороннего треугольника равен 60</a:t>
            </a:r>
            <a:r>
              <a:rPr b="0" lang="en-US" sz="4000" spc="-1" strike="noStrike" baseline="30000">
                <a:solidFill>
                  <a:srgbClr val="001848"/>
                </a:solidFill>
                <a:latin typeface="Cansellarist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49" name="TextBox 5" descr=""/>
          <p:cNvPicPr/>
          <p:nvPr/>
        </p:nvPicPr>
        <p:blipFill>
          <a:blip r:embed="rId3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3:58:41Z</dcterms:created>
  <dc:creator>FeLdY</dc:creator>
  <dc:description/>
  <dc:language>en-US</dc:language>
  <cp:lastModifiedBy>Привет</cp:lastModifiedBy>
  <dcterms:modified xsi:type="dcterms:W3CDTF">2012-07-14T10:41:30Z</dcterms:modified>
  <cp:revision>357</cp:revision>
  <dc:subject/>
  <dc:title>Презентация по геомерии.</dc:title>
</cp:coreProperties>
</file>