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1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868-8D07-4D37-9A91-1649AE5F3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691-9499-48D4-B67D-D8D85B67D0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48E-96EB-43C4-8482-AE94C690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88F-0547-4231-B980-DFE24FE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B07-B5FC-4733-863C-7EEE3BA0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917-D95C-4C58-98D1-A7671590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B07-ACCF-42D0-9E51-2C3BBF9C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B5FA-0E6C-47AE-93E7-40FA4F1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D091-E7DF-4CB5-AD79-87875C75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335-EB15-4D37-95A2-994DA8E0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4C51-C01D-4922-94FD-573351A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A176-A5F2-452D-945B-115C3F32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BDA-3D55-46A9-81BD-064BCCBF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A45-57B1-42B4-8963-98DCB353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6DC1-06FB-4831-B51B-D9E6A09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F4A2-A0CF-4DCB-9E83-90649D8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994A-CBBC-4E2F-A022-840B6AE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0654-67C5-4C48-9ABC-2BC65C87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A56-CE20-41A4-8233-CF6D17CD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66B-F5ED-4313-B6A8-A9CD246D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303-1B55-4AC2-8E90-575DCD41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6CD-C7C9-44E8-ADD1-5F42899A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CBD-04C3-463E-934A-059DE360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84C-5069-49B9-82DC-6295289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8D4-A264-42D8-8408-059734C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BE8-3013-41A1-9BF4-3740E43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94B-0C2D-448C-B5A1-2242D44861A0}" type="slidenum"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E42-997C-4BC7-925A-6C85B78E5A42}" type="slidenum"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frame.html?imgurl=http://sacat.ru/data/media/6/1016.jpg&amp;pageurl=http://sacat.ru/details.php?image_id=134&amp;sessionid=2dfa62dd5a7e411b05fac8b205f2fe36&amp;id=10391713&amp;iid=6&amp;imgwidth=1024&amp;imgheight=768&amp;imgsize=61292&amp;images_links=b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go.mail.ru/frame.html?imgurl=http://wolflegend.narod.ru/1192.jpg&amp;pageurl=http://wolflegend.narod.ru/gallerywolfs.htm&amp;id=7254815&amp;iid=6&amp;imgwidth=800&amp;imgheight=600&amp;imgsize=117399&amp;images_links=b" TargetMode="External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4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o.mail.ru/frame.html?imgurl=http://lori.ru/images/0000011871-preview.jpg&amp;pageurl=http://lori.ru/11871&amp;id=29196905&amp;iid=0&amp;imgwidth=580&amp;imgheight=425&amp;imgsize=152392&amp;images_links=b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go.mail.ru/frame.html?imgurl=http://www.visualrian.ru/storage/PreviewWM/1221/53/122153.jpg&amp;pageurl=http://www.visualrian.ru/images/item/122153&amp;id=50593298&amp;iid=2&amp;imgwidth=341&amp;imgheight=512&amp;imgsize=127619&amp;images_links=b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go.mail.ru/frame.html?imgurl=http://shuya.ru/egger/images/wood.jpg&amp;pageurl=http://shuya.ru/egger/wood.html&amp;id=2201952&amp;iid=4&amp;imgwidth=862&amp;imgheight=493&amp;imgsize=75644&amp;images_links=b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7"/>
          <p:cNvSpPr/>
          <p:nvPr/>
        </p:nvSpPr>
        <p:spPr>
          <a:xfrm>
            <a:off x="500040" y="85716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Мы друзь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природ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1" descr=""/>
          <p:cNvPicPr/>
          <p:nvPr/>
        </p:nvPicPr>
        <p:blipFill>
          <a:blip r:embed="rId1"/>
          <a:stretch/>
        </p:blipFill>
        <p:spPr>
          <a:xfrm>
            <a:off x="1542960" y="2816280"/>
            <a:ext cx="6222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111\Рабочий стол\Новая папка\img.gif"/>
          <p:cNvPicPr/>
          <p:nvPr/>
        </p:nvPicPr>
        <p:blipFill>
          <a:blip r:embed="rId1"/>
          <a:stretch/>
        </p:blipFill>
        <p:spPr>
          <a:xfrm>
            <a:off x="714240" y="7858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im6-tub.mail.ru/i?id=10391713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44290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im6-tub.mail.ru/i?id=7254815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72120" y="785880"/>
            <a:ext cx="2643120" cy="197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im2-tub.mail.ru/i?id=30420768&amp;tov=2"/>
          <p:cNvPicPr/>
          <p:nvPr/>
        </p:nvPicPr>
        <p:blipFill>
          <a:blip r:embed="rId6"/>
          <a:stretch/>
        </p:blipFill>
        <p:spPr>
          <a:xfrm>
            <a:off x="3571920" y="285840"/>
            <a:ext cx="1795320" cy="24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8-tub.mail.ru/i?id=7132345&amp;tov=8"/>
          <p:cNvPicPr/>
          <p:nvPr/>
        </p:nvPicPr>
        <p:blipFill>
          <a:blip r:embed="rId7"/>
          <a:stretch/>
        </p:blipFill>
        <p:spPr>
          <a:xfrm>
            <a:off x="5429160" y="4572000"/>
            <a:ext cx="2928960" cy="1946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1571760" y="300024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зверей в лесах не уничтож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ет в лесах теперь зве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Человек ведь всех главне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8"/>
          <p:cNvSpPr/>
          <p:nvPr/>
        </p:nvSpPr>
        <p:spPr>
          <a:xfrm>
            <a:off x="357120" y="407196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Почему не может 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Охранять, любить,це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И природой дорож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7858080" y="1357200"/>
            <a:ext cx="7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7286760" y="1357200"/>
            <a:ext cx="1571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www.stihi.ru/pics/2010/03/31/1553.jpg"/>
          <p:cNvPicPr/>
          <p:nvPr/>
        </p:nvPicPr>
        <p:blipFill>
          <a:blip r:embed="rId1"/>
          <a:stretch/>
        </p:blipFill>
        <p:spPr>
          <a:xfrm>
            <a:off x="3000240" y="214200"/>
            <a:ext cx="3305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5"/>
          <p:cNvSpPr/>
          <p:nvPr/>
        </p:nvSpPr>
        <p:spPr>
          <a:xfrm>
            <a:off x="3071880" y="171468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но 1 19"/>
          <p:cNvSpPr/>
          <p:nvPr/>
        </p:nvSpPr>
        <p:spPr>
          <a:xfrm>
            <a:off x="3643200" y="500040"/>
            <a:ext cx="714600" cy="785880"/>
          </a:xfrm>
          <a:prstGeom prst="irregularSeal1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но 1 20"/>
          <p:cNvSpPr/>
          <p:nvPr/>
        </p:nvSpPr>
        <p:spPr>
          <a:xfrm>
            <a:off x="2143080" y="2357280"/>
            <a:ext cx="642960" cy="200052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ыноска-облако 22"/>
          <p:cNvSpPr/>
          <p:nvPr/>
        </p:nvSpPr>
        <p:spPr>
          <a:xfrm>
            <a:off x="6929280" y="1928880"/>
            <a:ext cx="78588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амять с посл. доступом 23"/>
          <p:cNvSpPr/>
          <p:nvPr/>
        </p:nvSpPr>
        <p:spPr>
          <a:xfrm rot="19587600">
            <a:off x="3286080" y="4928760"/>
            <a:ext cx="1428840" cy="500040"/>
          </a:xfrm>
          <a:prstGeom prst="flowChartMagneticTape">
            <a:avLst/>
          </a:prstGeom>
          <a:solidFill>
            <a:srgbClr val="7f7f7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олния 24"/>
          <p:cNvSpPr/>
          <p:nvPr/>
        </p:nvSpPr>
        <p:spPr>
          <a:xfrm>
            <a:off x="4643280" y="3214800"/>
            <a:ext cx="2428920" cy="164304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http://im8-tub.yandex.net/i?id=106853756-01"/>
          <p:cNvPicPr/>
          <p:nvPr/>
        </p:nvPicPr>
        <p:blipFill>
          <a:blip r:embed="rId1"/>
          <a:stretch/>
        </p:blipFill>
        <p:spPr>
          <a:xfrm>
            <a:off x="428760" y="5000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im8-tub.yandex.net/i?id=106853756-01"/>
          <p:cNvPicPr/>
          <p:nvPr/>
        </p:nvPicPr>
        <p:blipFill>
          <a:blip r:embed="rId2"/>
          <a:stretch/>
        </p:blipFill>
        <p:spPr>
          <a:xfrm>
            <a:off x="428760" y="4929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5"/>
          <p:cNvSpPr/>
          <p:nvPr/>
        </p:nvSpPr>
        <p:spPr>
          <a:xfrm>
            <a:off x="3071880" y="171468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ятно 1 20"/>
          <p:cNvSpPr/>
          <p:nvPr/>
        </p:nvSpPr>
        <p:spPr>
          <a:xfrm>
            <a:off x="2500200" y="2286000"/>
            <a:ext cx="642960" cy="200016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ыноска-облако 22"/>
          <p:cNvSpPr/>
          <p:nvPr/>
        </p:nvSpPr>
        <p:spPr>
          <a:xfrm>
            <a:off x="6643800" y="2643120"/>
            <a:ext cx="78588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лок-схема: память с посл. доступом 23"/>
          <p:cNvSpPr/>
          <p:nvPr/>
        </p:nvSpPr>
        <p:spPr>
          <a:xfrm rot="19587600">
            <a:off x="3519360" y="4638240"/>
            <a:ext cx="1428840" cy="500040"/>
          </a:xfrm>
          <a:prstGeom prst="flowChartMagneticTape">
            <a:avLst/>
          </a:prstGeom>
          <a:solidFill>
            <a:srgbClr val="7f7f7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олния 24"/>
          <p:cNvSpPr/>
          <p:nvPr/>
        </p:nvSpPr>
        <p:spPr>
          <a:xfrm>
            <a:off x="3786120" y="2857680"/>
            <a:ext cx="2428920" cy="164304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m3-tub.yandex.net/i?id=63374962-12"/>
          <p:cNvPicPr/>
          <p:nvPr/>
        </p:nvPicPr>
        <p:blipFill>
          <a:blip r:embed="rId1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://im3-tub.yandex.net/i?id=63374962-12"/>
          <p:cNvPicPr/>
          <p:nvPr/>
        </p:nvPicPr>
        <p:blipFill>
          <a:blip r:embed="rId2"/>
          <a:stretch/>
        </p:blipFill>
        <p:spPr>
          <a:xfrm>
            <a:off x="5715000" y="55720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im8-tub.yandex.net/i?id=106853756-01"/>
          <p:cNvPicPr/>
          <p:nvPr/>
        </p:nvPicPr>
        <p:blipFill>
          <a:blip r:embed="rId3"/>
          <a:stretch/>
        </p:blipFill>
        <p:spPr>
          <a:xfrm>
            <a:off x="428760" y="4929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5"/>
          <p:cNvSpPr/>
          <p:nvPr/>
        </p:nvSpPr>
        <p:spPr>
          <a:xfrm>
            <a:off x="3071880" y="171468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память с посл. доступом 23"/>
          <p:cNvSpPr/>
          <p:nvPr/>
        </p:nvSpPr>
        <p:spPr>
          <a:xfrm rot="19587600">
            <a:off x="5227560" y="4352400"/>
            <a:ext cx="652680" cy="500400"/>
          </a:xfrm>
          <a:prstGeom prst="flowChartMagneticTap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олния 24"/>
          <p:cNvSpPr/>
          <p:nvPr/>
        </p:nvSpPr>
        <p:spPr>
          <a:xfrm rot="18211200">
            <a:off x="3713040" y="2757600"/>
            <a:ext cx="2457360" cy="182880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im5-tub.yandex.net/i?id=106255199-07"/>
          <p:cNvPicPr/>
          <p:nvPr/>
        </p:nvPicPr>
        <p:blipFill>
          <a:blip r:embed="rId1"/>
          <a:stretch/>
        </p:blipFill>
        <p:spPr>
          <a:xfrm>
            <a:off x="2071800" y="4500720"/>
            <a:ext cx="500040" cy="399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im5-tub.yandex.net/i?id=62680415-08"/>
          <p:cNvPicPr/>
          <p:nvPr/>
        </p:nvPicPr>
        <p:blipFill>
          <a:blip r:embed="rId2"/>
          <a:stretch/>
        </p:blipFill>
        <p:spPr>
          <a:xfrm>
            <a:off x="7215120" y="250020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ttp://im3-tub.yandex.net/i?id=63374962-12"/>
          <p:cNvPicPr/>
          <p:nvPr/>
        </p:nvPicPr>
        <p:blipFill>
          <a:blip r:embed="rId3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im6-tub.yandex.net/i?id=71955288-15"/>
          <p:cNvPicPr/>
          <p:nvPr/>
        </p:nvPicPr>
        <p:blipFill>
          <a:blip r:embed="rId4"/>
          <a:stretch/>
        </p:blipFill>
        <p:spPr>
          <a:xfrm rot="1664400">
            <a:off x="5560560" y="1461600"/>
            <a:ext cx="87480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://im5-tub.yandex.net/i?id=75182936-13"/>
          <p:cNvPicPr/>
          <p:nvPr/>
        </p:nvPicPr>
        <p:blipFill>
          <a:blip r:embed="rId5"/>
          <a:stretch/>
        </p:blipFill>
        <p:spPr>
          <a:xfrm rot="14374800">
            <a:off x="2620800" y="4042800"/>
            <a:ext cx="984240" cy="676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im3-tub.yandex.net/i?id=63374962-12"/>
          <p:cNvPicPr/>
          <p:nvPr/>
        </p:nvPicPr>
        <p:blipFill>
          <a:blip r:embed="rId6"/>
          <a:stretch/>
        </p:blipFill>
        <p:spPr>
          <a:xfrm>
            <a:off x="6215040" y="53578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://im8-tub.yandex.net/i?id=106853756-01"/>
          <p:cNvPicPr/>
          <p:nvPr/>
        </p:nvPicPr>
        <p:blipFill>
          <a:blip r:embed="rId7"/>
          <a:stretch/>
        </p:blipFill>
        <p:spPr>
          <a:xfrm>
            <a:off x="428760" y="4929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C:\Documents and Settings\Admin\Рабочий стол\1684892000a79920afa77c2c19afb0a5030cdadb8a.jpg"/>
          <p:cNvPicPr/>
          <p:nvPr/>
        </p:nvPicPr>
        <p:blipFill>
          <a:blip r:embed="rId1"/>
          <a:stretch/>
        </p:blipFill>
        <p:spPr>
          <a:xfrm>
            <a:off x="142920" y="5072040"/>
            <a:ext cx="2424240" cy="1666800"/>
          </a:xfrm>
          <a:prstGeom prst="rect">
            <a:avLst/>
          </a:prstGeom>
          <a:ln w="0">
            <a:noFill/>
          </a:ln>
        </p:spPr>
      </p:pic>
      <p:sp>
        <p:nvSpPr>
          <p:cNvPr id="202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3071880" y="164304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im3-tub.yandex.net/i?id=63374962-12"/>
          <p:cNvPicPr/>
          <p:nvPr/>
        </p:nvPicPr>
        <p:blipFill>
          <a:blip r:embed="rId2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im6-tub.yandex.net/i?id=71955288-15"/>
          <p:cNvPicPr/>
          <p:nvPr/>
        </p:nvPicPr>
        <p:blipFill>
          <a:blip r:embed="rId3"/>
          <a:stretch/>
        </p:blipFill>
        <p:spPr>
          <a:xfrm rot="6571200">
            <a:off x="6504840" y="3969360"/>
            <a:ext cx="876240" cy="47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http://im5-tub.yandex.net/i?id=75182936-13"/>
          <p:cNvPicPr/>
          <p:nvPr/>
        </p:nvPicPr>
        <p:blipFill>
          <a:blip r:embed="rId4"/>
          <a:stretch/>
        </p:blipFill>
        <p:spPr>
          <a:xfrm rot="17116800">
            <a:off x="2468520" y="2409840"/>
            <a:ext cx="852480" cy="585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im5-tub.yandex.net/i?id=65238384-03"/>
          <p:cNvPicPr/>
          <p:nvPr/>
        </p:nvPicPr>
        <p:blipFill>
          <a:blip r:embed="rId5"/>
          <a:stretch/>
        </p:blipFill>
        <p:spPr>
          <a:xfrm>
            <a:off x="5786280" y="2000160"/>
            <a:ext cx="43020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im7-tub.yandex.net/i?id=7785184-08"/>
          <p:cNvPicPr/>
          <p:nvPr/>
        </p:nvPicPr>
        <p:blipFill>
          <a:blip r:embed="rId6"/>
          <a:stretch/>
        </p:blipFill>
        <p:spPr>
          <a:xfrm>
            <a:off x="3714840" y="4214880"/>
            <a:ext cx="785880" cy="592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im3-tub.yandex.net/i?id=63374962-12"/>
          <p:cNvPicPr/>
          <p:nvPr/>
        </p:nvPicPr>
        <p:blipFill>
          <a:blip r:embed="rId7"/>
          <a:stretch/>
        </p:blipFill>
        <p:spPr>
          <a:xfrm>
            <a:off x="5572080" y="5643720"/>
            <a:ext cx="500040" cy="636480"/>
          </a:xfrm>
          <a:prstGeom prst="rect">
            <a:avLst/>
          </a:prstGeom>
          <a:ln w="0">
            <a:noFill/>
          </a:ln>
        </p:spPr>
      </p:pic>
      <p:sp>
        <p:nvSpPr>
          <p:cNvPr id="219" name="Молния 21"/>
          <p:cNvSpPr/>
          <p:nvPr/>
        </p:nvSpPr>
        <p:spPr>
          <a:xfrm rot="18211200">
            <a:off x="4309200" y="2772360"/>
            <a:ext cx="1573200" cy="107316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обои для рабочего стола цветы"/>
          <p:cNvPicPr/>
          <p:nvPr/>
        </p:nvPicPr>
        <p:blipFill>
          <a:blip r:embed="rId1"/>
          <a:stretch/>
        </p:blipFill>
        <p:spPr>
          <a:xfrm>
            <a:off x="3000240" y="214308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111\Рабочий стол\Рисунок\AQVU4FYCA7D3XL1CA54ODEACA8J1FISCA8VWJMACAOWJ6JHCA4L1D8TCAG4V7CGCAX1WEWICAD5B9T8CAX1D808CAYKPL1TCAE6GMMMCAEQEFSZCA1NNO8VCAX2FBV6CAIUESM9CAH2F04TCA1M540VCAC0EAIO.jpg"/>
          <p:cNvPicPr/>
          <p:nvPr/>
        </p:nvPicPr>
        <p:blipFill>
          <a:blip r:embed="rId2"/>
          <a:stretch/>
        </p:blipFill>
        <p:spPr>
          <a:xfrm>
            <a:off x="571680" y="855720"/>
            <a:ext cx="1585800" cy="2454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111\Рабочий стол\Рисунок\3.jpg"/>
          <p:cNvPicPr/>
          <p:nvPr/>
        </p:nvPicPr>
        <p:blipFill>
          <a:blip r:embed="rId3"/>
          <a:stretch/>
        </p:blipFill>
        <p:spPr>
          <a:xfrm>
            <a:off x="619200" y="4643280"/>
            <a:ext cx="2309760" cy="173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:\Documents and Settings\111\Рабочий стол\Рисунок\2.jpg"/>
          <p:cNvPicPr/>
          <p:nvPr/>
        </p:nvPicPr>
        <p:blipFill>
          <a:blip r:embed="rId4"/>
          <a:stretch/>
        </p:blipFill>
        <p:spPr>
          <a:xfrm>
            <a:off x="6070680" y="4714920"/>
            <a:ext cx="2644560" cy="17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:\Documents and Settings\111\Рабочий стол\Рисунок\!1.jpg"/>
          <p:cNvPicPr/>
          <p:nvPr/>
        </p:nvPicPr>
        <p:blipFill>
          <a:blip r:embed="rId5"/>
          <a:stretch/>
        </p:blipFill>
        <p:spPr>
          <a:xfrm>
            <a:off x="7215120" y="92880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2500200" y="85716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ы и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C:\Documents and Settings\Admin\Рабочий стол\1684892000a79920afa77c2c19afb0a5030cdadb8a.jpg"/>
          <p:cNvPicPr/>
          <p:nvPr/>
        </p:nvPicPr>
        <p:blipFill>
          <a:blip r:embed="rId1"/>
          <a:stretch/>
        </p:blipFill>
        <p:spPr>
          <a:xfrm>
            <a:off x="142920" y="5072040"/>
            <a:ext cx="2424240" cy="166680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5"/>
          <p:cNvSpPr/>
          <p:nvPr/>
        </p:nvSpPr>
        <p:spPr>
          <a:xfrm>
            <a:off x="3071880" y="164304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im3-tub.yandex.net/i?id=63374962-12"/>
          <p:cNvPicPr/>
          <p:nvPr/>
        </p:nvPicPr>
        <p:blipFill>
          <a:blip r:embed="rId2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ttp://im6-tub.yandex.net/i?id=71955288-15"/>
          <p:cNvPicPr/>
          <p:nvPr/>
        </p:nvPicPr>
        <p:blipFill>
          <a:blip r:embed="rId3"/>
          <a:stretch/>
        </p:blipFill>
        <p:spPr>
          <a:xfrm rot="6571200">
            <a:off x="6504840" y="3969360"/>
            <a:ext cx="876240" cy="47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http://im5-tub.yandex.net/i?id=75182936-13"/>
          <p:cNvPicPr/>
          <p:nvPr/>
        </p:nvPicPr>
        <p:blipFill>
          <a:blip r:embed="rId4"/>
          <a:stretch/>
        </p:blipFill>
        <p:spPr>
          <a:xfrm rot="17116800">
            <a:off x="2468520" y="2409840"/>
            <a:ext cx="852480" cy="585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im5-tub.yandex.net/i?id=65238384-03"/>
          <p:cNvPicPr/>
          <p:nvPr/>
        </p:nvPicPr>
        <p:blipFill>
          <a:blip r:embed="rId5"/>
          <a:stretch/>
        </p:blipFill>
        <p:spPr>
          <a:xfrm>
            <a:off x="5786280" y="2000160"/>
            <a:ext cx="430200" cy="64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im7-tub.yandex.net/i?id=7785184-08"/>
          <p:cNvPicPr/>
          <p:nvPr/>
        </p:nvPicPr>
        <p:blipFill>
          <a:blip r:embed="rId6"/>
          <a:stretch/>
        </p:blipFill>
        <p:spPr>
          <a:xfrm>
            <a:off x="3714840" y="4214880"/>
            <a:ext cx="785880" cy="592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im8-tub.yandex.net/i?id=99712816-02"/>
          <p:cNvPicPr/>
          <p:nvPr/>
        </p:nvPicPr>
        <p:blipFill>
          <a:blip r:embed="rId7"/>
          <a:stretch/>
        </p:blipFill>
        <p:spPr>
          <a:xfrm>
            <a:off x="3714840" y="2857680"/>
            <a:ext cx="1042920" cy="785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im5-tub.yandex.net/i?id=80469701-11"/>
          <p:cNvPicPr/>
          <p:nvPr/>
        </p:nvPicPr>
        <p:blipFill>
          <a:blip r:embed="rId8"/>
          <a:stretch/>
        </p:blipFill>
        <p:spPr>
          <a:xfrm>
            <a:off x="5143680" y="3429000"/>
            <a:ext cx="931680" cy="7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im3-tub.yandex.net/i?id=63374962-12"/>
          <p:cNvPicPr/>
          <p:nvPr/>
        </p:nvPicPr>
        <p:blipFill>
          <a:blip r:embed="rId9"/>
          <a:stretch/>
        </p:blipFill>
        <p:spPr>
          <a:xfrm>
            <a:off x="5572080" y="5643720"/>
            <a:ext cx="500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7" descr="мотылек"/>
          <p:cNvPicPr/>
          <p:nvPr/>
        </p:nvPicPr>
        <p:blipFill>
          <a:blip r:embed="rId1"/>
          <a:stretch/>
        </p:blipFill>
        <p:spPr>
          <a:xfrm>
            <a:off x="1571760" y="714240"/>
            <a:ext cx="2152440" cy="2714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9" descr="зеленая мантелла, мантелла зеленая (Mantella viridis), фото, фотография"/>
          <p:cNvPicPr/>
          <p:nvPr/>
        </p:nvPicPr>
        <p:blipFill>
          <a:blip r:embed="rId2"/>
          <a:stretch/>
        </p:blipFill>
        <p:spPr>
          <a:xfrm>
            <a:off x="5000760" y="392904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0" descr="Орёл с белой головой, Бауер Ирина Викторовна, фото Орёл с белой головой"/>
          <p:cNvPicPr/>
          <p:nvPr/>
        </p:nvPicPr>
        <p:blipFill>
          <a:blip r:embed="rId3"/>
          <a:stretch/>
        </p:blipFill>
        <p:spPr>
          <a:xfrm>
            <a:off x="1071720" y="3571920"/>
            <a:ext cx="2857320" cy="3000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Пантеры"/>
          <p:cNvPicPr/>
          <p:nvPr/>
        </p:nvPicPr>
        <p:blipFill>
          <a:blip r:embed="rId4"/>
          <a:stretch/>
        </p:blipFill>
        <p:spPr>
          <a:xfrm>
            <a:off x="5143680" y="928800"/>
            <a:ext cx="33811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C:\Documents and Settings\Наташа\Рабочий стол\img123.jpg"/>
          <p:cNvPicPr/>
          <p:nvPr/>
        </p:nvPicPr>
        <p:blipFill>
          <a:blip r:embed="rId1"/>
          <a:stretch/>
        </p:blipFill>
        <p:spPr>
          <a:xfrm>
            <a:off x="1590840" y="652320"/>
            <a:ext cx="63212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/>
          <p:cNvSpPr/>
          <p:nvPr/>
        </p:nvSpPr>
        <p:spPr>
          <a:xfrm rot="20280000">
            <a:off x="1975680" y="1279800"/>
            <a:ext cx="43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Trebuchet MS"/>
              </a:rPr>
              <a:t>Девиз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371484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rebuchet MS"/>
              </a:rPr>
              <a:t>Земля – наш общий дом. А дом нужно беречь и охраня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go.mail.ru/click?url=http%3A%2F%2Fwww.ydab1.ucoz.ua%2FAnim007.gif&amp;title=imgfulla"/>
          <p:cNvPicPr/>
          <p:nvPr/>
        </p:nvPicPr>
        <p:blipFill>
          <a:blip r:embed="rId1"/>
          <a:stretch/>
        </p:blipFill>
        <p:spPr>
          <a:xfrm>
            <a:off x="2357280" y="785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1214280" y="5429160"/>
            <a:ext cx="69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Земля наш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Береги свой общий 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285840" y="542916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Наша планета пока что жив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Но без защиты погибнет о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go.mail.ru/click?url=http%3A%2F%2Fwww.ydab1.ucoz.ua%2FAnim007.gif&amp;title=imgfulla"/>
          <p:cNvPicPr/>
          <p:nvPr/>
        </p:nvPicPr>
        <p:blipFill>
          <a:blip r:embed="rId1"/>
          <a:stretch/>
        </p:blipFill>
        <p:spPr>
          <a:xfrm>
            <a:off x="2286000" y="642960"/>
            <a:ext cx="50007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111\Мои документы\Локтева наталья Викторовна\Картинки Офиса\Картинки офис\J0090386.WMF"/>
          <p:cNvPicPr/>
          <p:nvPr/>
        </p:nvPicPr>
        <p:blipFill>
          <a:blip r:embed="rId1"/>
          <a:stretch/>
        </p:blipFill>
        <p:spPr>
          <a:xfrm>
            <a:off x="1928880" y="428760"/>
            <a:ext cx="6072120" cy="5197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357120" y="55008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Экология –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модное сло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Раньше </a:t>
            </a: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Земля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не знала та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111\Рабочий стол\Новая папка\10401.jpg"/>
          <p:cNvPicPr/>
          <p:nvPr/>
        </p:nvPicPr>
        <p:blipFill>
          <a:blip r:embed="rId1"/>
          <a:stretch/>
        </p:blipFill>
        <p:spPr>
          <a:xfrm>
            <a:off x="1357200" y="857160"/>
            <a:ext cx="6929640" cy="4365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714240" y="52880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Банки, бутылки везде не брос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111\Рабочий стол\Новая папка\ris37-5.jpg"/>
          <p:cNvPicPr/>
          <p:nvPr/>
        </p:nvPicPr>
        <p:blipFill>
          <a:blip r:embed="rId1"/>
          <a:stretch/>
        </p:blipFill>
        <p:spPr>
          <a:xfrm>
            <a:off x="1143000" y="642960"/>
            <a:ext cx="3571920" cy="237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111\Рабочий стол\Новая папка\picture1629.jpg"/>
          <p:cNvPicPr/>
          <p:nvPr/>
        </p:nvPicPr>
        <p:blipFill>
          <a:blip r:embed="rId2"/>
          <a:stretch/>
        </p:blipFill>
        <p:spPr>
          <a:xfrm>
            <a:off x="5214960" y="71424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111\Рабочий стол\Новая папка\ribka_std.jpg"/>
          <p:cNvPicPr/>
          <p:nvPr/>
        </p:nvPicPr>
        <p:blipFill>
          <a:blip r:embed="rId3"/>
          <a:stretch/>
        </p:blipFill>
        <p:spPr>
          <a:xfrm>
            <a:off x="1143000" y="3143160"/>
            <a:ext cx="3295800" cy="2476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428840" y="550080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rebuchet MS"/>
              </a:rPr>
              <a:t>В реку отходы и нефть не слив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Documents and Settings\111\Рабочий стол\Новая папка\id46093_w190.jpg"/>
          <p:cNvPicPr/>
          <p:nvPr/>
        </p:nvPicPr>
        <p:blipFill>
          <a:blip r:embed="rId4"/>
          <a:stretch/>
        </p:blipFill>
        <p:spPr>
          <a:xfrm>
            <a:off x="6000840" y="3214800"/>
            <a:ext cx="22860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111\Рабочий стол\Новая папка\24435.jpg"/>
          <p:cNvPicPr/>
          <p:nvPr/>
        </p:nvPicPr>
        <p:blipFill>
          <a:blip r:embed="rId1"/>
          <a:stretch/>
        </p:blipFill>
        <p:spPr>
          <a:xfrm>
            <a:off x="1214280" y="785880"/>
            <a:ext cx="6761160" cy="5072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0" y="5857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rebuchet MS"/>
              </a:rPr>
              <a:t>Трубы заводов так не дыми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111\Рабочий стол\Новая папка\u70_220203.jpg"/>
          <p:cNvPicPr/>
          <p:nvPr/>
        </p:nvPicPr>
        <p:blipFill>
          <a:blip r:embed="rId1"/>
          <a:stretch/>
        </p:blipFill>
        <p:spPr>
          <a:xfrm>
            <a:off x="1143000" y="762120"/>
            <a:ext cx="7286760" cy="485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285840" y="557208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rebuchet MS"/>
              </a:rPr>
              <a:t>Не было столько автомоби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111\Рабочий стол\Новая папка\320px-%D0%9C%D1%83%D1%81%D0%BE%D1%80.jpg"/>
          <p:cNvPicPr/>
          <p:nvPr/>
        </p:nvPicPr>
        <p:blipFill>
          <a:blip r:embed="rId1"/>
          <a:stretch/>
        </p:blipFill>
        <p:spPr>
          <a:xfrm>
            <a:off x="571680" y="3643200"/>
            <a:ext cx="3992400" cy="299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ttp://im0-tub.mail.ru/i?id=29196905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0800" y="500040"/>
            <a:ext cx="3357360" cy="24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ttp://im2-tub.mail.ru/i?id=50593298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3571920"/>
            <a:ext cx="2500200" cy="297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http://im4-tub.mail.ru/i?id=2201952&amp;tov=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040" y="428760"/>
            <a:ext cx="4203720" cy="2409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1"/>
          <p:cNvSpPr/>
          <p:nvPr/>
        </p:nvSpPr>
        <p:spPr>
          <a:xfrm>
            <a:off x="357120" y="278604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rebuchet MS"/>
              </a:rPr>
              <a:t>Столько лесов не выруб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7:42:32Z</dcterms:created>
  <dc:creator>Наташа</dc:creator>
  <dc:description/>
  <dc:language>en-US</dc:language>
  <cp:lastModifiedBy>Александр</cp:lastModifiedBy>
  <dcterms:modified xsi:type="dcterms:W3CDTF">2010-12-30T10:10:07Z</dcterms:modified>
  <cp:revision>61</cp:revision>
  <dc:subject/>
  <dc:title>Слайд 1</dc:title>
</cp:coreProperties>
</file>