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EE0-3213-4529-815A-14554453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002-FB25-4605-BA7E-CBB45EC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EFB60-926A-4942-B1ED-65EA743F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6F65E-A693-4741-AC47-01ADE1A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0F594-0C50-4A31-8AB4-579705D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5B6B-695E-46DD-9F55-ED17AB53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FE408-6F93-4C07-A592-08A4F594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CDADA-DD39-4852-B936-72D4A90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20025-10C3-4F10-91B5-D7FCA481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A7536-7B3F-43C9-81D6-F7BBDAE8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DDF4-1938-4C23-A182-CB2EE780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A68CA-16DD-489A-B6B8-8CD287E6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D1-3144-41CA-93DC-22392CF9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AE5D-1F7C-487D-8E26-5C296D71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B40A-0345-4121-9E0D-8BCCFAB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3BBDB-D365-4F11-8162-46A5D9B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5C7D3-26A6-458F-B76C-6467DED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AB32-5008-4C7F-807F-162312F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A253C-C534-4EDC-A7A2-84982D6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C5775-5199-443E-B007-785C2D0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6E687-06DE-4909-B195-98C488B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0727A-08D3-4C5A-921E-F971499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C044F-7AA7-46FC-A8C1-0B9A045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195-F7FC-4DA6-9680-1F199D72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EECF5-5F40-4933-8AB1-0AD13F0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1814D-8868-4B5A-B5F4-0D815C88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EC5BC-6AC5-459E-B572-6B930ED0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639F-B61F-4AD4-BF34-7B7ACD0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134AA-CF91-4C51-8F8F-362E0B46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3FF5-16B9-4FE7-A170-F64F50F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0F59-78F8-4D69-89CE-8071325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4EE5-77E1-4CEC-BAA7-84F1F897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02B5-FE6D-47B7-9F32-7D5D8E2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C4E72-9210-41F2-A7BC-FED6C0D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5C71-A7B1-4902-B67D-C1DA463D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06565-CD5F-4C16-BB4D-176D0FF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936C-94F4-4485-8C2B-CEA9A72C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A47ED-D41B-4B6C-9F55-5F6BDB7A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AB06-A42F-474A-AF01-1241ADA1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14CA3-F37C-4FBE-8798-BA6C151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58A81-EB77-4445-B332-13B33740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53F1B-AEB4-40C9-9362-DCF7936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975B7-8ADC-448E-A330-518892D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18158-D16D-4806-B7D6-6BCB135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F931B-04F5-4013-8BA5-BB1AA73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6D9D-D45D-4EC2-8B09-1F90A83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EA551-6E3C-4366-8AF3-C1E2A6D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7ECFA-BC7F-4CAD-A3EB-5197E7F2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30446-00A6-4F5E-832B-F675E5D1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58E3-7515-4BF6-A50F-D577FCB9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3D4F7-235D-45CA-B778-15632A71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0E8-5170-4404-BBDC-3C1D201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918C-85AE-4AC4-90D6-D928C36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4F1-8370-4E42-BED6-96F9463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2D04-F420-483C-9694-7DA3C6A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C348-ABE8-4F34-A9D2-D81C3AD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4B9-A576-43F8-A0F1-80A73CA2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F43-C576-42DE-B0E0-8EF563C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D8D0-762B-42C5-8AE3-B1AF1A1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9D8-11C5-425D-8589-D8460B87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5B50-71E3-47BA-A797-69101B4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CA4-9D6C-4A16-A410-74BAD25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2C5A-9ABF-4808-BEF6-2CFE2044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FF80-B5B1-4DAF-BF5A-B45738C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AF2C-8A4D-40F5-85BC-0A18D9D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9F7F-8D4E-4111-A36F-4A74C23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9C27-0022-4616-97E5-8FC8A5E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F97-4414-43AF-B802-AD0A7AEF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550B-D009-4D83-88E5-2821EA5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D2FF-BF1F-4F5F-8A62-75C4170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86F7-7595-4C5A-AB8C-200B11A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8CA6-62D3-4A2B-B9FE-6DE08BC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AA02-1BBB-41A7-917D-3E33F144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2B59-9738-46F6-92D5-5DC86D51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49EB-DCED-4F2E-ABAC-BB106903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7E54-D2BB-42E4-BB34-AB296FBF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883A-E32D-4452-8C21-7717366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D850-9769-4E10-B861-2EB6254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B1F-730E-42D2-AAC3-AF4BED69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B647-245D-4D6F-8068-B3FE89C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7EFC-A9F5-4E36-89CD-99FFD8AA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0CD3-FC43-4632-93EB-B8C3A7A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83DB-1602-40D5-802D-1EA27C9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59DE-6F0B-4855-B3B9-3003355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C40F-63FA-49D1-9F02-1FB33F0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90A4-A034-4519-B709-A730AA9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06D7-3CB9-4081-9C95-A54AEAD6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9129-5B0A-471E-90C9-DCD9A04D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94988-8D66-4951-8C6F-8335159F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019-EB32-4C2A-BBDA-A9D35D60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8F40-93FE-48B9-BC5D-5123C53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DB1D-55D9-41CD-97F7-D8488CF3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2439-B543-4BB9-87D8-EC4B26E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2394-7FAC-4E97-A8F1-19B3309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870F-37D5-4BBB-83D6-6E106E13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1BE8-2C1E-4731-9F7C-62EC99B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BF3C-8642-4FB8-8F0A-260FA6E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93A3-7279-4300-A230-479B2FE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5558-1680-4E02-A0E0-7B2C0E9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3BD4-30BC-4415-8A63-B3E232BB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083-9D57-474D-9C54-5FF4172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ABBF-2A5D-42B5-8402-7902E245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CB2E-34C2-4DAF-8E5A-B9076243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46268-9DC2-4460-A021-BBCC3CE0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D34D1-185C-4B42-83B2-7F5F71E9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E16B-230B-4777-A453-0826EC7C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97EA-9544-49A6-93B9-0617C6EF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0101-C5F7-45A8-BCB7-79D4DDC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D05E-8E95-4FEB-B20D-2F1E48D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9191-8318-4E4E-8DE4-0D46AF6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BEC7A-B185-487B-B33C-DE1F8E5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727-09A5-41C8-8977-D5B0D3A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3A12-D608-4345-9CBC-045FE65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FE29A-290B-4016-B66F-1CF9AC75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7A08-968D-43B8-BBF7-8194C0F6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9C0F-2478-4C12-B1F1-E56D239A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7D3E-E1E5-4A9E-A097-743B62A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D6F8-DFA3-4154-AD3E-89D9DF2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8CD7-DEDC-4F78-945B-BC5D6AC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5C30-9089-46EE-BCD0-F6E51E3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00DB-1D6E-4399-9A38-4E611B8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DF2EA-1577-47C3-98C3-17380A9E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35E-57DD-41AA-A6F5-01E13AD2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40E13-6CBB-490B-99CB-8F13F5C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F478D-5567-40F4-B0A5-1F0076C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8F6D-8F9A-4CC7-9320-1D60F620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216AB-0C71-4A3C-9CD3-2A9CD29A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5D33-0D99-4FDF-A59B-31F65AB7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0C38-3F4B-40C8-8417-A843BB4F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CBF3-F826-4191-9BD8-C438A548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938B-99EF-4CA5-B33E-25853F1B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9262-4B59-4D7D-A4D3-D81CD8E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CB4D-8BF9-4D42-9DEF-07DC0026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278-6972-4B12-9357-3F923F5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347B-B6F5-44AF-B35D-7521461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3C631-A0FF-4B01-A3AE-27AA4CC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682D-0269-4AC8-BCD0-56B7D41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01DEE-B3FF-44EF-A74D-3C79D2A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F3ADE-22F8-44C7-9CAA-A847555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81E9-1702-484D-930C-225E20FF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26579-97B8-4369-9A1B-1193DD8A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7BFD1-2FF2-473E-B3E0-00E2308A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7D714-5DBB-4452-BB0C-2AA99B42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41EEB-DD0A-43E4-AD93-32EF93D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A0D-6FA1-44FC-88FC-783CA3322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42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3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0F2-385C-4B48-A922-0D7E83FF4E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F05-91F9-480A-8350-06BFCE0D54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DA0-DFAF-442A-A5E7-7FDF73485F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1C4-E05C-40B7-B5A1-8D22AF61BBD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A35-BE70-4AE0-BC71-4254BE98AA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142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143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144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53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292-B506-41CE-A10C-A7CA42E010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53CD-AEAE-4313-988E-9E1E7631F7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2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24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19D9-CC97-440C-B8B2-7B0493DA17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DFE-1DC8-475A-9522-CAB756513B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4A5-B991-4CC9-B32C-22F1908EF4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711-F2DE-4679-B63D-284F18DEE5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чебная презентация по алгебре для 7 класса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564000" y="5346360"/>
            <a:ext cx="55800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Mistral"/>
              </a:rPr>
              <a:t>Разработала  Яковлева Л. В. учитель математики МБОУ «Самосдельская СОШ имени Шитова В. А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istral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Содержимое 3"/>
          <p:cNvSpPr/>
          <p:nvPr/>
        </p:nvSpPr>
        <p:spPr>
          <a:xfrm>
            <a:off x="6516720" y="4365720"/>
            <a:ext cx="2290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42920" y="1557000"/>
            <a:ext cx="4249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mbria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8"/>
              <p:cNvSpPr txBox="1"/>
              <p:nvPr/>
            </p:nvSpPr>
            <p:spPr>
              <a:xfrm>
                <a:off x="5364000" y="2362320"/>
                <a:ext cx="2232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1"/>
              <p:cNvSpPr txBox="1"/>
              <p:nvPr/>
            </p:nvSpPr>
            <p:spPr>
              <a:xfrm>
                <a:off x="5076720" y="3319560"/>
                <a:ext cx="2880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Rectangle 5"/>
          <p:cNvSpPr/>
          <p:nvPr/>
        </p:nvSpPr>
        <p:spPr>
          <a:xfrm>
            <a:off x="179280" y="476280"/>
            <a:ext cx="84013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Найдите х, есл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     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1) 2 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х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= 32;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      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037680" y="90792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       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х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= 2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108120" y="9079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Monotype Corsiva"/>
              </a:rPr>
              <a:t>Х = 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2340000" y="4076640"/>
            <a:ext cx="151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2987640" y="4508640"/>
            <a:ext cx="1440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25"/>
              <p:cNvSpPr txBox="1"/>
              <p:nvPr/>
            </p:nvSpPr>
            <p:spPr>
              <a:xfrm>
                <a:off x="5148360" y="4290840"/>
                <a:ext cx="2808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Picture 26" descr="740a73b396965654d5e45d53b47d4e2b"/>
          <p:cNvPicPr/>
          <p:nvPr/>
        </p:nvPicPr>
        <p:blipFill>
          <a:blip r:embed="rId1"/>
          <a:stretch/>
        </p:blipFill>
        <p:spPr>
          <a:xfrm>
            <a:off x="603360" y="1981080"/>
            <a:ext cx="3475080" cy="385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1" name="Object 24"/>
              <p:cNvSpPr txBox="1"/>
              <p:nvPr/>
            </p:nvSpPr>
            <p:spPr>
              <a:xfrm>
                <a:off x="4788000" y="5445000"/>
                <a:ext cx="3887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673" name="Picture 3" descr="21M2"/>
          <p:cNvPicPr/>
          <p:nvPr/>
        </p:nvPicPr>
        <p:blipFill>
          <a:blip r:embed="rId1"/>
          <a:stretch/>
        </p:blipFill>
        <p:spPr>
          <a:xfrm>
            <a:off x="5867280" y="3716280"/>
            <a:ext cx="239724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705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Запиши степени числа х в пустые клетки так, чтобы произведение по вертикали, горизонтали и диагонали равнялос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468360" y="1989000"/>
            <a:ext cx="619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118728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176364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Line 15"/>
          <p:cNvSpPr/>
          <p:nvPr/>
        </p:nvSpPr>
        <p:spPr>
          <a:xfrm flipV="1">
            <a:off x="2340000" y="4365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284328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Line 18"/>
          <p:cNvSpPr/>
          <p:nvPr/>
        </p:nvSpPr>
        <p:spPr>
          <a:xfrm flipH="1">
            <a:off x="1187280" y="6237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Line 19"/>
          <p:cNvSpPr/>
          <p:nvPr/>
        </p:nvSpPr>
        <p:spPr>
          <a:xfrm>
            <a:off x="1187280" y="4365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Line 20"/>
          <p:cNvSpPr/>
          <p:nvPr/>
        </p:nvSpPr>
        <p:spPr>
          <a:xfrm>
            <a:off x="1187280" y="494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Line 21"/>
          <p:cNvSpPr/>
          <p:nvPr/>
        </p:nvSpPr>
        <p:spPr>
          <a:xfrm>
            <a:off x="1187280" y="5589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Содержимое 5"/>
          <p:cNvSpPr/>
          <p:nvPr/>
        </p:nvSpPr>
        <p:spPr>
          <a:xfrm>
            <a:off x="3492360" y="3284640"/>
            <a:ext cx="15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cc"/>
                </a:solidFill>
                <a:latin typeface="Bookman Old Style"/>
              </a:rPr>
              <a:t>x</a:t>
            </a:r>
            <a:r>
              <a:rPr b="1" i="1" lang="en-US" sz="5400" spc="-1" strike="noStrike" baseline="30000">
                <a:solidFill>
                  <a:srgbClr val="0000cc"/>
                </a:solidFill>
                <a:latin typeface="Bookman Old Style"/>
              </a:rPr>
              <a:t>15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Содержимое 5"/>
          <p:cNvSpPr/>
          <p:nvPr/>
        </p:nvSpPr>
        <p:spPr>
          <a:xfrm>
            <a:off x="1692360" y="4941720"/>
            <a:ext cx="8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x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7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6200"/>
                            </p:stCondLst>
                            <p:childTnLst>
                              <p:par>
                                <p:cTn id="9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72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Одночлен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Какое выражение называется одночленом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Является ли одночленом выраж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5"/>
              <p:cNvSpPr txBox="1"/>
              <p:nvPr/>
            </p:nvSpPr>
            <p:spPr>
              <a:xfrm>
                <a:off x="826920" y="3500280"/>
                <a:ext cx="1081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7"/>
              <p:cNvSpPr txBox="1"/>
              <p:nvPr/>
            </p:nvSpPr>
            <p:spPr>
              <a:xfrm>
                <a:off x="755640" y="4437000"/>
                <a:ext cx="1511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9"/>
              <p:cNvSpPr txBox="1"/>
              <p:nvPr/>
            </p:nvSpPr>
            <p:spPr>
              <a:xfrm>
                <a:off x="3419640" y="3357720"/>
                <a:ext cx="1223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826920" y="5516640"/>
                <a:ext cx="936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11"/>
              <p:cNvSpPr txBox="1"/>
              <p:nvPr/>
            </p:nvSpPr>
            <p:spPr>
              <a:xfrm>
                <a:off x="3348000" y="4292640"/>
                <a:ext cx="1355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12"/>
              <p:cNvSpPr txBox="1"/>
              <p:nvPr/>
            </p:nvSpPr>
            <p:spPr>
              <a:xfrm>
                <a:off x="6372360" y="3381480"/>
                <a:ext cx="2089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13"/>
              <p:cNvSpPr txBox="1"/>
              <p:nvPr/>
            </p:nvSpPr>
            <p:spPr>
              <a:xfrm>
                <a:off x="6372360" y="4292640"/>
                <a:ext cx="2232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4"/>
              <p:cNvSpPr txBox="1"/>
              <p:nvPr/>
            </p:nvSpPr>
            <p:spPr>
              <a:xfrm>
                <a:off x="3276720" y="5373720"/>
                <a:ext cx="1873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5"/>
              <p:cNvSpPr txBox="1"/>
              <p:nvPr/>
            </p:nvSpPr>
            <p:spPr>
              <a:xfrm>
                <a:off x="6372360" y="5229360"/>
                <a:ext cx="2303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Oval 18"/>
          <p:cNvSpPr/>
          <p:nvPr/>
        </p:nvSpPr>
        <p:spPr>
          <a:xfrm>
            <a:off x="395280" y="371628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Oval 19"/>
          <p:cNvSpPr/>
          <p:nvPr/>
        </p:nvSpPr>
        <p:spPr>
          <a:xfrm>
            <a:off x="395280" y="472428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Oval 20"/>
          <p:cNvSpPr/>
          <p:nvPr/>
        </p:nvSpPr>
        <p:spPr>
          <a:xfrm>
            <a:off x="468360" y="566100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Oval 21"/>
          <p:cNvSpPr/>
          <p:nvPr/>
        </p:nvSpPr>
        <p:spPr>
          <a:xfrm>
            <a:off x="2843280" y="458136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Oval 22"/>
          <p:cNvSpPr/>
          <p:nvPr/>
        </p:nvSpPr>
        <p:spPr>
          <a:xfrm>
            <a:off x="2916360" y="558972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Oval 23"/>
          <p:cNvSpPr/>
          <p:nvPr/>
        </p:nvSpPr>
        <p:spPr>
          <a:xfrm>
            <a:off x="5867280" y="3645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Oval 24"/>
          <p:cNvSpPr/>
          <p:nvPr/>
        </p:nvSpPr>
        <p:spPr>
          <a:xfrm>
            <a:off x="2843280" y="357336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Oval 25"/>
          <p:cNvSpPr/>
          <p:nvPr/>
        </p:nvSpPr>
        <p:spPr>
          <a:xfrm>
            <a:off x="5867280" y="443700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Oval 26"/>
          <p:cNvSpPr/>
          <p:nvPr/>
        </p:nvSpPr>
        <p:spPr>
          <a:xfrm>
            <a:off x="5940360" y="544500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88" name="Picture 23" descr="Почему музей называется музеем?"/>
          <p:cNvPicPr/>
          <p:nvPr/>
        </p:nvPicPr>
        <p:blipFill>
          <a:blip r:embed="rId1"/>
          <a:stretch/>
        </p:blipFill>
        <p:spPr>
          <a:xfrm>
            <a:off x="6724800" y="542880"/>
            <a:ext cx="2077920" cy="195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Одночлен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42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ой одночлен называется одночленом стандартного вида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Любой ли одночлен можно привести к стандартному виду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 привести одночлен к стандартному виду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ведите одночлен к стандартному виду и укажите его коэффициент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Oval 14"/>
          <p:cNvSpPr/>
          <p:nvPr/>
        </p:nvSpPr>
        <p:spPr>
          <a:xfrm>
            <a:off x="802800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Oval 15"/>
          <p:cNvSpPr/>
          <p:nvPr/>
        </p:nvSpPr>
        <p:spPr>
          <a:xfrm>
            <a:off x="709308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Oval 16"/>
          <p:cNvSpPr/>
          <p:nvPr/>
        </p:nvSpPr>
        <p:spPr>
          <a:xfrm>
            <a:off x="61128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248436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1547640" y="6093000"/>
            <a:ext cx="28764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615636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Oval 20"/>
          <p:cNvSpPr/>
          <p:nvPr/>
        </p:nvSpPr>
        <p:spPr>
          <a:xfrm>
            <a:off x="3492360" y="6093000"/>
            <a:ext cx="28764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Oval 21"/>
          <p:cNvSpPr/>
          <p:nvPr/>
        </p:nvSpPr>
        <p:spPr>
          <a:xfrm>
            <a:off x="4356000" y="6093000"/>
            <a:ext cx="28728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Oval 22"/>
          <p:cNvSpPr/>
          <p:nvPr/>
        </p:nvSpPr>
        <p:spPr>
          <a:xfrm>
            <a:off x="5148360" y="6093000"/>
            <a:ext cx="28728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0" name="Picture 23" descr="Почему музей называется музеем?"/>
          <p:cNvPicPr/>
          <p:nvPr/>
        </p:nvPicPr>
        <p:blipFill>
          <a:blip r:embed="rId1"/>
          <a:stretch/>
        </p:blipFill>
        <p:spPr>
          <a:xfrm>
            <a:off x="6870600" y="615960"/>
            <a:ext cx="2071800" cy="1955880"/>
          </a:xfrm>
          <a:prstGeom prst="rect">
            <a:avLst/>
          </a:prstGeom>
          <a:ln w="0">
            <a:noFill/>
          </a:ln>
        </p:spPr>
      </p:pic>
      <p:sp>
        <p:nvSpPr>
          <p:cNvPr id="601" name="Содержимое 2"/>
          <p:cNvSpPr/>
          <p:nvPr/>
        </p:nvSpPr>
        <p:spPr>
          <a:xfrm>
            <a:off x="826920" y="5013360"/>
            <a:ext cx="331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)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ab ·(-5)b</a:t>
            </a: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84360" y="4941360"/>
            <a:ext cx="3970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) 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bc</a:t>
            </a:r>
            <a:r>
              <a:rPr b="1" i="1" lang="en-US" sz="40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· (-0,8)b</a:t>
            </a:r>
            <a:r>
              <a:rPr b="1" i="1" lang="en-US" sz="40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08720" y="4941360"/>
            <a:ext cx="16653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4b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32000" y="5013000"/>
            <a:ext cx="1666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0ab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718240" y="2273400"/>
            <a:ext cx="2822400" cy="32367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6"/>
              <p:cNvSpPr txBox="1"/>
              <p:nvPr/>
            </p:nvSpPr>
            <p:spPr>
              <a:xfrm>
                <a:off x="684360" y="2565360"/>
                <a:ext cx="3166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8"/>
              <p:cNvSpPr txBox="1"/>
              <p:nvPr/>
            </p:nvSpPr>
            <p:spPr>
              <a:xfrm>
                <a:off x="684360" y="3213000"/>
                <a:ext cx="3308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0"/>
              <p:cNvSpPr txBox="1"/>
              <p:nvPr/>
            </p:nvSpPr>
            <p:spPr>
              <a:xfrm>
                <a:off x="684360" y="4379760"/>
                <a:ext cx="381636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0,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2"/>
              <p:cNvSpPr txBox="1"/>
              <p:nvPr/>
            </p:nvSpPr>
            <p:spPr>
              <a:xfrm>
                <a:off x="539640" y="5229360"/>
                <a:ext cx="504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Как умножить одночлен на одночлен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ыполните умножение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26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13"/>
              <p:cNvSpPr txBox="1"/>
              <p:nvPr/>
            </p:nvSpPr>
            <p:spPr>
              <a:xfrm>
                <a:off x="684360" y="2565360"/>
                <a:ext cx="251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5"/>
              <p:cNvSpPr txBox="1"/>
              <p:nvPr/>
            </p:nvSpPr>
            <p:spPr>
              <a:xfrm>
                <a:off x="826920" y="3645000"/>
                <a:ext cx="208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17"/>
              <p:cNvSpPr txBox="1"/>
              <p:nvPr/>
            </p:nvSpPr>
            <p:spPr>
              <a:xfrm>
                <a:off x="900000" y="4508640"/>
                <a:ext cx="2084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19"/>
              <p:cNvSpPr txBox="1"/>
              <p:nvPr/>
            </p:nvSpPr>
            <p:spPr>
              <a:xfrm>
                <a:off x="900000" y="5445000"/>
                <a:ext cx="2300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659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Как возвести одночлен в степен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04480" indent="-2044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ыполните возведение в степень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04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8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864400" y="2560680"/>
            <a:ext cx="2828880" cy="3249720"/>
          </a:xfrm>
          <a:prstGeom prst="rect">
            <a:avLst/>
          </a:prstGeom>
          <a:ln w="0">
            <a:noFill/>
          </a:ln>
        </p:spPr>
      </p:pic>
      <p:sp>
        <p:nvSpPr>
          <p:cNvPr id="619" name="Содержимое 2"/>
          <p:cNvSpPr/>
          <p:nvPr/>
        </p:nvSpPr>
        <p:spPr>
          <a:xfrm>
            <a:off x="3635280" y="2637000"/>
            <a:ext cx="1873440" cy="64764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x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Содержимое 2"/>
          <p:cNvSpPr/>
          <p:nvPr/>
        </p:nvSpPr>
        <p:spPr>
          <a:xfrm>
            <a:off x="3635280" y="3645000"/>
            <a:ext cx="1873440" cy="57600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Содержимое 2"/>
          <p:cNvSpPr/>
          <p:nvPr/>
        </p:nvSpPr>
        <p:spPr>
          <a:xfrm>
            <a:off x="3635280" y="4581360"/>
            <a:ext cx="1873440" cy="57636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Содержимое 2"/>
          <p:cNvSpPr/>
          <p:nvPr/>
        </p:nvSpPr>
        <p:spPr>
          <a:xfrm>
            <a:off x="3635280" y="5516640"/>
            <a:ext cx="1873440" cy="57636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m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m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85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643880" cy="853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Bookman Old Style"/>
              </a:rPr>
              <a:t>Действия с одночленами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5"/>
              <p:cNvSpPr txBox="1"/>
              <p:nvPr/>
            </p:nvSpPr>
            <p:spPr>
              <a:xfrm>
                <a:off x="250920" y="3825720"/>
                <a:ext cx="4968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;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17"/>
              <p:cNvSpPr txBox="1"/>
              <p:nvPr/>
            </p:nvSpPr>
            <p:spPr>
              <a:xfrm>
                <a:off x="395280" y="5300640"/>
                <a:ext cx="55040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едставьте выражение в виде степени с указанным показателем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76720" y="1412640"/>
            <a:ext cx="32832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Впишите пропущенный множитель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20"/>
              <p:cNvSpPr txBox="1"/>
              <p:nvPr/>
            </p:nvSpPr>
            <p:spPr>
              <a:xfrm>
                <a:off x="3564000" y="3068640"/>
                <a:ext cx="504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1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=</m:t>
                    </m:r>
                    <m:r>
                      <m:t xml:space="preserve">9,6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21"/>
              <p:cNvSpPr txBox="1"/>
              <p:nvPr/>
            </p:nvSpPr>
            <p:spPr>
              <a:xfrm>
                <a:off x="2212920" y="4581360"/>
                <a:ext cx="651996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Содержимое 2"/>
          <p:cNvSpPr/>
          <p:nvPr/>
        </p:nvSpPr>
        <p:spPr>
          <a:xfrm>
            <a:off x="3708360" y="3933720"/>
            <a:ext cx="129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Содержимое 2"/>
          <p:cNvSpPr/>
          <p:nvPr/>
        </p:nvSpPr>
        <p:spPr>
          <a:xfrm>
            <a:off x="4140360" y="5445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1х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Содержимое 2"/>
          <p:cNvSpPr/>
          <p:nvPr/>
        </p:nvSpPr>
        <p:spPr>
          <a:xfrm>
            <a:off x="5580000" y="30686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ав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Содержимое 2"/>
          <p:cNvSpPr/>
          <p:nvPr/>
        </p:nvSpPr>
        <p:spPr>
          <a:xfrm>
            <a:off x="2771640" y="4653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5х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20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525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Упростите выражение: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04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39640" y="2133720"/>
                <a:ext cx="4246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7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791320" y="2414520"/>
            <a:ext cx="2962080" cy="3406680"/>
          </a:xfrm>
          <a:prstGeom prst="rect">
            <a:avLst/>
          </a:prstGeom>
          <a:ln w="0">
            <a:noFill/>
          </a:ln>
        </p:spPr>
      </p:pic>
      <p:sp>
        <p:nvSpPr>
          <p:cNvPr id="638" name="Овал 8"/>
          <p:cNvSpPr/>
          <p:nvPr/>
        </p:nvSpPr>
        <p:spPr>
          <a:xfrm>
            <a:off x="1619280" y="3141720"/>
            <a:ext cx="2736720" cy="86364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00x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Овал 9"/>
          <p:cNvSpPr/>
          <p:nvPr/>
        </p:nvSpPr>
        <p:spPr>
          <a:xfrm>
            <a:off x="1763640" y="5300640"/>
            <a:ext cx="2737080" cy="8650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8000" y="4292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- 2a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· (-0,5ab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"/>
                            </p:stCondLst>
                            <p:childTnLst>
                              <p:par>
                                <p:cTn id="6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800"/>
                            </p:stCondLst>
                            <p:childTnLst>
                              <p:par>
                                <p:cTn id="6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5845320" cy="44625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890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istral"/>
              </a:rPr>
              <a:t>   </a:t>
            </a:r>
            <a:r>
              <a:rPr b="1" i="1" lang="ru-RU" sz="4800" spc="-1" strike="noStrike">
                <a:solidFill>
                  <a:srgbClr val="ff0000"/>
                </a:solidFill>
                <a:latin typeface="Mistral"/>
              </a:rPr>
              <a:t>Пошевели мозгами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50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«Мало иметь хороший ум, главное –хорошо его применять»</a:t>
            </a:r>
            <a:r>
              <a:rPr b="1" i="1" lang="ru-RU" sz="2800" spc="-1" strike="noStrike">
                <a:solidFill>
                  <a:srgbClr val="ff0000"/>
                </a:solidFill>
                <a:latin typeface="Mistral"/>
              </a:rPr>
              <a:t>          </a:t>
            </a:r>
            <a:r>
              <a:rPr b="1" lang="ru-RU" sz="2100" spc="-1" strike="noStrike">
                <a:solidFill>
                  <a:srgbClr val="ff0000"/>
                </a:solidFill>
                <a:latin typeface="Mistral"/>
              </a:rPr>
              <a:t>     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Рене Декарт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9"/>
              <p:cNvSpPr txBox="1"/>
              <p:nvPr/>
            </p:nvSpPr>
            <p:spPr>
              <a:xfrm>
                <a:off x="1081080" y="3213000"/>
                <a:ext cx="1541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 txBox="1"/>
          <p:nvPr/>
        </p:nvSpPr>
        <p:spPr>
          <a:xfrm>
            <a:off x="250560" y="1700280"/>
            <a:ext cx="4033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Представьте выражение в виде степен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211280" y="1988640"/>
            <a:ext cx="4932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Monotype Corsiva"/>
              </a:rPr>
              <a:t>Зная, что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12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Monotype Corsiva"/>
              </a:rPr>
              <a:t>найдите значение выражения: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1"/>
              <p:cNvSpPr txBox="1"/>
              <p:nvPr/>
            </p:nvSpPr>
            <p:spPr>
              <a:xfrm>
                <a:off x="1042920" y="3933720"/>
                <a:ext cx="1800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12"/>
              <p:cNvSpPr txBox="1"/>
              <p:nvPr/>
            </p:nvSpPr>
            <p:spPr>
              <a:xfrm>
                <a:off x="1042920" y="4724280"/>
                <a:ext cx="1513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3"/>
              <p:cNvSpPr txBox="1"/>
              <p:nvPr/>
            </p:nvSpPr>
            <p:spPr>
              <a:xfrm>
                <a:off x="1042920" y="5445000"/>
                <a:ext cx="1513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6"/>
              <p:cNvSpPr txBox="1"/>
              <p:nvPr/>
            </p:nvSpPr>
            <p:spPr>
              <a:xfrm>
                <a:off x="6372360" y="1989000"/>
                <a:ext cx="136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17"/>
              <p:cNvSpPr txBox="1"/>
              <p:nvPr/>
            </p:nvSpPr>
            <p:spPr>
              <a:xfrm>
                <a:off x="5364000" y="3213000"/>
                <a:ext cx="1368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18"/>
              <p:cNvSpPr txBox="1"/>
              <p:nvPr/>
            </p:nvSpPr>
            <p:spPr>
              <a:xfrm>
                <a:off x="5219640" y="4292640"/>
                <a:ext cx="172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5219640" y="5229360"/>
                <a:ext cx="208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20"/>
          <p:cNvSpPr/>
          <p:nvPr/>
        </p:nvSpPr>
        <p:spPr>
          <a:xfrm>
            <a:off x="738036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7596360" y="4365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7667640" y="522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3"/>
              <p:cNvSpPr txBox="1"/>
              <p:nvPr/>
            </p:nvSpPr>
            <p:spPr>
              <a:xfrm>
                <a:off x="3132000" y="3141720"/>
                <a:ext cx="482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4"/>
              <p:cNvSpPr txBox="1"/>
              <p:nvPr/>
            </p:nvSpPr>
            <p:spPr>
              <a:xfrm>
                <a:off x="3203640" y="3933720"/>
                <a:ext cx="6062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5"/>
              <p:cNvSpPr txBox="1"/>
              <p:nvPr/>
            </p:nvSpPr>
            <p:spPr>
              <a:xfrm>
                <a:off x="3059280" y="4724280"/>
                <a:ext cx="879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6"/>
              <p:cNvSpPr txBox="1"/>
              <p:nvPr/>
            </p:nvSpPr>
            <p:spPr>
              <a:xfrm>
                <a:off x="3132000" y="5373720"/>
                <a:ext cx="1041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54:41Z</dcterms:created>
  <dc:creator>Людмила</dc:creator>
  <dc:description/>
  <dc:language>en-US</dc:language>
  <cp:lastModifiedBy>1</cp:lastModifiedBy>
  <dcterms:modified xsi:type="dcterms:W3CDTF">2012-07-14T10:10:27Z</dcterms:modified>
  <cp:revision>75</cp:revision>
  <dc:subject/>
  <dc:title>Слайд 1</dc:title>
</cp:coreProperties>
</file>