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F6A-9BD5-4E52-AFF9-A8E0616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BF1-B070-493B-86AF-BE2F60FD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ED335-7923-4F1A-B814-E73EB950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6CA4A-4C70-4EF5-A627-C86A1BF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0EF8B-0B86-4CCE-8166-DCEFD102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2D811-2F0C-4812-91F7-A5CC7C2E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267A7-F104-4BDC-9C8E-D6A20553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FAB39-1D32-4DA5-88B6-E797D3D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3F053-00D4-4625-9962-DE697E53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658E-AE4E-4D7B-B5EC-E9DD62E5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18440-FA92-450E-BFBC-26771937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C53C4-16F6-405A-BFCE-E2A0A08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8A7-1BC1-451B-8289-645FFA3A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7DF24-5702-4E9B-A901-1306D85A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961E2-DBF9-4273-A37F-EDEA549A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9988E-91AE-48BF-BB9D-5B32E3C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37508-A7ED-412B-A17C-683423E6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A7E9D-0944-4F83-BB83-712CB0DE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33453-F49F-4EAC-B4F1-7ABA5A55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B9E07-EDAC-402E-BD5D-91B32AD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5A31F-C44F-45FC-AFA3-71F61E61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EEEBB-335D-423E-864B-D5AF2B12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76B06-7061-4111-ACA6-09FCAFE5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2A1-E6FB-4AD9-8771-B26D7B09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D7BEE-5D54-48EE-953B-4EBE1DB2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A452B-4673-4959-B1E0-D541E356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FC5AF-5B74-451A-9A65-9FEB02CA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8CC6E-5278-4165-804F-5A608D87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D17A2-354A-4790-9C12-74E27D22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C5705-80BA-476B-83C1-50454645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F5C1C-395D-4238-B1A2-630CCB3C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B2426-9670-4C6F-A217-B5D8883C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5E7CF-62DA-4DD2-9992-D98311A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4A7A1-3BA5-46F2-8B56-7567A57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DE4F-7A4B-4C66-B21A-96F69877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A446-C6FE-4275-BBE4-A2F13795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07A83-DC9F-413D-BDC2-BE105F5D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C47A-5322-4850-BE85-0FC60022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91932-596A-4869-B4BA-F4A30AD5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15E8E-6881-4EC0-8C03-3DA7208D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76D4A-EB37-4ACF-BC45-AA210942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CA1C8-6A9F-4D8C-9394-4E80098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5BE61-E65D-47B2-BD68-8FFCBB7B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278B0-F3FD-40FD-A8DA-8F13EBED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49ECC-66F4-45AE-B451-D1C882D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CE1-D5EF-4F7F-AF90-697280EE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F132D-D0B4-431A-8A79-983DB88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193FC-8B25-4303-BA43-6A2232F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C4F35-CFBA-4C96-B85C-F3B96B98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E4060-7ADF-4C5E-8A63-A4444720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44278-B060-4DB7-A596-F088EDBB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E9CF-089B-4F8A-BC09-027D0F03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D4DF-E97A-4356-9026-760ADAAA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4151-CBF0-4360-B306-6F330681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CBFE-0150-42A3-AA2C-4772BA99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7A80-13BA-434B-BFE3-AE48D9C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0AA-4266-4139-BDF2-0DD071EA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0737-E4BC-497D-9C68-D781364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C3B5-BCD5-485A-94BE-B3DE14FE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E636-E3CD-44FC-8572-EDB8BCCE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6CE2-FA17-416C-9417-AE460E8E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8AB5-2908-4B0E-A1F6-4494C723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F7F3-E590-4E09-ACF3-292EE82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B311-FE34-498D-BC24-EDD2582C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2AC04-EF07-4C22-83E1-7F3F3D40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D260-E9AE-48DE-9442-947AC707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32DD-2854-4A36-953F-31AC7DED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080-8E2F-4BE3-8421-2A5C857A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5FF6-3A38-48A0-ABCA-BDE636D6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09D6-43F4-4B45-94CF-C384F98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ADFA-F385-418F-959D-611BA9B0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CB64-28D7-4C1E-8CA0-5DF9646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EED2-38B8-449E-BBF4-F3F3EF3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DBB2-4729-4D59-A95A-317380D5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A7B4-1903-408C-BA4F-7E1779CD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C952-5115-49CC-B596-6FAD5859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739F-B43D-4ECF-9A0F-719F7EE1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E003-FBF4-4346-AC6A-C4A55B3D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2F5-3BAC-4212-B535-8C84E8A8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DD11-7791-4A85-86AC-FEF3A096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DA4F-63B3-413F-9061-DC9D3956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5E72-B0A0-46D0-BCB6-F389C576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4436F-6676-44EF-954F-937769D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1245-5C98-4DDF-B26A-5CC0AD2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4781-B93F-4124-B81A-C567A18B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8A06-598A-4C5C-8F3E-B6AF2B72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AA2E-2678-409A-BD72-F1B35D55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A821-3D9E-41C2-9FD8-FF4982AD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6006-8516-4FAA-9CD0-3F02EC07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524-5F6D-4CA5-ADB0-C417A54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A8300-7E3B-4577-AF93-FDA95A46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9B84-C780-4EB2-A3CA-E5F806A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397E6-7D1B-4302-AAB3-9DB19DE6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F701-C0C1-4078-A517-E308A0BD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58826-4AA7-43C0-B307-687CD76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F3D6-6B0F-4437-AA3F-A5D624D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8546B-600D-4B0C-8C20-9CF717B4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CFAB8-13F2-4370-A587-38731FF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D7403-F1C0-4F71-8F94-79CDDA47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6DA44-D851-4EB5-A8DE-16BFF1A9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1B4-FC1F-4644-A028-DC9A115E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E0BD2-8658-4E0F-B429-FB647DD0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F30F-2A6A-4F69-B6CE-DDE17A5F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92D8-F628-4663-95D5-138666BE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8F49-FE70-456D-8FF0-B15888D7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9467-52F1-4F73-B873-BC07766B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060E2-BCAD-4C5F-863B-4BA01BE7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373F-1AF7-46F5-8C25-C103F9E7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BB57-A8D6-4E72-82A5-AF64D27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FAEF-BEFE-4CEA-86A2-E9716DAF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ACA2-3DA4-4606-89F0-F18676C7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A4F-1305-4C61-98DA-2C39872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6DF23-B25B-4F05-A5FD-3B420C7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09207-55C8-4D34-B4B8-64A10655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6DD9-C72E-454C-BE0A-F29A9541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6CE14-0A83-4A8F-BED9-331EB814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37D73-4FFB-4A1D-A0FE-879A8099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6342-9AD6-46A2-B313-C213021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2FD4-A52D-44C2-BA16-69C755B5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114CC-3C53-4CC3-ADA4-FDE9EB7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7DD5-08A2-4AFB-A362-8FFF764F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1CC7D-702E-4E89-BF90-E9DF0118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28C-D536-4EFC-B3CB-4F04CC71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1028E-61FA-44BC-A9EB-46DDEC3D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ED0EB-3892-4427-87C2-CF78E69A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0E02F-0E28-4BCF-9D9B-9C2B8ADB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5F52E-8F24-46E5-BC32-F2988062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AC268-8849-421B-9F5F-0C27DB52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28C8-BA14-4D14-9F80-EDAF6C75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A8104-3AE4-4F06-ABF4-12BA3474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56701-0604-4948-A2E2-89FE066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D6DE2-9DCB-4C3D-8066-DFAC0E1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E8714-8D6C-44A8-8614-1BF8EE28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EB8-C1C5-4CBF-B7B3-81699F2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0931-C9CE-4BC6-94A4-20A12629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86093-20A9-4B78-B1A0-88F910F6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DEFFE-E197-47E5-94AD-B9020C49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2CA6C-D0B9-4EA9-8E38-1BC4557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DE8F2-DED6-41D6-BAE5-A1A69B76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0780B-EAC1-4AAF-A0CF-8D41F551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DE7B4-5BF2-4850-ADDF-52E4CAFC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4AA24-0283-4EDD-B9FB-FFF45534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F2885-8665-4329-AB79-0482BF9F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8B4BB-D5F6-49EB-B6F3-40006A3B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735A-1355-4119-91EF-9E99B5E9C0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42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3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BB4F-981C-4360-8A6D-A7DDC16575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A813-4A03-42C8-AF95-DD1358FD07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EA5D-7456-4313-87BC-38D875EB92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F5D2-7AFB-486E-96E1-00D26792896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BDBA-1954-4BD7-99BD-A98B16896C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142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143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144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53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A8FC-B89E-4126-8F97-A48BB7088C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5D1E-1221-4C30-AA6D-A0AD4F43F7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2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243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68A2-B534-4FA2-BF9A-C805EF2515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F7DD-74F1-4D58-96B5-294CFD343A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C481-3B2F-4705-A7AA-8178D13651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DC1D-9BFA-4F77-A69A-C3FAF372821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Учебная презентация по алгебре для 7 класса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3564000" y="5346360"/>
            <a:ext cx="55800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Mistral"/>
              </a:rPr>
              <a:t>Разработала  Яковлева Л. В. учитель математики МБОУ «Самосдельская СОШ имени Шитова В. А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istral"/>
              </a:rPr>
              <a:t>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Содержимое 3"/>
          <p:cNvSpPr/>
          <p:nvPr/>
        </p:nvSpPr>
        <p:spPr>
          <a:xfrm>
            <a:off x="6516720" y="4365720"/>
            <a:ext cx="22906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должение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42920" y="1557000"/>
            <a:ext cx="4249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Решите уравнени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ambria"/>
            </a:endParaRPr>
          </a:p>
          <a:p>
            <a:pPr marL="231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mbria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18"/>
              <p:cNvSpPr txBox="1"/>
              <p:nvPr/>
            </p:nvSpPr>
            <p:spPr>
              <a:xfrm>
                <a:off x="5364000" y="2362320"/>
                <a:ext cx="2232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1"/>
              <p:cNvSpPr txBox="1"/>
              <p:nvPr/>
            </p:nvSpPr>
            <p:spPr>
              <a:xfrm>
                <a:off x="5076720" y="3319560"/>
                <a:ext cx="28800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Rectangle 5"/>
          <p:cNvSpPr/>
          <p:nvPr/>
        </p:nvSpPr>
        <p:spPr>
          <a:xfrm>
            <a:off x="179280" y="476280"/>
            <a:ext cx="84013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Найдите х, есл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Monotype Corsiva"/>
              </a:rPr>
              <a:t>     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1) 2 </a:t>
            </a:r>
            <a:r>
              <a:rPr b="1" i="1" lang="ru-RU" sz="3600" spc="-1" strike="noStrike" baseline="30000">
                <a:solidFill>
                  <a:srgbClr val="0000cc"/>
                </a:solidFill>
                <a:latin typeface="Monotype Corsiva"/>
              </a:rPr>
              <a:t>х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= 32;</a:t>
            </a:r>
            <a:r>
              <a:rPr b="0" lang="ru-RU" sz="3600" spc="-1" strike="noStrike">
                <a:solidFill>
                  <a:srgbClr val="0000cc"/>
                </a:solidFill>
                <a:latin typeface="Monotype Corsiva"/>
              </a:rPr>
              <a:t>      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Text Box 7"/>
          <p:cNvSpPr/>
          <p:nvPr/>
        </p:nvSpPr>
        <p:spPr>
          <a:xfrm>
            <a:off x="3037680" y="90792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b2d1f"/>
                </a:solidFill>
                <a:latin typeface="Monotype Corsiva"/>
              </a:rPr>
              <a:t>        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2 </a:t>
            </a:r>
            <a:r>
              <a:rPr b="1" i="1" lang="ru-RU" sz="3600" spc="-1" strike="noStrike" baseline="30000">
                <a:solidFill>
                  <a:srgbClr val="0000cc"/>
                </a:solidFill>
                <a:latin typeface="Monotype Corsiva"/>
              </a:rPr>
              <a:t>х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= 2</a:t>
            </a:r>
            <a:r>
              <a:rPr b="1" i="1" lang="ru-RU" sz="3600" spc="-1" strike="noStrike" baseline="30000">
                <a:solidFill>
                  <a:srgbClr val="0000cc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6108120" y="9079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Monotype Corsiva"/>
              </a:rPr>
              <a:t>Х = 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2340000" y="4076640"/>
            <a:ext cx="1511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2987640" y="4508640"/>
            <a:ext cx="14400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25"/>
              <p:cNvSpPr txBox="1"/>
              <p:nvPr/>
            </p:nvSpPr>
            <p:spPr>
              <a:xfrm>
                <a:off x="5148360" y="4290840"/>
                <a:ext cx="2808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sSup>
                                  <m:e/>
                                  <m:sup>
                                    <m:r>
                                      <m:t xml:space="preserve">х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p>
                            </m:sSup>
                          </m:e>
                        </m:d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0" name="Picture 26" descr="740a73b396965654d5e45d53b47d4e2b"/>
          <p:cNvPicPr/>
          <p:nvPr/>
        </p:nvPicPr>
        <p:blipFill>
          <a:blip r:embed="rId1"/>
          <a:stretch/>
        </p:blipFill>
        <p:spPr>
          <a:xfrm>
            <a:off x="603360" y="1981080"/>
            <a:ext cx="3475080" cy="385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1" name="Object 24"/>
              <p:cNvSpPr txBox="1"/>
              <p:nvPr/>
            </p:nvSpPr>
            <p:spPr>
              <a:xfrm>
                <a:off x="4788000" y="5445000"/>
                <a:ext cx="38876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673" name="Picture 3" descr="21M2"/>
          <p:cNvPicPr/>
          <p:nvPr/>
        </p:nvPicPr>
        <p:blipFill>
          <a:blip r:embed="rId1"/>
          <a:stretch/>
        </p:blipFill>
        <p:spPr>
          <a:xfrm>
            <a:off x="5867280" y="3716280"/>
            <a:ext cx="2397240" cy="252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7705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Запиши степени числа х в пустые клетки так, чтобы произведение по вертикали, горизонтали и диагонали равнялос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Rectangle 5"/>
          <p:cNvSpPr/>
          <p:nvPr/>
        </p:nvSpPr>
        <p:spPr>
          <a:xfrm>
            <a:off x="468360" y="1989000"/>
            <a:ext cx="619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118728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176364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8" name="Line 15"/>
          <p:cNvSpPr/>
          <p:nvPr/>
        </p:nvSpPr>
        <p:spPr>
          <a:xfrm flipV="1">
            <a:off x="2340000" y="4365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2843280" y="436572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Line 18"/>
          <p:cNvSpPr/>
          <p:nvPr/>
        </p:nvSpPr>
        <p:spPr>
          <a:xfrm flipH="1">
            <a:off x="1187280" y="6237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Line 19"/>
          <p:cNvSpPr/>
          <p:nvPr/>
        </p:nvSpPr>
        <p:spPr>
          <a:xfrm>
            <a:off x="1187280" y="4365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2" name="Line 20"/>
          <p:cNvSpPr/>
          <p:nvPr/>
        </p:nvSpPr>
        <p:spPr>
          <a:xfrm>
            <a:off x="1187280" y="494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3" name="Line 21"/>
          <p:cNvSpPr/>
          <p:nvPr/>
        </p:nvSpPr>
        <p:spPr>
          <a:xfrm>
            <a:off x="1187280" y="5589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Содержимое 5"/>
          <p:cNvSpPr/>
          <p:nvPr/>
        </p:nvSpPr>
        <p:spPr>
          <a:xfrm>
            <a:off x="3492360" y="3284640"/>
            <a:ext cx="15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cc"/>
                </a:solidFill>
                <a:latin typeface="Bookman Old Style"/>
              </a:rPr>
              <a:t>x</a:t>
            </a:r>
            <a:r>
              <a:rPr b="1" i="1" lang="en-US" sz="5400" spc="-1" strike="noStrike" baseline="30000">
                <a:solidFill>
                  <a:srgbClr val="0000cc"/>
                </a:solidFill>
                <a:latin typeface="Bookman Old Style"/>
              </a:rPr>
              <a:t>15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5" name="Содержимое 5"/>
          <p:cNvSpPr/>
          <p:nvPr/>
        </p:nvSpPr>
        <p:spPr>
          <a:xfrm>
            <a:off x="1692360" y="4941720"/>
            <a:ext cx="85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Bookman Old Style"/>
              </a:rPr>
              <a:t>x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Bookman Old Style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7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6200"/>
                            </p:stCondLst>
                            <p:childTnLst>
                              <p:par>
                                <p:cTn id="9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9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9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7200"/>
                            </p:stCondLst>
                            <p:childTnLst>
                              <p:par>
                                <p:cTn id="10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Bookman Old Style"/>
              </a:rPr>
              <a:t>Одночлены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Какое выражение называется одночленом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Является ли одночленом выражение?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Object 5"/>
              <p:cNvSpPr txBox="1"/>
              <p:nvPr/>
            </p:nvSpPr>
            <p:spPr>
              <a:xfrm>
                <a:off x="826920" y="3500280"/>
                <a:ext cx="1081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7"/>
              <p:cNvSpPr txBox="1"/>
              <p:nvPr/>
            </p:nvSpPr>
            <p:spPr>
              <a:xfrm>
                <a:off x="755640" y="4437000"/>
                <a:ext cx="15112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9"/>
              <p:cNvSpPr txBox="1"/>
              <p:nvPr/>
            </p:nvSpPr>
            <p:spPr>
              <a:xfrm>
                <a:off x="3419640" y="3357720"/>
                <a:ext cx="12236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826920" y="5516640"/>
                <a:ext cx="936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11"/>
              <p:cNvSpPr txBox="1"/>
              <p:nvPr/>
            </p:nvSpPr>
            <p:spPr>
              <a:xfrm>
                <a:off x="3348000" y="4292640"/>
                <a:ext cx="1355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12"/>
              <p:cNvSpPr txBox="1"/>
              <p:nvPr/>
            </p:nvSpPr>
            <p:spPr>
              <a:xfrm>
                <a:off x="6372360" y="3381480"/>
                <a:ext cx="208908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13"/>
              <p:cNvSpPr txBox="1"/>
              <p:nvPr/>
            </p:nvSpPr>
            <p:spPr>
              <a:xfrm>
                <a:off x="6372360" y="4292640"/>
                <a:ext cx="2232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4"/>
              <p:cNvSpPr txBox="1"/>
              <p:nvPr/>
            </p:nvSpPr>
            <p:spPr>
              <a:xfrm>
                <a:off x="3276720" y="5373720"/>
                <a:ext cx="1873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5"/>
              <p:cNvSpPr txBox="1"/>
              <p:nvPr/>
            </p:nvSpPr>
            <p:spPr>
              <a:xfrm>
                <a:off x="6372360" y="5229360"/>
                <a:ext cx="2303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9" name="Oval 18"/>
          <p:cNvSpPr/>
          <p:nvPr/>
        </p:nvSpPr>
        <p:spPr>
          <a:xfrm>
            <a:off x="395280" y="371628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Oval 19"/>
          <p:cNvSpPr/>
          <p:nvPr/>
        </p:nvSpPr>
        <p:spPr>
          <a:xfrm>
            <a:off x="395280" y="472428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Oval 20"/>
          <p:cNvSpPr/>
          <p:nvPr/>
        </p:nvSpPr>
        <p:spPr>
          <a:xfrm>
            <a:off x="468360" y="566100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Oval 21"/>
          <p:cNvSpPr/>
          <p:nvPr/>
        </p:nvSpPr>
        <p:spPr>
          <a:xfrm>
            <a:off x="2843280" y="4581360"/>
            <a:ext cx="287280" cy="28908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Oval 22"/>
          <p:cNvSpPr/>
          <p:nvPr/>
        </p:nvSpPr>
        <p:spPr>
          <a:xfrm>
            <a:off x="2916360" y="558972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Oval 23"/>
          <p:cNvSpPr/>
          <p:nvPr/>
        </p:nvSpPr>
        <p:spPr>
          <a:xfrm>
            <a:off x="5867280" y="3645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Oval 24"/>
          <p:cNvSpPr/>
          <p:nvPr/>
        </p:nvSpPr>
        <p:spPr>
          <a:xfrm>
            <a:off x="2843280" y="3573360"/>
            <a:ext cx="287280" cy="289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Oval 25"/>
          <p:cNvSpPr/>
          <p:nvPr/>
        </p:nvSpPr>
        <p:spPr>
          <a:xfrm>
            <a:off x="5867280" y="4437000"/>
            <a:ext cx="287280" cy="289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Oval 26"/>
          <p:cNvSpPr/>
          <p:nvPr/>
        </p:nvSpPr>
        <p:spPr>
          <a:xfrm>
            <a:off x="5940360" y="5445000"/>
            <a:ext cx="287280" cy="289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88" name="Picture 23" descr="Почему музей называется музеем?"/>
          <p:cNvPicPr/>
          <p:nvPr/>
        </p:nvPicPr>
        <p:blipFill>
          <a:blip r:embed="rId1"/>
          <a:stretch/>
        </p:blipFill>
        <p:spPr>
          <a:xfrm>
            <a:off x="6724800" y="542880"/>
            <a:ext cx="2077920" cy="1955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Bookman Old Style"/>
              </a:rPr>
              <a:t>Одночлены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42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askerville Old Face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Какой одночлен называется одночленом стандартного вида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Любой ли одночлен можно привести к стандартному виду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Как привести одночлен к стандартному виду?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ведите одночлен к стандартному виду и укажите его коэффициент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1" name="Oval 14"/>
          <p:cNvSpPr/>
          <p:nvPr/>
        </p:nvSpPr>
        <p:spPr>
          <a:xfrm>
            <a:off x="802800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Oval 15"/>
          <p:cNvSpPr/>
          <p:nvPr/>
        </p:nvSpPr>
        <p:spPr>
          <a:xfrm>
            <a:off x="709308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Oval 16"/>
          <p:cNvSpPr/>
          <p:nvPr/>
        </p:nvSpPr>
        <p:spPr>
          <a:xfrm>
            <a:off x="61128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Oval 17"/>
          <p:cNvSpPr/>
          <p:nvPr/>
        </p:nvSpPr>
        <p:spPr>
          <a:xfrm>
            <a:off x="248436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Oval 18"/>
          <p:cNvSpPr/>
          <p:nvPr/>
        </p:nvSpPr>
        <p:spPr>
          <a:xfrm>
            <a:off x="1547640" y="6093000"/>
            <a:ext cx="28764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Oval 19"/>
          <p:cNvSpPr/>
          <p:nvPr/>
        </p:nvSpPr>
        <p:spPr>
          <a:xfrm>
            <a:off x="6156360" y="6093000"/>
            <a:ext cx="287280" cy="288720"/>
          </a:xfrm>
          <a:prstGeom prst="ellipse">
            <a:avLst/>
          </a:prstGeom>
          <a:solidFill>
            <a:srgbClr val="00cc00"/>
          </a:solidFill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Oval 20"/>
          <p:cNvSpPr/>
          <p:nvPr/>
        </p:nvSpPr>
        <p:spPr>
          <a:xfrm>
            <a:off x="3492360" y="6093000"/>
            <a:ext cx="287640" cy="288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Oval 21"/>
          <p:cNvSpPr/>
          <p:nvPr/>
        </p:nvSpPr>
        <p:spPr>
          <a:xfrm>
            <a:off x="4356000" y="6093000"/>
            <a:ext cx="287280" cy="288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Oval 22"/>
          <p:cNvSpPr/>
          <p:nvPr/>
        </p:nvSpPr>
        <p:spPr>
          <a:xfrm>
            <a:off x="5148360" y="6093000"/>
            <a:ext cx="287280" cy="288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0" name="Picture 23" descr="Почему музей называется музеем?"/>
          <p:cNvPicPr/>
          <p:nvPr/>
        </p:nvPicPr>
        <p:blipFill>
          <a:blip r:embed="rId1"/>
          <a:stretch/>
        </p:blipFill>
        <p:spPr>
          <a:xfrm>
            <a:off x="6870600" y="615960"/>
            <a:ext cx="2071800" cy="1955880"/>
          </a:xfrm>
          <a:prstGeom prst="rect">
            <a:avLst/>
          </a:prstGeom>
          <a:ln w="0">
            <a:noFill/>
          </a:ln>
        </p:spPr>
      </p:pic>
      <p:sp>
        <p:nvSpPr>
          <p:cNvPr id="601" name="Содержимое 2"/>
          <p:cNvSpPr/>
          <p:nvPr/>
        </p:nvSpPr>
        <p:spPr>
          <a:xfrm>
            <a:off x="826920" y="5013360"/>
            <a:ext cx="33134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) </a:t>
            </a:r>
            <a:r>
              <a:rPr b="1" i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ab ·(-5)b</a:t>
            </a:r>
            <a:r>
              <a:rPr b="1" i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284360" y="4941360"/>
            <a:ext cx="397044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б) 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bc</a:t>
            </a:r>
            <a:r>
              <a:rPr b="1" i="1" lang="en-US" sz="40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· (-0,8)b</a:t>
            </a:r>
            <a:r>
              <a:rPr b="1" i="1" lang="en-US" sz="40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i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08720" y="4941360"/>
            <a:ext cx="166536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4b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332000" y="5013000"/>
            <a:ext cx="1666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10ab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0" descr="Картинка 2916 из 13244"/>
          <p:cNvPicPr/>
          <p:nvPr/>
        </p:nvPicPr>
        <p:blipFill>
          <a:blip r:embed="rId1"/>
          <a:stretch/>
        </p:blipFill>
        <p:spPr>
          <a:xfrm>
            <a:off x="5718240" y="2273400"/>
            <a:ext cx="2822400" cy="32367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Действия с одночленами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6"/>
              <p:cNvSpPr txBox="1"/>
              <p:nvPr/>
            </p:nvSpPr>
            <p:spPr>
              <a:xfrm>
                <a:off x="684360" y="2565360"/>
                <a:ext cx="3166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0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3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8"/>
              <p:cNvSpPr txBox="1"/>
              <p:nvPr/>
            </p:nvSpPr>
            <p:spPr>
              <a:xfrm>
                <a:off x="684360" y="3213000"/>
                <a:ext cx="33080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с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0"/>
              <p:cNvSpPr txBox="1"/>
              <p:nvPr/>
            </p:nvSpPr>
            <p:spPr>
              <a:xfrm>
                <a:off x="684360" y="4379760"/>
                <a:ext cx="381636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0,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2"/>
              <p:cNvSpPr txBox="1"/>
              <p:nvPr/>
            </p:nvSpPr>
            <p:spPr>
              <a:xfrm>
                <a:off x="539640" y="5229360"/>
                <a:ext cx="504036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44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Как умножить одночлен на одночлен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ыполните умножение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26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l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Действия с одночленами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13"/>
              <p:cNvSpPr txBox="1"/>
              <p:nvPr/>
            </p:nvSpPr>
            <p:spPr>
              <a:xfrm>
                <a:off x="684360" y="2565360"/>
                <a:ext cx="251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15"/>
              <p:cNvSpPr txBox="1"/>
              <p:nvPr/>
            </p:nvSpPr>
            <p:spPr>
              <a:xfrm>
                <a:off x="826920" y="3645000"/>
                <a:ext cx="2089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в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17"/>
              <p:cNvSpPr txBox="1"/>
              <p:nvPr/>
            </p:nvSpPr>
            <p:spPr>
              <a:xfrm>
                <a:off x="900000" y="4508640"/>
                <a:ext cx="20844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ав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19"/>
              <p:cNvSpPr txBox="1"/>
              <p:nvPr/>
            </p:nvSpPr>
            <p:spPr>
              <a:xfrm>
                <a:off x="900000" y="5445000"/>
                <a:ext cx="2300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вс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665928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Как возвести одночлен в степень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04480" indent="-204480">
              <a:lnSpc>
                <a:spcPct val="9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Выполните возведение в степень: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04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8" name="Picture 10" descr="Картинка 2916 из 13244"/>
          <p:cNvPicPr/>
          <p:nvPr/>
        </p:nvPicPr>
        <p:blipFill>
          <a:blip r:embed="rId1"/>
          <a:stretch/>
        </p:blipFill>
        <p:spPr>
          <a:xfrm>
            <a:off x="5864400" y="2560680"/>
            <a:ext cx="2828880" cy="3249720"/>
          </a:xfrm>
          <a:prstGeom prst="rect">
            <a:avLst/>
          </a:prstGeom>
          <a:ln w="0">
            <a:noFill/>
          </a:ln>
        </p:spPr>
      </p:pic>
      <p:sp>
        <p:nvSpPr>
          <p:cNvPr id="619" name="Содержимое 2"/>
          <p:cNvSpPr/>
          <p:nvPr/>
        </p:nvSpPr>
        <p:spPr>
          <a:xfrm>
            <a:off x="3635280" y="2637000"/>
            <a:ext cx="1873440" cy="64764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x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0" name="Содержимое 2"/>
          <p:cNvSpPr/>
          <p:nvPr/>
        </p:nvSpPr>
        <p:spPr>
          <a:xfrm>
            <a:off x="3635280" y="3645000"/>
            <a:ext cx="1873440" cy="57600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Содержимое 2"/>
          <p:cNvSpPr/>
          <p:nvPr/>
        </p:nvSpPr>
        <p:spPr>
          <a:xfrm>
            <a:off x="3635280" y="4581360"/>
            <a:ext cx="1873440" cy="57636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2" name="Содержимое 2"/>
          <p:cNvSpPr/>
          <p:nvPr/>
        </p:nvSpPr>
        <p:spPr>
          <a:xfrm>
            <a:off x="3635280" y="5516640"/>
            <a:ext cx="1873440" cy="576360"/>
          </a:xfrm>
          <a:prstGeom prst="rect">
            <a:avLst/>
          </a:prstGeom>
          <a:solidFill>
            <a:srgbClr val="ffff00">
              <a:alpha val="2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m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m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850"/>
                            </p:stCondLst>
                            <p:childTnLst>
                              <p:par>
                                <p:cTn id="4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643880" cy="853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99"/>
                </a:solidFill>
                <a:latin typeface="Bookman Old Style"/>
              </a:rPr>
              <a:t>Действия с одночленами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Object 15"/>
              <p:cNvSpPr txBox="1"/>
              <p:nvPr/>
            </p:nvSpPr>
            <p:spPr>
              <a:xfrm>
                <a:off x="250920" y="3825720"/>
                <a:ext cx="4968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  <m:r>
                          <m:t xml:space="preserve">;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17"/>
              <p:cNvSpPr txBox="1"/>
              <p:nvPr/>
            </p:nvSpPr>
            <p:spPr>
              <a:xfrm>
                <a:off x="395280" y="5300640"/>
                <a:ext cx="55040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2447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едставьте выражение в виде степени с указанным показателем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76720" y="1412640"/>
            <a:ext cx="3283200" cy="15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Впишите пропущенный множитель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20"/>
              <p:cNvSpPr txBox="1"/>
              <p:nvPr/>
            </p:nvSpPr>
            <p:spPr>
              <a:xfrm>
                <a:off x="3564000" y="3068640"/>
                <a:ext cx="504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1,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=</m:t>
                    </m:r>
                    <m:r>
                      <m:t xml:space="preserve">9,6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21"/>
              <p:cNvSpPr txBox="1"/>
              <p:nvPr/>
            </p:nvSpPr>
            <p:spPr>
              <a:xfrm>
                <a:off x="2212920" y="4581360"/>
                <a:ext cx="651996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,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0" name="Содержимое 2"/>
          <p:cNvSpPr/>
          <p:nvPr/>
        </p:nvSpPr>
        <p:spPr>
          <a:xfrm>
            <a:off x="3708360" y="3933720"/>
            <a:ext cx="129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1" name="Содержимое 2"/>
          <p:cNvSpPr/>
          <p:nvPr/>
        </p:nvSpPr>
        <p:spPr>
          <a:xfrm>
            <a:off x="4140360" y="5445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1х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Содержимое 2"/>
          <p:cNvSpPr/>
          <p:nvPr/>
        </p:nvSpPr>
        <p:spPr>
          <a:xfrm>
            <a:off x="5580000" y="30686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ав</a:t>
            </a:r>
            <a:r>
              <a:rPr b="1" i="1" lang="ru-RU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Содержимое 2"/>
          <p:cNvSpPr/>
          <p:nvPr/>
        </p:nvSpPr>
        <p:spPr>
          <a:xfrm>
            <a:off x="2771640" y="4653000"/>
            <a:ext cx="122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5х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4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2000" cy="87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Bookman Old Style"/>
              </a:rPr>
              <a:t>Действия с одночленами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123640" y="1267920"/>
            <a:ext cx="525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04480" indent="-20448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Monotype Corsiva"/>
              </a:rPr>
              <a:t>Упростите выражение: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04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12"/>
              <p:cNvSpPr txBox="1"/>
              <p:nvPr/>
            </p:nvSpPr>
            <p:spPr>
              <a:xfrm>
                <a:off x="539640" y="2133720"/>
                <a:ext cx="42465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0,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7" name="Picture 10" descr="Картинка 2916 из 13244"/>
          <p:cNvPicPr/>
          <p:nvPr/>
        </p:nvPicPr>
        <p:blipFill>
          <a:blip r:embed="rId1"/>
          <a:stretch/>
        </p:blipFill>
        <p:spPr>
          <a:xfrm>
            <a:off x="5791320" y="2414520"/>
            <a:ext cx="2962080" cy="3406680"/>
          </a:xfrm>
          <a:prstGeom prst="rect">
            <a:avLst/>
          </a:prstGeom>
          <a:ln w="0">
            <a:noFill/>
          </a:ln>
        </p:spPr>
      </p:pic>
      <p:sp>
        <p:nvSpPr>
          <p:cNvPr id="638" name="Овал 8"/>
          <p:cNvSpPr/>
          <p:nvPr/>
        </p:nvSpPr>
        <p:spPr>
          <a:xfrm>
            <a:off x="1619280" y="3141720"/>
            <a:ext cx="2736720" cy="86364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00x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Овал 9"/>
          <p:cNvSpPr/>
          <p:nvPr/>
        </p:nvSpPr>
        <p:spPr>
          <a:xfrm>
            <a:off x="1763640" y="5300640"/>
            <a:ext cx="2737080" cy="8650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a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4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68000" y="4292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</a:t>
            </a:r>
            <a:r>
              <a:rPr b="0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- 2a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· (-0,5ab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800"/>
                            </p:stCondLst>
                            <p:childTnLst>
                              <p:par>
                                <p:cTn id="6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800"/>
                            </p:stCondLst>
                            <p:childTnLst>
                              <p:par>
                                <p:cTn id="6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"/>
          <p:cNvPicPr/>
          <p:nvPr/>
        </p:nvPicPr>
        <p:blipFill>
          <a:blip r:embed="rId1"/>
          <a:stretch/>
        </p:blipFill>
        <p:spPr>
          <a:xfrm>
            <a:off x="1542960" y="1620720"/>
            <a:ext cx="5845320" cy="44625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890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istral"/>
              </a:rPr>
              <a:t>   </a:t>
            </a:r>
            <a:r>
              <a:rPr b="1" i="1" lang="ru-RU" sz="4800" spc="-1" strike="noStrike">
                <a:solidFill>
                  <a:srgbClr val="ff0000"/>
                </a:solidFill>
                <a:latin typeface="Mistral"/>
              </a:rPr>
              <a:t>Пошевели мозгами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209080" cy="1503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«Мало иметь хороший ум, главное –хорошо его применять»</a:t>
            </a:r>
            <a:r>
              <a:rPr b="1" i="1" lang="ru-RU" sz="2800" spc="-1" strike="noStrike">
                <a:solidFill>
                  <a:srgbClr val="ff0000"/>
                </a:solidFill>
                <a:latin typeface="Mistral"/>
              </a:rPr>
              <a:t>          </a:t>
            </a:r>
            <a:r>
              <a:rPr b="1" lang="ru-RU" sz="2100" spc="-1" strike="noStrike">
                <a:solidFill>
                  <a:srgbClr val="ff0000"/>
                </a:solidFill>
                <a:latin typeface="Mistral"/>
              </a:rPr>
              <a:t>               </a:t>
            </a:r>
            <a:r>
              <a:rPr b="1" i="1" lang="ru-RU" sz="2800" spc="-1" strike="noStrike">
                <a:solidFill>
                  <a:srgbClr val="00b050"/>
                </a:solidFill>
                <a:latin typeface="Monotype Corsiva"/>
              </a:rPr>
              <a:t>Рене Декарт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9"/>
              <p:cNvSpPr txBox="1"/>
              <p:nvPr/>
            </p:nvSpPr>
            <p:spPr>
              <a:xfrm>
                <a:off x="1081080" y="3213000"/>
                <a:ext cx="1541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 txBox="1"/>
          <p:nvPr/>
        </p:nvSpPr>
        <p:spPr>
          <a:xfrm>
            <a:off x="250560" y="1700280"/>
            <a:ext cx="4033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Представьте выражение в виде степени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211280" y="1988640"/>
            <a:ext cx="4932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Monotype Corsiva"/>
              </a:rPr>
              <a:t>Зная, что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127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Monotype Corsiva"/>
              </a:rPr>
              <a:t>найдите значение выражения: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11"/>
              <p:cNvSpPr txBox="1"/>
              <p:nvPr/>
            </p:nvSpPr>
            <p:spPr>
              <a:xfrm>
                <a:off x="1042920" y="3933720"/>
                <a:ext cx="1800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12"/>
              <p:cNvSpPr txBox="1"/>
              <p:nvPr/>
            </p:nvSpPr>
            <p:spPr>
              <a:xfrm>
                <a:off x="1042920" y="4724280"/>
                <a:ext cx="1513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13"/>
              <p:cNvSpPr txBox="1"/>
              <p:nvPr/>
            </p:nvSpPr>
            <p:spPr>
              <a:xfrm>
                <a:off x="1042920" y="5445000"/>
                <a:ext cx="1513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16"/>
              <p:cNvSpPr txBox="1"/>
              <p:nvPr/>
            </p:nvSpPr>
            <p:spPr>
              <a:xfrm>
                <a:off x="6372360" y="1989000"/>
                <a:ext cx="1366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17"/>
              <p:cNvSpPr txBox="1"/>
              <p:nvPr/>
            </p:nvSpPr>
            <p:spPr>
              <a:xfrm>
                <a:off x="5364000" y="3213000"/>
                <a:ext cx="13687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18"/>
              <p:cNvSpPr txBox="1"/>
              <p:nvPr/>
            </p:nvSpPr>
            <p:spPr>
              <a:xfrm>
                <a:off x="5219640" y="4292640"/>
                <a:ext cx="172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19"/>
              <p:cNvSpPr txBox="1"/>
              <p:nvPr/>
            </p:nvSpPr>
            <p:spPr>
              <a:xfrm>
                <a:off x="5219640" y="5229360"/>
                <a:ext cx="208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Rectangle 20"/>
          <p:cNvSpPr/>
          <p:nvPr/>
        </p:nvSpPr>
        <p:spPr>
          <a:xfrm>
            <a:off x="7380360" y="32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7596360" y="4365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7667640" y="5229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108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23"/>
              <p:cNvSpPr txBox="1"/>
              <p:nvPr/>
            </p:nvSpPr>
            <p:spPr>
              <a:xfrm>
                <a:off x="3132000" y="3141720"/>
                <a:ext cx="4827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4"/>
              <p:cNvSpPr txBox="1"/>
              <p:nvPr/>
            </p:nvSpPr>
            <p:spPr>
              <a:xfrm>
                <a:off x="3203640" y="3933720"/>
                <a:ext cx="6062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5"/>
              <p:cNvSpPr txBox="1"/>
              <p:nvPr/>
            </p:nvSpPr>
            <p:spPr>
              <a:xfrm>
                <a:off x="3059280" y="4724280"/>
                <a:ext cx="8794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6"/>
              <p:cNvSpPr txBox="1"/>
              <p:nvPr/>
            </p:nvSpPr>
            <p:spPr>
              <a:xfrm>
                <a:off x="3132000" y="5373720"/>
                <a:ext cx="1041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0"/>
                            </p:stCondLst>
                            <p:childTnLst>
                              <p:par>
                                <p:cTn id="7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8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8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83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54:41Z</dcterms:created>
  <dc:creator>Людмила</dc:creator>
  <dc:description/>
  <dc:language>en-US</dc:language>
  <cp:lastModifiedBy>1</cp:lastModifiedBy>
  <dcterms:modified xsi:type="dcterms:W3CDTF">2012-07-14T10:10:27Z</dcterms:modified>
  <cp:revision>75</cp:revision>
  <dc:subject/>
  <dc:title>Слайд 1</dc:title>
</cp:coreProperties>
</file>