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22.gif" ContentType="image/gi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74B-B5C8-435E-8420-C0902807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229-DC77-46D4-83DC-6107ACC3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37D-3B9F-4DCC-BD94-FB4CBF89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FEC-E636-458B-987D-ABA34F64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789E-8E00-4648-9F45-93F97A21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8CD1-CD2F-4BD4-91CD-B44A2405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4802-C5CD-4E70-A421-39FB3E64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0752-6C2C-4A06-A421-38127847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5ECF-781B-4CCE-AC7A-FC0D3444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1502-816C-439A-8125-073EDDCC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E585-F642-448B-BAA3-3CDF288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E64-580E-43F2-AAFB-CFB9EBD0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3314-B4CC-4146-BAEE-0731F116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5143-A3BE-4A11-93ED-916225D3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6109-77D4-439A-9225-A8F818AD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DA9E-E1DD-4F55-AF0B-29F6AD01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E418-FA39-4222-9F65-9E27334F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66A-0A41-49C6-AA1F-A5AE8001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601-24E2-4317-B944-8796D87E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E9E-3315-4C49-93A0-7F013083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66D-EA34-45AD-9431-79FF6349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0CD-AE69-4618-8FBD-59CF05C3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365-49B8-48E2-9BE0-F8F41B26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E31D-0F41-44CE-804B-EC6E3A5E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572E-9F38-47BD-A446-E7BF0941C34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B75A-9C0D-42FF-9009-CFBFE24D9A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836640"/>
            <a:ext cx="7993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Решение неравенств с </a:t>
            </a:r>
            <a:br>
              <a:rPr sz="4800"/>
            </a:b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       одной переменной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867280" y="3068280"/>
            <a:ext cx="2665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Алгебра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Картинка 89 из 13248"/>
          <p:cNvPicPr/>
          <p:nvPr/>
        </p:nvPicPr>
        <p:blipFill>
          <a:blip r:embed="rId1"/>
          <a:stretch/>
        </p:blipFill>
        <p:spPr>
          <a:xfrm>
            <a:off x="684360" y="3429000"/>
            <a:ext cx="3058920" cy="269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Прямоугольник 4"/>
          <p:cNvSpPr/>
          <p:nvPr/>
        </p:nvSpPr>
        <p:spPr>
          <a:xfrm>
            <a:off x="4211640" y="5229360"/>
            <a:ext cx="4537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1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Яковлева Любовь Викторовна,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МБОУ «Самосдельская СОШ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им. Шитова В. А.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48000" y="691920"/>
            <a:ext cx="550872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omic Sans MS"/>
              </a:rPr>
              <a:t>Историческая справ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132000" y="1752480"/>
            <a:ext cx="568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овременные знаки неравенств появились лишь в XVII— XVIII в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В 1631 году английский математик </a:t>
            </a: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Томас Гарриот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ввел для отношений «больше» и «меньше» знаки неравенства &lt;  и  &gt;, употребляемые и понын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имволы </a:t>
            </a:r>
            <a:r>
              <a:rPr b="1" lang="ru-RU" sz="2000" spc="-1" strike="noStrike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 и 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≥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 были введены в 1734 году французским математиком </a:t>
            </a: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Пьером Буге́ром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. 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" descr="200px-thomasharriot"/>
          <p:cNvPicPr/>
          <p:nvPr/>
        </p:nvPicPr>
        <p:blipFill>
          <a:blip r:embed="rId1"/>
          <a:stretch/>
        </p:blipFill>
        <p:spPr>
          <a:xfrm>
            <a:off x="971640" y="620640"/>
            <a:ext cx="1800000" cy="247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3" descr="Pierre_Bouguer_-_Jean-Baptiste_Perronneau"/>
          <p:cNvPicPr/>
          <p:nvPr/>
        </p:nvPicPr>
        <p:blipFill>
          <a:blip r:embed="rId2"/>
          <a:stretch/>
        </p:blipFill>
        <p:spPr>
          <a:xfrm>
            <a:off x="971640" y="3476520"/>
            <a:ext cx="1871640" cy="25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newsflash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400"/>
                            </p:stCondLst>
                            <p:childTnLst>
                              <p:par>
                                <p:cTn id="4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34920" y="260280"/>
            <a:ext cx="514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0000cc"/>
                </a:solidFill>
                <a:latin typeface="Comic Sans MS"/>
              </a:rPr>
              <a:t>Неравенства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2133720"/>
            <a:ext cx="8182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Скажите мне, какая математика без них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О тайне всех неравенств, вот о чём мой сти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Неравенства такая штука – без правил не решить!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Я тайну всех неравенств попробую откры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img986"/>
          <p:cNvPicPr/>
          <p:nvPr/>
        </p:nvPicPr>
        <p:blipFill>
          <a:blip r:embed="rId1"/>
          <a:stretch/>
        </p:blipFill>
        <p:spPr>
          <a:xfrm>
            <a:off x="3486240" y="4218120"/>
            <a:ext cx="4603680" cy="2315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100"/>
                            </p:stCondLst>
                            <p:childTnLst>
                              <p:par>
                                <p:cTn id="4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600"/>
                            </p:stCondLst>
                            <p:childTnLst>
                              <p:par>
                                <p:cTn id="4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50"/>
                            </p:stCondLst>
                            <p:childTnLst>
                              <p:par>
                                <p:cTn id="4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920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смотрим неравенство 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5х – 11 &gt; 3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000" y="2060280"/>
            <a:ext cx="828036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х = 4              5 • 4 – 11 &gt; 3;   9 &gt; 3 – верн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 х = 2             5 • 2 – 11 &gt; 3,   - 1 &gt; 3 – неверно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ешением неравенств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одной переменной называется значение переменной, 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Овал 3"/>
          <p:cNvSpPr/>
          <p:nvPr/>
        </p:nvSpPr>
        <p:spPr>
          <a:xfrm>
            <a:off x="2124000" y="2060640"/>
            <a:ext cx="505080" cy="5047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Решением неравенства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 одной переменной называется значение переменной, которое обращает его в верное числовое неравен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989000"/>
            <a:ext cx="8640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Являются ли числа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; 0,2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шением неравенств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2х – 1 &lt; 4;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)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4х + 5 &gt; 3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ешить неравенство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значит найти все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го решения или доказать, что их нет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Овал 3"/>
          <p:cNvSpPr/>
          <p:nvPr/>
        </p:nvSpPr>
        <p:spPr>
          <a:xfrm>
            <a:off x="3924360" y="1989000"/>
            <a:ext cx="504720" cy="503280"/>
          </a:xfrm>
          <a:prstGeom prst="ellipse">
            <a:avLst/>
          </a:prstGeom>
          <a:noFill/>
          <a:ln w="349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Овал 4"/>
          <p:cNvSpPr/>
          <p:nvPr/>
        </p:nvSpPr>
        <p:spPr>
          <a:xfrm>
            <a:off x="5292720" y="2565360"/>
            <a:ext cx="431640" cy="4320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Овал 5"/>
          <p:cNvSpPr/>
          <p:nvPr/>
        </p:nvSpPr>
        <p:spPr>
          <a:xfrm>
            <a:off x="6227640" y="2565360"/>
            <a:ext cx="432000" cy="4320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Овал 6"/>
          <p:cNvSpPr/>
          <p:nvPr/>
        </p:nvSpPr>
        <p:spPr>
          <a:xfrm>
            <a:off x="4427640" y="1989000"/>
            <a:ext cx="504720" cy="503280"/>
          </a:xfrm>
          <a:prstGeom prst="ellipse">
            <a:avLst/>
          </a:prstGeom>
          <a:noFill/>
          <a:ln w="349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Овал 10"/>
          <p:cNvSpPr/>
          <p:nvPr/>
        </p:nvSpPr>
        <p:spPr>
          <a:xfrm>
            <a:off x="6227640" y="3141720"/>
            <a:ext cx="432000" cy="43164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8" name="Овал 11"/>
          <p:cNvGrpSpPr/>
          <p:nvPr/>
        </p:nvGrpSpPr>
        <p:grpSpPr>
          <a:xfrm>
            <a:off x="5346720" y="3121200"/>
            <a:ext cx="468360" cy="469800"/>
            <a:chOff x="5346720" y="3121200"/>
            <a:chExt cx="468360" cy="469800"/>
          </a:xfrm>
        </p:grpSpPr>
        <p:pic>
          <p:nvPicPr>
            <p:cNvPr id="159" name="Овал 11" descr=""/>
            <p:cNvPicPr/>
            <p:nvPr/>
          </p:nvPicPr>
          <p:blipFill>
            <a:blip r:embed="rId1"/>
            <a:stretch/>
          </p:blipFill>
          <p:spPr>
            <a:xfrm>
              <a:off x="5346720" y="3121200"/>
              <a:ext cx="4683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427720" y="3203640"/>
              <a:ext cx="3049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" name="Овал 12"/>
          <p:cNvSpPr/>
          <p:nvPr/>
        </p:nvSpPr>
        <p:spPr>
          <a:xfrm>
            <a:off x="3924360" y="1989000"/>
            <a:ext cx="504720" cy="503280"/>
          </a:xfrm>
          <a:prstGeom prst="ellipse">
            <a:avLst/>
          </a:prstGeom>
          <a:noFill/>
          <a:ln w="349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Овал 13"/>
          <p:cNvSpPr/>
          <p:nvPr/>
        </p:nvSpPr>
        <p:spPr>
          <a:xfrm>
            <a:off x="4427640" y="1989000"/>
            <a:ext cx="504720" cy="503280"/>
          </a:xfrm>
          <a:prstGeom prst="ellipse">
            <a:avLst/>
          </a:prstGeom>
          <a:noFill/>
          <a:ln w="349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45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8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Равносильные неравенств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равенства, имеющие одни и те же решения, называют </a:t>
            </a: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равносильными.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равенства, не имеющие решений, тоже считают равносильн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х – 6 &gt; 0  и                           равносиль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 &gt;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</a:t>
            </a: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+ 4 ≤ 0 и  |х| + 3 &lt; 0          равносиль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х – 6 ≥ 0  и  2х &gt; 8               неравносильны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х ≥ 2                 х &gt;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"/>
              <p:cNvSpPr txBox="1"/>
              <p:nvPr/>
            </p:nvSpPr>
            <p:spPr>
              <a:xfrm>
                <a:off x="2843280" y="3789360"/>
                <a:ext cx="12049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newsflash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1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7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ru-RU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 решении неравенств используются следующие свойств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ли из одной части неравенства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еренести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 другую слагаемое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 противоположным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наком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то получится равносильное ему неравенство.</a:t>
            </a: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ли обе части неравенства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множить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ли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азделить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одно и то же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ложительное число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то получится равносильное ему неравенство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сли обе части неравенства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множить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азделить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дно и то же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рицательное число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зменив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при этом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нак неравенства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 противоположный, то получится</a:t>
            </a:r>
            <a:r>
              <a:rPr b="1" i="1" lang="ru-RU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вносильное ему неравенств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68000" y="2421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На примерах учимс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Comic Sans MS"/>
              </a:rPr>
              <a:t>Фед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2" descr="ROYAL ART: Буки — детский сказочный персонаж"/>
          <p:cNvPicPr/>
          <p:nvPr/>
        </p:nvPicPr>
        <p:blipFill>
          <a:blip r:embed="rId1"/>
          <a:stretch/>
        </p:blipFill>
        <p:spPr>
          <a:xfrm>
            <a:off x="7004160" y="328680"/>
            <a:ext cx="1749240" cy="2243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250"/>
                            </p:stCondLst>
                            <p:childTnLst>
                              <p:par>
                                <p:cTn id="7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1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шим неравенство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 3(2х – 1) &gt; 2(х + 2) + х + 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94920" y="1752480"/>
            <a:ext cx="5256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кроем скоб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едём подобные слагаемы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группируем в левой части слагаемые с переменной, 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правой - без переменно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едём подобные слагаемы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делим обе части неравенства на положительное число 3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храняя при этом знак неравенств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508720" y="1844280"/>
            <a:ext cx="33112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х – 3 &gt; 2х + 4 + х +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х – 3 &gt; 3х + 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х – 3х &gt; 9 +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х &gt;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&gt;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                       х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74" name="AutoShape 2"/>
          <p:cNvCxnSpPr/>
          <p:nvPr/>
        </p:nvCxnSpPr>
        <p:spPr>
          <a:xfrm>
            <a:off x="5796000" y="5229000"/>
            <a:ext cx="2419560" cy="1080"/>
          </a:xfrm>
          <a:prstGeom prst="straightConnector1">
            <a:avLst/>
          </a:prstGeom>
          <a:ln w="47520">
            <a:solidFill>
              <a:srgbClr val="0000cc"/>
            </a:solidFill>
            <a:miter/>
            <a:tailEnd len="med" type="triangle" w="med"/>
          </a:ln>
        </p:spPr>
      </p:cxnSp>
      <p:pic>
        <p:nvPicPr>
          <p:cNvPr id="175" name="Объект 5" descr=""/>
          <p:cNvPicPr/>
          <p:nvPr/>
        </p:nvPicPr>
        <p:blipFill>
          <a:blip r:embed="rId1"/>
          <a:srcRect l="-7344" t="-62617" r="-13750" b="-75389"/>
          <a:stretch/>
        </p:blipFill>
        <p:spPr>
          <a:xfrm>
            <a:off x="6156360" y="5013360"/>
            <a:ext cx="1808280" cy="277920"/>
          </a:xfrm>
          <a:prstGeom prst="rect">
            <a:avLst/>
          </a:prstGeom>
          <a:ln w="0">
            <a:noFill/>
          </a:ln>
        </p:spPr>
      </p:pic>
      <p:sp>
        <p:nvSpPr>
          <p:cNvPr id="176" name="Oval 4"/>
          <p:cNvSpPr/>
          <p:nvPr/>
        </p:nvSpPr>
        <p:spPr>
          <a:xfrm>
            <a:off x="6084720" y="5157720"/>
            <a:ext cx="149400" cy="12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5658120" y="56610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 (4; + ∞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ая соединительная линия 9"/>
          <p:cNvSpPr/>
          <p:nvPr/>
        </p:nvSpPr>
        <p:spPr>
          <a:xfrm>
            <a:off x="6804000" y="2276640"/>
            <a:ext cx="360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Прямая соединительная линия 14"/>
          <p:cNvSpPr/>
          <p:nvPr/>
        </p:nvSpPr>
        <p:spPr>
          <a:xfrm>
            <a:off x="7885080" y="2276640"/>
            <a:ext cx="3589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Прямая соединительная линия 15"/>
          <p:cNvSpPr/>
          <p:nvPr/>
        </p:nvSpPr>
        <p:spPr>
          <a:xfrm>
            <a:off x="7380360" y="2276640"/>
            <a:ext cx="360360" cy="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Прямая соединительная линия 16"/>
          <p:cNvSpPr/>
          <p:nvPr/>
        </p:nvSpPr>
        <p:spPr>
          <a:xfrm>
            <a:off x="8388360" y="2276640"/>
            <a:ext cx="360360" cy="0"/>
          </a:xfrm>
          <a:prstGeom prst="line">
            <a:avLst/>
          </a:prstGeom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150"/>
                            </p:stCondLst>
                            <p:childTnLst>
                              <p:par>
                                <p:cTn id="7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75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250"/>
                            </p:stCondLst>
                            <p:childTnLst>
                              <p:par>
                                <p:cTn id="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750"/>
                            </p:stCondLst>
                            <p:childTnLst>
                              <p:par>
                                <p:cTn id="8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650"/>
                            </p:stCondLst>
                            <p:childTnLst>
                              <p:par>
                                <p:cTn id="8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42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750"/>
                            </p:stCondLst>
                            <p:childTnLst>
                              <p:par>
                                <p:cTn id="8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900"/>
                            </p:stCondLst>
                            <p:childTnLst>
                              <p:par>
                                <p:cTn id="8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4900"/>
                            </p:stCondLst>
                            <p:childTnLst>
                              <p:par>
                                <p:cTn id="8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2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010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2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шим неравенств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&gt; 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752480"/>
            <a:ext cx="496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ножим обе части неравенства на наименьший общий знаменатель дробей, входящих в неравенство, т. е. на положительное число 6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едём подобные слагаемы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делим обе части на отрицательное число – 1, изменив знак неравенства на противоположны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08720" y="1752480"/>
            <a:ext cx="324000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    &gt;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•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х – 3х &gt;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х &gt;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&lt; -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12         х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"/>
              <p:cNvSpPr txBox="1"/>
              <p:nvPr/>
            </p:nvSpPr>
            <p:spPr>
              <a:xfrm>
                <a:off x="6659640" y="476280"/>
                <a:ext cx="1081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6012000" y="2133720"/>
                <a:ext cx="6188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6875640" y="2133720"/>
                <a:ext cx="6332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91" name="AutoShape 7"/>
          <p:cNvCxnSpPr/>
          <p:nvPr/>
        </p:nvCxnSpPr>
        <p:spPr>
          <a:xfrm>
            <a:off x="5579640" y="5157360"/>
            <a:ext cx="2420280" cy="1080"/>
          </a:xfrm>
          <a:prstGeom prst="straightConnector1">
            <a:avLst/>
          </a:prstGeom>
          <a:ln w="4752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192" name="Oval 8"/>
          <p:cNvSpPr/>
          <p:nvPr/>
        </p:nvSpPr>
        <p:spPr>
          <a:xfrm>
            <a:off x="7143840" y="5072040"/>
            <a:ext cx="142920" cy="144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Объект 5" descr=""/>
          <p:cNvPicPr/>
          <p:nvPr/>
        </p:nvPicPr>
        <p:blipFill>
          <a:blip r:embed="rId1"/>
          <a:srcRect l="-7344" t="-62617" r="-13750" b="-75389"/>
          <a:stretch/>
        </p:blipFill>
        <p:spPr>
          <a:xfrm>
            <a:off x="5572080" y="4929120"/>
            <a:ext cx="1800360" cy="2872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13"/>
          <p:cNvSpPr/>
          <p:nvPr/>
        </p:nvSpPr>
        <p:spPr>
          <a:xfrm>
            <a:off x="5481000" y="566100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вет:(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∞; -1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850"/>
                            </p:stCondLst>
                            <p:childTnLst>
                              <p:par>
                                <p:cTn id="9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750"/>
                            </p:stCondLst>
                            <p:childTnLst>
                              <p:par>
                                <p:cTn id="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4400"/>
                            </p:stCondLst>
                            <p:childTnLst>
                              <p:par>
                                <p:cTn id="9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000"/>
                            </p:stCondLst>
                            <p:childTnLst>
                              <p:par>
                                <p:cTn id="9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9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1092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х ≤ 15,     3х &gt; 12,    - х &gt; 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Решения неравенств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Calibri"/>
              </a:rPr>
              <a:t>ах &gt; b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или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Calibri"/>
              </a:rPr>
              <a:t>ах &lt; b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Calibri"/>
              </a:rPr>
              <a:t>  при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Calibri"/>
              </a:rPr>
              <a:t>а = 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 • х &lt; 4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2. 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 • х &lt; -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Линейное неравенство вида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 • х &lt; b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ли 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0 • х &gt; b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 а значит и соответствующее ему исходное неравенство, либо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имеет решений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 либо его решением является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юбое число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569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еравенства вида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х &gt; b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ли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х &lt; b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  где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</a:t>
            </a:r>
            <a:br>
              <a:rPr sz="2400"/>
            </a:b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екоторые числа,  называют </a:t>
            </a: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линейными неравенствами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 одной переменно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Содержимое 2"/>
          <p:cNvSpPr/>
          <p:nvPr/>
        </p:nvSpPr>
        <p:spPr>
          <a:xfrm>
            <a:off x="4643280" y="3141720"/>
            <a:ext cx="3718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вет: х – любое чи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Содержимое 4"/>
          <p:cNvSpPr/>
          <p:nvPr/>
        </p:nvSpPr>
        <p:spPr>
          <a:xfrm>
            <a:off x="4643280" y="3500280"/>
            <a:ext cx="338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твет: нет решений</a:t>
            </a:r>
            <a:r>
              <a:rPr b="1" i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468144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5280" y="2276640"/>
            <a:ext cx="842472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ввести понятия «решение неравенства», «равносильные неравенства»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познакомиться со свойствами равносильности неравенст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рассмотреть решение линейных неравенств вида  ах &gt; b, ax &lt; b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научиться решать неравенства с одной переменной, опираясь на свой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Comic Sans MS"/>
              </a:rPr>
              <a:t>равносильност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1" descr="C:\Users\мама\AppData\Local\Microsoft\Windows\Temporary Internet Files\Content.IE5\RE79SSN5\MCj01500020000[1].wmf"/>
          <p:cNvPicPr/>
          <p:nvPr/>
        </p:nvPicPr>
        <p:blipFill>
          <a:blip r:embed="rId1"/>
          <a:stretch/>
        </p:blipFill>
        <p:spPr>
          <a:xfrm>
            <a:off x="6156360" y="260280"/>
            <a:ext cx="2543040" cy="206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Алгоритм решения  неравенств первой степени с одной переменной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крыть скобки и привести подобные слагаем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группировать слагаемые с переменной в левой части неравенства, а без переменной – в правой части, при переносе меняя зна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ести подобные слагаем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делить обе части неравенства на коэффициент при переменной, если он не равен нул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зобразить множество решений неравенства на координатной прям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писать ответ в виде числового промежут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            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            </a:t>
            </a:r>
            <a:br>
              <a:rPr sz="4000"/>
            </a:b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Устные упражне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4724280"/>
            <a:ext cx="7777440" cy="9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к </a:t>
            </a: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зменится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когда неравенств обе ча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лить на с минусом чис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10920" y="2636640"/>
            <a:ext cx="25304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)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2х &lt;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)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2х &gt;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)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2х ≤ 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03920" indent="-403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6000" y="1916280"/>
            <a:ext cx="51847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шите неравенство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2920" y="2565000"/>
            <a:ext cx="201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)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х &lt;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)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х ≤ 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6)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– х ≥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3" descr="Картинка 1577 из 405083"/>
          <p:cNvPicPr/>
          <p:nvPr/>
        </p:nvPicPr>
        <p:blipFill>
          <a:blip r:embed="rId1"/>
          <a:stretch/>
        </p:blipFill>
        <p:spPr>
          <a:xfrm>
            <a:off x="7211880" y="249120"/>
            <a:ext cx="1633680" cy="42195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8"/>
          <p:cNvSpPr/>
          <p:nvPr/>
        </p:nvSpPr>
        <p:spPr>
          <a:xfrm>
            <a:off x="2916360" y="2637000"/>
            <a:ext cx="129528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&gt; - 2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&lt; - 3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≥ - 3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Прямоугольник 9"/>
          <p:cNvSpPr/>
          <p:nvPr/>
        </p:nvSpPr>
        <p:spPr>
          <a:xfrm>
            <a:off x="6588000" y="2565360"/>
            <a:ext cx="13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&gt; - 12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≥ 0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х ≤ -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Прямоугольник 10"/>
          <p:cNvSpPr/>
          <p:nvPr/>
        </p:nvSpPr>
        <p:spPr>
          <a:xfrm>
            <a:off x="684360" y="1989000"/>
            <a:ext cx="287280" cy="2667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850"/>
                            </p:stCondLst>
                            <p:childTnLst>
                              <p:par>
                                <p:cTn id="1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61912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            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Comic Sans MS"/>
              </a:rPr>
              <a:t>            </a:t>
            </a:r>
            <a:br>
              <a:rPr sz="4000"/>
            </a:b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Устные упражне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10920" y="169992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3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йдите решение неравенств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)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 • х &lt; 7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)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 • x &lt; -7                   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имеет реш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 • х ≥ 6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)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 • х &gt; -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)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 • х ≤ 0                         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 -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юбое числ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)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0 • x &gt; 0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1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3" descr="Картинка 1577 из 405083"/>
          <p:cNvPicPr/>
          <p:nvPr/>
        </p:nvPicPr>
        <p:blipFill>
          <a:blip r:embed="rId1"/>
          <a:stretch/>
        </p:blipFill>
        <p:spPr>
          <a:xfrm>
            <a:off x="7211880" y="328680"/>
            <a:ext cx="1578240" cy="4060800"/>
          </a:xfrm>
          <a:prstGeom prst="rect">
            <a:avLst/>
          </a:prstGeom>
          <a:ln w="0">
            <a:noFill/>
          </a:ln>
        </p:spPr>
      </p:pic>
      <p:cxnSp>
        <p:nvCxnSpPr>
          <p:cNvPr id="213" name="Прямая со стрелкой 6"/>
          <p:cNvCxnSpPr/>
          <p:nvPr/>
        </p:nvCxnSpPr>
        <p:spPr>
          <a:xfrm>
            <a:off x="2843280" y="2492280"/>
            <a:ext cx="2234160" cy="2449800"/>
          </a:xfrm>
          <a:prstGeom prst="straightConnector1">
            <a:avLst/>
          </a:prstGeom>
          <a:ln w="349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14" name="Прямая со стрелкой 9"/>
          <p:cNvCxnSpPr/>
          <p:nvPr/>
        </p:nvCxnSpPr>
        <p:spPr>
          <a:xfrm>
            <a:off x="3059280" y="4221000"/>
            <a:ext cx="2018160" cy="721440"/>
          </a:xfrm>
          <a:prstGeom prst="straightConnector1">
            <a:avLst/>
          </a:prstGeom>
          <a:ln w="349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15" name="Прямая со стрелкой 14"/>
          <p:cNvCxnSpPr/>
          <p:nvPr/>
        </p:nvCxnSpPr>
        <p:spPr>
          <a:xfrm>
            <a:off x="2843280" y="4868640"/>
            <a:ext cx="2234160" cy="144720"/>
          </a:xfrm>
          <a:prstGeom prst="straightConnector1">
            <a:avLst/>
          </a:prstGeom>
          <a:ln w="34920">
            <a:solidFill>
              <a:srgbClr val="33cc33"/>
            </a:solidFill>
            <a:miter/>
            <a:tailEnd len="med" type="arrow" w="med"/>
          </a:ln>
        </p:spPr>
      </p:cxnSp>
      <p:cxnSp>
        <p:nvCxnSpPr>
          <p:cNvPr id="216" name="Прямая со стрелкой 22"/>
          <p:cNvCxnSpPr/>
          <p:nvPr/>
        </p:nvCxnSpPr>
        <p:spPr>
          <a:xfrm>
            <a:off x="2987640" y="3141360"/>
            <a:ext cx="1729440" cy="1080"/>
          </a:xfrm>
          <a:prstGeom prst="straightConnector1">
            <a:avLst/>
          </a:prstGeom>
          <a:ln w="3492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217" name="Прямая со стрелкой 24"/>
          <p:cNvCxnSpPr/>
          <p:nvPr/>
        </p:nvCxnSpPr>
        <p:spPr>
          <a:xfrm flipV="1">
            <a:off x="2842920" y="3212640"/>
            <a:ext cx="1873800" cy="504000"/>
          </a:xfrm>
          <a:prstGeom prst="straightConnector1">
            <a:avLst/>
          </a:prstGeom>
          <a:ln w="34920">
            <a:solidFill>
              <a:srgbClr val="800080"/>
            </a:solidFill>
            <a:miter/>
            <a:tailEnd len="med" type="arrow" w="med"/>
          </a:ln>
        </p:spPr>
      </p:cxnSp>
      <p:cxnSp>
        <p:nvCxnSpPr>
          <p:cNvPr id="218" name="Прямая со стрелкой 30"/>
          <p:cNvCxnSpPr/>
          <p:nvPr/>
        </p:nvCxnSpPr>
        <p:spPr>
          <a:xfrm flipV="1">
            <a:off x="2916000" y="3213000"/>
            <a:ext cx="1727640" cy="2161080"/>
          </a:xfrm>
          <a:prstGeom prst="straightConnector1">
            <a:avLst/>
          </a:prstGeom>
          <a:ln w="34920">
            <a:solidFill>
              <a:srgbClr val="800080"/>
            </a:solidFill>
            <a:miter/>
            <a:tailEnd len="med" type="arrow" w="med"/>
          </a:ln>
        </p:spPr>
      </p:cxnSp>
    </p:spTree>
  </p:cSld>
  <p:transition>
    <p:newsflash/>
  </p:transition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0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700"/>
                            </p:stCondLst>
                            <p:childTnLst>
                              <p:par>
                                <p:cTn id="12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10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10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752472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omic Sans MS"/>
              </a:rPr>
              <a:t>Письменные упражнен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284720" y="1989000"/>
            <a:ext cx="3744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полните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6(а, б, в)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0(д, е, ж, з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4(а, д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2" descr="Картинка 1159 из 13244"/>
          <p:cNvPicPr/>
          <p:nvPr/>
        </p:nvPicPr>
        <p:blipFill>
          <a:blip r:embed="rId1"/>
          <a:stretch/>
        </p:blipFill>
        <p:spPr>
          <a:xfrm>
            <a:off x="1017720" y="2127240"/>
            <a:ext cx="2444760" cy="6218280"/>
          </a:xfrm>
          <a:prstGeom prst="rect">
            <a:avLst/>
          </a:prstGeom>
          <a:ln w="0">
            <a:noFill/>
          </a:ln>
        </p:spPr>
      </p:pic>
      <p:sp>
        <p:nvSpPr>
          <p:cNvPr id="22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17080" y="5589720"/>
            <a:ext cx="576000" cy="466560"/>
          </a:xfrm>
          <a:custGeom>
            <a:avLst/>
            <a:gdLst>
              <a:gd name="textAreaLeft" fmla="*/ 30240 w 576000"/>
              <a:gd name="textAreaRight" fmla="*/ 545760 w 57600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6663" h="21600">
                <a:moveTo>
                  <a:pt x="0" y="0"/>
                </a:moveTo>
                <a:lnTo>
                  <a:pt x="26663" y="0"/>
                </a:lnTo>
                <a:lnTo>
                  <a:pt x="26663" y="21600"/>
                </a:lnTo>
                <a:lnTo>
                  <a:pt x="0" y="21600"/>
                </a:lnTo>
                <a:close/>
              </a:path>
              <a:path fill="lightenLess" w="26663" h="21600">
                <a:moveTo>
                  <a:pt x="0" y="0"/>
                </a:moveTo>
                <a:lnTo>
                  <a:pt x="26663" y="0"/>
                </a:lnTo>
                <a:lnTo>
                  <a:pt x="25263" y="1400"/>
                </a:lnTo>
                <a:lnTo>
                  <a:pt x="1400" y="1400"/>
                </a:lnTo>
                <a:close/>
              </a:path>
              <a:path fill="darken" w="26663" h="21600">
                <a:moveTo>
                  <a:pt x="26663" y="0"/>
                </a:moveTo>
                <a:lnTo>
                  <a:pt x="26663" y="21600"/>
                </a:lnTo>
                <a:lnTo>
                  <a:pt x="25263" y="20200"/>
                </a:lnTo>
                <a:lnTo>
                  <a:pt x="25263" y="1400"/>
                </a:lnTo>
                <a:close/>
              </a:path>
              <a:path fill="darkenLess" w="26663" h="21600">
                <a:moveTo>
                  <a:pt x="26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3" y="20200"/>
                </a:lnTo>
                <a:close/>
              </a:path>
              <a:path fill="lighten" w="26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63" h="21600">
                <a:moveTo>
                  <a:pt x="6325" y="3794"/>
                </a:moveTo>
                <a:lnTo>
                  <a:pt x="20338" y="10800"/>
                </a:lnTo>
                <a:lnTo>
                  <a:pt x="6325" y="17806"/>
                </a:lnTo>
                <a:close/>
              </a:path>
            </a:pathLst>
          </a:custGeom>
          <a:noFill/>
          <a:ln w="316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950"/>
                            </p:stCondLst>
                            <p:childTnLst>
                              <p:par>
                                <p:cTn id="13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1092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Как приятно,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что ты что – то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                 </a:t>
            </a:r>
            <a:r>
              <a:rPr b="1" lang="ru-RU" sz="5400" spc="-1" strike="noStrike">
                <a:solidFill>
                  <a:srgbClr val="0000cc"/>
                </a:solidFill>
                <a:latin typeface="Comic Sans MS"/>
              </a:rPr>
              <a:t>узнал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Молье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99240" indent="-3992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2" descr="ROYAL ART: Буки — детский сказочный персонаж"/>
          <p:cNvPicPr/>
          <p:nvPr/>
        </p:nvPicPr>
        <p:blipFill>
          <a:blip r:embed="rId1"/>
          <a:stretch/>
        </p:blipFill>
        <p:spPr>
          <a:xfrm>
            <a:off x="6870600" y="328680"/>
            <a:ext cx="1882800" cy="2414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0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3750"/>
                            </p:stCondLst>
                            <p:childTnLst>
                              <p:par>
                                <p:cTn id="13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7640" y="333360"/>
            <a:ext cx="7021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211280" y="1989000"/>
            <a:ext cx="453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зучить  п.34(выучить определения, свойства и алгоритм решен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полн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№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35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№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36(д – м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№ 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84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2" descr="Анимашки книги, книги анимированные, разные анимашки | Smayli.ru"/>
          <p:cNvPicPr/>
          <p:nvPr/>
        </p:nvPicPr>
        <p:blipFill>
          <a:blip r:embed="rId1"/>
          <a:stretch/>
        </p:blipFill>
        <p:spPr>
          <a:xfrm>
            <a:off x="457200" y="2133720"/>
            <a:ext cx="3327480" cy="3166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400"/>
                            </p:stCondLst>
                            <p:childTnLst>
                              <p:par>
                                <p:cTn id="14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6100"/>
                            </p:stCondLst>
                            <p:childTnLst>
                              <p:par>
                                <p:cTn id="14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7050"/>
                            </p:stCondLst>
                            <p:childTnLst>
                              <p:par>
                                <p:cTn id="14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68360" y="2565000"/>
            <a:ext cx="79912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Всякий день ес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ученик дня вчерашнего. 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Публий Си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2" descr="ROYAL ART: Буки — детский сказочный персонаж"/>
          <p:cNvPicPr/>
          <p:nvPr/>
        </p:nvPicPr>
        <p:blipFill>
          <a:blip r:embed="rId1"/>
          <a:stretch/>
        </p:blipFill>
        <p:spPr>
          <a:xfrm>
            <a:off x="6870600" y="182520"/>
            <a:ext cx="1968480" cy="2524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150"/>
                            </p:stCondLst>
                            <p:childTnLst>
                              <p:par>
                                <p:cTn id="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1280" y="333360"/>
            <a:ext cx="640872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Устные упражне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844640"/>
            <a:ext cx="8136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ная, что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 &lt; b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поставьте соответствующий знак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или 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чтобы неравенство было верны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427280" y="3499920"/>
            <a:ext cx="439236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) -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5а □ - 5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) 5а □ 5b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) a – 4 □ b –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4) b + 3 □ a +3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img15179750"/>
          <p:cNvPicPr/>
          <p:nvPr/>
        </p:nvPicPr>
        <p:blipFill>
          <a:blip r:embed="rId1"/>
          <a:stretch/>
        </p:blipFill>
        <p:spPr>
          <a:xfrm>
            <a:off x="676440" y="3492360"/>
            <a:ext cx="2676240" cy="2481480"/>
          </a:xfrm>
          <a:prstGeom prst="rect">
            <a:avLst/>
          </a:prstGeom>
          <a:ln w="0">
            <a:noFill/>
          </a:ln>
        </p:spPr>
      </p:pic>
      <p:cxnSp>
        <p:nvCxnSpPr>
          <p:cNvPr id="98" name="AutoShape 5"/>
          <p:cNvCxnSpPr/>
          <p:nvPr/>
        </p:nvCxnSpPr>
        <p:spPr>
          <a:xfrm flipV="1">
            <a:off x="7451280" y="4076280"/>
            <a:ext cx="361080" cy="16920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99" name="AutoShape 6"/>
          <p:cNvCxnSpPr/>
          <p:nvPr/>
        </p:nvCxnSpPr>
        <p:spPr>
          <a:xfrm>
            <a:off x="7451280" y="4221000"/>
            <a:ext cx="321480" cy="16272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100" name="AutoShape 5"/>
          <p:cNvCxnSpPr/>
          <p:nvPr/>
        </p:nvCxnSpPr>
        <p:spPr>
          <a:xfrm flipV="1">
            <a:off x="7524360" y="4652640"/>
            <a:ext cx="361080" cy="16704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101" name="AutoShape 5"/>
          <p:cNvCxnSpPr/>
          <p:nvPr/>
        </p:nvCxnSpPr>
        <p:spPr>
          <a:xfrm flipV="1">
            <a:off x="7380000" y="3715920"/>
            <a:ext cx="361080" cy="16920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102" name="AutoShape 5"/>
          <p:cNvCxnSpPr/>
          <p:nvPr/>
        </p:nvCxnSpPr>
        <p:spPr>
          <a:xfrm flipV="1">
            <a:off x="7524360" y="5299920"/>
            <a:ext cx="361080" cy="16884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103" name="AutoShape 6"/>
          <p:cNvCxnSpPr/>
          <p:nvPr/>
        </p:nvCxnSpPr>
        <p:spPr>
          <a:xfrm>
            <a:off x="7380000" y="3500280"/>
            <a:ext cx="361080" cy="21672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104" name="AutoShape 6"/>
          <p:cNvCxnSpPr/>
          <p:nvPr/>
        </p:nvCxnSpPr>
        <p:spPr>
          <a:xfrm>
            <a:off x="7524360" y="5157720"/>
            <a:ext cx="321480" cy="16272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  <p:cxnSp>
        <p:nvCxnSpPr>
          <p:cNvPr id="105" name="AutoShape 6"/>
          <p:cNvCxnSpPr/>
          <p:nvPr/>
        </p:nvCxnSpPr>
        <p:spPr>
          <a:xfrm>
            <a:off x="7524360" y="4797360"/>
            <a:ext cx="321480" cy="162720"/>
          </a:xfrm>
          <a:prstGeom prst="straightConnector1">
            <a:avLst/>
          </a:prstGeom>
          <a:ln w="63360">
            <a:solidFill>
              <a:srgbClr val="009900"/>
            </a:solidFill>
            <a:miter/>
          </a:ln>
        </p:spPr>
      </p:cxnSp>
    </p:spTree>
  </p:cSld>
  <p:transition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1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11280" y="333360"/>
            <a:ext cx="640872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Устные упражне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844640"/>
            <a:ext cx="8136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надлежит ли отрезку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[- 7; - 4]  </a:t>
            </a: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исло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356000" y="2852640"/>
            <a:ext cx="295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6,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3,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3" descr="img15179750"/>
          <p:cNvPicPr/>
          <p:nvPr/>
        </p:nvPicPr>
        <p:blipFill>
          <a:blip r:embed="rId1"/>
          <a:stretch/>
        </p:blipFill>
        <p:spPr>
          <a:xfrm>
            <a:off x="676440" y="3492360"/>
            <a:ext cx="2676240" cy="2481480"/>
          </a:xfrm>
          <a:prstGeom prst="rect">
            <a:avLst/>
          </a:prstGeom>
          <a:ln w="0">
            <a:noFill/>
          </a:ln>
        </p:spPr>
      </p:pic>
      <p:sp>
        <p:nvSpPr>
          <p:cNvPr id="110" name="Овал 14"/>
          <p:cNvSpPr/>
          <p:nvPr/>
        </p:nvSpPr>
        <p:spPr>
          <a:xfrm>
            <a:off x="6516720" y="3933720"/>
            <a:ext cx="431640" cy="43200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Овал 6"/>
          <p:cNvSpPr/>
          <p:nvPr/>
        </p:nvSpPr>
        <p:spPr>
          <a:xfrm>
            <a:off x="6516720" y="4724280"/>
            <a:ext cx="431640" cy="43344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66ff99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00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Овал 7"/>
          <p:cNvGrpSpPr/>
          <p:nvPr/>
        </p:nvGrpSpPr>
        <p:grpSpPr>
          <a:xfrm>
            <a:off x="6497640" y="3121200"/>
            <a:ext cx="469800" cy="469800"/>
            <a:chOff x="6497640" y="3121200"/>
            <a:chExt cx="469800" cy="469800"/>
          </a:xfrm>
        </p:grpSpPr>
        <p:pic>
          <p:nvPicPr>
            <p:cNvPr id="113" name="Овал 7" descr=""/>
            <p:cNvPicPr/>
            <p:nvPr/>
          </p:nvPicPr>
          <p:blipFill>
            <a:blip r:embed="rId2"/>
            <a:stretch/>
          </p:blipFill>
          <p:spPr>
            <a:xfrm>
              <a:off x="6497640" y="3121200"/>
              <a:ext cx="4698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580080" y="3203640"/>
              <a:ext cx="3049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5" name="Овал 8"/>
          <p:cNvGrpSpPr/>
          <p:nvPr/>
        </p:nvGrpSpPr>
        <p:grpSpPr>
          <a:xfrm>
            <a:off x="6497640" y="5425920"/>
            <a:ext cx="469800" cy="468360"/>
            <a:chOff x="6497640" y="5425920"/>
            <a:chExt cx="469800" cy="468360"/>
          </a:xfrm>
        </p:grpSpPr>
        <p:pic>
          <p:nvPicPr>
            <p:cNvPr id="116" name="Овал 8" descr=""/>
            <p:cNvPicPr/>
            <p:nvPr/>
          </p:nvPicPr>
          <p:blipFill>
            <a:blip r:embed="rId3"/>
            <a:stretch/>
          </p:blipFill>
          <p:spPr>
            <a:xfrm>
              <a:off x="6497640" y="5425920"/>
              <a:ext cx="4698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580080" y="5508720"/>
              <a:ext cx="3049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newsflash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200"/>
                            </p:stCondLst>
                            <p:childTnLst>
                              <p:par>
                                <p:cTn id="2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333360"/>
            <a:ext cx="640872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Устные упражне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844640"/>
            <a:ext cx="8136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кажите наибольшее целое число, принадлежащее промежутку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3" descr="img15179750"/>
          <p:cNvPicPr/>
          <p:nvPr/>
        </p:nvPicPr>
        <p:blipFill>
          <a:blip r:embed="rId1"/>
          <a:stretch/>
        </p:blipFill>
        <p:spPr>
          <a:xfrm>
            <a:off x="676440" y="3492360"/>
            <a:ext cx="2676240" cy="2481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995280" y="2707920"/>
            <a:ext cx="230364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-389880">
              <a:lnSpc>
                <a:spcPct val="2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[-1; 4]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2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- ∞; 3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89880" indent="-389880">
              <a:lnSpc>
                <a:spcPct val="2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2; + ∞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2" name="Пятно 1 8"/>
          <p:cNvGrpSpPr/>
          <p:nvPr/>
        </p:nvGrpSpPr>
        <p:grpSpPr>
          <a:xfrm>
            <a:off x="6784920" y="2835360"/>
            <a:ext cx="1120680" cy="955440"/>
            <a:chOff x="6784920" y="2835360"/>
            <a:chExt cx="1120680" cy="955440"/>
          </a:xfrm>
        </p:grpSpPr>
        <p:pic>
          <p:nvPicPr>
            <p:cNvPr id="123" name="Пятно 1 8" descr=""/>
            <p:cNvPicPr/>
            <p:nvPr/>
          </p:nvPicPr>
          <p:blipFill>
            <a:blip r:embed="rId2"/>
            <a:stretch/>
          </p:blipFill>
          <p:spPr>
            <a:xfrm>
              <a:off x="6784920" y="2835360"/>
              <a:ext cx="1120680" cy="9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035840" y="3121200"/>
              <a:ext cx="603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5" name="Пятно 1 9"/>
          <p:cNvGrpSpPr/>
          <p:nvPr/>
        </p:nvGrpSpPr>
        <p:grpSpPr>
          <a:xfrm>
            <a:off x="6424560" y="3986280"/>
            <a:ext cx="1122480" cy="982440"/>
            <a:chOff x="6424560" y="3986280"/>
            <a:chExt cx="1122480" cy="982440"/>
          </a:xfrm>
        </p:grpSpPr>
        <p:pic>
          <p:nvPicPr>
            <p:cNvPr id="126" name="Пятно 1 9" descr=""/>
            <p:cNvPicPr/>
            <p:nvPr/>
          </p:nvPicPr>
          <p:blipFill>
            <a:blip r:embed="rId3"/>
            <a:stretch/>
          </p:blipFill>
          <p:spPr>
            <a:xfrm>
              <a:off x="6424560" y="3986280"/>
              <a:ext cx="112248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675480" y="4278240"/>
              <a:ext cx="603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8" name="Овал 11"/>
          <p:cNvSpPr/>
          <p:nvPr/>
        </p:nvSpPr>
        <p:spPr>
          <a:xfrm>
            <a:off x="6300720" y="5229360"/>
            <a:ext cx="2448000" cy="7207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существу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5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40872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Comic Sans MS"/>
              </a:rPr>
              <a:t>Устные упражнени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1844640"/>
            <a:ext cx="4895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йди ошибку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99640" y="2923920"/>
            <a:ext cx="7775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x ≥ 7                                       Ответ: (- ∞; 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y &lt; 2,5                                    Ответ: (- ∞; 2,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,5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" descr="50"/>
          <p:cNvPicPr/>
          <p:nvPr/>
        </p:nvPicPr>
        <p:blipFill>
          <a:blip r:embed="rId1"/>
          <a:stretch/>
        </p:blipFill>
        <p:spPr>
          <a:xfrm>
            <a:off x="2843280" y="3068640"/>
            <a:ext cx="2089080" cy="382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50"/>
          <p:cNvPicPr/>
          <p:nvPr/>
        </p:nvPicPr>
        <p:blipFill>
          <a:blip r:embed="rId2"/>
          <a:stretch/>
        </p:blipFill>
        <p:spPr>
          <a:xfrm>
            <a:off x="2987640" y="4221000"/>
            <a:ext cx="2260800" cy="28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75"/>
                            </p:stCondLst>
                            <p:childTnLst>
                              <p:par>
                                <p:cTn id="3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925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4360" y="2349360"/>
            <a:ext cx="720072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В учении нельз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1" lang="ru-RU" sz="4800" spc="-1" strike="noStrike">
                <a:solidFill>
                  <a:srgbClr val="0000cc"/>
                </a:solidFill>
                <a:latin typeface="Comic Sans MS"/>
              </a:rPr>
              <a:t>останавливатьс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omic Sans MS"/>
              </a:rPr>
              <a:t>                      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Сюньцз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" descr="ROYAL ART: Буки — детский сказочный персонаж"/>
          <p:cNvPicPr/>
          <p:nvPr/>
        </p:nvPicPr>
        <p:blipFill>
          <a:blip r:embed="rId1"/>
          <a:stretch/>
        </p:blipFill>
        <p:spPr>
          <a:xfrm>
            <a:off x="6943680" y="255600"/>
            <a:ext cx="1882800" cy="2414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100"/>
                            </p:stCondLst>
                            <p:childTnLst>
                              <p:par>
                                <p:cTn id="3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30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476280"/>
            <a:ext cx="558792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Comic Sans MS"/>
              </a:rPr>
              <a:t>Историческая справ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5976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Понятиями неравенства пользовались уже древние гре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Например</a:t>
            </a:r>
            <a:r>
              <a:rPr b="1" i="1" lang="ru-RU" sz="2000" spc="-1" strike="noStrike">
                <a:solidFill>
                  <a:srgbClr val="002060"/>
                </a:solidFill>
                <a:latin typeface="Comic Sans MS"/>
              </a:rPr>
              <a:t>, </a:t>
            </a: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Архимед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(III в. до н. э.), занимаясь вычислением длины окружности, указал границы числа «п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Ряд неравенств приводит в своём трактате «Начала» </a:t>
            </a: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Евклид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1" lang="ru-RU" sz="2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Он, например, доказывает, что среднее геометрическое двух чисел не больше их среднего арифметического и не меньше их среднего гармонического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Arhimed1"/>
          <p:cNvPicPr/>
          <p:nvPr/>
        </p:nvPicPr>
        <p:blipFill>
          <a:blip r:embed="rId1"/>
          <a:stretch/>
        </p:blipFill>
        <p:spPr>
          <a:xfrm>
            <a:off x="900000" y="404640"/>
            <a:ext cx="1800360" cy="263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5" descr="Файл:Euklid2.jpg"/>
          <p:cNvPicPr/>
          <p:nvPr/>
        </p:nvPicPr>
        <p:blipFill>
          <a:blip r:embed="rId2"/>
          <a:stretch/>
        </p:blipFill>
        <p:spPr>
          <a:xfrm>
            <a:off x="971640" y="3357720"/>
            <a:ext cx="1728720" cy="260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400"/>
                            </p:stCondLst>
                            <p:childTnLst>
                              <p:par>
                                <p:cTn id="3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100"/>
                            </p:stCondLst>
                            <p:childTnLst>
                              <p:par>
                                <p:cTn id="3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9:43:09Z</dcterms:created>
  <dc:creator>*</dc:creator>
  <dc:description/>
  <dc:language>en-US</dc:language>
  <cp:lastModifiedBy>1</cp:lastModifiedBy>
  <dcterms:modified xsi:type="dcterms:W3CDTF">2012-07-09T12:28:16Z</dcterms:modified>
  <cp:revision>167</cp:revision>
  <dc:subject/>
  <dc:title>Слайд 1</dc:title>
</cp:coreProperties>
</file>