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2F3-8C75-4155-9D7C-19D3527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287-5060-4C82-BCD1-D29FE40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6D1-5346-4D4D-87BD-9F26C706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8B9-4A3C-4547-BF69-EF04917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453D-48C7-4A0D-92FB-41491913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3CAE-9821-4272-BD82-2E4EFDF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AE3-87C8-4258-860E-1F2D020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0B4-CC16-44BF-A00B-46E5EF5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9DFA-FD5D-4D3B-A84F-56032C2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DF55-6FD4-44E7-AA08-D9A8CE65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4590-B314-43E5-AD50-221D25D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062-0ED9-4589-BB15-18DD93BE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4172-952E-4BAB-B04F-DFE6D7C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2804-1AAC-4290-A895-B104A11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DED9-39A8-4382-9CD6-6B5E4D43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45DC-2CDA-4579-9AEE-A1FF47A8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C88-9A4F-4EC5-9E3F-794155AD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A29-B961-4809-AAA9-05F3953E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EA8-55DA-468D-AC45-9551E37A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2F6-8102-48E1-9B08-7E2E37A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2E2-463D-49AC-B28E-AC9EFD2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BD1-FCC0-4783-9653-029D1E1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8EE-4B57-4420-9DF7-B30186F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B97-B75B-4174-AF28-A3CC857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1FC-8E33-4997-A5AF-582F9A3D54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0944-6E29-46C2-9440-4CEE83720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Решение неравенств с 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       одной переменно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867280" y="3068280"/>
            <a:ext cx="266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лгебра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Картинка 89 из 13248"/>
          <p:cNvPicPr/>
          <p:nvPr/>
        </p:nvPicPr>
        <p:blipFill>
          <a:blip r:embed="rId1"/>
          <a:stretch/>
        </p:blipFill>
        <p:spPr>
          <a:xfrm>
            <a:off x="684360" y="3429000"/>
            <a:ext cx="3058920" cy="26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Прямоугольник 4"/>
          <p:cNvSpPr/>
          <p:nvPr/>
        </p:nvSpPr>
        <p:spPr>
          <a:xfrm>
            <a:off x="4211640" y="5229360"/>
            <a:ext cx="453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Яковлева Любовь Викторовна,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МБОУ «Самосдельская СО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им. Шитова В. А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48000" y="691920"/>
            <a:ext cx="5508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mic Sans MS"/>
              </a:rPr>
              <a:t>Историческая справ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32000" y="1752480"/>
            <a:ext cx="568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временные знаки неравенств появились лишь в XVII— XVIII в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В 1631 году английский математик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Томас Гарриот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ввел для отношений «больше» и «меньше» знаки неравенства &lt;  и  &gt;, употребляемые и поны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имволы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и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≥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были введены в 1734 году французским математиком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ьером Буге́ром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. 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200px-thomasharriot"/>
          <p:cNvPicPr/>
          <p:nvPr/>
        </p:nvPicPr>
        <p:blipFill>
          <a:blip r:embed="rId1"/>
          <a:stretch/>
        </p:blipFill>
        <p:spPr>
          <a:xfrm>
            <a:off x="971640" y="620640"/>
            <a:ext cx="1800000" cy="24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3" descr="Pierre_Bouguer_-_Jean-Baptiste_Perronneau"/>
          <p:cNvPicPr/>
          <p:nvPr/>
        </p:nvPicPr>
        <p:blipFill>
          <a:blip r:embed="rId2"/>
          <a:stretch/>
        </p:blipFill>
        <p:spPr>
          <a:xfrm>
            <a:off x="971640" y="3476520"/>
            <a:ext cx="187164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34920" y="260280"/>
            <a:ext cx="514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cc"/>
                </a:solidFill>
                <a:latin typeface="Comic Sans MS"/>
              </a:rPr>
              <a:t>Неравенств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2133720"/>
            <a:ext cx="8182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ажите мне, какая математика без ни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О тайне всех неравенств, вот о чём мой ст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Неравенства такая штука – без правил не решить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Я тайну всех неравенств попробую откры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img986"/>
          <p:cNvPicPr/>
          <p:nvPr/>
        </p:nvPicPr>
        <p:blipFill>
          <a:blip r:embed="rId1"/>
          <a:stretch/>
        </p:blipFill>
        <p:spPr>
          <a:xfrm>
            <a:off x="3486240" y="4218120"/>
            <a:ext cx="4603680" cy="2315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1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600"/>
                            </p:stCondLst>
                            <p:childTnLst>
                              <p:par>
                                <p:cTn id="4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5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смотрим неравенство 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х – 11 &gt; 3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000" y="2060280"/>
            <a:ext cx="828036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х = 4              5 • 4 – 11 &gt; 3;   9 &gt; 3 – вер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 х = 2             5 • 2 – 11 &gt; 3,   - 1 &gt; 3 – невер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ением неравенств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дной переменной называется значение переменной, 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2124000" y="2060640"/>
            <a:ext cx="505080" cy="504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м неравенств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одной переменной называется значение переменной, которое обращает его в верное 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989000"/>
            <a:ext cx="864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вляются ли числа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; 0,2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ением нераве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х – 1 &lt; 4;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4х + 5 &gt; 3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ить неравенство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значит найти все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 решения или доказать, что их н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Овал 3"/>
          <p:cNvSpPr/>
          <p:nvPr/>
        </p:nvSpPr>
        <p:spPr>
          <a:xfrm>
            <a:off x="392436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Овал 4"/>
          <p:cNvSpPr/>
          <p:nvPr/>
        </p:nvSpPr>
        <p:spPr>
          <a:xfrm>
            <a:off x="5292720" y="2565360"/>
            <a:ext cx="43164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Овал 5"/>
          <p:cNvSpPr/>
          <p:nvPr/>
        </p:nvSpPr>
        <p:spPr>
          <a:xfrm>
            <a:off x="6227640" y="2565360"/>
            <a:ext cx="43200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Овал 6"/>
          <p:cNvSpPr/>
          <p:nvPr/>
        </p:nvSpPr>
        <p:spPr>
          <a:xfrm>
            <a:off x="442764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Овал 10"/>
          <p:cNvSpPr/>
          <p:nvPr/>
        </p:nvSpPr>
        <p:spPr>
          <a:xfrm>
            <a:off x="6227640" y="3141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Овал 11"/>
          <p:cNvGrpSpPr/>
          <p:nvPr/>
        </p:nvGrpSpPr>
        <p:grpSpPr>
          <a:xfrm>
            <a:off x="5346720" y="3121200"/>
            <a:ext cx="468360" cy="469800"/>
            <a:chOff x="5346720" y="3121200"/>
            <a:chExt cx="468360" cy="469800"/>
          </a:xfrm>
        </p:grpSpPr>
        <p:pic>
          <p:nvPicPr>
            <p:cNvPr id="159" name="Овал 11" descr=""/>
            <p:cNvPicPr/>
            <p:nvPr/>
          </p:nvPicPr>
          <p:blipFill>
            <a:blip r:embed="rId1"/>
            <a:stretch/>
          </p:blipFill>
          <p:spPr>
            <a:xfrm>
              <a:off x="5346720" y="312120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27720" y="320364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Овал 12"/>
          <p:cNvSpPr/>
          <p:nvPr/>
        </p:nvSpPr>
        <p:spPr>
          <a:xfrm>
            <a:off x="392436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13"/>
          <p:cNvSpPr/>
          <p:nvPr/>
        </p:nvSpPr>
        <p:spPr>
          <a:xfrm>
            <a:off x="442764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45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Равносильные неравенств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енства, имеющие одни и те же решения, называют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вносильными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енства, не имеющие решений, тоже считают равносильн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х – 6 &gt; 0  и                           равноси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&gt;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+ 4 ≤ 0 и  |х| + 3 &lt; 0          равноси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 – 6 ≥ 0  и  2х &gt; 8               неравносильны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х ≥ 2                 х &gt;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"/>
              <p:cNvSpPr txBox="1"/>
              <p:nvPr/>
            </p:nvSpPr>
            <p:spPr>
              <a:xfrm>
                <a:off x="2843280" y="3789360"/>
                <a:ext cx="1204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 решении неравенств используются следующие свойст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из одной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нести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другую слагаемо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 противоположным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наком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о получится равносильное ему неравенство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обе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множить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ел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одно и то ж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ложительное число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о получится равносильное ему неравенст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обе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множ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ел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дно и то ж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рицательное число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зменив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ри этом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нак неравенств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противоположный, то получится</a:t>
            </a: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вносильное ему неравенст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000" y="2421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На примерах учимс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Фед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7004160" y="328680"/>
            <a:ext cx="1749240" cy="2243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25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им неравенство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3(2х – 1) &gt; 2(х + 2) + х + 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752480"/>
            <a:ext cx="5256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кроем скоб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группируем в левой части слагаемые с переменной, 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авой - без пе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м обе части неравенства на положительное число 3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храняя при этом знак неравенст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08720" y="1844280"/>
            <a:ext cx="33112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 &gt; 2х + 4 + х 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 &gt; 3х +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х &gt; 9 +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 &gt;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                       х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4" name="AutoShape 2"/>
          <p:cNvCxnSpPr/>
          <p:nvPr/>
        </p:nvCxnSpPr>
        <p:spPr>
          <a:xfrm>
            <a:off x="5796000" y="5229000"/>
            <a:ext cx="2419560" cy="1080"/>
          </a:xfrm>
          <a:prstGeom prst="straightConnector1">
            <a:avLst/>
          </a:prstGeom>
          <a:ln w="47520">
            <a:solidFill>
              <a:srgbClr val="0000cc"/>
            </a:solidFill>
            <a:miter/>
            <a:tailEnd len="med" type="triangle" w="med"/>
          </a:ln>
        </p:spPr>
      </p:cxnSp>
      <p:pic>
        <p:nvPicPr>
          <p:cNvPr id="175" name="Объект 5" descr=""/>
          <p:cNvPicPr/>
          <p:nvPr/>
        </p:nvPicPr>
        <p:blipFill>
          <a:blip r:embed="rId1"/>
          <a:srcRect l="-7344" t="-62617" r="-13750" b="-75389"/>
          <a:stretch/>
        </p:blipFill>
        <p:spPr>
          <a:xfrm>
            <a:off x="6156360" y="5013360"/>
            <a:ext cx="1808280" cy="277920"/>
          </a:xfrm>
          <a:prstGeom prst="rect">
            <a:avLst/>
          </a:prstGeom>
          <a:ln w="0">
            <a:noFill/>
          </a:ln>
        </p:spPr>
      </p:pic>
      <p:sp>
        <p:nvSpPr>
          <p:cNvPr id="176" name="Oval 4"/>
          <p:cNvSpPr/>
          <p:nvPr/>
        </p:nvSpPr>
        <p:spPr>
          <a:xfrm>
            <a:off x="6084720" y="5157720"/>
            <a:ext cx="14940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5658120" y="56610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(4; + ∞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ая соединительная линия 9"/>
          <p:cNvSpPr/>
          <p:nvPr/>
        </p:nvSpPr>
        <p:spPr>
          <a:xfrm>
            <a:off x="6804000" y="2276640"/>
            <a:ext cx="360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Прямая соединительная линия 14"/>
          <p:cNvSpPr/>
          <p:nvPr/>
        </p:nvSpPr>
        <p:spPr>
          <a:xfrm>
            <a:off x="7885080" y="2276640"/>
            <a:ext cx="358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>
            <a:off x="7380360" y="2276640"/>
            <a:ext cx="360360" cy="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8388360" y="2276640"/>
            <a:ext cx="360360" cy="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150"/>
                            </p:stCondLst>
                            <p:childTnLst>
                              <p:par>
                                <p:cTn id="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75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25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750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650"/>
                            </p:stCondLst>
                            <p:childTnLst>
                              <p:par>
                                <p:cTn id="8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2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5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900"/>
                            </p:stCondLst>
                            <p:childTnLst>
                              <p:par>
                                <p:cTn id="8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9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им неравен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&gt;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752480"/>
            <a:ext cx="496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ножим обе части неравенства на наименьший общий знаменатель дробей, входящих в неравенство, т. е. на положительное число 6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м обе части на отрицательное число – 1, изменив знак неравенства на противополож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08720" y="1752480"/>
            <a:ext cx="324000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•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х – 3х &g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х &g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lt; -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12         х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"/>
              <p:cNvSpPr txBox="1"/>
              <p:nvPr/>
            </p:nvSpPr>
            <p:spPr>
              <a:xfrm>
                <a:off x="6659640" y="47628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012000" y="2133720"/>
                <a:ext cx="618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6875640" y="2133720"/>
                <a:ext cx="6332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1" name="AutoShape 7"/>
          <p:cNvCxnSpPr/>
          <p:nvPr/>
        </p:nvCxnSpPr>
        <p:spPr>
          <a:xfrm>
            <a:off x="5579640" y="5157360"/>
            <a:ext cx="2420280" cy="1080"/>
          </a:xfrm>
          <a:prstGeom prst="straightConnector1">
            <a:avLst/>
          </a:prstGeom>
          <a:ln w="4752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2" name="Oval 8"/>
          <p:cNvSpPr/>
          <p:nvPr/>
        </p:nvSpPr>
        <p:spPr>
          <a:xfrm>
            <a:off x="7143840" y="5072040"/>
            <a:ext cx="1429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Объект 5" descr=""/>
          <p:cNvPicPr/>
          <p:nvPr/>
        </p:nvPicPr>
        <p:blipFill>
          <a:blip r:embed="rId1"/>
          <a:srcRect l="-7344" t="-62617" r="-13750" b="-75389"/>
          <a:stretch/>
        </p:blipFill>
        <p:spPr>
          <a:xfrm>
            <a:off x="5572080" y="4929120"/>
            <a:ext cx="1800360" cy="2872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3"/>
          <p:cNvSpPr/>
          <p:nvPr/>
        </p:nvSpPr>
        <p:spPr>
          <a:xfrm>
            <a:off x="5481000" y="566100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∞; -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850"/>
                            </p:stCondLst>
                            <p:childTnLst>
                              <p:par>
                                <p:cTn id="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750"/>
                            </p:stCondLst>
                            <p:childTnLst>
                              <p:par>
                                <p:cTn id="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400"/>
                            </p:stCondLst>
                            <p:childTnLst>
                              <p:par>
                                <p:cTn id="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1092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 ≤ 15,     3х &gt; 12,    - х &gt;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Решения неравенств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х &gt; b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х &lt; b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  при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 = 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2.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-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инейное неравенство вид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b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ли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gt; 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а значит и соответствующее ему исходное неравенство, либо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имеет решений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либо его решением является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бое числ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равенства вид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х &gt; b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х &lt; 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 где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которые числа,  называют 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линейными неравенствами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 одной переменн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4643280" y="3141720"/>
            <a:ext cx="3718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вет: х – любое чи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Содержимое 4"/>
          <p:cNvSpPr/>
          <p:nvPr/>
        </p:nvSpPr>
        <p:spPr>
          <a:xfrm>
            <a:off x="4643280" y="3500280"/>
            <a:ext cx="338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вет: нет решений</a:t>
            </a:r>
            <a:r>
              <a:rPr b="1" i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2276640"/>
            <a:ext cx="842472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ввести понятия «решение неравенства», «равносильные неравенства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ознакомиться со свойствами равносильности неравенст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рассмотреть решение линейных неравенств вида  ах &gt; b, ax &lt; b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научиться решать неравенства с одной переменной, опираясь на свой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равносильност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1" descr="C:\Users\мама\AppData\Local\Microsoft\Windows\Temporary Internet Files\Content.IE5\RE79SSN5\MCj01500020000[1].wmf"/>
          <p:cNvPicPr/>
          <p:nvPr/>
        </p:nvPicPr>
        <p:blipFill>
          <a:blip r:embed="rId1"/>
          <a:stretch/>
        </p:blipFill>
        <p:spPr>
          <a:xfrm>
            <a:off x="6156360" y="260280"/>
            <a:ext cx="2543040" cy="20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лгоритм решения  неравенств первой степени с одн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крыть скобки и привести подобные слагаем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группировать слагаемые с переменной в левой части неравенства, а без переменной – в правой части, при переносе меняя зна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сти подобные слагаем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ть обе части неравенства на коэффициент при переменной, если он не равен ну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образить множество решений неравенства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исать ответ в виде числового промежут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</a:t>
            </a:r>
            <a:br>
              <a:rPr sz="40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4724280"/>
            <a:ext cx="777744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к 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менится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когда неравенств обе ч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ить на с минусом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10920" y="2636640"/>
            <a:ext cx="2530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2х &lt;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2х &gt;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2х ≤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6000" y="1916280"/>
            <a:ext cx="51847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2920" y="2565000"/>
            <a:ext cx="201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&l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≤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≥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3" descr="Картинка 1577 из 405083"/>
          <p:cNvPicPr/>
          <p:nvPr/>
        </p:nvPicPr>
        <p:blipFill>
          <a:blip r:embed="rId1"/>
          <a:stretch/>
        </p:blipFill>
        <p:spPr>
          <a:xfrm>
            <a:off x="7211880" y="249120"/>
            <a:ext cx="1633680" cy="4219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8"/>
          <p:cNvSpPr/>
          <p:nvPr/>
        </p:nvSpPr>
        <p:spPr>
          <a:xfrm>
            <a:off x="2916360" y="2637000"/>
            <a:ext cx="129528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- 2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lt; - 3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≥ - 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6588000" y="2565360"/>
            <a:ext cx="13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- 12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≥ 0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≤ -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684360" y="1989000"/>
            <a:ext cx="287280" cy="2667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850"/>
                            </p:stCondLst>
                            <p:childTnLst>
                              <p:par>
                                <p:cTn id="1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191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</a:t>
            </a:r>
            <a:br>
              <a:rPr sz="40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0920" y="1699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решение неравенств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&lt; 7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x &lt; -7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имеет реш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≥ 6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&gt; -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≤ 0 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-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бое числ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x &gt; 0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Картинка 1577 из 405083"/>
          <p:cNvPicPr/>
          <p:nvPr/>
        </p:nvPicPr>
        <p:blipFill>
          <a:blip r:embed="rId1"/>
          <a:stretch/>
        </p:blipFill>
        <p:spPr>
          <a:xfrm>
            <a:off x="7211880" y="328680"/>
            <a:ext cx="1578240" cy="4060800"/>
          </a:xfrm>
          <a:prstGeom prst="rect">
            <a:avLst/>
          </a:prstGeom>
          <a:ln w="0">
            <a:noFill/>
          </a:ln>
        </p:spPr>
      </p:pic>
      <p:cxnSp>
        <p:nvCxnSpPr>
          <p:cNvPr id="213" name="Прямая со стрелкой 6"/>
          <p:cNvCxnSpPr/>
          <p:nvPr/>
        </p:nvCxnSpPr>
        <p:spPr>
          <a:xfrm>
            <a:off x="2843280" y="2492280"/>
            <a:ext cx="2234160" cy="244980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4" name="Прямая со стрелкой 9"/>
          <p:cNvCxnSpPr/>
          <p:nvPr/>
        </p:nvCxnSpPr>
        <p:spPr>
          <a:xfrm>
            <a:off x="3059280" y="4221000"/>
            <a:ext cx="2018160" cy="72144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5" name="Прямая со стрелкой 14"/>
          <p:cNvCxnSpPr/>
          <p:nvPr/>
        </p:nvCxnSpPr>
        <p:spPr>
          <a:xfrm>
            <a:off x="2843280" y="4868640"/>
            <a:ext cx="2234160" cy="14472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6" name="Прямая со стрелкой 22"/>
          <p:cNvCxnSpPr/>
          <p:nvPr/>
        </p:nvCxnSpPr>
        <p:spPr>
          <a:xfrm>
            <a:off x="2987640" y="3141360"/>
            <a:ext cx="1729440" cy="108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217" name="Прямая со стрелкой 24"/>
          <p:cNvCxnSpPr/>
          <p:nvPr/>
        </p:nvCxnSpPr>
        <p:spPr>
          <a:xfrm flipV="1">
            <a:off x="2842920" y="3212640"/>
            <a:ext cx="1873800" cy="50400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218" name="Прямая со стрелкой 30"/>
          <p:cNvCxnSpPr/>
          <p:nvPr/>
        </p:nvCxnSpPr>
        <p:spPr>
          <a:xfrm flipV="1">
            <a:off x="2916000" y="3213000"/>
            <a:ext cx="1727640" cy="216108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52472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Письменные упражн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4720" y="1989000"/>
            <a:ext cx="374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6(а, б, в)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0(д, е, ж, з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4(а, д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" descr="Картинка 1159 из 13244"/>
          <p:cNvPicPr/>
          <p:nvPr/>
        </p:nvPicPr>
        <p:blipFill>
          <a:blip r:embed="rId1"/>
          <a:stretch/>
        </p:blipFill>
        <p:spPr>
          <a:xfrm>
            <a:off x="1017720" y="2127240"/>
            <a:ext cx="2444760" cy="621828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17080" y="5589720"/>
            <a:ext cx="576000" cy="466560"/>
          </a:xfrm>
          <a:custGeom>
            <a:avLst/>
            <a:gdLst>
              <a:gd name="textAreaLeft" fmla="*/ 30240 w 576000"/>
              <a:gd name="textAreaRight" fmla="*/ 545760 w 576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6663" h="21600">
                <a:moveTo>
                  <a:pt x="0" y="0"/>
                </a:moveTo>
                <a:lnTo>
                  <a:pt x="26663" y="0"/>
                </a:lnTo>
                <a:lnTo>
                  <a:pt x="26663" y="21600"/>
                </a:lnTo>
                <a:lnTo>
                  <a:pt x="0" y="21600"/>
                </a:lnTo>
                <a:close/>
              </a:path>
              <a:path fill="lightenLess" w="26663" h="21600">
                <a:moveTo>
                  <a:pt x="0" y="0"/>
                </a:moveTo>
                <a:lnTo>
                  <a:pt x="26663" y="0"/>
                </a:lnTo>
                <a:lnTo>
                  <a:pt x="25263" y="1400"/>
                </a:lnTo>
                <a:lnTo>
                  <a:pt x="1400" y="1400"/>
                </a:lnTo>
                <a:close/>
              </a:path>
              <a:path fill="darken" w="26663" h="21600">
                <a:moveTo>
                  <a:pt x="26663" y="0"/>
                </a:moveTo>
                <a:lnTo>
                  <a:pt x="26663" y="21600"/>
                </a:lnTo>
                <a:lnTo>
                  <a:pt x="25263" y="20200"/>
                </a:lnTo>
                <a:lnTo>
                  <a:pt x="25263" y="1400"/>
                </a:lnTo>
                <a:close/>
              </a:path>
              <a:path fill="darkenLess" w="26663" h="21600">
                <a:moveTo>
                  <a:pt x="26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3" y="20200"/>
                </a:lnTo>
                <a:close/>
              </a:path>
              <a:path fill="lighten" w="26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63" h="21600">
                <a:moveTo>
                  <a:pt x="6325" y="3794"/>
                </a:moveTo>
                <a:lnTo>
                  <a:pt x="20338" y="10800"/>
                </a:lnTo>
                <a:lnTo>
                  <a:pt x="6325" y="17806"/>
                </a:lnTo>
                <a:close/>
              </a:path>
            </a:pathLst>
          </a:cu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950"/>
                            </p:stCondLst>
                            <p:childTnLst>
                              <p:par>
                                <p:cTn id="13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1092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Как приятно,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что ты что – то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узнал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Молье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870600" y="328680"/>
            <a:ext cx="18828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3750"/>
                            </p:stCondLst>
                            <p:childTnLst>
                              <p:par>
                                <p:cTn id="13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7021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11280" y="1989000"/>
            <a:ext cx="453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учить  п.34(выучить определения, свойства и алгоритм решен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5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6(д – м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4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2" descr="Анимашки книги, книги анимированные, разные анимашки | Smayli.ru"/>
          <p:cNvPicPr/>
          <p:nvPr/>
        </p:nvPicPr>
        <p:blipFill>
          <a:blip r:embed="rId1"/>
          <a:stretch/>
        </p:blipFill>
        <p:spPr>
          <a:xfrm>
            <a:off x="457200" y="2133720"/>
            <a:ext cx="3327480" cy="3166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4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7050"/>
                            </p:stCondLst>
                            <p:childTnLst>
                              <p:par>
                                <p:cTn id="1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2565000"/>
            <a:ext cx="79912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Всякий день е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ученик дня вчерашнего.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ублий Си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870600" y="182520"/>
            <a:ext cx="1968480" cy="252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5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84464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я, что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&lt; b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поставьте соответствующий знак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или 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чтобы неравенство было верны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280" y="3499920"/>
            <a:ext cx="43923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-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а □ - 5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) 5а □ 5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) a – 4 □ b –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) b + 3 □ a +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cxnSp>
        <p:nvCxnSpPr>
          <p:cNvPr id="98" name="AutoShape 5"/>
          <p:cNvCxnSpPr/>
          <p:nvPr/>
        </p:nvCxnSpPr>
        <p:spPr>
          <a:xfrm flipV="1">
            <a:off x="7451280" y="4076280"/>
            <a:ext cx="361080" cy="16920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99" name="AutoShape 6"/>
          <p:cNvCxnSpPr/>
          <p:nvPr/>
        </p:nvCxnSpPr>
        <p:spPr>
          <a:xfrm>
            <a:off x="7451280" y="422100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0" name="AutoShape 5"/>
          <p:cNvCxnSpPr/>
          <p:nvPr/>
        </p:nvCxnSpPr>
        <p:spPr>
          <a:xfrm flipV="1">
            <a:off x="7524360" y="4652640"/>
            <a:ext cx="361080" cy="16704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1" name="AutoShape 5"/>
          <p:cNvCxnSpPr/>
          <p:nvPr/>
        </p:nvCxnSpPr>
        <p:spPr>
          <a:xfrm flipV="1">
            <a:off x="7380000" y="3715920"/>
            <a:ext cx="361080" cy="16920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2" name="AutoShape 5"/>
          <p:cNvCxnSpPr/>
          <p:nvPr/>
        </p:nvCxnSpPr>
        <p:spPr>
          <a:xfrm flipV="1">
            <a:off x="7524360" y="5299920"/>
            <a:ext cx="361080" cy="16884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3" name="AutoShape 6"/>
          <p:cNvCxnSpPr/>
          <p:nvPr/>
        </p:nvCxnSpPr>
        <p:spPr>
          <a:xfrm>
            <a:off x="7380000" y="3500280"/>
            <a:ext cx="361080" cy="216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4" name="AutoShape 6"/>
          <p:cNvCxnSpPr/>
          <p:nvPr/>
        </p:nvCxnSpPr>
        <p:spPr>
          <a:xfrm>
            <a:off x="7524360" y="515772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5" name="AutoShape 6"/>
          <p:cNvCxnSpPr/>
          <p:nvPr/>
        </p:nvCxnSpPr>
        <p:spPr>
          <a:xfrm>
            <a:off x="7524360" y="479736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</p:spTree>
  </p:cSld>
  <p:transition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1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84464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адлежит ли отрезку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- 7; - 4] 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исло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56000" y="2852640"/>
            <a:ext cx="295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6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3,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sp>
        <p:nvSpPr>
          <p:cNvPr id="110" name="Овал 14"/>
          <p:cNvSpPr/>
          <p:nvPr/>
        </p:nvSpPr>
        <p:spPr>
          <a:xfrm>
            <a:off x="6516720" y="3933720"/>
            <a:ext cx="43164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516720" y="4724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Овал 7"/>
          <p:cNvGrpSpPr/>
          <p:nvPr/>
        </p:nvGrpSpPr>
        <p:grpSpPr>
          <a:xfrm>
            <a:off x="6497640" y="3121200"/>
            <a:ext cx="469800" cy="469800"/>
            <a:chOff x="6497640" y="3121200"/>
            <a:chExt cx="469800" cy="469800"/>
          </a:xfrm>
        </p:grpSpPr>
        <p:pic>
          <p:nvPicPr>
            <p:cNvPr id="113" name="Овал 7" descr=""/>
            <p:cNvPicPr/>
            <p:nvPr/>
          </p:nvPicPr>
          <p:blipFill>
            <a:blip r:embed="rId2"/>
            <a:stretch/>
          </p:blipFill>
          <p:spPr>
            <a:xfrm>
              <a:off x="6497640" y="312120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80080" y="320364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Овал 8"/>
          <p:cNvGrpSpPr/>
          <p:nvPr/>
        </p:nvGrpSpPr>
        <p:grpSpPr>
          <a:xfrm>
            <a:off x="6497640" y="5425920"/>
            <a:ext cx="469800" cy="468360"/>
            <a:chOff x="6497640" y="5425920"/>
            <a:chExt cx="469800" cy="468360"/>
          </a:xfrm>
        </p:grpSpPr>
        <p:pic>
          <p:nvPicPr>
            <p:cNvPr id="116" name="Овал 8" descr=""/>
            <p:cNvPicPr/>
            <p:nvPr/>
          </p:nvPicPr>
          <p:blipFill>
            <a:blip r:embed="rId3"/>
            <a:stretch/>
          </p:blipFill>
          <p:spPr>
            <a:xfrm>
              <a:off x="6497640" y="5425920"/>
              <a:ext cx="4698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580080" y="550872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2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84464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кажите наибольшее целое число, принадлежащее промежутку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995280" y="2707920"/>
            <a:ext cx="23036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[-1; 4]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- ∞; 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2; + ∞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Пятно 1 8"/>
          <p:cNvGrpSpPr/>
          <p:nvPr/>
        </p:nvGrpSpPr>
        <p:grpSpPr>
          <a:xfrm>
            <a:off x="6784920" y="2835360"/>
            <a:ext cx="1120680" cy="955440"/>
            <a:chOff x="6784920" y="2835360"/>
            <a:chExt cx="1120680" cy="955440"/>
          </a:xfrm>
        </p:grpSpPr>
        <p:pic>
          <p:nvPicPr>
            <p:cNvPr id="123" name="Пятно 1 8" descr=""/>
            <p:cNvPicPr/>
            <p:nvPr/>
          </p:nvPicPr>
          <p:blipFill>
            <a:blip r:embed="rId2"/>
            <a:stretch/>
          </p:blipFill>
          <p:spPr>
            <a:xfrm>
              <a:off x="6784920" y="2835360"/>
              <a:ext cx="112068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035840" y="3121200"/>
              <a:ext cx="603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Пятно 1 9"/>
          <p:cNvGrpSpPr/>
          <p:nvPr/>
        </p:nvGrpSpPr>
        <p:grpSpPr>
          <a:xfrm>
            <a:off x="6424560" y="3986280"/>
            <a:ext cx="1122480" cy="982440"/>
            <a:chOff x="6424560" y="3986280"/>
            <a:chExt cx="1122480" cy="982440"/>
          </a:xfrm>
        </p:grpSpPr>
        <p:pic>
          <p:nvPicPr>
            <p:cNvPr id="126" name="Пятно 1 9" descr=""/>
            <p:cNvPicPr/>
            <p:nvPr/>
          </p:nvPicPr>
          <p:blipFill>
            <a:blip r:embed="rId3"/>
            <a:stretch/>
          </p:blipFill>
          <p:spPr>
            <a:xfrm>
              <a:off x="6424560" y="3986280"/>
              <a:ext cx="11224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75480" y="4278240"/>
              <a:ext cx="603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Овал 11"/>
          <p:cNvSpPr/>
          <p:nvPr/>
        </p:nvSpPr>
        <p:spPr>
          <a:xfrm>
            <a:off x="6300720" y="5229360"/>
            <a:ext cx="2448000" cy="72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существу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5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844640"/>
            <a:ext cx="4895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 ошибку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99640" y="2923920"/>
            <a:ext cx="7775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 ≥ 7                                       Ответ: (- ∞; 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&lt; 2,5                                    Ответ: (- ∞; 2,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,5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" descr="50"/>
          <p:cNvPicPr/>
          <p:nvPr/>
        </p:nvPicPr>
        <p:blipFill>
          <a:blip r:embed="rId1"/>
          <a:stretch/>
        </p:blipFill>
        <p:spPr>
          <a:xfrm>
            <a:off x="2843280" y="3068640"/>
            <a:ext cx="2089080" cy="3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50"/>
          <p:cNvPicPr/>
          <p:nvPr/>
        </p:nvPicPr>
        <p:blipFill>
          <a:blip r:embed="rId2"/>
          <a:stretch/>
        </p:blipFill>
        <p:spPr>
          <a:xfrm>
            <a:off x="2987640" y="4221000"/>
            <a:ext cx="2260800" cy="28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75"/>
                            </p:stCondLst>
                            <p:childTnLst>
                              <p:par>
                                <p:cTn id="3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25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4360" y="2349360"/>
            <a:ext cx="720072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В учении нельз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останавливатьс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юньцз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943680" y="255600"/>
            <a:ext cx="18828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100"/>
                            </p:stCondLst>
                            <p:childTnLst>
                              <p:par>
                                <p:cTn id="3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3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55879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mic Sans MS"/>
              </a:rPr>
              <a:t>Историческая справ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976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Понятиями неравенства пользовались уже древние гре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Например</a:t>
            </a:r>
            <a:r>
              <a:rPr b="1" i="1" lang="ru-RU" sz="2000" spc="-1" strike="noStrike">
                <a:solidFill>
                  <a:srgbClr val="002060"/>
                </a:solidFill>
                <a:latin typeface="Comic Sans MS"/>
              </a:rPr>
              <a:t>,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Архимед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(III в. до н. э.), занимаясь вычислением длины окружности, указал границы числа «п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Ряд неравенств приводит в своём трактате «Начала»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Евклид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Он, например, доказывает, что среднее геометрическое двух чисел не больше их среднего арифметического и не меньше их среднего гармонического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Arhimed1"/>
          <p:cNvPicPr/>
          <p:nvPr/>
        </p:nvPicPr>
        <p:blipFill>
          <a:blip r:embed="rId1"/>
          <a:stretch/>
        </p:blipFill>
        <p:spPr>
          <a:xfrm>
            <a:off x="900000" y="404640"/>
            <a:ext cx="1800360" cy="26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5" descr="Файл:Euklid2.jpg"/>
          <p:cNvPicPr/>
          <p:nvPr/>
        </p:nvPicPr>
        <p:blipFill>
          <a:blip r:embed="rId2"/>
          <a:stretch/>
        </p:blipFill>
        <p:spPr>
          <a:xfrm>
            <a:off x="971640" y="3357720"/>
            <a:ext cx="172872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1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9:43:09Z</dcterms:created>
  <dc:creator>*</dc:creator>
  <dc:description/>
  <dc:language>en-US</dc:language>
  <cp:lastModifiedBy>1</cp:lastModifiedBy>
  <dcterms:modified xsi:type="dcterms:W3CDTF">2012-07-09T12:28:16Z</dcterms:modified>
  <cp:revision>167</cp:revision>
  <dc:subject/>
  <dc:title>Слайд 1</dc:title>
</cp:coreProperties>
</file>