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C803-EF56-492B-AF31-B96E6BE1E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EEFE-7202-41F0-AA9E-4F67D2750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D8B7-F90C-4B1A-BB28-C61F0C537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DB73-C15E-455A-BADA-27B72CD3F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C4527-DFE9-435C-A4B9-951AC177B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C52C7-1764-4AF0-BD13-47061234C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F8765-52EA-4240-B78C-130AFB11E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D9C44-CFBE-442D-9E1C-3C2C879FB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482B2-0E7B-42DC-8FD9-B10CD57D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53004-8C4F-4C75-A5F4-BB67F920F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70B17-A7CC-4A3B-BB43-AD0642EA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05ED-A130-4024-B948-63CED8721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C2B30-3EDF-4DD8-AC56-C3D765EE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7175C-DF31-4EA6-BB4B-2C51C8CC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4AEF3-E815-4FEB-94A9-C15F6EC4D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06712-D148-4A78-96EE-B438D59A5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767A3-EF92-460E-B240-51028D5F3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371C-835A-483C-AD76-70481DBF4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29AB-D383-41EB-8083-3970F8626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D7E5-D7E0-47A9-9953-3406D5B00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DE58-879D-4F8B-B1A4-F2A71955D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4395-D4D8-44D6-85FF-2F0F09EC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6E34-480D-446C-9150-6ED8FF8C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A32E-6B2D-4511-8C06-FE68CC56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CD154-60D5-4C66-8B13-3B5045359346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9F682-B3D4-46E2-B745-B7D68C693E15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929120" y="4714920"/>
            <a:ext cx="3857760" cy="8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втор: Белова Наталья Викторовна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информатики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928800" y="285840"/>
            <a:ext cx="75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ниципальное казенное образовательное учрежд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Межшкольный учебный комбинат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3357720" y="5929200"/>
            <a:ext cx="22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. Новомосковс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11-2012 уч. г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Содержимое 3" descr="kurit_zapresheno.jpg"/>
          <p:cNvPicPr/>
          <p:nvPr/>
        </p:nvPicPr>
        <p:blipFill>
          <a:blip r:embed="rId1"/>
          <a:stretch/>
        </p:blipFill>
        <p:spPr>
          <a:xfrm>
            <a:off x="963720" y="3524400"/>
            <a:ext cx="2419200" cy="2406600"/>
          </a:xfrm>
          <a:prstGeom prst="rect">
            <a:avLst/>
          </a:prstGeom>
          <a:ln w="0">
            <a:noFill/>
          </a:ln>
        </p:spPr>
      </p:pic>
      <p:pic>
        <p:nvPicPr>
          <p:cNvPr id="86" name="Прямоугольник 3" descr=""/>
          <p:cNvPicPr/>
          <p:nvPr/>
        </p:nvPicPr>
        <p:blipFill>
          <a:blip r:embed="rId2"/>
          <a:stretch/>
        </p:blipFill>
        <p:spPr>
          <a:xfrm>
            <a:off x="208080" y="1438200"/>
            <a:ext cx="872784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235080" y="792360"/>
            <a:ext cx="86439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гласно закона РФ №120 «Об основах системы профилактики, безнадзорности и правонарушений несовершеннолетних»,ст.14 Федерального Закона «Об основах системы профилактики безнадзорности и правонарушений несовершеннолетних», Кодекса «об административных правонарушениях» от 30.12.01.№ 195-ФЗ , положения « О Кабинете профилактики», Устава школы определяется как одна из базовых задач подготовки школьников к жизни без кур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ебный проект «Жить без сигарет» для учащихся 10-х классов призван сформировать у обучающихся готовность к здоровому образу жизни, жить без курения. Дальнейшее закрепление приобретенных знаний и умений проходит в процессе выполнения специальных заданий в виде выпуска буклетов, защиты рефератов, мультимедийных слайдовых презентаци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Прямоугольник 2" descr=""/>
          <p:cNvPicPr/>
          <p:nvPr/>
        </p:nvPicPr>
        <p:blipFill>
          <a:blip r:embed="rId1"/>
          <a:stretch/>
        </p:blipFill>
        <p:spPr>
          <a:xfrm>
            <a:off x="1103400" y="79200"/>
            <a:ext cx="7370640" cy="9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216000" y="3483000"/>
            <a:ext cx="8786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куда появился табак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 чего состоит табачный дым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то означает пассивное курени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кое влияние оказывает  табачный дым на организм человек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к бросить курит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оугольник 2"/>
          <p:cNvSpPr/>
          <p:nvPr/>
        </p:nvSpPr>
        <p:spPr>
          <a:xfrm>
            <a:off x="216000" y="1700280"/>
            <a:ext cx="8605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чему люди начинают курит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то будет, если вовремя не бросить курит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кой вред наносит курение женскому организму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оугольник 3"/>
          <p:cNvSpPr/>
          <p:nvPr/>
        </p:nvSpPr>
        <p:spPr>
          <a:xfrm>
            <a:off x="112680" y="88092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кие привычки делают нас модными и успешным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Прямоугольник 1" descr=""/>
          <p:cNvPicPr/>
          <p:nvPr/>
        </p:nvPicPr>
        <p:blipFill>
          <a:blip r:embed="rId1"/>
          <a:stretch/>
        </p:blipFill>
        <p:spPr>
          <a:xfrm>
            <a:off x="201600" y="347760"/>
            <a:ext cx="5029200" cy="822240"/>
          </a:xfrm>
          <a:prstGeom prst="rect">
            <a:avLst/>
          </a:prstGeom>
          <a:ln w="0">
            <a:noFill/>
          </a:ln>
        </p:spPr>
      </p:pic>
      <p:pic>
        <p:nvPicPr>
          <p:cNvPr id="93" name="Прямоугольник 2" descr=""/>
          <p:cNvPicPr/>
          <p:nvPr/>
        </p:nvPicPr>
        <p:blipFill>
          <a:blip r:embed="rId2"/>
          <a:stretch/>
        </p:blipFill>
        <p:spPr>
          <a:xfrm>
            <a:off x="208080" y="1262160"/>
            <a:ext cx="4224240" cy="828720"/>
          </a:xfrm>
          <a:prstGeom prst="rect">
            <a:avLst/>
          </a:prstGeom>
          <a:ln w="0">
            <a:noFill/>
          </a:ln>
        </p:spPr>
      </p:pic>
      <p:pic>
        <p:nvPicPr>
          <p:cNvPr id="94" name="Прямоугольник 3" descr=""/>
          <p:cNvPicPr/>
          <p:nvPr/>
        </p:nvPicPr>
        <p:blipFill>
          <a:blip r:embed="rId3"/>
          <a:stretch/>
        </p:blipFill>
        <p:spPr>
          <a:xfrm>
            <a:off x="219240" y="3024360"/>
            <a:ext cx="348768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C:\Users\nnweiz\AppData\Local\Microsoft\Windows\Temporary Internet Files\Content.IE5\ZP7GKI0N\MP900427686[1].jpg"/>
          <p:cNvPicPr/>
          <p:nvPr/>
        </p:nvPicPr>
        <p:blipFill>
          <a:blip r:embed="rId1"/>
          <a:stretch/>
        </p:blipFill>
        <p:spPr>
          <a:xfrm>
            <a:off x="365040" y="2567160"/>
            <a:ext cx="3694320" cy="2442960"/>
          </a:xfrm>
          <a:prstGeom prst="rect">
            <a:avLst/>
          </a:prstGeom>
          <a:ln w="0">
            <a:noFill/>
          </a:ln>
        </p:spPr>
      </p:pic>
      <p:sp>
        <p:nvSpPr>
          <p:cNvPr id="96" name="TextBox 4"/>
          <p:cNvSpPr/>
          <p:nvPr/>
        </p:nvSpPr>
        <p:spPr>
          <a:xfrm>
            <a:off x="179280" y="1197000"/>
            <a:ext cx="885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йти материал по интересующей вас тем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ыделить главно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едставить результаты работы в удобной для вас форм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Прямоугольник 6" descr=""/>
          <p:cNvPicPr/>
          <p:nvPr/>
        </p:nvPicPr>
        <p:blipFill>
          <a:blip r:embed="rId2"/>
          <a:stretch/>
        </p:blipFill>
        <p:spPr>
          <a:xfrm>
            <a:off x="506520" y="512640"/>
            <a:ext cx="3406680" cy="955800"/>
          </a:xfrm>
          <a:prstGeom prst="rect">
            <a:avLst/>
          </a:prstGeom>
          <a:ln w="0">
            <a:noFill/>
          </a:ln>
        </p:spPr>
      </p:pic>
      <p:pic>
        <p:nvPicPr>
          <p:cNvPr id="98" name="Прямоугольник 5" descr=""/>
          <p:cNvPicPr/>
          <p:nvPr/>
        </p:nvPicPr>
        <p:blipFill>
          <a:blip r:embed="rId3"/>
          <a:stretch/>
        </p:blipFill>
        <p:spPr>
          <a:xfrm>
            <a:off x="4254480" y="2462040"/>
            <a:ext cx="4932360" cy="96372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7"/>
          <p:cNvSpPr/>
          <p:nvPr/>
        </p:nvSpPr>
        <p:spPr>
          <a:xfrm>
            <a:off x="4427640" y="3300480"/>
            <a:ext cx="4213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езента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Букл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ефера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Прямоугольник 2" descr=""/>
          <p:cNvPicPr/>
          <p:nvPr/>
        </p:nvPicPr>
        <p:blipFill>
          <a:blip r:embed="rId1"/>
          <a:stretch/>
        </p:blipFill>
        <p:spPr>
          <a:xfrm>
            <a:off x="-341280" y="1231920"/>
            <a:ext cx="1010772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3T04:18:40Z</dcterms:created>
  <dc:creator>учитель</dc:creator>
  <dc:description/>
  <dc:language>en-US</dc:language>
  <cp:lastModifiedBy>Белов Николай Николаевич</cp:lastModifiedBy>
  <dcterms:modified xsi:type="dcterms:W3CDTF">2012-07-14T15:05:45Z</dcterms:modified>
  <cp:revision>29</cp:revision>
  <dc:subject/>
  <dc:title>Учебный проект  «Жить без сигарет »</dc:title>
</cp:coreProperties>
</file>