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4E2-8BB5-4476-B705-401A014E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AA9-66E4-409B-B22B-409C9947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ED8-37E7-4AE4-90A8-E1839A28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A79-C95D-4A93-A5E1-95E193EA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C919-8C93-43CA-9E15-5EA7E51E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2F01-D689-44FB-B386-5C31235D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DAE4-793B-439E-B88D-40BA8181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0CC3-1B08-49E7-AAFB-6520EF5A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847D-BD30-4E27-9A86-8C061FA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0732-7CF9-40F3-AE33-9DE0E648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7D2D-EB23-4D16-8ACA-51CE3748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59A-0CB8-455A-84DD-AD74A9FD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CA52-BDBB-4EE0-80D4-B3705E2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DEBE-1BDE-4CE7-ADB5-8E40600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94DC-F203-45E3-94A4-0D64DA6D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C897-54A2-4F5E-A0BD-5CBAA6B2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368-4577-45A2-A5D5-E2863FE5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665-0E38-4E96-967A-753CEE4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C08-016E-49DE-A706-52BF195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053-F3A5-4AF8-ACB9-C1FA12BF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1A7-6158-437E-B993-D1725DB2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1ADD-14BD-4470-9C8A-F454EC7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8385-50FD-45E8-B02F-91EF988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2E1-9CA9-44AF-9844-FE2294EB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8D21-AE01-4D3C-9965-7A1956F3D14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8DC-E01B-45D8-A5EE-E2569D9A640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929120" y="4714920"/>
            <a:ext cx="385776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: Белова Наталья Викторовна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нформатик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2858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казен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ежшкольный учебный комбина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3357720" y="592920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Новомосков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-2012 уч.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Содержимое 3" descr="kurit_zapresheno.jpg"/>
          <p:cNvPicPr/>
          <p:nvPr/>
        </p:nvPicPr>
        <p:blipFill>
          <a:blip r:embed="rId1"/>
          <a:stretch/>
        </p:blipFill>
        <p:spPr>
          <a:xfrm>
            <a:off x="963720" y="3524400"/>
            <a:ext cx="2419200" cy="24066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3" descr=""/>
          <p:cNvPicPr/>
          <p:nvPr/>
        </p:nvPicPr>
        <p:blipFill>
          <a:blip r:embed="rId2"/>
          <a:stretch/>
        </p:blipFill>
        <p:spPr>
          <a:xfrm>
            <a:off x="208080" y="1438200"/>
            <a:ext cx="8727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235080" y="79236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закона РФ №120 «Об основах системы профилактики, безнадзорности и правонарушений несовершеннолетних»,ст.14 Федерального Закона «Об основах системы профилактики безнадзорности и правонарушений несовершеннолетних», Кодекса «об административных правонарушениях» от 30.12.01.№ 195-ФЗ , положения « О Кабинете профилактики», Устава школы определяется как одна из базовых задач подготовки школьников к жизни без ку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проект «Жить без сигарет» для учащихся 10-х классов призван сформировать у обучающихся готовность к здоровому образу жизни, жить без курения. Дальнейшее закрепление приобретенных знаний и умений проходит в процессе выполнения специальных заданий в виде выпуска буклетов, защиты рефератов, мультимедийных слайдовых презент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1"/>
          <a:stretch/>
        </p:blipFill>
        <p:spPr>
          <a:xfrm>
            <a:off x="1103400" y="79200"/>
            <a:ext cx="737064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16000" y="3483000"/>
            <a:ext cx="878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уда появился табак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чего состоит табачный д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означает пассивное кур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е влияние оказывает  табачный дым на организм челове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бросить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16000" y="1700280"/>
            <a:ext cx="8605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чему люди начинают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будет, если вовремя не бросить кур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вред наносит курение женскому организм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112680" y="88092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привычки делают нас модными и успешн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Прямоугольник 1" descr=""/>
          <p:cNvPicPr/>
          <p:nvPr/>
        </p:nvPicPr>
        <p:blipFill>
          <a:blip r:embed="rId1"/>
          <a:stretch/>
        </p:blipFill>
        <p:spPr>
          <a:xfrm>
            <a:off x="201600" y="347760"/>
            <a:ext cx="5029200" cy="8222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1262160"/>
            <a:ext cx="4224240" cy="82872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3" descr=""/>
          <p:cNvPicPr/>
          <p:nvPr/>
        </p:nvPicPr>
        <p:blipFill>
          <a:blip r:embed="rId3"/>
          <a:stretch/>
        </p:blipFill>
        <p:spPr>
          <a:xfrm>
            <a:off x="219240" y="3024360"/>
            <a:ext cx="3487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nnweiz\AppData\Local\Microsoft\Windows\Temporary Internet Files\Content.IE5\ZP7GKI0N\MP900427686[1].jpg"/>
          <p:cNvPicPr/>
          <p:nvPr/>
        </p:nvPicPr>
        <p:blipFill>
          <a:blip r:embed="rId1"/>
          <a:stretch/>
        </p:blipFill>
        <p:spPr>
          <a:xfrm>
            <a:off x="365040" y="2567160"/>
            <a:ext cx="3694320" cy="2442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79280" y="119700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йти материал по интересующей вас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делить главн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ставить результаты работы в удобной для вас фор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Прямоугольник 6" descr=""/>
          <p:cNvPicPr/>
          <p:nvPr/>
        </p:nvPicPr>
        <p:blipFill>
          <a:blip r:embed="rId2"/>
          <a:stretch/>
        </p:blipFill>
        <p:spPr>
          <a:xfrm>
            <a:off x="506520" y="512640"/>
            <a:ext cx="3406680" cy="9558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5" descr=""/>
          <p:cNvPicPr/>
          <p:nvPr/>
        </p:nvPicPr>
        <p:blipFill>
          <a:blip r:embed="rId3"/>
          <a:stretch/>
        </p:blipFill>
        <p:spPr>
          <a:xfrm>
            <a:off x="4254480" y="2462040"/>
            <a:ext cx="4932360" cy="96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4427640" y="3300480"/>
            <a:ext cx="421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укл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фе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2" descr=""/>
          <p:cNvPicPr/>
          <p:nvPr/>
        </p:nvPicPr>
        <p:blipFill>
          <a:blip r:embed="rId1"/>
          <a:stretch/>
        </p:blipFill>
        <p:spPr>
          <a:xfrm>
            <a:off x="-341280" y="1231920"/>
            <a:ext cx="10107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4:18:40Z</dcterms:created>
  <dc:creator>учитель</dc:creator>
  <dc:description/>
  <dc:language>en-US</dc:language>
  <cp:lastModifiedBy>Белов Николай Николаевич</cp:lastModifiedBy>
  <dcterms:modified xsi:type="dcterms:W3CDTF">2012-07-14T15:05:45Z</dcterms:modified>
  <cp:revision>29</cp:revision>
  <dc:subject/>
  <dc:title>Учебный проект  «Жить без сигарет »</dc:title>
</cp:coreProperties>
</file>