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D21-7647-45CD-8E28-C79DB79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05D-BD6D-4F46-91F3-E455A27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0FF-66A7-4287-BFE3-1A508F73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C2C-67C7-437C-964D-65F379D1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221A-69FC-4CDA-BDB7-765537A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78CB4-6F60-4FB3-BCA6-E6DC8653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77BAB-0969-41D1-B7F7-43BA75A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7D68-BB6F-4592-8136-BE6A4DC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D0E9-CE0C-4F7B-927F-B64BD176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1EB5A-7258-4E5F-86DB-125C471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1D5D-01DF-47D6-BB1B-F2D20BA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743-AB86-4D56-A5D3-CE2E7E78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3119-094B-42F1-961C-CB44226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A580-E109-4DA8-896E-D3CFB86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9E10-8D00-42DE-AA8D-21FEF8F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2D268-74B2-427F-A7D0-916D9C95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F53D-1DE8-4826-9677-F367580A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4EB-29B8-47B9-B58E-4D690674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6D6-C7AD-4716-BCA5-3DD85D3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FD0-AD8E-4822-8CB0-28B4799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EA0-A09F-45FC-9FE0-A4D9649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858-FF61-468A-B695-3C1D47D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0DD-860C-4B2B-8500-1171CC4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5A9-67CC-49AC-ADDA-00212F1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E44-F521-4E64-8A2B-1F0EBABC08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747-20C7-4929-BD6D-0F98DCE833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n.wikipedia.org/wiki/Image:Petrov-Vodkin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3600" spc="-1" strike="noStrike">
                <a:solidFill>
                  <a:srgbClr val="010199"/>
                </a:solidFill>
                <a:latin typeface="Bodoni MT Black"/>
              </a:rPr>
              <a:t>K</a:t>
            </a:r>
            <a:br>
              <a:rPr sz="3600"/>
            </a:br>
            <a:r>
              <a:rPr b="0" i="1" lang="en-US" sz="36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3600" spc="-1" strike="noStrike" u="sng">
                <a:solidFill>
                  <a:srgbClr val="010199"/>
                </a:solidFill>
                <a:uFillTx/>
                <a:latin typeface="Bodoni MT Black"/>
              </a:rPr>
              <a:t>Kirov Prospec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Kirov Prospect is one of the central streets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a street without traffic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where people enjoy walk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re are different club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hop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cafe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bars the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always full of peopl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Kirov Prospect is beautiful and everyone can choose an entertainment to hi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/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r taste and just prodemade and tourist can buy souvenir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564000" cy="28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Bodoni MT Black"/>
              </a:rPr>
              <a:t>T</a:t>
            </a:r>
            <a:br>
              <a:rPr sz="4800"/>
            </a:br>
            <a:r>
              <a:rPr b="0" i="1" lang="en-US" sz="4800" spc="-1" strike="noStrike">
                <a:solidFill>
                  <a:srgbClr val="000099"/>
                </a:solidFill>
                <a:latin typeface="Bodoni MT Black"/>
              </a:rPr>
              <a:t>Tabako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5364000" cy="65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abakov is the people's artist of the USS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 film acto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nd an artistic leader of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abakov was born in August 17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1935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leg studied in the school for boys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№18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 was member of the Drama Club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Molodaya Gvard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at schoo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1953 he entered  the school-studio at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When he was a third-year student he performed in his first film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1990 Tabakov founded the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Russian-American Perform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rts Cente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in Boston Universit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ince 2001 Tabakov has been an artistic leader of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597640" y="1557360"/>
            <a:ext cx="31654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U</a:t>
            </a:r>
            <a:br>
              <a:rPr sz="4000"/>
            </a:b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Uve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36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800" spc="-1" strike="noStrike">
                <a:solidFill>
                  <a:srgbClr val="010199"/>
                </a:solidFill>
                <a:latin typeface="Bodoni MT Black"/>
              </a:rPr>
              <a:t>Uvek is a small settlement in the surroundings of Saratov</a:t>
            </a: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010199"/>
                </a:solidFill>
                <a:latin typeface="Bodoni MT Black"/>
              </a:rPr>
              <a:t>In the 13 century it was an important commercial town</a:t>
            </a: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99ccff"/>
                </a:solidFill>
                <a:latin typeface="Bodoni MT Black"/>
              </a:rPr>
              <a:t>A people of Burtasy lived in Uvek</a:t>
            </a:r>
            <a:r>
              <a:rPr b="1" i="1" lang="ru-RU" sz="2800" spc="-1" strike="noStrike">
                <a:solidFill>
                  <a:srgbClr val="99ccff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99ccff"/>
                </a:solidFill>
                <a:latin typeface="Bodoni MT Black"/>
              </a:rPr>
              <a:t>But the town was destroyed. Only the Burtas river reminds now about the people of Uvek</a:t>
            </a:r>
            <a:r>
              <a:rPr b="1" i="1" lang="ru-RU" sz="2800" spc="-1" strike="noStrike">
                <a:solidFill>
                  <a:srgbClr val="99ccff"/>
                </a:solidFill>
                <a:latin typeface="Bodoni MT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3"/>
                </a:solidFill>
                <a:latin typeface="Bodoni MT Black"/>
              </a:rPr>
              <a:t>V</a:t>
            </a:r>
            <a:br>
              <a:rPr sz="4000"/>
            </a:br>
            <a:r>
              <a:rPr b="1" i="1" lang="en-US" sz="4000" spc="-1" strike="noStrike">
                <a:solidFill>
                  <a:srgbClr val="000073"/>
                </a:solidFill>
                <a:latin typeface="Bodoni MT Black"/>
              </a:rPr>
              <a:t>Vavilo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59295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Vavilov Nikolay Ivanovich is an outstanding Russian scientist and biologist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He lived and worked in Saratov in 1917-1921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For three years he made great discoveries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about the immunity of plants to the contagious deseases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hereditary changeability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and came to a conclusion that all plants have 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their centres </a:t>
            </a:r>
            <a:r>
              <a:rPr b="1" i="1" lang="en-US" sz="2400" spc="-1" strike="noStrike">
                <a:solidFill>
                  <a:srgbClr val="000073"/>
                </a:solidFill>
                <a:latin typeface="Bodoni MT Black"/>
              </a:rPr>
              <a:t>of origin on the 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planet</a:t>
            </a:r>
            <a:r>
              <a:rPr b="1" i="1" lang="ru-RU" sz="2400" spc="-1" strike="noStrike">
                <a:solidFill>
                  <a:srgbClr val="d9d9d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One of the streets in Saratov is named after this scientist</a:t>
            </a:r>
            <a:r>
              <a:rPr b="1" i="1" lang="ru-RU" sz="2400" spc="-1" strike="noStrike">
                <a:solidFill>
                  <a:srgbClr val="d9d9d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9876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odoni MT Black"/>
              </a:rPr>
              <a:t>W</a:t>
            </a:r>
            <a:br>
              <a:rPr sz="4000"/>
            </a:b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Women's cloist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424476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first mention of Women's cloister is referred to 1680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situated near the Volga and separated from it by a narrow street and occupied an area of 1720 square metres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Cloister included three stone churche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re were also church school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But the cloister hasn't been preserved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X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Xylograph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57120"/>
            <a:ext cx="35384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Xylography is not popular among people nowdays.But long ago there lived a lot of xylographers  in Saratov.Who worked in special workshops.Nowdays xylography is a hobby for amateurs.You can see the works of skilled workmen in the Museum of Local Lore and buy in Saratov shop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4211640" y="1917720"/>
            <a:ext cx="493236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Y                                      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Yablochko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1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avel Nikolaevich Yablochkov was a great Russian electrical engineer and invento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876 he invented an electric lamp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fter this invention electric light appeared in the streets and squares  of Londo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ari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Berlin and other cities of 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sia and America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Yablochkov made a lot of discoveries and inventions which made a great progress in the development of electrical industry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941560" cy="40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Z</a:t>
            </a:r>
            <a:br>
              <a:rPr sz="4000"/>
            </a:b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Zin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932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Zinin was born in Azerbaija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is parents died when the boy was thre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his early childhood Zinin was brought to Saratov where he spent his  youth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Zinin 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s a great Russian chemist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is main discovery is an artificial reception of anilin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ne of the major organic substance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used in medicin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dustry and photograph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 made other great discoveries in the sphere of chemistr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357880" y="1601640"/>
            <a:ext cx="37861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L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Levosh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He was born in 1893 in a village of Saratov region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Levoshin was an agronomist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a doctor of agriculture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a professor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In 1923 he graduated from Saratov Institute of Agriculture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He specialized in gardening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Levoshin had several state awards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2ff82"/>
                </a:solidFill>
                <a:latin typeface="Bodoni MT Black"/>
              </a:rPr>
              <a:t>М</a:t>
            </a:r>
            <a:br>
              <a:rPr sz="4800"/>
            </a:br>
            <a:r>
              <a:rPr b="1" i="1" lang="en-US" sz="4000" spc="-1" strike="noStrike" u="sng">
                <a:solidFill>
                  <a:srgbClr val="82ff82"/>
                </a:solidFill>
                <a:uFillTx/>
                <a:latin typeface="Bodoni MT Black"/>
              </a:rPr>
              <a:t>Moskovskaya str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76160"/>
            <a:ext cx="419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e central street of Saratov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Moskovskaya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street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is one of the longest streets of the city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In the 18 centure the street ran to the place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where the road to Moscow started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at's why it was called Moskovskaya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e street was renamed several times but nowdays it has its original name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24280" cy="492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8290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orte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Forte"/>
              </a:rPr>
              <a:t>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N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Nikitin circ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500364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aratov is motherland of the first Russian circu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aratov circus is named after Nikitin brother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founded in Mitrofanov Square in 1876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a wooden building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destroyed by the fire and rebuilt in 1930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998 the building was reconstructed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973 the Nikitin circus was awarded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Red Banne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meda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43720" y="571320"/>
            <a:ext cx="30715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O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Oreshin</a:t>
            </a:r>
            <a:br>
              <a:rPr sz="4000"/>
            </a:br>
            <a:r>
              <a:rPr b="0" lang="en-US" sz="5400" spc="-1" strike="noStrike">
                <a:solidFill>
                  <a:srgbClr val="ffff00"/>
                </a:solidFill>
                <a:latin typeface="Forte"/>
              </a:rPr>
              <a:t>                                                               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Forte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560" y="785520"/>
            <a:ext cx="493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r>
              <a:rPr b="0" i="1" lang="ru-RU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Oreshin P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 is a poet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e studied in Sarato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is first poems were published in 1911 in the newspaper 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Saratovsky Listok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»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In 1913 Oreshin moved to St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Petersburg where he became famous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e met well-known poets there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such as S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Yesenin and N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Klue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In 1914 the poet went to war and was awarded medals for courage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The first book of his poems was published in 1918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On the whole about 50 books of the poet were published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5929200" y="2357280"/>
            <a:ext cx="2909880" cy="36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51120" y="0"/>
            <a:ext cx="9194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44ff44"/>
                </a:solidFill>
                <a:latin typeface="Bodoni MT Black"/>
              </a:rPr>
              <a:t>P</a:t>
            </a:r>
            <a:br>
              <a:rPr sz="4800"/>
            </a:br>
            <a:r>
              <a:rPr b="0" i="1" lang="en-US" sz="4800" spc="-1" strike="noStrike" u="sng">
                <a:solidFill>
                  <a:srgbClr val="44ff44"/>
                </a:solidFill>
                <a:uFillTx/>
                <a:latin typeface="Bodoni MT Black"/>
              </a:rPr>
              <a:t>Petrov-Vodk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8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Kuzma Sergeevich Petrov-Vodkin is an important Russian and Soviet painter and writer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was born in Khvalynsk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Saratov region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tried to paint in his early childhood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when he took some lessons from a couple of icon painters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The iconic work of Petrov-Vodkin is 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Bathing of a Red Horse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»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used an aesthetic of Orthodox icon together with brighter colours and unusual compositions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is works were often considered to be blasphemous and erotic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Kuzma Sergeevich Petrov-Vodk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saratov.mp3" descr=""/>
          <p:cNvPicPr/>
          <p:nvPr/>
        </p:nvPicPr>
        <p:blipFill>
          <a:blip r:embed="rId4"/>
          <a:stretch/>
        </p:blipFill>
        <p:spPr>
          <a:xfrm>
            <a:off x="795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1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Q</a:t>
            </a:r>
            <a:br>
              <a:rPr sz="4000"/>
            </a:b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Qu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03280" y="188640"/>
            <a:ext cx="59403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The Volga quay side is very beautiful and long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t has become a street since 1870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The street was reconstructed and renamed several times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Nowdays there are high houses there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nhabitants like walking along the quay on days off and holidays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t is a very popular place in Saratov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Стенка 005"/>
          <p:cNvPicPr/>
          <p:nvPr/>
        </p:nvPicPr>
        <p:blipFill>
          <a:blip r:embed="rId2"/>
          <a:stretch/>
        </p:blipFill>
        <p:spPr>
          <a:xfrm>
            <a:off x="0" y="314172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2735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99"/>
                </a:solidFill>
                <a:latin typeface="Bodoni MT Black"/>
              </a:rPr>
              <a:t>R</a:t>
            </a:r>
            <a:br>
              <a:rPr sz="3200"/>
            </a:br>
            <a:r>
              <a:rPr b="1" i="1" lang="en-US" sz="3200" spc="-1" strike="noStrike" u="sng">
                <a:solidFill>
                  <a:srgbClr val="010199"/>
                </a:solidFill>
                <a:uFillTx/>
                <a:latin typeface="Bodoni MT Black"/>
              </a:rPr>
              <a:t>Radishchev                                          Mus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59280" y="-360"/>
            <a:ext cx="60847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Radishchev Museum is a real treasury and pride of Saratov regio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 museum was founded in 1885 by Bogolyub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the first public artistic museum in Russ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contains works of the Russian and foreign paint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graphic arts and sculptu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Bodoni MT Black"/>
              </a:rPr>
              <a:t>S</a:t>
            </a:r>
            <a:br>
              <a:rPr sz="3600"/>
            </a:b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odoni MT Black"/>
              </a:rPr>
              <a:t>Saratov Juridical Institu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64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Saratov Juridical Institute was founded in 1925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There are two branches at the structure of Saratov Juridical Institute of Ministry of Internal Affairs such as Samarskij and Penzenskij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The institute is the biggest scientific and education centre of training skilled specialists for fight with criminality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Lately the institute became a place of conducting international and Russian scientific practical conferences and seminars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199120" y="190512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6:35:34Z</dcterms:created>
  <dc:creator>Angela</dc:creator>
  <dc:description/>
  <dc:language>en-US</dc:language>
  <cp:lastModifiedBy>Роман</cp:lastModifiedBy>
  <dcterms:modified xsi:type="dcterms:W3CDTF">2012-07-14T18:32:13Z</dcterms:modified>
  <cp:revision>35</cp:revision>
  <dc:subject/>
  <dc:title>ABC book  </dc:title>
</cp:coreProperties>
</file>