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332-A27B-4F58-87EA-0DDD3045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40C-B395-431D-AEFD-D2E2B304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80C-DEEA-404C-9665-5DCAB915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E5B-3BAC-4599-B330-D02D6841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899AD-544B-41CE-91A4-458862C6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20FAD-6F97-41B1-B2E8-5A7C21D4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090B0-ED73-48FE-99F7-F8A0AC59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170FD-73C5-4A94-99DB-EB93CAA2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1BB6A-6626-45D6-BA02-A7087789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F1FE4-2F4F-40AC-8F81-A2CBABBB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116F-001C-42A8-9C9E-1639145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794-971C-4803-881A-E98E4E70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CA5AA-7BE0-4111-897A-609DBFF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9B09B-3957-4B9A-A325-F8E1206B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28978-9D0C-4FEA-BCA6-715C4B94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A285A-188D-4710-A3B7-45EFA5DC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BF109-386C-4E76-9522-F43C398A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3F3-8793-45BD-9A07-02D6142B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ADF-5C48-4DF4-96C7-A66C7A5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4E8-B0BB-4255-8716-3E614C12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B21-42C0-4BEA-9FC4-2776B8D1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CAB-CCDA-4E8C-8B5F-CE139414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64C-7838-4E92-BF04-28AA454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A52-F7C0-4FC0-A5E2-2AFB10D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587-1C3E-475A-8CC1-708C3C4790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00ff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6D89-A3B0-4645-8C3A-22C852A6D0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7740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ru-RU" sz="8800" spc="-1" strike="noStrike">
                <a:solidFill>
                  <a:srgbClr val="ffff00"/>
                </a:solidFill>
                <a:latin typeface="Forte"/>
              </a:rPr>
              <a:t> </a:t>
            </a:r>
            <a:r>
              <a:rPr b="0" lang="en-US" sz="9600" spc="-1" strike="noStrike">
                <a:solidFill>
                  <a:srgbClr val="ffcc00"/>
                </a:solidFill>
                <a:latin typeface="Forte"/>
              </a:rPr>
              <a:t>ABC book</a:t>
            </a:r>
            <a:r>
              <a:rPr b="0" lang="ru-RU" sz="9600" spc="-1" strike="noStrike">
                <a:solidFill>
                  <a:srgbClr val="ffcc00"/>
                </a:solidFill>
                <a:latin typeface="Forte"/>
              </a:rPr>
              <a:t> </a:t>
            </a:r>
            <a:br>
              <a:rPr sz="9600"/>
            </a:br>
            <a:r>
              <a:rPr b="0" lang="en-US" sz="9600" spc="-1" strike="noStrike">
                <a:solidFill>
                  <a:srgbClr val="ffcc00"/>
                </a:solidFill>
                <a:latin typeface="Forte"/>
              </a:rPr>
              <a:t>of Saratov</a:t>
            </a:r>
            <a:br>
              <a:rPr sz="9600"/>
            </a:br>
            <a:r>
              <a:rPr b="0" lang="ru-RU" sz="8800" spc="-1" strike="noStrike">
                <a:solidFill>
                  <a:srgbClr val="ffff00"/>
                </a:solidFill>
                <a:latin typeface="Forte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saratov.mp3" descr=""/>
          <p:cNvPicPr/>
          <p:nvPr/>
        </p:nvPicPr>
        <p:blipFill>
          <a:blip r:embed="rId2"/>
          <a:stretch/>
        </p:blipFill>
        <p:spPr>
          <a:xfrm>
            <a:off x="7956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57880" y="213840"/>
            <a:ext cx="35719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Bodoni MT Black"/>
              </a:rPr>
              <a:t>                     </a:t>
            </a: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I</a:t>
            </a:r>
            <a:br>
              <a:rPr sz="4000"/>
            </a:b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             </a:t>
            </a:r>
            <a:r>
              <a:rPr b="0" i="1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«</a:t>
            </a:r>
            <a:r>
              <a:rPr b="0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Ideal</a:t>
            </a:r>
            <a:r>
              <a:rPr b="0" i="1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4643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0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deal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 is the name of the cinema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The building was founded in 1916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There are 173 places in the hall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t is situated  on the corner of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Ilyinskaya 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street (now Chapayev  street) and Ugodnikovskaya street (Ulyanovskaya street)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Then the name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deal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 was changed into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New Ideal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;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n 1934 it got the name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Rot Front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n 1937 the cinema was closed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because it was ruined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After the Great Patriotic war it was opened under the name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Krasny Oktyabr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(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Red October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)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Since 1994 it has had the name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Premyera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286240" y="3643200"/>
            <a:ext cx="3637080" cy="29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Bodoni MT Black"/>
              </a:rPr>
              <a:t>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J</a:t>
            </a:r>
            <a:br>
              <a:rPr sz="4800"/>
            </a:b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           </a:t>
            </a:r>
            <a:r>
              <a:rPr b="0" i="1" lang="en-US" sz="4800" spc="-1" strike="noStrike" u="sng">
                <a:solidFill>
                  <a:srgbClr val="010199"/>
                </a:solidFill>
                <a:uFillTx/>
                <a:latin typeface="Bodoni MT Black"/>
              </a:rPr>
              <a:t>Jumanj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0920" y="1699920"/>
            <a:ext cx="5220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Jumanjy is a night club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situated not far from the centre of the city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One can visit different shows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such as fashion shows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concert programs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billiard and bowling centres and have other entertaining  activities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It is not a cheap club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but popular among young people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47527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Forte"/>
              </a:rPr>
              <a:t>      </a:t>
            </a:r>
            <a:r>
              <a:rPr b="1" i="1" lang="en-US" sz="6600" spc="-1" strike="noStrike">
                <a:solidFill>
                  <a:srgbClr val="010199"/>
                </a:solidFill>
                <a:latin typeface="Bodoni MT Black"/>
              </a:rPr>
              <a:t>A</a:t>
            </a:r>
            <a:br>
              <a:rPr sz="6600"/>
            </a:br>
            <a:r>
              <a:rPr b="1" i="1" lang="en-US" sz="5400" spc="-1" strike="noStrike" u="sng">
                <a:solidFill>
                  <a:srgbClr val="010199"/>
                </a:solidFill>
                <a:uFillTx/>
                <a:latin typeface="Bodoni MT Black"/>
              </a:rPr>
              <a:t>Antonov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35280" y="0"/>
            <a:ext cx="52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Oleg Konstantinovich Antonov was born in February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7th 1906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In 1912 the family moved to Saratov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Little Oleg heard the sound of an airplane and became interested in aviation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Oleg and his friends founded a flying club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Antonov tried to construct his own airplanes and tested them in the surroundings of Saratov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Then he moved to work in Moscow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In 1993 Antonov became the chief constructor of the aircraft plant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He created 52 types of planers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and 22 types of aeroplanes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One of 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the streets in Saratov bears  Antonov`s name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2" descr=""/>
          <p:cNvPicPr/>
          <p:nvPr/>
        </p:nvPicPr>
        <p:blipFill>
          <a:blip r:embed="rId2"/>
          <a:stretch/>
        </p:blipFill>
        <p:spPr>
          <a:xfrm>
            <a:off x="0" y="1773360"/>
            <a:ext cx="378000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63975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orte"/>
              </a:rPr>
              <a:t>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Forte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Forte"/>
              </a:rPr>
              <a:t>                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Forte"/>
              </a:rPr>
              <a:t>Bard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29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Bardin I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P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 was a great Russian scientist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  Bardin was born in Saratov region in the village of Shiroky Ustup in November 13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1883 in a peasant family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He became an outstanding metallurgist and he achieved great success in the process of metal smelting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He designed metallurgical plants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One of the streets in Saratov is named after the academician Bardin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6278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c000"/>
                </a:solidFill>
                <a:latin typeface="Bodoni MT Black"/>
              </a:rPr>
              <a:t>          </a:t>
            </a:r>
            <a:r>
              <a:rPr b="0" i="1" lang="en-US" sz="4800" spc="-1" strike="noStrike">
                <a:solidFill>
                  <a:srgbClr val="ff9933"/>
                </a:solidFill>
                <a:latin typeface="Bodoni MT Black"/>
              </a:rPr>
              <a:t>C</a:t>
            </a:r>
            <a:br>
              <a:rPr sz="4800"/>
            </a:br>
            <a:r>
              <a:rPr b="0" i="1" lang="en-US" sz="4800" spc="-1" strike="noStrike" u="sng">
                <a:solidFill>
                  <a:srgbClr val="ff9933"/>
                </a:solidFill>
                <a:uFillTx/>
                <a:latin typeface="Bodoni MT Black"/>
              </a:rPr>
              <a:t>Coat-of-arm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817280"/>
            <a:ext cx="475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Saratov coat-of-arms has the form of a pentagon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It depicts three sterlets on the blue  background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The blue colour means the waters of the Volga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Sterlets mean the abundance of this fish in the Volga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The historical gold crown on the coat-of-arms and the wreath of laurels and spikes of wheat symbolize richness of the region and industriousness of the people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8" descr="gerb_saratov"/>
          <p:cNvPicPr/>
          <p:nvPr/>
        </p:nvPicPr>
        <p:blipFill>
          <a:blip r:embed="rId2"/>
          <a:stretch/>
        </p:blipFill>
        <p:spPr>
          <a:xfrm>
            <a:off x="5219640" y="1773360"/>
            <a:ext cx="37450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doni MT Black"/>
              </a:rPr>
              <a:t>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D</a:t>
            </a:r>
            <a:br>
              <a:rPr sz="4800"/>
            </a:br>
            <a:r>
              <a:rPr b="0" i="1" lang="ru-RU" sz="4800" spc="-1" strike="noStrike">
                <a:solidFill>
                  <a:srgbClr val="010199"/>
                </a:solidFill>
                <a:latin typeface="Bodoni MT Black"/>
              </a:rPr>
              <a:t>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Dyakov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165040"/>
            <a:ext cx="8820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Dyakov was born in 1940</a:t>
            </a:r>
            <a:r>
              <a:rPr b="0" i="1" lang="ru-RU" sz="32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He is a candidate of historical science</a:t>
            </a:r>
            <a:r>
              <a:rPr b="0" i="1" lang="ru-RU" sz="32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an academician of management in the sphere of culture and education</a:t>
            </a:r>
            <a:r>
              <a:rPr b="0" i="1" lang="ru-RU" sz="32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He 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graduated from the philologic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al 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faculty of Saratov State 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University</a:t>
            </a:r>
            <a:r>
              <a:rPr b="0" i="1" lang="ru-RU" sz="3200" spc="-1" strike="noStrike">
                <a:solidFill>
                  <a:srgbClr val="ccecff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He 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wrote and 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published two books and 80 articles in culture</a:t>
            </a:r>
            <a:r>
              <a:rPr b="0" i="1" lang="ru-RU" sz="3200" spc="-1" strike="noStrike">
                <a:solidFill>
                  <a:srgbClr val="ccecff"/>
                </a:solidFill>
                <a:latin typeface="Bodoni MT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8" descr="008"/>
          <p:cNvPicPr/>
          <p:nvPr/>
        </p:nvPicPr>
        <p:blipFill>
          <a:blip r:embed="rId2"/>
          <a:stretch/>
        </p:blipFill>
        <p:spPr>
          <a:xfrm>
            <a:off x="5973840" y="0"/>
            <a:ext cx="3170160" cy="21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332360" y="-360"/>
            <a:ext cx="52563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              </a:t>
            </a: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E</a:t>
            </a:r>
            <a:br>
              <a:rPr sz="4000"/>
            </a:b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0" i="1" lang="ru-RU" sz="4000" spc="-1" strike="noStrike">
                <a:solidFill>
                  <a:srgbClr val="010199"/>
                </a:solidFill>
                <a:latin typeface="Bodoni MT Black"/>
              </a:rPr>
              <a:t>        </a:t>
            </a:r>
            <a:r>
              <a:rPr b="0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«</a:t>
            </a:r>
            <a:r>
              <a:rPr b="0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Europe</a:t>
            </a:r>
            <a:r>
              <a:rPr b="0" i="1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»</a:t>
            </a:r>
            <a:r>
              <a:rPr b="0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86120" y="0"/>
            <a:ext cx="47865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1" i="1" lang="ru-RU" sz="1400" spc="-1" strike="noStrike">
                <a:solidFill>
                  <a:srgbClr val="ffff00"/>
                </a:solidFill>
                <a:latin typeface="Bodoni MT Black"/>
              </a:rPr>
              <a:t>                        </a:t>
            </a: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Europe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is the name of the hotel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architect was Yezerovsky-Saturin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construction of the hotel 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«</a:t>
            </a:r>
            <a:r>
              <a:rPr b="0" i="1" lang="en-US" sz="2400" spc="-1" strike="noStrike">
                <a:solidFill>
                  <a:srgbClr val="ffff00"/>
                </a:solidFill>
                <a:latin typeface="Bodoni MT Black"/>
              </a:rPr>
              <a:t>Europe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was begun in 1874 and finished in 1884 by the merchant Saninin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There is a legend that the merchant Saninin’s death after the construction of the hotel   was foretold by an old fortune teller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Merchant Saninin died after the construction of the hotel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woman's  prophecy was true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0" y="3213000"/>
            <a:ext cx="367200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6920" y="189000"/>
            <a:ext cx="302436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199"/>
                </a:solidFill>
                <a:latin typeface="Bodoni MT Black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Bodoni MT Black"/>
              </a:rPr>
              <a:t>F                                                             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Bodoni MT Black"/>
              </a:rPr>
              <a:t>Fedin museum</a:t>
            </a:r>
            <a:r>
              <a:rPr b="0" i="1" lang="en-US" sz="4800" spc="-1" strike="noStrike" u="sng">
                <a:solidFill>
                  <a:srgbClr val="ffff00"/>
                </a:solidFill>
                <a:uFillTx/>
                <a:latin typeface="Bodoni MT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62866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Bodoni MT Black"/>
              </a:rPr>
              <a:t>Fedin State Museum is named after the Soviet poet and academician and was opened in 1981</a:t>
            </a: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2400" spc="-1" strike="noStrike">
                <a:solidFill>
                  <a:srgbClr val="ffff00"/>
                </a:solidFill>
                <a:latin typeface="Bodoni MT Black"/>
              </a:rPr>
              <a:t>The museum is situated in a two-storeyed building of the 18 century</a:t>
            </a: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2400" spc="-1" strike="noStrike">
                <a:solidFill>
                  <a:srgbClr val="ffff00"/>
                </a:solidFill>
                <a:latin typeface="Bodoni MT Black"/>
              </a:rPr>
              <a:t>The exhibits devoted to the poet's life and creative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work are in the nine halls and gallerie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Among the exhibits are the poet's books of poem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photo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award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slogan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etc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6443640" y="2928960"/>
            <a:ext cx="270036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0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Rockwell Extra Bold"/>
              </a:rPr>
              <a:t>      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Rockwell Extra Bold"/>
              </a:rPr>
              <a:t>G</a:t>
            </a:r>
            <a:br>
              <a:rPr sz="4800"/>
            </a:br>
            <a:r>
              <a:rPr b="0" lang="en-US" sz="4800" spc="-1" strike="noStrike">
                <a:solidFill>
                  <a:srgbClr val="010199"/>
                </a:solidFill>
                <a:latin typeface="Rockwell Extra Bold"/>
              </a:rPr>
              <a:t>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Rockwell Extra Bold"/>
              </a:rPr>
              <a:t>G</a:t>
            </a:r>
            <a:r>
              <a:rPr b="0" lang="en-US" sz="4800" spc="-1" strike="noStrike" u="sng">
                <a:solidFill>
                  <a:srgbClr val="010199"/>
                </a:solidFill>
                <a:uFillTx/>
                <a:latin typeface="Forte"/>
              </a:rPr>
              <a:t>agar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1280" y="1557360"/>
            <a:ext cx="4932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 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Yuri Gagarin was the first Russian cosmonaut in the world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His name is closely connected with our city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Gagarin graduated from Saratov technical school  with honours in 1955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He was also a member of the amateur flying club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Two years later he became a pilot and soon joined the first group of Soviet cosmonauts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 Spaceship 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«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Vostok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»,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on board of which he spent 108 minutes in space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,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landed not far from Engels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,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Saratov region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There is an obelisk in the place of the landing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7856640" y="0"/>
            <a:ext cx="1287360" cy="15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4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Bodoni MT Black"/>
              </a:rPr>
              <a:t>  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H</a:t>
            </a:r>
            <a:br>
              <a:rPr sz="4800"/>
            </a:b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               </a:t>
            </a:r>
            <a:r>
              <a:rPr b="0" i="1" lang="en-US" sz="4800" spc="-1" strike="noStrike" u="sng">
                <a:solidFill>
                  <a:srgbClr val="010199"/>
                </a:solidFill>
                <a:uFillTx/>
                <a:latin typeface="Bodoni MT Black"/>
              </a:rPr>
              <a:t>Hote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Saratov is visited by a lot of tourists and businessme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here are different hotels at their disposal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hey are 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Volg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hotel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 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Olympi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Moskovskaya Hotel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 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Slovaki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and other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Each of them is nice in its architectu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2656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6:35:34Z</dcterms:created>
  <dc:creator>Angela</dc:creator>
  <dc:description/>
  <dc:language>en-US</dc:language>
  <cp:lastModifiedBy>Роман</cp:lastModifiedBy>
  <dcterms:modified xsi:type="dcterms:W3CDTF">2012-07-14T18:11:23Z</dcterms:modified>
  <cp:revision>36</cp:revision>
  <dc:subject/>
  <dc:title>ABC book  </dc:title>
</cp:coreProperties>
</file>