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070-ACDE-473D-BA06-66F2B17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D9B-41B8-4220-8B16-17CBE674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29-93F2-42CF-AC56-A92382A4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2BB-81D2-42B3-AB94-416B13AC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903-C899-4457-8A3B-0940AC1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0DC-4185-4C17-8100-97D9B2CF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AB0-7B00-4D37-A217-BCAAE238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6CA-3F03-4EF9-89A2-732D20A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4FC-2DA4-477C-A157-49CF81D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B71-775E-44E9-A087-6642130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6E1-DAC9-47DB-AC13-1B2E157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1EA-29B9-4319-A051-83A8DF69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6E16-8D4B-467B-B204-2EA5D5CFF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Мир музе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alibri"/>
              </a:rPr>
              <a:t>Художественный музей им. А.Н. Радищева и его филиалы: музей П.В. Кузнецова, музей В.Э. Борисова-Мусато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скусство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в.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представлено художниками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Тропи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ипрен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Брю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в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0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Щедр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Какими экспонатами представлено древнерусское искус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ко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кульп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Книг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Церковная утвар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dmuseumart.r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museum.ru/m145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Государственный художественный музей им. А.Н. Радище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6160" y="2500200"/>
            <a:ext cx="44006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Памятники искусства достигают цели не только тем, что очаровывают зрение, а тем, что проникают в душу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Ж.Дави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4448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8292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c00000"/>
                </a:solidFill>
                <a:latin typeface="Verdana"/>
              </a:rPr>
              <a:t>Алекса́ндр Никола́евич Ради́щев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 (1749 – 18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120" y="1785600"/>
            <a:ext cx="42861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русский писатель, философ, поэт</a:t>
            </a:r>
            <a:r>
              <a:rPr b="0" lang="ru-RU" sz="2400" spc="-1" strike="noStrike">
                <a:solidFill>
                  <a:srgbClr val="c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директор Петербургской таможни и участник Комиссии по составлению зак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34308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Verdana"/>
              </a:rPr>
              <a:t>главное сочинение, </a:t>
            </a: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«Путешествие из Петербурга в Москв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14920" y="1357200"/>
            <a:ext cx="4228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Алексей Петрович Боголюбов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82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6)- русский художник-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маринис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840" y="1642680"/>
            <a:ext cx="5000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Сколько картин хранится в Санкт-Петербург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Почему друзья прозвали «пчелой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ем был по професс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03880" y="1500120"/>
            <a:ext cx="35780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</a:rPr>
              <a:t>Алексей Петрович Боголюбов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182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896)- русский художник-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маринис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42680"/>
            <a:ext cx="8429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то посоветовал заниматься искусством профессиональн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Картина «Устье Нев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1859c"/>
                </a:solidFill>
                <a:latin typeface="Verdana"/>
              </a:rPr>
              <a:t>http://www.tretyakovgallery.ru/ru/collection/_show/image/_id/178</a:t>
            </a:r>
            <a:r>
              <a:rPr b="0" lang="ru-RU" sz="3200" spc="-1" strike="noStrike">
                <a:solidFill>
                  <a:srgbClr val="31859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Эрми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786280" y="213840"/>
            <a:ext cx="3043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комство с музе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2/hm2_2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Шедевры коллекции (обзор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3/hm3_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сещаем зал Гог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8/hm88_0_2_69.ht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картина нашего земляка Петрова – Водкина «На берегу»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ermitagemuseum.org/html_Ru/08/hm88_6_4_1_3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02120" indent="-301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2357280"/>
            <a:ext cx="60008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ьяковская галер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00480" y="1600200"/>
            <a:ext cx="2685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retyakovgallery.ru/ru/collection/_show/search/?string=%C1%F0%FE%EB%EB%EE%E2&amp;collection=42&amp;period=&amp;gogogo=%CD%E0%E9%F2%E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5958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зей был открыт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72120" y="1600200"/>
            <a:ext cx="285768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9 июня 1885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Кто архитек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6072120" cy="458316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4"/>
          <p:cNvSpPr/>
          <p:nvPr/>
        </p:nvSpPr>
        <p:spPr>
          <a:xfrm>
            <a:off x="942480" y="6215040"/>
            <a:ext cx="31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Архитектор Ш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Искусство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XVIII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 в.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Calibri"/>
              </a:rPr>
              <a:t>представлено художниками: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1) Рок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2) Левиц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3)Боровиков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4T16:53:27Z</dcterms:created>
  <dc:creator>Admin</dc:creator>
  <dc:description/>
  <dc:language>en-US</dc:language>
  <cp:lastModifiedBy>Admin</cp:lastModifiedBy>
  <dcterms:modified xsi:type="dcterms:W3CDTF">2012-07-15T11:55:09Z</dcterms:modified>
  <cp:revision>25</cp:revision>
  <dc:subject/>
  <dc:title>Слайд 1</dc:title>
</cp:coreProperties>
</file>