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452-2251-43AE-96B6-5EB6F6C7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018-E390-4EF5-817B-0A8FA16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01C-C2D7-4A2C-9C5C-FAE84FB9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176-CA0D-4EE5-8D19-7BD178CF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478-1D80-4CB7-BE63-A038B53E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DF9-0155-4D56-862C-7D15730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2D1-E0E7-44E6-BA02-5372476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40A-CF34-4C9D-A081-D2C0337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45B-2A84-4A3F-AF79-68BF4D0D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C3E-8891-4162-89FD-89222EC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903-21C8-4EFE-83EB-9AC8524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B19-DD71-408E-8525-854C967F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3AE-F95E-4F25-B809-825CA1F9E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ир музе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удожественный музей им. А.Н. Радищева и его филиалы: музей П.В. Кузнецова, музей В.Э. Борисова-Мусат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кусство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в.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едставлено художниками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ропи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ипре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Брю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Ив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Щедр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акими экспонатами представлено древнерусское искус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ко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Скульп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ниг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Церковная утва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dmuseumart.r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museum.ru/m145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Государственный художественный музей им. А.Н. Радищ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6160" y="2500200"/>
            <a:ext cx="44006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Памятники искусства достигают цели не только тем, что очаровывают зрение, а тем, что проникают в душу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Ж.Дави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3500280"/>
            <a:ext cx="4448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8292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c00000"/>
                </a:solidFill>
                <a:latin typeface="Verdana"/>
              </a:rPr>
              <a:t>Алекса́ндр Никола́евич Ради́щев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 (1749 – 180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785600"/>
            <a:ext cx="42861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русский писатель, философ, поэт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директор Петербургской таможни и участник Комиссии по составлению зак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главное сочинение, 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«Путешествие из Петербурга в Москв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14920" y="1357200"/>
            <a:ext cx="4228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Алексей Петрович Боголюбов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182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896)- русский художник-</a:t>
            </a: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маринис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840" y="1642680"/>
            <a:ext cx="5000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Сколько картин хранится в Санкт-Петербург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Почему друзья прозвали «пчелой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Кем был по професс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03880" y="1500120"/>
            <a:ext cx="35780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Алексей Петрович Боголюбов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182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896)- русский художник-</a:t>
            </a: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маринис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42680"/>
            <a:ext cx="8429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Кто посоветовал заниматься искусством профессиональ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Картина «Устье Нев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Verdana"/>
              </a:rPr>
              <a:t>http://www.tretyakovgallery.ru/ru/collection/_show/image/_id/178</a:t>
            </a: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Эрми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86280" y="213840"/>
            <a:ext cx="304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ство с музе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2/hm2_2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Шедевры коллекции (обзор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3/hm3_0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сещаем зал Гог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8/hm88_0_2_69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ртина нашего земляка Петрова – Водкина «На берегу»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8/hm88_6_4_1_3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235728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00480" y="1600200"/>
            <a:ext cx="268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retyakovgallery.ru/ru/collection/_show/search/?string=%C1%F0%FE%EB%EB%EE%E2&amp;collection=42&amp;period=&amp;gogogo=%CD%E0%E9%F2%E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59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ей был открыт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72120" y="1600200"/>
            <a:ext cx="285768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9 июня 1885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то архитект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6072120" cy="45831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942480" y="6215040"/>
            <a:ext cx="31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рхитектор Ш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Искусство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XVIII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в.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редставлено художниками: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1) Рок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2) Левиц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3)Борови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6:53:27Z</dcterms:created>
  <dc:creator>Admin</dc:creator>
  <dc:description/>
  <dc:language>en-US</dc:language>
  <cp:lastModifiedBy>Admin</cp:lastModifiedBy>
  <dcterms:modified xsi:type="dcterms:W3CDTF">2012-07-15T11:55:09Z</dcterms:modified>
  <cp:revision>25</cp:revision>
  <dc:subject/>
  <dc:title>Слайд 1</dc:title>
</cp:coreProperties>
</file>