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F86-0EE1-45CF-AB6C-A6428AE2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44E-3602-4E93-ABB1-7A9E22A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226-25B5-4B97-B643-E2000ED8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E4A-4218-4A32-8582-25B07C6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18BF-FB42-4A89-8ADA-8FAB3989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159-FECE-4D38-9451-DE1544A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E41-CD0D-4753-99F5-3AB16E45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CA2-A64A-4BD5-B5A0-F71B8BC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379-D265-423B-9E7E-C941202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A61F-907A-4997-97E6-BA5BE78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48C0-4A63-4518-A6B4-1F9323F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87D-17E6-4C20-B32A-DDCB94E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D27B-4ECD-437C-B882-136571B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F6E-7242-4E31-9C4A-D8D0A00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208-D196-49FF-A230-6EB0176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7633-6D16-4551-8D56-FA2DE276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2599-FA26-41F5-9F47-8B8E1B5A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4E1-F091-43CB-BD08-79E5D75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EAB-1092-4799-BF33-E2D2E60E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659-D84A-4AA2-9DC6-3687110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1B3-8FEE-40C9-8DC4-7BAAF33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B15-A6E0-4E9A-9402-7884620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83C-4F75-4950-A565-F8DED16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E13-4922-43E9-B184-8220716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8E6-15AA-4AAB-9BAE-590EC8E21A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556-F2C1-43E6-B22B-C1D669806D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dbbd71"/>
                </a:solidFill>
                <a:latin typeface="Bodoni MT"/>
              </a:rPr>
              <a:t>Права  челове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149440" y="3886200"/>
            <a:ext cx="338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боту выполнил ученик 8класса Кассин Ег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Личны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жиз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вободу и личную неприкосно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достоинство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еприкосновенность частной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еприкосновенность ж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амозащ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ациональную и культурную самоидентификац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совести и свобода мыс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передвижения и выбора местожи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выбора национальности и языка общ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удебную защ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вероисповедания (каждый человек может придерживаться любой религии, или создать свою собственную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им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27236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олитически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Свобода слова (свобода распространения информации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информацию (доступ к информации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обращений или петиций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(то есть обращаться лично, а также направлять индивидуальные и коллективные обращения в государственные органы и органы местного самоуправления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объединение (свобода союзов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Свобода собраний (право собираться мирно и без оружия, проводить митинги, демонстрации, шествия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участие в управлении делами государства и на равный доступ к государственной служб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гражданство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Избирательные права (избирать и быть избранным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участие в отправлении правосудия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365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Социально-экономические прав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раво на предпринимательскую и иную не запрещенную законом экономическую деятельно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частную соб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удовые права (право на труд и свободу тру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охрану семьи, материнства, отцовства и дет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оциальное обеспе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жил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охрану здоровья и медицинскую помощ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праведливое взимание нал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восьмичасовой рабочий день, на справедливые условия труда, равную оплату за труд равной ц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ультурны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образ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а творче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свобода литературного, научного и других видов творчества и препода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участие в культурной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адемические своб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благоприятную окружающую сре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3440" y="0"/>
            <a:ext cx="1690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286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38:00Z</dcterms:created>
  <dc:creator>Егор</dc:creator>
  <dc:description/>
  <dc:language>en-US</dc:language>
  <cp:lastModifiedBy>User</cp:lastModifiedBy>
  <dcterms:modified xsi:type="dcterms:W3CDTF">2012-07-15T12:44:54Z</dcterms:modified>
  <cp:revision>5</cp:revision>
  <dc:subject/>
  <dc:title>Группы прав человека</dc:title>
</cp:coreProperties>
</file>