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19B-DA43-4AF8-984E-E95751F9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FC9-F2DF-4F33-A674-75CD67EE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9D4-6E4A-411B-8657-F95710AA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9C3-3D98-4E0F-AACA-2F912DC5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D0A2-1864-41D8-9B36-B6894B64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58D2-8F4E-423B-A763-7E987618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9239-DCC3-4063-BEC5-ACE40039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5584-B228-41C7-9538-DC8B3C77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2510-2220-4556-BD67-7591DB51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F231-AB37-4A55-8712-DBF499CE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628C-04A9-49DD-816B-0806E5BC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543-62F3-4DEC-94CB-BAA710F2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C228-0884-43D3-8BE1-B7B2124A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A496-057F-495B-9E37-DB40F6DC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CBD1-C6CD-4B48-BDDF-3CFEE719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445A-3418-4594-9534-03DBFDC2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9054-6534-4936-BAF4-209F0A89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D457-4436-4802-B756-1F1DFA5D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F20-93BC-42AB-BB48-16D0F034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17A-C606-4B52-AB20-B45E4C10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E1B-1661-42B2-BCF7-A8E46AE2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D76-89B7-48FE-80EF-D248E070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844-5418-4F27-B3D2-9F57AD49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3A5-CC70-41C5-A7E5-21131A79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07D5-0400-4A75-AF8A-B0EDA4A137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97BF-5967-47F1-927B-0330A54CB6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dbbd71"/>
                </a:solidFill>
                <a:latin typeface="Bodoni MT"/>
              </a:rPr>
              <a:t>Права  человека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149440" y="3886200"/>
            <a:ext cx="338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боту выполнил ученик 8класса Кассин Ег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Личные прав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97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жиз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свободу и личную неприкоснов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достоинство лич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неприкосновенность частной жиз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неприкосновенность жилищ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самозащи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национальную и культурную самоидентификац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обода совести и свобода мыс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обода передвижения и выбора местожитель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обода выбора национальности и языка общ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судебную защи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обода вероисповедания (каждый человек может придерживаться любой религии, или создать свою собственную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им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272360" y="4986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Политические прав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Свобода слова (свобода распространения информации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Право на информацию (доступ к информации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Право обращений или петиций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(то есть обращаться лично, а также направлять индивидуальные и коллективные обращения в государственные органы и органы местного самоуправления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Право на объединение (свобода союзов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Свобода собраний (право собираться мирно и без оружия, проводить митинги, демонстрации, шествия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Право на участие в управлении делами государства и на равный доступ к государственной службе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Право на гражданство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Избирательные права (избирать и быть избранным)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Право на участие в отправлении правосудия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3651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Социально-экономические правы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457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обода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раво на предпринимательскую и иную не запрещенную законом экономическую деятельност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частную собств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рудовые права (право на труд и свободу труд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охрану семьи, материнства, отцовства и дет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социальное обеспеч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жилищ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охрану здоровья и медицинскую помощ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справедливое взимание налог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аво на восьмичасовой рабочий день, на справедливые условия труда, равную оплату за труд равной цен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Культурные прав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аво на образова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вобода творчеств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свобода литературного, научного и других видов творчества и преподава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аво на участие в культурной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кадемические своб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аво на благоприятную окружающую сре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453440" y="0"/>
            <a:ext cx="16905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32864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08:38:00Z</dcterms:created>
  <dc:creator>Егор</dc:creator>
  <dc:description/>
  <dc:language>en-US</dc:language>
  <cp:lastModifiedBy>User</cp:lastModifiedBy>
  <dcterms:modified xsi:type="dcterms:W3CDTF">2012-07-15T12:44:54Z</dcterms:modified>
  <cp:revision>5</cp:revision>
  <dc:subject/>
  <dc:title>Группы прав человека</dc:title>
</cp:coreProperties>
</file>