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4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563-7ED4-4589-91C3-252F4DCB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755A-88CB-49C9-B165-9489B74F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C7A1-CAFE-447C-BD64-4B5B63DE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48F8-1355-49D0-B628-1100145E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5C0C-3700-454B-9E80-D5534911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0537-89F4-4F4A-A716-8FBA5E85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744C-E04A-4623-9D10-93679D83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3172-FAF3-477D-A663-494E3235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0E04-4AA9-48E1-BE29-73485456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5BE4-413F-40B2-8D98-C236351A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A9A5-0C66-46E2-8F0F-78A57061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F32-9821-4B47-9AAD-9C7388E1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D7A7-A849-4438-ADDA-2D8DEF11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85F4-9158-445D-9A6E-3CE2B3B5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4660-A9BE-49F0-A2A6-0DDD100E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4E85-AB88-47D3-AA06-A1A2C1A9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D34D-A405-4ED0-A47C-93008946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C892-7DEE-4BF0-885A-1AEB318D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F28-148A-40A0-9420-AACDAAAD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BD86-5238-450A-9DA2-BE4AFAD1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849-5FFF-4A27-ADC8-3FFCFD71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012-A34F-438B-9F81-AC320EAC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7662-5E8B-4E31-9DE1-B58F3E29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58BD-BBA1-4142-B9A8-9D88A6B3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EEC1-5FE2-42C1-B830-7D09BA3C45B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eorgi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8FD7-641A-4CE8-9B35-9D78505294E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0000"/>
                </a:solidFill>
                <a:latin typeface="Arial Black"/>
              </a:rPr>
              <a:t>ПЛАН</a:t>
            </a:r>
            <a:endParaRPr b="0" lang="en-US" sz="8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39640" y="1989000"/>
            <a:ext cx="822960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ahoma"/>
              </a:rPr>
              <a:t>1.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ВИДЫ ЗЕМНОВОДНЫХ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042920" y="3213000"/>
            <a:ext cx="822960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ahoma"/>
              </a:rPr>
              <a:t>2.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ИХ ОСОБЕННОСТИ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547640" y="436572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ahoma"/>
              </a:rPr>
              <a:t>3.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СРЕДА ОБИТАНИЯ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Итог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Назовите виды земноводных,с которыми мы познакомились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- О каких особенностях вы можете рассказать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-Где обитают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-Что ты знаешь о пользе земноводных для природы и челове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539640" y="333360"/>
            <a:ext cx="822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dfb32"/>
                </a:solidFill>
                <a:latin typeface="Comic Sans MS"/>
              </a:rPr>
              <a:t>До встречи ! … на болоте !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59" name="Picture 5" descr="Рисунок"/>
          <p:cNvPicPr/>
          <p:nvPr/>
        </p:nvPicPr>
        <p:blipFill>
          <a:blip r:embed="rId1"/>
          <a:stretch/>
        </p:blipFill>
        <p:spPr>
          <a:xfrm>
            <a:off x="2627280" y="2349360"/>
            <a:ext cx="41767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строе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0288"/>
          <p:cNvPicPr/>
          <p:nvPr/>
        </p:nvPicPr>
        <p:blipFill>
          <a:blip r:embed="rId1"/>
          <a:stretch/>
        </p:blipFill>
        <p:spPr>
          <a:xfrm>
            <a:off x="3348000" y="1700280"/>
            <a:ext cx="2911680" cy="2620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0103"/>
          <p:cNvPicPr/>
          <p:nvPr/>
        </p:nvPicPr>
        <p:blipFill>
          <a:blip r:embed="rId2"/>
          <a:stretch/>
        </p:blipFill>
        <p:spPr>
          <a:xfrm>
            <a:off x="6545160" y="3860640"/>
            <a:ext cx="2598840" cy="2598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0083"/>
          <p:cNvPicPr/>
          <p:nvPr/>
        </p:nvPicPr>
        <p:blipFill>
          <a:blip r:embed="rId3"/>
          <a:stretch/>
        </p:blipFill>
        <p:spPr>
          <a:xfrm>
            <a:off x="395280" y="3860640"/>
            <a:ext cx="26100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4:58:32Z</dcterms:created>
  <dc:creator>vib</dc:creator>
  <dc:description/>
  <dc:language>en-US</dc:language>
  <cp:lastModifiedBy>дом</cp:lastModifiedBy>
  <dcterms:modified xsi:type="dcterms:W3CDTF">2012-07-15T06:33:55Z</dcterms:modified>
  <cp:revision>57</cp:revision>
  <dc:subject/>
  <dc:title>ПРЕЗЕНТАЦИЯ</dc:title>
</cp:coreProperties>
</file>