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4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061-7591-4243-9DEE-3E76E6BA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3FC-B377-4791-9C0D-1B5E1786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7F5-57E6-4803-8A09-3D981B81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843-1796-43C5-9A6D-30BEAB30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38C0-23A0-47EC-BC45-51156535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F587-50C3-4DD9-80A9-03889BE9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A156-F92B-4674-8D4E-D9E92A8A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720A-E0C9-4EA4-8303-19C14E6E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B463-92A7-42DD-B54C-D5739714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73F5-9698-4240-B6CA-B1A8F368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49E1-D691-4116-8EE6-4A0D4C27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801-DB09-4E13-8FFB-CF903CD1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55ED-5C7A-4080-B8D2-4BEB8CBA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0888-408F-4884-985E-51E14FBB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B698-5300-432F-BC59-93F06E62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A5C5-9BB3-492D-9A17-8AB97884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7E59-8297-4F73-BBB5-58BDA8A9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947-2C19-4F4C-9E32-93C0860D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1B3-872A-4A3E-870B-226492BB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FF3-063C-4942-B791-2CFFBD71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2E6-664C-4BF6-8752-3C3BBEDA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AD0-93FC-4289-A93B-8856A711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968-C6DD-4297-98A0-F2752A05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9BA-0491-4396-8E93-FB62C9AA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6AF3-2D7B-47EA-9B7E-0D531AF41F6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BA4E-D2D4-4BB6-B9B4-FBC773D6E53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00"/>
                </a:solidFill>
                <a:latin typeface="Arial Black"/>
              </a:rPr>
              <a:t>ПЛАН</a:t>
            </a:r>
            <a:endParaRPr b="0" lang="en-US" sz="8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9640" y="1989000"/>
            <a:ext cx="82296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1.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ВИДЫ ЗЕМНОВОДНЫХ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042920" y="3213000"/>
            <a:ext cx="82296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2.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ИХ ОСОБЕННОСТИ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47640" y="436572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3.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СРЕДА ОБИТАНИЯ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тог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Назовите виды земноводных,с которыми мы познакомилис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- О каких особенностях вы можете рассказать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-Где обитают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-Что ты знаешь о пользе земноводных для природы и челове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539640" y="333360"/>
            <a:ext cx="822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dfb32"/>
                </a:solidFill>
                <a:latin typeface="Comic Sans MS"/>
              </a:rPr>
              <a:t>До встречи ! … на болоте !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59" name="Picture 5" descr="Рисунок"/>
          <p:cNvPicPr/>
          <p:nvPr/>
        </p:nvPicPr>
        <p:blipFill>
          <a:blip r:embed="rId1"/>
          <a:stretch/>
        </p:blipFill>
        <p:spPr>
          <a:xfrm>
            <a:off x="2627280" y="2349360"/>
            <a:ext cx="41767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стро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0288"/>
          <p:cNvPicPr/>
          <p:nvPr/>
        </p:nvPicPr>
        <p:blipFill>
          <a:blip r:embed="rId1"/>
          <a:stretch/>
        </p:blipFill>
        <p:spPr>
          <a:xfrm>
            <a:off x="3348000" y="1700280"/>
            <a:ext cx="2911680" cy="2620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0103"/>
          <p:cNvPicPr/>
          <p:nvPr/>
        </p:nvPicPr>
        <p:blipFill>
          <a:blip r:embed="rId2"/>
          <a:stretch/>
        </p:blipFill>
        <p:spPr>
          <a:xfrm>
            <a:off x="6545160" y="3860640"/>
            <a:ext cx="2598840" cy="259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0083"/>
          <p:cNvPicPr/>
          <p:nvPr/>
        </p:nvPicPr>
        <p:blipFill>
          <a:blip r:embed="rId3"/>
          <a:stretch/>
        </p:blipFill>
        <p:spPr>
          <a:xfrm>
            <a:off x="395280" y="3860640"/>
            <a:ext cx="2610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4:58:32Z</dcterms:created>
  <dc:creator>vib</dc:creator>
  <dc:description/>
  <dc:language>en-US</dc:language>
  <cp:lastModifiedBy>дом</cp:lastModifiedBy>
  <dcterms:modified xsi:type="dcterms:W3CDTF">2012-07-15T06:33:55Z</dcterms:modified>
  <cp:revision>57</cp:revision>
  <dc:subject/>
  <dc:title>ПРЕЗЕНТАЦИЯ</dc:title>
</cp:coreProperties>
</file>