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4E0-6EAC-4180-BF27-E791E25F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172-B739-468D-AB0D-12FB4C54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357-7B02-4694-ABB4-E5466BB3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494-CEE0-4B11-82A5-5400AAFE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1ED7-BF24-4821-9F64-C5863263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8C31-9CE9-45BA-988C-89D85D8F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9C3A-588D-4F87-8871-BD0EE37F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F4C0-FD46-4138-8AB7-A2F0EB24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BD6A-0D5E-4D79-B311-890BCEF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F772-9F4D-42BD-97DE-777814A5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6491-46F2-4E7F-ACEE-8B251DE9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01B-E531-46EB-B1BA-826DA197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7767-5964-4D7D-8536-E3327453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6370-200E-439C-98D7-6C683F24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2435-8F40-42C0-A7D8-361691FB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A47B-C1DD-4F5D-81B5-E1F16680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394E-A493-4E50-B19B-960CA1CD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14F-1DCA-4A5B-962D-C93EB285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CE8-497D-4248-A237-AC272B07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007-9D3C-4E15-8758-64F206C8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148-9ADE-4CF3-A80D-D2000638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8F3-43C2-4DA3-A90F-75E1240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F12-2A4E-4CE4-BC26-AC22417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E49-E464-4878-A937-6E47DFE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1394-9176-40FD-A8E3-70793D20669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D04B-C1CC-4D7F-B482-16B3B595A3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РИТОН МРАМОРНЫ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Picture 11" descr="тритон мраморный"/>
          <p:cNvPicPr/>
          <p:nvPr/>
        </p:nvPicPr>
        <p:blipFill>
          <a:blip r:embed="rId1"/>
          <a:stretch/>
        </p:blipFill>
        <p:spPr>
          <a:xfrm>
            <a:off x="468360" y="1197000"/>
            <a:ext cx="8064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РИТОН ГИМОЛАЙСКИ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5" name="Object 13"/>
          <p:cNvGraphicFramePr/>
          <p:nvPr/>
        </p:nvGraphicFramePr>
        <p:xfrm>
          <a:off x="468360" y="1197000"/>
          <a:ext cx="835164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35164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АЛАМАНД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Picture 4" descr="саламандра"/>
          <p:cNvPicPr/>
          <p:nvPr/>
        </p:nvPicPr>
        <p:blipFill>
          <a:blip r:embed="rId1"/>
          <a:stretch/>
        </p:blipFill>
        <p:spPr>
          <a:xfrm>
            <a:off x="971640" y="1268280"/>
            <a:ext cx="7416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60" name="Picture 5" descr="Баба яга"/>
          <p:cNvPicPr/>
          <p:nvPr/>
        </p:nvPicPr>
        <p:blipFill>
          <a:blip r:embed="rId1"/>
          <a:stretch/>
        </p:blipFill>
        <p:spPr>
          <a:xfrm>
            <a:off x="179280" y="386064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611280" y="260280"/>
            <a:ext cx="8208720" cy="2881440"/>
          </a:xfrm>
          <a:prstGeom prst="cloudCallout">
            <a:avLst>
              <a:gd name="adj1" fmla="val -31703"/>
              <a:gd name="adj2" fmla="val 98486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51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a0a"/>
                </a:solidFill>
                <a:latin typeface="Arial"/>
              </a:rPr>
              <a:t>КТО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25a0a"/>
                </a:solidFill>
                <a:latin typeface="Arial"/>
              </a:rPr>
              <a:t>ЛИШНИЙ 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635280" y="2924280"/>
            <a:ext cx="62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9f12"/>
                </a:solidFill>
                <a:latin typeface="Arial"/>
              </a:rPr>
              <a:t>ЖАБ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187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9f12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284328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9f12"/>
                </a:solidFill>
                <a:latin typeface="Arial"/>
              </a:rPr>
              <a:t>ТРИТОН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97964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9f12"/>
                </a:solidFill>
                <a:latin typeface="Arial"/>
              </a:rPr>
              <a:t>ЯЩЕРИЦ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3780000" y="5445000"/>
            <a:ext cx="4464000" cy="863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964720" cy="19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25a0a"/>
                </a:solidFill>
                <a:latin typeface="Arial"/>
              </a:rPr>
              <a:t>АМФИБИИ</a:t>
            </a:r>
            <a:endParaRPr b="0" lang="en-US" sz="8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4:58:32Z</dcterms:created>
  <dc:creator>vib</dc:creator>
  <dc:description/>
  <dc:language>en-US</dc:language>
  <cp:lastModifiedBy>дом</cp:lastModifiedBy>
  <dcterms:modified xsi:type="dcterms:W3CDTF">2012-07-15T06:29:19Z</dcterms:modified>
  <cp:revision>58</cp:revision>
  <dc:subject/>
  <dc:title>ПРЕЗЕНТАЦИЯ</dc:title>
</cp:coreProperties>
</file>