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BD5-9E2D-4628-99DB-6C96B130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359D-490C-47E1-9671-8B9AC68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193-742A-4964-A40A-3B01253A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2365-6C52-4250-840D-C4790C44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D6AC-B14C-451B-9261-A979EDDD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085E-0FDB-499A-BE13-D880CE7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1DC1-FA93-4173-9363-19F0A07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C4B5-5833-43A7-A7F6-4F0715EA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0B04-840E-4D0E-9343-DFF24C2F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812-2DDD-4D0C-92C7-6BA9195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0E95-F09A-47A3-B85E-6C98A18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C0F-C011-4623-B0C5-ED94734B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0473-B663-4B99-82CD-9CB5B869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F308-F709-4B34-90DB-A2E74FC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DC8F-EA4E-4B20-B2F0-2297BD4C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A0D6-775D-4652-8B28-46CA0DF7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0AB2-C2F6-4D2F-897A-621883E0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5F9-CB20-40FF-821B-92BD6050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6BD-9E7F-4440-BCA9-EC9023F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4AD-7803-4075-8729-6FCD1DC5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E5D-8281-48DE-B955-F0045B5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A8D-7F2E-4DC0-9673-912608F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F17-9B29-4118-952A-824B303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8BE-67B4-4112-8A00-BD91914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E85C-379A-4E85-ADCF-B39552A9888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7BE3-986F-4544-A785-8222F7D39E0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ТОН МРАМОРНЫ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Picture 11" descr="тритон мраморный"/>
          <p:cNvPicPr/>
          <p:nvPr/>
        </p:nvPicPr>
        <p:blipFill>
          <a:blip r:embed="rId1"/>
          <a:stretch/>
        </p:blipFill>
        <p:spPr>
          <a:xfrm>
            <a:off x="468360" y="1197000"/>
            <a:ext cx="8064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РИТОН ГИМОЛАЙСКИ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Object 13"/>
          <p:cNvGraphicFramePr/>
          <p:nvPr/>
        </p:nvGraphicFramePr>
        <p:xfrm>
          <a:off x="468360" y="1197000"/>
          <a:ext cx="835164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35164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АЛАМАНД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Picture 4" descr="саламандра"/>
          <p:cNvPicPr/>
          <p:nvPr/>
        </p:nvPicPr>
        <p:blipFill>
          <a:blip r:embed="rId1"/>
          <a:stretch/>
        </p:blipFill>
        <p:spPr>
          <a:xfrm>
            <a:off x="971640" y="1268280"/>
            <a:ext cx="741672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60" name="Picture 5" descr="Баба яга"/>
          <p:cNvPicPr/>
          <p:nvPr/>
        </p:nvPicPr>
        <p:blipFill>
          <a:blip r:embed="rId1"/>
          <a:stretch/>
        </p:blipFill>
        <p:spPr>
          <a:xfrm>
            <a:off x="179280" y="386064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611280" y="260280"/>
            <a:ext cx="8208720" cy="2881440"/>
          </a:xfrm>
          <a:prstGeom prst="cloudCallout">
            <a:avLst>
              <a:gd name="adj1" fmla="val -31703"/>
              <a:gd name="adj2" fmla="val 9848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51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5a0a"/>
                </a:solidFill>
                <a:latin typeface="Arial"/>
              </a:rPr>
              <a:t>КТО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25a0a"/>
                </a:solidFill>
                <a:latin typeface="Arial"/>
              </a:rPr>
              <a:t>ЛИШНИЙ 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3635280" y="2924280"/>
            <a:ext cx="626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ЖАБ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187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284328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ТРИТОН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97964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9f12"/>
                </a:solidFill>
                <a:latin typeface="Arial"/>
              </a:rPr>
              <a:t>ЯЩЕРИЦА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3780000" y="5445000"/>
            <a:ext cx="4464000" cy="863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96472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25a0a"/>
                </a:solidFill>
                <a:latin typeface="Arial"/>
              </a:rPr>
              <a:t>АМФИБИИ</a:t>
            </a:r>
            <a:endParaRPr b="0" lang="en-US" sz="8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4:58:32Z</dcterms:created>
  <dc:creator>vib</dc:creator>
  <dc:description/>
  <dc:language>en-US</dc:language>
  <cp:lastModifiedBy>дом</cp:lastModifiedBy>
  <dcterms:modified xsi:type="dcterms:W3CDTF">2012-07-15T06:29:19Z</dcterms:modified>
  <cp:revision>58</cp:revision>
  <dc:subject/>
  <dc:title>ПРЕЗЕНТАЦИЯ</dc:title>
</cp:coreProperties>
</file>