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18.png" ContentType="image/png"/>
  <Override PartName="/ppt/media/voltage.wav" ContentType="audio/x-wav"/>
  <Override PartName="/ppt/media/image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996-AD8D-4D35-A4DA-00C16A05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91D-F472-41F1-AEA6-AD75EF14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549-87B5-4CB7-A77A-3DA94BDE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184-5051-4089-88DC-A7E26288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E4E8-AC5A-4310-857F-39DC1E11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273E-8902-4989-A1DB-A2C59EDB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DAC8-A644-4329-9D0A-9CD52F2A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1E43-31D5-470B-BA82-A9C33915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DF71-C9DF-424A-AC84-33A918E5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FBBC-86E3-4CA0-90B1-ACB93E2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297A-15F7-4476-9B8D-140BB6C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121-C37A-4103-B622-B630CFF5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53A-2E38-48E0-B3E7-EA34CC83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DCB3-4A1E-4C57-A291-BAEE9CB6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107B-860B-4AF1-B514-8EF46C2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6D5D-67CE-4312-B561-25B9C2F3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9722-BE9C-4D25-9B93-5E8A3E33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48D-2F3E-41A6-B406-F9E01FD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99D-1544-4844-A442-1312C0E5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C52-8582-4C3A-B5C6-CC3D44E0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E44-F41B-4014-A636-F1A70244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EDA-FC02-4537-8483-EC9A67F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004-30EC-4D68-A381-176872B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A17-C8B8-487F-8D18-34A7928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79FD-3728-4084-866F-CB96E2307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586-5781-4622-9032-D6AC3813D3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 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зентация по обществознанию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 уроку «Семейное хозяйство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у выполнил ученик 6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КОУ ООШ с.Загарь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саткин Алексан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39600" y="3154320"/>
            <a:ext cx="6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SP_A0149"/>
          <p:cNvPicPr/>
          <p:nvPr/>
        </p:nvPicPr>
        <p:blipFill>
          <a:blip r:embed="rId2"/>
          <a:stretch/>
        </p:blipFill>
        <p:spPr>
          <a:xfrm>
            <a:off x="539640" y="1052640"/>
            <a:ext cx="3184560" cy="424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4284720" y="2540160"/>
            <a:ext cx="45352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7360" y="-4152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В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ДОМЕ ШТУЧКА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БЫТЬ ДОЛЖ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ЧТО ГРЕЕТ ВОДУ БЕЗ ТРУ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5" descr="SP_A0148"/>
          <p:cNvPicPr/>
          <p:nvPr/>
        </p:nvPicPr>
        <p:blipFill>
          <a:blip r:embed="rId2"/>
          <a:stretch/>
        </p:blipFill>
        <p:spPr>
          <a:xfrm>
            <a:off x="755640" y="3119400"/>
            <a:ext cx="4235400" cy="288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5219640" y="549360"/>
            <a:ext cx="324180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1440" y="-4152600"/>
            <a:ext cx="95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СОБИРАЮ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ПЫЛЬ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 И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ХЛ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ПО КОВРАМ И  ПО УГЛАМ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ЕСЛИ ОЧЕНЬ ЗАХОЧУ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ДАЖЕ КОШКУ ПРОГЛОЧУ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86280" cy="398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5435640" y="2349360"/>
            <a:ext cx="320508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7360" y="-42253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ЧЕРЕЗ ПОЛЕ И ЛЕС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РАЗДАЕТСЯ ГОЛОСОК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ОН БЕЖИТ ПО ПРОВО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СКАЖЕШЬ ЗДЕСЬ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-                     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А СЛЫШНО ТАМ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SP_A0150"/>
          <p:cNvPicPr/>
          <p:nvPr/>
        </p:nvPicPr>
        <p:blipFill>
          <a:blip r:embed="rId2"/>
          <a:stretch/>
        </p:blipFill>
        <p:spPr>
          <a:xfrm>
            <a:off x="971640" y="2400480"/>
            <a:ext cx="2700360" cy="327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3672000" cy="3324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В НАШ КОСМИЧЕСКИЙ В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БЕЗ НЕГО НЕ МОЖЕТ 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МОЖНО В НЕМ ОБЩАТЬСЯ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И ИГРАТЬ,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ЗАНИМАТЬС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КНИЖКИ ПОЧИТАТЬ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Картинка 4 из 262204"/>
          <p:cNvPicPr/>
          <p:nvPr/>
        </p:nvPicPr>
        <p:blipFill>
          <a:blip r:embed="rId2"/>
          <a:stretch/>
        </p:blipFill>
        <p:spPr>
          <a:xfrm>
            <a:off x="539640" y="765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5148360" y="2637000"/>
            <a:ext cx="349092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404640"/>
            <a:ext cx="8002440" cy="5616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826920" y="1125360"/>
            <a:ext cx="763272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ff00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3600" spc="1" strike="noStrike">
              <a:ln w="12600">
                <a:solidFill>
                  <a:srgbClr val="ff00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d"/>
    <p:sndAc>
      <p:stSnd>
        <p:snd r:embed="rId4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8" descr=""/>
          <p:cNvPicPr/>
          <p:nvPr/>
        </p:nvPicPr>
        <p:blipFill>
          <a:blip r:embed="rId2"/>
          <a:stretch/>
        </p:blipFill>
        <p:spPr>
          <a:xfrm>
            <a:off x="3419640" y="4653000"/>
            <a:ext cx="3168360" cy="1954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-52225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Я ПЫХЧУ,  ПЫХЧУ, ПЫХЧУ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БОЛЬШЕ ГРЕТЬСЯ НЕ ХОЧ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КРЫШКА ГРОМКО ЗАЗВЕНЕЛ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ПЕЙТЕ ЧАЙ - ВОДА ВСКИПЕЛ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967120" cy="3803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33512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ПОЛЮБУЙСЯ,  ПОСМОТРИ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ПОЛЮС СЕВЕРНЫЙ ВНУТР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ТАМ СВЕРКАЕТ СНЕГ И ЛЕД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ТАМ САМА ЗИМА ЖИВ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4524120" cy="374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3"/>
          <a:stretch/>
        </p:blipFill>
        <p:spPr>
          <a:xfrm>
            <a:off x="5261040" y="2421000"/>
            <a:ext cx="3344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406656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odoni MT"/>
              </a:rPr>
              <a:t>ЖИВЕТ В НЕМ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Bodoni MT"/>
              </a:rPr>
              <a:t> ВСЯ ВСЕЛЕННАЯ,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odoni MT"/>
              </a:rPr>
              <a:t>А ВЕЩЬ - ОБЫКНОВЕН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5076720" y="800280"/>
            <a:ext cx="3743280" cy="267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81176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-523404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ЧЕТЫРЕ СИНИХ СОЛН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У БАБУШКИ НА КУХНЕ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ЧЕТЫРЕ СИНИХ СОЛН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ГОРЕЛИ И ПОТУХЛИ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ПОСПЕЛИ ЩИ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ШИПЯТ БЛИ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ДО ЗАВТРА СОЛНЦА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                           </a:t>
            </a: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НЕ НУЖ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4:11:57Z</dcterms:created>
  <dc:creator>Костя</dc:creator>
  <dc:description/>
  <dc:language>en-US</dc:language>
  <cp:lastModifiedBy>User</cp:lastModifiedBy>
  <dcterms:modified xsi:type="dcterms:W3CDTF">2012-07-15T12:35:26Z</dcterms:modified>
  <cp:revision>14</cp:revision>
  <dc:subject/>
  <dc:title>Роль техники в быту.   Без техники в жизни человека не прожить  </dc:title>
</cp:coreProperties>
</file>