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18.png" ContentType="image/png"/>
  <Override PartName="/ppt/media/voltage.wav" ContentType="audio/x-wav"/>
  <Override PartName="/ppt/media/image4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81C-8414-4C79-8468-ED7E0374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596-08E7-41AC-B0A0-58748FA3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C34-624F-4317-B33D-9D9709DF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0D6-AD23-4C1C-85EA-05A28C5A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549-B37A-4AEB-B530-F4DF5392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0129-3E23-4C0D-93AC-D14F1248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F1A6-F1F7-46FD-B3BB-49882493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6B9D-10B3-40CF-8A56-6180AEBA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EECF-11A0-4C2C-B366-C1F7E4A7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BC7F-10A8-4A5D-AC91-B5C8A1D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01F-990A-4D61-B51F-DD51A6D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3F9-0E66-46E7-B49C-DB407C54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CC48-64E6-4A95-8E23-31E6A60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F7EE-93E1-4615-9C44-D3C50D60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881-1C5B-4279-86A6-1B86EA9C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787F-8229-4B03-BDB6-09D8CCF7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888E-F6B9-4C34-8D84-F22D7F11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9F1-3DE0-45BC-BDA9-8D18AB9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3E5-924A-429D-B7FC-B8218C3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16F-93B1-41B9-BBB6-81C49421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00D-A5B3-4190-A5D6-929AF770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A28-20FB-44DE-9418-DBF6A172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08F4-7A33-48F7-A4D3-2CD9824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810-5420-46C8-8F8A-416A0B3F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38B5-DE70-4689-B110-2F27AF9F8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A1F-94A8-4F0F-A9C8-D3D4DD1CE1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 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 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зентация по обществознанию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к уроку «Семейное хозяйство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у выполнил ученик 6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КОУ ООШ с.Загарь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саткин Александ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39600" y="3154320"/>
            <a:ext cx="64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SP_A0149"/>
          <p:cNvPicPr/>
          <p:nvPr/>
        </p:nvPicPr>
        <p:blipFill>
          <a:blip r:embed="rId2"/>
          <a:stretch/>
        </p:blipFill>
        <p:spPr>
          <a:xfrm>
            <a:off x="539640" y="1052640"/>
            <a:ext cx="3184560" cy="424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3"/>
          <a:stretch/>
        </p:blipFill>
        <p:spPr>
          <a:xfrm>
            <a:off x="4284720" y="2540160"/>
            <a:ext cx="45352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7360" y="-4152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В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ДОМЕ ШТУЧКА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БЫТЬ ДОЛЖ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ЧТО ГРЕЕТ ВОДУ БЕЗ ТРУ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5" descr="SP_A0148"/>
          <p:cNvPicPr/>
          <p:nvPr/>
        </p:nvPicPr>
        <p:blipFill>
          <a:blip r:embed="rId2"/>
          <a:stretch/>
        </p:blipFill>
        <p:spPr>
          <a:xfrm>
            <a:off x="755640" y="3119400"/>
            <a:ext cx="4235400" cy="288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24180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1440" y="-4152600"/>
            <a:ext cx="95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СОБИРАЮ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ПЫЛЬ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 И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ХЛ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ПО КОВРАМ И  ПО УГЛАМ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ЕСЛИ ОЧЕНЬ ЗАХОЧУ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ДАЖЕ КОШКУ ПРОГЛОЧУ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86280" cy="398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5435640" y="2349360"/>
            <a:ext cx="3205080" cy="3645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7360" y="-42253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ЧЕРЕЗ ПОЛЕ И ЛЕСО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РАЗДАЕТСЯ ГОЛОСОК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ОН БЕЖИТ ПО ПРОВО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СКАЖЕШЬ ЗДЕСЬ 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-                      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Bodoni MT"/>
              </a:rPr>
              <a:t>А СЛЫШНО ТАМ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8" descr="SP_A0150"/>
          <p:cNvPicPr/>
          <p:nvPr/>
        </p:nvPicPr>
        <p:blipFill>
          <a:blip r:embed="rId2"/>
          <a:stretch/>
        </p:blipFill>
        <p:spPr>
          <a:xfrm>
            <a:off x="971640" y="2400480"/>
            <a:ext cx="2700360" cy="327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367200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В НАШ КОСМИЧЕСКИЙ В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БЕЗ НЕГО НЕ МОЖЕТ ЧЕЛОВЕ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МОЖНО В НЕМ ОБЩАТЬСЯ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И ИГРАТЬ,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ЗАНИМАТЬСЯ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КНИЖКИ ПОЧИТАТЬ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Картинка 4 из 262204"/>
          <p:cNvPicPr/>
          <p:nvPr/>
        </p:nvPicPr>
        <p:blipFill>
          <a:blip r:embed="rId2"/>
          <a:stretch/>
        </p:blipFill>
        <p:spPr>
          <a:xfrm>
            <a:off x="539640" y="76500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5148360" y="2637000"/>
            <a:ext cx="3490920" cy="360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404640"/>
            <a:ext cx="8002440" cy="5616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0066"/>
              </a:solidFill>
              <a:latin typeface="Tahoma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826920" y="1125360"/>
            <a:ext cx="763272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ff00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3600" spc="1" strike="noStrike">
              <a:ln w="12600">
                <a:solidFill>
                  <a:srgbClr val="ff00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ld"/>
    <p:sndAc>
      <p:stSnd>
        <p:snd r:embed="rId4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8" descr=""/>
          <p:cNvPicPr/>
          <p:nvPr/>
        </p:nvPicPr>
        <p:blipFill>
          <a:blip r:embed="rId2"/>
          <a:stretch/>
        </p:blipFill>
        <p:spPr>
          <a:xfrm>
            <a:off x="3419640" y="4653000"/>
            <a:ext cx="3168360" cy="1954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-522252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Я ПЫХЧУ,  ПЫХЧУ, ПЫХЧУ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БОЛЬШЕ ГРЕТЬСЯ НЕ ХОЧ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КРЫШКА ГРОМКО ЗАЗВЕНЕЛА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ПЕЙТЕ ЧАЙ - ВОДА ВСКИПЕЛ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967120" cy="3803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33512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ПОЛЮБУЙСЯ,  ПОСМОТРИ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ПОЛЮС СЕВЕРНЫЙ ВНУТРИ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ТАМ СВЕРКАЕТ СНЕГ И ЛЕД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doni MT"/>
              </a:rPr>
              <a:t>ТАМ САМА ЗИМА ЖИВ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4524120" cy="374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"/>
          <p:cNvPicPr/>
          <p:nvPr/>
        </p:nvPicPr>
        <p:blipFill>
          <a:blip r:embed="rId3"/>
          <a:stretch/>
        </p:blipFill>
        <p:spPr>
          <a:xfrm>
            <a:off x="5261040" y="2421000"/>
            <a:ext cx="3344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-406656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doni MT"/>
              </a:rPr>
              <a:t>ЖИВЕТ В НЕМ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Bodoni MT"/>
              </a:rPr>
              <a:t> ВСЯ ВСЕЛЕННАЯ,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odoni MT"/>
              </a:rPr>
              <a:t>А ВЕЩЬ - ОБЫКНОВЕНН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"/>
          <p:cNvPicPr/>
          <p:nvPr/>
        </p:nvPicPr>
        <p:blipFill>
          <a:blip r:embed="rId2"/>
          <a:stretch/>
        </p:blipFill>
        <p:spPr>
          <a:xfrm>
            <a:off x="5076720" y="800280"/>
            <a:ext cx="3743280" cy="267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811760" cy="330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  <p:sndAc>
      <p:stSnd>
        <p:snd r:embed="rId4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-5234040"/>
            <a:ext cx="1332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ЧЕТЫРЕ СИНИХ СОЛН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У БАБУШКИ НА КУХНЕ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ЧЕТЫРЕ СИНИХ СОЛН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ГОРЕЛИ И ПОТУХЛИ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ПОСПЕЛИ ЩИ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ШИПЯТ БЛ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ДО ЗАВТРА СОЛНЦА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                           </a:t>
            </a: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 </a:t>
            </a:r>
            <a:r>
              <a:rPr b="1" lang="en-US" sz="4000" spc="-1" strike="noStrike">
                <a:solidFill>
                  <a:srgbClr val="990099"/>
                </a:solidFill>
                <a:latin typeface="Bodoni MT"/>
              </a:rPr>
              <a:t>НЕ НУЖ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ld"/>
    <p:sndAc>
      <p:stSnd>
        <p:snd r:embed="rId2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14:11:57Z</dcterms:created>
  <dc:creator>Костя</dc:creator>
  <dc:description/>
  <dc:language>en-US</dc:language>
  <cp:lastModifiedBy>User</cp:lastModifiedBy>
  <dcterms:modified xsi:type="dcterms:W3CDTF">2012-07-15T12:35:26Z</dcterms:modified>
  <cp:revision>14</cp:revision>
  <dc:subject/>
  <dc:title>Роль техники в быту.   Без техники в жизни человека не прожить  </dc:title>
</cp:coreProperties>
</file>