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738-F63D-46D0-8982-9EE9DF5E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03B-09D9-480A-B29A-5AAFF746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496-16DD-4B54-AD78-9A3EB9B1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325-54D0-495C-86FB-76C07059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A01-9D17-4BD1-B0F2-976DFCC9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438-2892-4627-A4D1-57116634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DB2-04CC-486F-B841-78AD06E8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744-FEA5-42B4-8508-8188D80C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6C5-517E-4A57-8A10-B43642CD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8F3-2490-4976-8B8B-293677FB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84B-A957-44AA-A1BB-0FB5D979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E93-9729-4E01-A2F8-C344975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F666-96CF-495B-983A-62BBEA684D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i-main-pic" descr="Картинка 17 из 133184"/>
          <p:cNvPicPr/>
          <p:nvPr/>
        </p:nvPicPr>
        <p:blipFill>
          <a:blip r:embed="rId1"/>
          <a:stretch/>
        </p:blipFill>
        <p:spPr>
          <a:xfrm>
            <a:off x="-684360" y="10152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1547640" y="3213000"/>
            <a:ext cx="6315120" cy="15433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УМБА "РАДУГА"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ff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УСТЬ НАША КЛУМБА НАПОЛНЯЕТ ВАС ЯРКИМИ ЭМОЦИЯМ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МИРЕ ОЧЕНЬ МНОГО КРАСИВОГО…А ЕЩЕ БОЛЬШЕ ВОКРУГ НАС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ЕРЕГИТЕ ПРИРОДУ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7" descr="humor1"/>
          <p:cNvPicPr/>
          <p:nvPr/>
        </p:nvPicPr>
        <p:blipFill>
          <a:blip r:embed="rId1"/>
          <a:stretch/>
        </p:blipFill>
        <p:spPr>
          <a:xfrm>
            <a:off x="6443640" y="3357720"/>
            <a:ext cx="195264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Dotum"/>
              </a:rPr>
              <a:t>Радуга, волшебный мост между небом и землей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нашего класса появилась ИДЕЯ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ть клумбу первоклассника в виде радуги, где 7 цветов символизируют наши 7 первых клас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14" descr="IMG_2930"/>
          <p:cNvPicPr/>
          <p:nvPr/>
        </p:nvPicPr>
        <p:blipFill>
          <a:blip r:embed="rId1"/>
          <a:stretch/>
        </p:blipFill>
        <p:spPr>
          <a:xfrm>
            <a:off x="1619280" y="3141720"/>
            <a:ext cx="511164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Цель нашего проекта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красивой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есной 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бучающей клумбы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ши 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лядно продемонстрировать все цвета радуги детя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ить подобранные для нашей клумбы цв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ь эстетический вкус и бережное отношение к природ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так, ВНИМ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small_%D1%81%D0%BE%D0%BB%D0%BD%D1%8B%D1%88%D0%BA%D0%BE_png"/>
          <p:cNvPicPr/>
          <p:nvPr/>
        </p:nvPicPr>
        <p:blipFill>
          <a:blip r:embed="rId1"/>
          <a:stretch/>
        </p:blipFill>
        <p:spPr>
          <a:xfrm>
            <a:off x="395280" y="26028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У нас было много идей…НО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 классов 7 и нам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ариантов больше н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7 счастливое чис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с встречать буд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н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7 цветов у рад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ждика подруг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7 в пословицах «жи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7 в неделе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емеркой музыка «поё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оток 7 ведь в не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ы узнали 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расскажем вс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 дуги у рад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то всего их сем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ак же их запомни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ак цвета сложи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наем мы подсказ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е бы заучи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ш стишок рассказ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пешим подсказку д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ждый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отник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лает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е Сидит 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Ф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зан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notes"/>
          <p:cNvPicPr/>
          <p:nvPr/>
        </p:nvPicPr>
        <p:blipFill>
          <a:blip r:embed="rId1"/>
          <a:stretch/>
        </p:blipFill>
        <p:spPr>
          <a:xfrm>
            <a:off x="755640" y="4869000"/>
            <a:ext cx="2152800" cy="1450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432fgjhgjhk35"/>
          <p:cNvPicPr/>
          <p:nvPr/>
        </p:nvPicPr>
        <p:blipFill>
          <a:blip r:embed="rId2"/>
          <a:stretch/>
        </p:blipFill>
        <p:spPr>
          <a:xfrm>
            <a:off x="2987640" y="220500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img4"/>
          <p:cNvPicPr/>
          <p:nvPr/>
        </p:nvPicPr>
        <p:blipFill>
          <a:blip r:embed="rId3"/>
          <a:stretch/>
        </p:blipFill>
        <p:spPr>
          <a:xfrm>
            <a:off x="6948360" y="1484280"/>
            <a:ext cx="120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гадки и пословицы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то за чудо-красота!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списные ворота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казались на пути!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них ни въехать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и вой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Приказало солнце: стой, </a:t>
            </a:r>
            <a:br>
              <a:rPr sz="1800"/>
            </a:b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емицветный мост крутой! </a:t>
            </a:r>
            <a:br>
              <a:rPr sz="1800"/>
            </a:b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учка скрыла солнца свет - </a:t>
            </a:r>
            <a:br>
              <a:rPr sz="1800"/>
            </a:b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Рухнул мост, и щепок 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Один с сошкой, а семеро с лож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емеро одного не ждут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емь пятниц на неде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седьмом небе от счаст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емь раз отмерь – один раз отреж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900000" y="4811400"/>
            <a:ext cx="551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ишь только дождичек прошёл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Я в небе новшество нашёл: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возь небосвод прошла дуга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ней семь цветов, там -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0" descr="80774430"/>
          <p:cNvPicPr/>
          <p:nvPr/>
        </p:nvPicPr>
        <p:blipFill>
          <a:blip r:embed="rId1"/>
          <a:stretch/>
        </p:blipFill>
        <p:spPr>
          <a:xfrm>
            <a:off x="6372360" y="4941720"/>
            <a:ext cx="21524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а это о-о-очень интересно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ткуда же берется радуг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Обратите внимание, что радугу можно наблюдать только перед дождем или после него. И только в том случае, если одновременно с дождем сквозь тучи пробивается солн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Что при этом происходи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Лучи Солнца проходят через капельки дождя. А каждая такая капелька работает как призма. То есть она разлагает белый свет Солнца на его составляющие - лучи красного, оранжевого, желтого, зеленого, голубого, синего и фиолетового цвета. Причем капельки по-разному отклоняют свет разных цветов, в результате чего белый свет разлагается в разноцветную полосу, которую называют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пектром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223056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1245055264_pic_id323071"/>
          <p:cNvPicPr/>
          <p:nvPr/>
        </p:nvPicPr>
        <p:blipFill>
          <a:blip r:embed="rId2"/>
          <a:stretch/>
        </p:blipFill>
        <p:spPr>
          <a:xfrm>
            <a:off x="539640" y="2781360"/>
            <a:ext cx="21528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лумба"/>
          <p:cNvPicPr/>
          <p:nvPr/>
        </p:nvPicPr>
        <p:blipFill>
          <a:blip r:embed="rId1"/>
          <a:stretch/>
        </p:blipFill>
        <p:spPr>
          <a:xfrm>
            <a:off x="468360" y="-316080"/>
            <a:ext cx="9285120" cy="5992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877080" y="4762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иол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крас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244000" y="2708280"/>
            <a:ext cx="9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164360" y="1268280"/>
            <a:ext cx="10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Виол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ранжев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7236000" y="184464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Виола желт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7308720" y="2565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Кох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272360" y="3068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ff"/>
                </a:solidFill>
                <a:latin typeface="Arial"/>
              </a:rPr>
              <a:t>Виола голуб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8244000" y="558972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236000" y="36450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Виола синя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7020000" y="414972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ff"/>
                </a:solidFill>
                <a:latin typeface="Arial"/>
              </a:rPr>
              <a:t>Виола фиолетов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659640" y="4797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лиссу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724360" y="515772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еревянная планшет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468360" y="515772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Бегония вечноцветущ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2535120" y="5969160"/>
            <a:ext cx="40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900000" y="6093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ff"/>
                </a:solidFill>
                <a:latin typeface="Arial"/>
              </a:rPr>
              <a:t>А вот какие цветы мы высадим на нашу радужную клумб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1700280"/>
          <a:ext cx="7354800" cy="4174920"/>
        </p:xfrm>
        <a:graphic>
          <a:graphicData uri="http://schemas.openxmlformats.org/drawingml/2006/table">
            <a:tbl>
              <a:tblPr/>
              <a:tblGrid>
                <a:gridCol w="1235160"/>
                <a:gridCol w="2592360"/>
                <a:gridCol w="2087280"/>
                <a:gridCol w="144000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цвет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мер и размн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сто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л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цвет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о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25см, семенами, черенк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любивое, умер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на-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х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-10 см ! хорошо переносит стрижк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ен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любивое, либо легкое оттен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сухоустойч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ссу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20см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енами, черенк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любивое, умер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юнь-ок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го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20см, семен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любивое, умер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юнь-сен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76" descr="F0033"/>
          <p:cNvPicPr/>
          <p:nvPr/>
        </p:nvPicPr>
        <p:blipFill>
          <a:blip r:embed="rId1"/>
          <a:stretch/>
        </p:blipFill>
        <p:spPr>
          <a:xfrm>
            <a:off x="7167600" y="3357720"/>
            <a:ext cx="19764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7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162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8" descr="oly_03718"/>
          <p:cNvPicPr/>
          <p:nvPr/>
        </p:nvPicPr>
        <p:blipFill>
          <a:blip r:embed="rId3"/>
          <a:stretch/>
        </p:blipFill>
        <p:spPr>
          <a:xfrm>
            <a:off x="4284720" y="0"/>
            <a:ext cx="2152440" cy="1609560"/>
          </a:xfrm>
          <a:prstGeom prst="rect">
            <a:avLst/>
          </a:prstGeom>
          <a:ln w="0">
            <a:noFill/>
          </a:ln>
        </p:spPr>
      </p:pic>
      <p:pic>
        <p:nvPicPr>
          <p:cNvPr id="84" name="il_fi" descr="108"/>
          <p:cNvPicPr/>
          <p:nvPr/>
        </p:nvPicPr>
        <p:blipFill>
          <a:blip r:embed="rId4"/>
          <a:stretch/>
        </p:blipFill>
        <p:spPr>
          <a:xfrm>
            <a:off x="2124000" y="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1" descr=""/>
          <p:cNvPicPr/>
          <p:nvPr/>
        </p:nvPicPr>
        <p:blipFill>
          <a:blip r:embed="rId5"/>
          <a:stretch/>
        </p:blipFill>
        <p:spPr>
          <a:xfrm>
            <a:off x="6443640" y="0"/>
            <a:ext cx="2333520" cy="155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3" descr=""/>
          <p:cNvPicPr/>
          <p:nvPr/>
        </p:nvPicPr>
        <p:blipFill>
          <a:blip r:embed="rId6"/>
          <a:stretch/>
        </p:blipFill>
        <p:spPr>
          <a:xfrm>
            <a:off x="7451640" y="2060640"/>
            <a:ext cx="151308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Мы очень старались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8:12:42Z</dcterms:created>
  <dc:creator>Arina</dc:creator>
  <dc:description/>
  <dc:language>en-US</dc:language>
  <cp:lastModifiedBy>Катя</cp:lastModifiedBy>
  <dcterms:modified xsi:type="dcterms:W3CDTF">2012-07-14T20:55:44Z</dcterms:modified>
  <cp:revision>35</cp:revision>
  <dc:subject/>
  <dc:title>Слайд 1</dc:title>
</cp:coreProperties>
</file>