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C13-0161-4484-B683-5A30AFD8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F59-7E0B-4394-9E99-58420709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9AC-C855-47C2-A85D-B853BD40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901-0343-47DD-820D-01527683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7B5-6B9C-48A0-A0B8-13863549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9B1-3F69-4C4D-BA24-AB66B5B1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B77-7E64-40E9-A1C0-26F4DF79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EDF-B828-467E-B38F-1611696F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02A-5E19-455C-AFAE-513B28F1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E3A-7AAD-4675-BC91-62ED6D4C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DF9-5A38-4CAC-9C10-5465DDE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6D6-7DF9-4051-AA66-8611B56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61F-230A-4D15-98CD-90FD8ADEE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71600" y="990720"/>
            <a:ext cx="6781680" cy="34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а поведе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возникновени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рористического акт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185920" y="4876920"/>
            <a:ext cx="4900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зентацию составила: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кина О.В.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У ЦО № 147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335304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приближаться к обнаруженному предмету, не трогать его и не подпускать других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Немедленно сообщить в дежурные службы органов МВД, ФСБ, ГО и ЧС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Из-за возможного срабатывания радиоуправляемого взрывателя не пользоваться пейджерами, сотовыми телефонами, рациями.</a:t>
            </a:r>
            <a:br>
              <a:rPr sz="2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terror_pov_2"/>
          <p:cNvPicPr/>
          <p:nvPr/>
        </p:nvPicPr>
        <p:blipFill>
          <a:blip r:embed="rId1"/>
          <a:stretch/>
        </p:blipFill>
        <p:spPr>
          <a:xfrm>
            <a:off x="3733920" y="11430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3809880" y="15228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При обнаружении подозрительного предмет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28840" y="304920"/>
            <a:ext cx="38098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угрозе совершения терракта действуйте в соответствии с планом эвак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о время эвакуации не допускайте паники, оказывайте необходимую помощь друг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rror_pov_1"/>
          <p:cNvPicPr/>
          <p:nvPr/>
        </p:nvPicPr>
        <p:blipFill>
          <a:blip r:embed="rId1"/>
          <a:stretch/>
        </p:blipFill>
        <p:spPr>
          <a:xfrm>
            <a:off x="533520" y="1981080"/>
            <a:ext cx="396216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4920" y="457200"/>
            <a:ext cx="419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авила поведения при возникновении террористического 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3809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 начале штурма могут свидетельство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отвлекающий звук (взрыв, сир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янувшаяся пауза в ходе пере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тарайтесь расположиться подальше от окон и двере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Лягте или сядьте сложив руки на затылке. В руках не должно быть никаких предм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38480" cy="3962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623880"/>
            <a:ext cx="50497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ри начале штур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29200" y="685800"/>
            <a:ext cx="3657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райтесь запомнить как можно больше о террористах, их число, вооруженность, телосложение, темперамент, манеру речи, акцент и т.п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казывайте сопротивления, выполняйте все требова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 пытайтесь убежать, если нет полной уверенности в успех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вмешивайтесь в переговоры, не пытайтесь вести их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terror_pov_9"/>
          <p:cNvPicPr/>
          <p:nvPr/>
        </p:nvPicPr>
        <p:blipFill>
          <a:blip r:embed="rId1"/>
          <a:stretch/>
        </p:blipFill>
        <p:spPr>
          <a:xfrm>
            <a:off x="457200" y="2438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286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Если вы залож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657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кинув здание не возвращайтесь в него за забытыми вещами или по другим причинам, так как за первым взрывом может последовать втор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е обнаружив среди спасшихся сослуживца, укажите спасателям, где видели его перед взрыв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кажите пострадавшим первую медицинск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terror_pov_8"/>
          <p:cNvPicPr/>
          <p:nvPr/>
        </p:nvPicPr>
        <p:blipFill>
          <a:blip r:embed="rId1"/>
          <a:stretch/>
        </p:blipFill>
        <p:spPr>
          <a:xfrm>
            <a:off x="4038480" y="1676520"/>
            <a:ext cx="48006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962520" y="533520"/>
            <a:ext cx="5181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роизошел взры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Если позвонили или прислали письмо с угрозой совершения тера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267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старайтесь запомнить точное содержание разгово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метьте манеру речи, особенности голоса, характерные слова и оборот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старайтесь уловить звуковой фо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Не опуская трубку, позвоните на местную АТС для возможного определения номер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Срочно уведомите службу безопасности предприятия и правоохранительные орга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исьмо с угрозой не следует передавать другим сотруд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3124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истемный Администратор</cp:lastModifiedBy>
  <dcterms:modified xsi:type="dcterms:W3CDTF">2011-03-16T13:37:2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