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D5AB-201E-4364-ABDB-12D9E38A4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ABE6-1AD9-440E-B162-B27A9832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0595-925C-458E-B734-3B956AA60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BCF9-432C-428F-82CF-7C40F7E45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0A33-FB76-4B21-BE82-A9A1F5CE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C5F8-F188-4B1F-894C-7349AA1B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EBCC-20E3-4001-A699-CDD7AD72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DA7B-AC76-4580-B3CA-FC3BE403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B50B-6573-4C5E-BC62-329D0166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69CB-9448-4C53-9538-D5E05FF3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A7C8-E79E-4F02-B32D-6324BA8C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29E4-4426-4A58-8040-E68AD0B6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3B34-DCF9-4CC2-81B0-B3D89ED5EA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371600" y="990720"/>
            <a:ext cx="6781680" cy="348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ила поведени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 возникновении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ррористического акт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2185920" y="4876920"/>
            <a:ext cx="49006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зентацию составила: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ткина О.В.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ОУ ЦО № 147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335304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Не приближаться к обнаруженному предмету, не трогать его и не подпускать других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Немедленно сообщить в дежурные службы органов МВД, ФСБ, ГО и ЧС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Из-за возможного срабатывания радиоуправляемого взрывателя не пользоваться пейджерами, сотовыми телефонами, рациями.</a:t>
            </a:r>
            <a:br>
              <a:rPr sz="20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terror_pov_2"/>
          <p:cNvPicPr/>
          <p:nvPr/>
        </p:nvPicPr>
        <p:blipFill>
          <a:blip r:embed="rId1"/>
          <a:stretch/>
        </p:blipFill>
        <p:spPr>
          <a:xfrm>
            <a:off x="3733920" y="1143000"/>
            <a:ext cx="4952880" cy="49528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3809880" y="152280"/>
            <a:ext cx="487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При обнаружении подозрительного предмета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5028840" y="304920"/>
            <a:ext cx="38098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ри угрозе совершения терракта действуйте в соответствии с планом эваку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Во время эвакуации не допускайте паники, оказывайте необходимую помощь друг дру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terror_pov_1"/>
          <p:cNvPicPr/>
          <p:nvPr/>
        </p:nvPicPr>
        <p:blipFill>
          <a:blip r:embed="rId1"/>
          <a:stretch/>
        </p:blipFill>
        <p:spPr>
          <a:xfrm>
            <a:off x="533520" y="1981080"/>
            <a:ext cx="3962160" cy="35053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304920" y="457200"/>
            <a:ext cx="4190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Правила поведения при возникновении террористического а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38098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О начале штурма могут свидетельствова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кий отвлекающий звук (взрыв, сире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янувшаяся пауза в ходе перегов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старайтесь расположиться подальше от окон и двере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Лягте или сядьте сложив руки на затылке. В руках не должно быть никаких предме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4038480" cy="39621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4419720" y="623880"/>
            <a:ext cx="50497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При начале штур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029200" y="685800"/>
            <a:ext cx="3657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райтесь запомнить как можно больше о террористах, их число, вооруженность, телосложение, темперамент, манеру речи, акцент и т.п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Не оказывайте сопротивления, выполняйте все требовани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Не пытайтесь убежать, если нет полной уверенности в успех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Не вмешивайтесь в переговоры, не пытайтесь вести их самостояте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terror_pov_9"/>
          <p:cNvPicPr/>
          <p:nvPr/>
        </p:nvPicPr>
        <p:blipFill>
          <a:blip r:embed="rId1"/>
          <a:stretch/>
        </p:blipFill>
        <p:spPr>
          <a:xfrm>
            <a:off x="457200" y="2438280"/>
            <a:ext cx="4419720" cy="35053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228600" y="9144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Если вы заложни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52280" y="609480"/>
            <a:ext cx="3657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окинув здание не возвращайтесь в него за забытыми вещами или по другим причинам, так как за первым взрывом может последовать второ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Не обнаружив среди спасшихся сослуживца, укажите спасателям, где видели его перед взрыво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старайтесь уловить звуковой фон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кажите пострадавшим первую медицинскую помощ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terror_pov_8"/>
          <p:cNvPicPr/>
          <p:nvPr/>
        </p:nvPicPr>
        <p:blipFill>
          <a:blip r:embed="rId1"/>
          <a:stretch/>
        </p:blipFill>
        <p:spPr>
          <a:xfrm>
            <a:off x="4038480" y="1676520"/>
            <a:ext cx="480060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3962520" y="533520"/>
            <a:ext cx="5181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Если произошел взры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Если позвонили или прислали письмо с угрозой совершения теракта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419360" y="1219320"/>
            <a:ext cx="4267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остарайтесь запомнить точное содержание разговор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тметьте манеру речи, особенности голоса, характерные слова и оборот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старайтесь уловить звуковой фон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Не опуская трубку, позвоните на местную АТС для возможного определения номер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Срочно уведомите службу безопасности предприятия и правоохранительные орган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Письмо с угрозой не следует передавать другим сотрудник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3124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истемный Администратор</cp:lastModifiedBy>
  <dcterms:modified xsi:type="dcterms:W3CDTF">2011-03-16T13:37:2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