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EFD-AE30-4E4D-80C4-264B367CA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184F-B94B-4AF6-A357-7862340F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61C8-A4AA-44EF-8C12-523210E4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308E-8E57-4BE6-A10A-F17B6252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2648-2AE6-4C17-800A-770F3841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B237-2D0B-4A84-9DB1-F748E06B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F6B2-55DE-412C-B28C-DF5732E1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DF55-52D2-4528-8D22-3056814A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39FD-8109-4F7A-A05C-D189FDAC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0E35-2A8B-4CA3-8011-CF94D8D2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313E-A6CF-4A0A-83C8-DF081322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B041-3075-44A3-8F81-871206FB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A8E7-CA4E-49D4-A3D2-A320A26D69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unlife-spb.ru/inc/tpl/img/autoins/children/dm_462.jpg" TargetMode="External"/><Relationship Id="rId2" Type="http://schemas.openxmlformats.org/officeDocument/2006/relationships/hyperlink" Target="http://www.prozagadki.ru/951-zagadki-pro-tigra-dlja-detejj.html" TargetMode="External"/><Relationship Id="rId3" Type="http://schemas.openxmlformats.org/officeDocument/2006/relationships/hyperlink" Target="http://img-novosib.fotki.yandex.ru/get/5822/132352990.6e/0_73562_576b869a_S.jpg" TargetMode="External"/><Relationship Id="rId4" Type="http://schemas.openxmlformats.org/officeDocument/2006/relationships/hyperlink" Target="http://andrew-dev.ucoz.ru/_nw/0/31837556.jpg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16360" y="2205000"/>
            <a:ext cx="3740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984807"/>
                </a:solidFill>
                <a:latin typeface="Monotype Corsiva"/>
                <a:ea typeface="Arial"/>
              </a:rPr>
              <a:t>Тигр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67280" y="3933720"/>
            <a:ext cx="4752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Поэтапное рис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4859280" y="476280"/>
            <a:ext cx="38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МК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Искитим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Новосиби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4500720" y="5157720"/>
            <a:ext cx="39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Автор - состав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7" descr="dm_462.jpg"/>
          <p:cNvPicPr/>
          <p:nvPr/>
        </p:nvPicPr>
        <p:blipFill>
          <a:blip r:embed="rId1"/>
          <a:stretch/>
        </p:blipFill>
        <p:spPr>
          <a:xfrm>
            <a:off x="395280" y="333360"/>
            <a:ext cx="44877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80538345_4164993_83291301_1_.jpg"/>
          <p:cNvPicPr/>
          <p:nvPr/>
        </p:nvPicPr>
        <p:blipFill>
          <a:blip r:embed="rId1"/>
          <a:stretch/>
        </p:blipFill>
        <p:spPr>
          <a:xfrm>
            <a:off x="2268360" y="1052640"/>
            <a:ext cx="4967640" cy="549108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1403280" y="404640"/>
            <a:ext cx="65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 тигр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Используемые источн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Monotype Corsiva"/>
                <a:hlinkClick r:id="rId1"/>
              </a:rPr>
              <a:t>http://www.sunlife-spb.ru/inc/tpl/img/autoins/children/dm_462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тиг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Monotype Corsiva"/>
                <a:hlinkClick r:id="rId2"/>
              </a:rPr>
              <a:t>http://www.prozagadki.ru/951-zagadki-pro-tigra-dlja-detejj.html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загад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Monotype Corsiva"/>
                <a:hlinkClick r:id="rId3"/>
              </a:rPr>
              <a:t>http://img-novosib.fotki.yandex.ru/get/5822/132352990.6e/0_73562_576b869a_S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тигр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Monotype Corsiva"/>
                <a:hlinkClick r:id="rId4"/>
              </a:rPr>
              <a:t>http://andrew-dev.ucoz.ru/_nw/0/31837556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этап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ttp://andrew-dev.ucoz.ru/_nw/0/57086120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этап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ttp://andrew-dev.ucoz.ru/_nw/0/34637823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этап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ttp://andrew-dev.ucoz.ru/_nw/0/92299118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этап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ttp://andrew-dev.ucoz.ru/_nw/0/70305114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этап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ttp://andrew-dev.ucoz.ru/_nw/0/12782897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этап 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395280" y="404640"/>
            <a:ext cx="835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прелестный полосатик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ивый, миленький усати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симпатичная зверушка 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ая мягкая игрушк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киска – не для детских игр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ь не котёнок – э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2" descr="0_73562_576b869a_S.jpg"/>
          <p:cNvPicPr/>
          <p:nvPr/>
        </p:nvPicPr>
        <p:blipFill>
          <a:blip r:embed="rId1"/>
          <a:stretch/>
        </p:blipFill>
        <p:spPr>
          <a:xfrm>
            <a:off x="2195640" y="3213000"/>
            <a:ext cx="640872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611280" y="404640"/>
            <a:ext cx="806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не знаете, как нарисовать тигра? Не отчаивайтесь! Возьмите в руки карандаш. Помните, рисовать нужно плавно, легкими штрихами, едва касаясь бумаги, так как часть линий у нас будет вспомогательными, и в конце работы нам придется их стереть. Итак, приступим к обучению поэтапного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80538345_4164993_83291301_1_.jpg"/>
          <p:cNvPicPr/>
          <p:nvPr/>
        </p:nvPicPr>
        <p:blipFill>
          <a:blip r:embed="rId1"/>
          <a:stretch/>
        </p:blipFill>
        <p:spPr>
          <a:xfrm>
            <a:off x="3348000" y="3573360"/>
            <a:ext cx="27558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395280" y="404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Этап 1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исуем туловище, хвост и голо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31837556.jpg"/>
          <p:cNvPicPr/>
          <p:nvPr/>
        </p:nvPicPr>
        <p:blipFill>
          <a:blip r:embed="rId1"/>
          <a:stretch/>
        </p:blipFill>
        <p:spPr>
          <a:xfrm>
            <a:off x="1332000" y="836640"/>
            <a:ext cx="677520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395280" y="404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Этап 2:</a:t>
            </a:r>
            <a:r>
              <a:rPr b="1" lang="ru-RU" sz="28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голове рисуем два кружка – это уши. Намечаем мордочку. Рисуем задние и передние ла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57086120.jpg"/>
          <p:cNvPicPr/>
          <p:nvPr/>
        </p:nvPicPr>
        <p:blipFill>
          <a:blip r:embed="rId1"/>
          <a:stretch/>
        </p:blipFill>
        <p:spPr>
          <a:xfrm>
            <a:off x="2124000" y="1413000"/>
            <a:ext cx="468000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395280" y="404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Этап 3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онкой плавной линей пририсовываем нос,  намечаем рот. Дорисовываем переднюю и заднюю н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" descr="34637823.jpg"/>
          <p:cNvPicPr/>
          <p:nvPr/>
        </p:nvPicPr>
        <p:blipFill>
          <a:blip r:embed="rId1"/>
          <a:stretch/>
        </p:blipFill>
        <p:spPr>
          <a:xfrm>
            <a:off x="2050920" y="1341360"/>
            <a:ext cx="492624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468360" y="33336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Этап 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дин из наиболее важных. Здесь мы поэтапно прорисовываем каждую деталь. Сначала дорисуем глаза и уши. Затем двумя округлыми плавными дугами дорисовываем линию рта и улыбку нашего тигра. Прорисовываем шерсть, когти и намечаем усы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2" descr="92299118.jpg"/>
          <p:cNvPicPr/>
          <p:nvPr/>
        </p:nvPicPr>
        <p:blipFill>
          <a:blip r:embed="rId1"/>
          <a:stretch/>
        </p:blipFill>
        <p:spPr>
          <a:xfrm>
            <a:off x="3059280" y="2924280"/>
            <a:ext cx="335412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324000" y="404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Этап 5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уем поло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2" descr="70305114.jpg"/>
          <p:cNvPicPr/>
          <p:nvPr/>
        </p:nvPicPr>
        <p:blipFill>
          <a:blip r:embed="rId1"/>
          <a:stretch/>
        </p:blipFill>
        <p:spPr>
          <a:xfrm>
            <a:off x="1979640" y="1052640"/>
            <a:ext cx="5079960" cy="56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324000" y="40464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Этап 6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ираем все вспомогательные и уже не нужные нам линии. Теперь можно обвести тигра поярче и даже красиво разукрас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" descr="12782897.jpg"/>
          <p:cNvPicPr/>
          <p:nvPr/>
        </p:nvPicPr>
        <p:blipFill>
          <a:blip r:embed="rId1"/>
          <a:stretch/>
        </p:blipFill>
        <p:spPr>
          <a:xfrm>
            <a:off x="2484360" y="1771560"/>
            <a:ext cx="439128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5:30:55Z</dcterms:created>
  <dc:creator>Компас</dc:creator>
  <dc:description/>
  <dc:language>en-US</dc:language>
  <cp:lastModifiedBy>Компас</cp:lastModifiedBy>
  <dcterms:modified xsi:type="dcterms:W3CDTF">2012-07-15T13:54:12Z</dcterms:modified>
  <cp:revision>8</cp:revision>
  <dc:subject/>
  <dc:title>Тигр</dc:title>
</cp:coreProperties>
</file>