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B36-C5E0-4E5D-A86C-3AA13D8B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8B0-9B24-4E27-A936-3644E09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BA3-B099-4BA4-BBD1-20441246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BFB-39A2-45BC-A955-455570EF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701-58AD-4CFB-9BB0-F7B5C22D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8D6-3B26-4EA9-976A-BF188C38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2A3-B739-4639-871A-691BFB88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32E-8E49-428D-B4DF-7057118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836-AB14-483C-B168-A190ED7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32E-4C79-4F7C-88DF-8B86AE7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5FE-0FF1-40F3-9784-F34CE0D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D71-E5A7-4FCE-B998-30FB40D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DF2-4B3A-4DD8-8EA2-AF230E602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nlife-spb.ru/inc/tpl/img/autoins/children/dm_462.jpg" TargetMode="External"/><Relationship Id="rId2" Type="http://schemas.openxmlformats.org/officeDocument/2006/relationships/hyperlink" Target="http://www.prozagadki.ru/951-zagadki-pro-tigra-dlja-detejj.html" TargetMode="External"/><Relationship Id="rId3" Type="http://schemas.openxmlformats.org/officeDocument/2006/relationships/hyperlink" Target="http://img-novosib.fotki.yandex.ru/get/5822/132352990.6e/0_73562_576b869a_S.jpg" TargetMode="External"/><Relationship Id="rId4" Type="http://schemas.openxmlformats.org/officeDocument/2006/relationships/hyperlink" Target="http://andrew-dev.ucoz.ru/_nw/0/31837556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2205000"/>
            <a:ext cx="3740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84807"/>
                </a:solidFill>
                <a:latin typeface="Monotype Corsiva"/>
                <a:ea typeface="Arial"/>
              </a:rPr>
              <a:t>Тиг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93372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859280" y="4762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500720" y="5157720"/>
            <a:ext cx="39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dm_462.jpg"/>
          <p:cNvPicPr/>
          <p:nvPr/>
        </p:nvPicPr>
        <p:blipFill>
          <a:blip r:embed="rId1"/>
          <a:stretch/>
        </p:blipFill>
        <p:spPr>
          <a:xfrm>
            <a:off x="395280" y="333360"/>
            <a:ext cx="4487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80538345_4164993_83291301_1_.jpg"/>
          <p:cNvPicPr/>
          <p:nvPr/>
        </p:nvPicPr>
        <p:blipFill>
          <a:blip r:embed="rId1"/>
          <a:stretch/>
        </p:blipFill>
        <p:spPr>
          <a:xfrm>
            <a:off x="2268360" y="1052640"/>
            <a:ext cx="4967640" cy="54910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тигр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unlife-spb.ru/inc/tpl/img/autoins/children/dm_462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тиг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prozagadki.ru/951-zagadki-pro-tigra-dlja-detejj.html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g-novosib.fotki.yandex.ru/get/5822/132352990.6e/0_73562_576b869a_S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тигр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andrew-dev.ucoz.ru/_nw/0/3183755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5708612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34637823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9229911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70305114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12782897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95280" y="40464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релестный полосатик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й, миленький усат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симпатичная зверушка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мягкая игруш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киска – не для детских иг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е котёнок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0_73562_576b869a_S.jpg"/>
          <p:cNvPicPr/>
          <p:nvPr/>
        </p:nvPicPr>
        <p:blipFill>
          <a:blip r:embed="rId1"/>
          <a:stretch/>
        </p:blipFill>
        <p:spPr>
          <a:xfrm>
            <a:off x="2195640" y="3213000"/>
            <a:ext cx="64087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404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тигр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80538345_4164993_83291301_1_.jpg"/>
          <p:cNvPicPr/>
          <p:nvPr/>
        </p:nvPicPr>
        <p:blipFill>
          <a:blip r:embed="rId1"/>
          <a:stretch/>
        </p:blipFill>
        <p:spPr>
          <a:xfrm>
            <a:off x="3348000" y="3573360"/>
            <a:ext cx="2755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95280" y="40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суем туловище, хвост и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31837556.jpg"/>
          <p:cNvPicPr/>
          <p:nvPr/>
        </p:nvPicPr>
        <p:blipFill>
          <a:blip r:embed="rId1"/>
          <a:stretch/>
        </p:blipFill>
        <p:spPr>
          <a:xfrm>
            <a:off x="1332000" y="836640"/>
            <a:ext cx="67752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2: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олове рисуем два кружка – это уши. Намечаем мордочку. Рисуем задние и передние ла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57086120.jpg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нкой плавной линей пририсовываем нос,  намечаем рот. Дорисовываем переднюю и заднюю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34637823.jpg"/>
          <p:cNvPicPr/>
          <p:nvPr/>
        </p:nvPicPr>
        <p:blipFill>
          <a:blip r:embed="rId1"/>
          <a:stretch/>
        </p:blipFill>
        <p:spPr>
          <a:xfrm>
            <a:off x="2050920" y="1341360"/>
            <a:ext cx="49262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3333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Здесь мы поэтапно прорисовываем каждую деталь. Сначала дорисуем глаза и уши. Затем двумя округлыми плавными дугами дорисовываем линию рта и улыбку нашего тигра. Прорисовываем шерсть, когти и намечаем ус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92299118.jpg"/>
          <p:cNvPicPr/>
          <p:nvPr/>
        </p:nvPicPr>
        <p:blipFill>
          <a:blip r:embed="rId1"/>
          <a:stretch/>
        </p:blipFill>
        <p:spPr>
          <a:xfrm>
            <a:off x="3059280" y="2924280"/>
            <a:ext cx="3354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24000" y="404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5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пол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70305114.jpg"/>
          <p:cNvPicPr/>
          <p:nvPr/>
        </p:nvPicPr>
        <p:blipFill>
          <a:blip r:embed="rId1"/>
          <a:stretch/>
        </p:blipFill>
        <p:spPr>
          <a:xfrm>
            <a:off x="1979640" y="1052640"/>
            <a:ext cx="507996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24000" y="404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6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тигр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12782897.jpg"/>
          <p:cNvPicPr/>
          <p:nvPr/>
        </p:nvPicPr>
        <p:blipFill>
          <a:blip r:embed="rId1"/>
          <a:stretch/>
        </p:blipFill>
        <p:spPr>
          <a:xfrm>
            <a:off x="2484360" y="1771560"/>
            <a:ext cx="43912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5:30:55Z</dcterms:created>
  <dc:creator>Компас</dc:creator>
  <dc:description/>
  <dc:language>en-US</dc:language>
  <cp:lastModifiedBy>Компас</cp:lastModifiedBy>
  <dcterms:modified xsi:type="dcterms:W3CDTF">2012-07-15T13:54:12Z</dcterms:modified>
  <cp:revision>8</cp:revision>
  <dc:subject/>
  <dc:title>Тигр</dc:title>
</cp:coreProperties>
</file>