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50A-D7F5-4B0E-8026-F774C7B6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AE4-F789-4644-A087-94A66B3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6A9-D6F4-4BC8-A71E-5B5265E7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780-FAE3-4E76-97C4-BE141FB9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4F08-029B-4DD9-9B63-F2BB7C6F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C03-6CF8-456B-A674-9C20F3A3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34BB-C904-426A-B59E-4BAEC036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1F3-D7F1-4C40-AD36-A0A93188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CB88-AEA6-4807-B37D-96C9DBFD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DEC2-A2FB-4E38-8D31-A75CA0F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0375-CB38-4CEB-857E-CEC4879C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15B-EB26-4A03-92A1-8E00C91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EC59-E630-4B71-87A5-8F2A1E19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3691-8454-4F16-84D3-6599BB1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C8FE-6C1A-462F-AC5A-B8D8B3A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94B-B3EF-4A8F-816F-D8AAFD57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F144-1BFE-4E2C-BC82-2D6CFD57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7BA-F1C3-4A68-8308-415DF942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8FA-F14B-4CBC-85A0-AAC29791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D5E-4BA5-4FB0-83F5-EFA077C7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F8A-F641-42F3-8E13-BB0740E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43C-CD01-44F4-9F42-A6C35B5E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73C-5861-49E6-AF46-E0AF0D4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438-2B7B-4A95-B4D9-2A12D9F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810C-D2FD-468B-A2C6-5FA61A6DE6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A08-CFD1-473C-8E3E-4B912A7A85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pirao.ru/upload/iblock/5544ddf50ff637bb9c037aed22247f22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698508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Технология оценивания учебных успехов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419480" cy="2160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61960" y="3885840"/>
            <a:ext cx="473076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 Образовательной системы «Школа 2100» и РА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49CE-BF81-4767-A5AA-2BB4B6B93C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-100080"/>
            <a:ext cx="87138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Зачем мы создавали новую технологию? Наши 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«Главное не знания, а умение ими пользо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Психологическая комфортность (мотивация успешности, опора на внутренние мотив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иним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бучение деятельности 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19700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тразить на этапе контро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 принципы «Школы 2100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08464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здать личностно ориентированную технологию оценивания, сочетаемую с практикой массовой школы и официальными нормами оцен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4138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елать ученика полноправным участником контроля (прозрачность прави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D91-8807-4B0C-A5B0-020D0712DA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42800" y="251280"/>
            <a:ext cx="7419240" cy="11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Как мы создавали новую технологию оцениван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4920" y="5084640"/>
            <a:ext cx="82501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ключения РА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16 ноября 2005 г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работа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 нов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хнология оценки учебных успех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1773360"/>
            <a:ext cx="2209680" cy="2950920"/>
          </a:xfrm>
          <a:prstGeom prst="rect">
            <a:avLst/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Times New Roman"/>
              </a:rPr>
              <a:t>2002 </a:t>
            </a:r>
            <a:r>
              <a:rPr b="1" lang="ru-RU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b03f5"/>
                </a:solidFill>
                <a:latin typeface="Times New Roman"/>
              </a:rPr>
              <a:t>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ль оцен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бщение опыта, формулиро-вание прави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1773360"/>
            <a:ext cx="2520720" cy="2879640"/>
          </a:xfrm>
          <a:prstGeom prst="rect">
            <a:avLst/>
          </a:prstGeom>
          <a:solidFill>
            <a:srgbClr val="ff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4 </a:t>
            </a:r>
            <a:r>
              <a:rPr b="1" lang="en-US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7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перимент РА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рка правил, их уточнение, отработка алгоритмом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05520" y="1773360"/>
            <a:ext cx="2887560" cy="2879640"/>
          </a:xfrm>
          <a:prstGeom prst="rect">
            <a:avLst/>
          </a:prstGeom>
          <a:solidFill>
            <a:srgbClr val="ff66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2008 </a:t>
            </a:r>
            <a:r>
              <a:rPr b="1" lang="en-US" sz="1800" spc="-1" strike="noStrike">
                <a:solidFill>
                  <a:srgbClr val="2b03f5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b03f5"/>
                </a:solidFill>
                <a:latin typeface="Times New Roman"/>
              </a:rPr>
              <a:t>…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ческий пак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здание набора средств, поддерживающих данную техноло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78040" y="2571840"/>
            <a:ext cx="3812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59480" y="25718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4653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A16-3130-4A4E-86FD-682F81594A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6360" y="115920"/>
            <a:ext cx="9144000" cy="12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«А кто проверял вашу технологию и разрешал ее использовать?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11280" y="1554120"/>
            <a:ext cx="633744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ЙСКАЯ АКАДЕМИЯ ОБРАЗ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из Заключения от 18 ноября 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2005 г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ункт 10). «Разработана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технология оценивания учебных успех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разных этапах образовательного процесс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77840" cy="2082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84360" y="3789360"/>
            <a:ext cx="632484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ТЕЛЬСТВО РОССИЙСКОЙ ФЕДЕР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2008 го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удило государственную премию авторскому коллективу «Школы 2100» за разработку новой образовательной системы (как составляющий элемент экспертировалась и </a:t>
            </a:r>
            <a:r>
              <a:rPr b="1" lang="ru-RU" sz="2400" spc="-1" strike="noStrike">
                <a:solidFill>
                  <a:srgbClr val="299410"/>
                </a:solidFill>
                <a:latin typeface="Arial"/>
              </a:rPr>
              <a:t>технология оценивания учебных успех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Картинка 16 из 6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573360"/>
            <a:ext cx="2257560" cy="338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CC2-D0D2-4233-8822-6362D95DD4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ЧТО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! Но отметка – за решение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ТО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+ Учитель в диалог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КОЛЬКО?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задача – одна  от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ДЕ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аблице требований по уме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ГДА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щие – по желанию, тематические – обязательны (+ право пересдач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АК?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ритериям уровней успеш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переводом в любой тип отме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ТОГОВЫ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реднеарифм. за учебный моду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78120" y="98280"/>
            <a:ext cx="933588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7 правил технологии: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ЦЕНИВАЕМ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2565360"/>
            <a:ext cx="8496000" cy="0"/>
          </a:xfrm>
          <a:prstGeom prst="line">
            <a:avLst/>
          </a:prstGeom>
          <a:ln w="28440">
            <a:solidFill>
              <a:srgbClr val="2b03f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34936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3f5"/>
                </a:solidFill>
                <a:latin typeface="Arial"/>
              </a:rPr>
              <a:t>м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6360" y="29084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03f5"/>
                </a:solidFill>
                <a:latin typeface="Arial"/>
              </a:rPr>
              <a:t>ма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C09-67D7-4831-942F-C94BDA73D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03720" y="279720"/>
            <a:ext cx="808128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МИНИМУМ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технологии оценивания учебных успехов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2b03f5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правила 1 </a:t>
            </a: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 3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30E-9420-4E6C-9713-ADA2F31EA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4920" y="1374480"/>
            <a:ext cx="8353440" cy="54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ило 1. ОЦЕНКА И ОТМ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03f5"/>
                </a:solidFill>
                <a:latin typeface="Arial"/>
              </a:rPr>
              <a:t>«Оцениваться может любое, особенно успешное действие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03f5"/>
                </a:solidFill>
                <a:latin typeface="Arial"/>
              </a:rPr>
              <a:t>а фиксируется отметкой только решение полноценной задачи, т.е. по использованию знаний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99410"/>
                </a:solidFill>
                <a:latin typeface="Arial"/>
              </a:rPr>
              <a:t>Оценка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ловесная характеристика результатов действия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можно за любое действие учен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Отмет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фиксация результата оценивания в виде знака из принятой системы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(только за решение продуктивной задачи – каждой в отдельност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: Ученика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ЪЯВЛЯЕТС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общая активность на уроке достойна оценки «молодец», «стараешься», но отметка может быть выставлена только за решение одной задачи от начала до кон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00" y="0"/>
            <a:ext cx="903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ервое правило разводит два понятия и ориентирует на нов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914480" cy="20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6D3-660C-4382-9556-CCAED9ACE0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1052640"/>
            <a:ext cx="81723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о 3. ЧИСЛО ОТМ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  <a:ea typeface="Times New Roman"/>
              </a:rPr>
              <a:t>«За каждую учебную задачу или группу заданий-задач, показывающих овладение отдельным умением, ставится своя отдельная отмет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1: На уроке учени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ж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ъявлял решение двух разных задач – за урок он получае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раз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метки (они могут быть выставлены в журнал на один день, на два дня в рамках общей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2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верочной работе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задани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Значит в контрольной работе ученик вид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отмето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е, если необходимо выставить в журнал одну отметку, усредняются по правилу среднего арифметического. Должно быть видно и понятно уче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8000" y="0"/>
            <a:ext cx="9036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Третье правило определяет сколько отметок мы ставим на ур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667640" y="3860640"/>
            <a:ext cx="1476360" cy="10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E4B2-C869-461E-9EC8-424D3E2366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15560" y="150120"/>
            <a:ext cx="8985600" cy="147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Самое главное правило </a:t>
            </a:r>
            <a:r>
              <a:rPr b="1" i="1" lang="en-US" sz="3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№2. Оно напрямую развивает важнейшее организационное умение самооценк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360" y="1917360"/>
            <a:ext cx="820872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авило 2. САМООЦЕ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03f5"/>
                </a:solidFill>
                <a:latin typeface="Arial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Учитель и ученик по возможности определяют оценку и отметку в диалог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можно, когда ученик на уроке предъявляет учителю свое решение продуктивного задания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вет у доски, с места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b03f5"/>
                </a:solidFill>
                <a:latin typeface="Arial"/>
              </a:rPr>
              <a:t>Ученик имеет право аргументированно оспорить выставленную отметку»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сле сдачи письменного задания учителю, который, соответственно, не может организовать диалог во время проверк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236000" y="1628640"/>
            <a:ext cx="1908000" cy="176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6F9-A279-4650-AAF7-F935580B8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54360" y="54720"/>
            <a:ext cx="928692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№2. САМООЦЕНКА предполагает освоение учениками 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1198080"/>
            <a:ext cx="8101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АЛГОРИТМА САМООЦЕН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вопросы к ученику):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1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нужно было сделать в этом задании (задаче)? Какая был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нужно было получить в результат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9410"/>
                </a:solidFill>
                <a:latin typeface="Arial"/>
                <a:ea typeface="Times New Roman"/>
              </a:rPr>
              <a:t>2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Удалось получи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 Найдено решение, ответ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  <a:ea typeface="Times New Roman"/>
              </a:rPr>
              <a:t>3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правился 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с незначительной ошибкой (какой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4 ша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Справился полностью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стоятель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с небольшой помощью (кто помогал, в чем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ом добавляются другие вопросы, в т.ч. «Какую ты ставишь себе отметку?». (Подробнее см. Сборники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310520" y="735120"/>
            <a:ext cx="1654200" cy="153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0F3-BAE5-49B7-A2E3-442CBB91DE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19480" y="195480"/>
            <a:ext cx="8249760" cy="36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КАК ПОЛЬЗОВАТЬСЯ ПРАВИЛОМ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«САМООЦЕНКА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458-2CE7-4DEF-ABA0-EDCE764C4B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27760" y="319680"/>
            <a:ext cx="8233200" cy="37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ЗАЧЕМ НУЖНА НОВАЯ ТЕХНОЛОГИЯ ОЦЕНИВАНИЯ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835-5F6B-4505-BD9C-6410A28151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2320" y="246960"/>
            <a:ext cx="8524080" cy="10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Подготовка к урокам, на которых будет формироваться умение  самооценк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-36360" y="1719360"/>
            <a:ext cx="7570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b03f5"/>
                </a:solidFill>
                <a:latin typeface="Arial"/>
              </a:rPr>
              <a:t>1 шаг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чител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ирает уро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а которых можно ограничить предметный материал до минимума (см.принцип минимакса). Оставшееся время отводится на выработку у учеников умения самооценива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 дальнейшем менее подробное изучение нескольких тем компенсируется  более осознанным отношением детей к учебе)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планировании урока учител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бира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ля первой демонстрации алгоритма самооценивания легковыполнимо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зада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 изученному материалу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ени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психологически готового к публичному анализу результатов своей рабо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720" y="2276640"/>
            <a:ext cx="1332000" cy="1079280"/>
          </a:xfrm>
          <a:prstGeom prst="rect">
            <a:avLst/>
          </a:prstGeom>
          <a:solidFill>
            <a:srgbClr val="8df0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31160" y="2938320"/>
            <a:ext cx="74304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31160" y="249228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А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265400" cy="254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B8C-FDE2-4CB0-8AF3-C0477FE42A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0000" y="54720"/>
            <a:ext cx="8639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Формирование умения самооценки (начало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560" y="1197000"/>
            <a:ext cx="7426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уроках учитель выбир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ценивания результатов своей работы наибол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ленных уче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 одном уроке по 1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 учен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время учитель помогае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у: сам задает ему вопросы по алгоритму самооценки (указывая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рный сигнал: 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Задание? Выполнил? Правильно? Сам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Ученик дает ответы, учитель, поправляет его, объясняет, если наблюдается завышение или занижение 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чание. Вс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тальные учен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этот момент наблюдают, как происходит самооценивание. Необходимо активизировать их внимание вопросами: «Какой шаг по оценке работы мы уже сделали?»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778800" y="549360"/>
            <a:ext cx="236520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E0A-6437-4728-A726-C3BF993881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7705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оследующих уроках самооценку по алгоритму предлагается произвести по очеред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 учени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лас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4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епенно вместо проговаривания вопросов, учитель предлагает ученика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глядя на опорные сигналы, задавать себе эти вопросы и отвечать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чание. Помимо диалога самооценка может производиться при коллективной проверке письменных заданий. На доске появляется эталон правильного ответа, и каждый ученик в своей тетради оценивает свое реш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03f5"/>
                </a:solidFill>
                <a:latin typeface="Arial"/>
              </a:rPr>
              <a:t>5 шаг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гда ученики начинают оценивать себя, не глядя на опорные сигналы, учитель может убрать их и доставать, только если у кого-то возникают затруд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Базовое умение самооценки сформирова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5280" y="44280"/>
            <a:ext cx="8748720" cy="11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Формирование умения самооценки (окон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596360" y="620640"/>
            <a:ext cx="150624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2D4-DA3D-4F08-9219-C7EB249E59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46400" y="51120"/>
            <a:ext cx="8646480" cy="9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сформированного умения самооцен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(начало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4560" y="1125360"/>
            <a:ext cx="7273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уя урок, учител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стает сокращ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метный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 самооцен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рачи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после предложения учителя: «Оцени свой ответ» следует краткая фраза ученика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Цель достигнута, ошибок не было», или «Решение я получил, но с помощью класса», или «Полностью без ошибок решил задачу необходимого уровня, что соответствует отметке «4» - хорошо» и т.п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мнение ученика и учите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впадаю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можно вести уро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мнение учител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личаетс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т мнения ученика, который завысил или занизил свою оценку, необходимо прой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алгоритму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согласовать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985080" y="1033560"/>
            <a:ext cx="2195280" cy="20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23B-79FC-4409-8E52-513265139E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08000" y="-44280"/>
            <a:ext cx="896472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сформированного умения самооценк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3300"/>
                </a:solidFill>
                <a:latin typeface="Arial"/>
              </a:rPr>
              <a:t>(окончание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-360" y="126828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провер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ых раб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еник получает право аргументирован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пори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у и отметку учителя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фразы ученика: «Я не согласен с выставленной отметкой» учитель предлагает ему объяснить свое мнение, используя алгоритм самооце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чени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учителю стои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благодар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го за то, что он помог учителю найти собственную ошибку при проверк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учени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а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учителю необходим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ясн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му на основании чего он принял соответствующее решение, постараться согласовать пози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!!! Не все ученики будут готовы признать свои ошибки. Однако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авный 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естный раз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ними, даже если он не заканчивается компромиссом, все равно способствует выработке у них адекватной самооценки, а авторитарное решение учителя – не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2831-52B4-4380-B4F4-3D236B87F4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3720" y="279720"/>
            <a:ext cx="808128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МАКСИМУМ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2b03f5"/>
                </a:solidFill>
                <a:latin typeface="Arial"/>
              </a:rPr>
              <a:t>технологии оценивания учебных успехов</a:t>
            </a:r>
            <a:br>
              <a:rPr sz="5400"/>
            </a:br>
            <a:br>
              <a:rPr sz="5400"/>
            </a:br>
            <a:r>
              <a:rPr b="1" lang="en-US" sz="4000" spc="-1" strike="noStrike">
                <a:solidFill>
                  <a:srgbClr val="2b03f5"/>
                </a:solidFill>
                <a:latin typeface="Arial"/>
              </a:rPr>
              <a:t>(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правила 4 </a:t>
            </a:r>
            <a:r>
              <a:rPr b="1" i="1" lang="ru-RU" sz="3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4000" spc="-1" strike="noStrike">
                <a:solidFill>
                  <a:srgbClr val="2b03f5"/>
                </a:solidFill>
                <a:latin typeface="Arial"/>
              </a:rPr>
              <a:t> 7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EF6-33D5-4C5C-A28F-A821745CF8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7640" y="323280"/>
            <a:ext cx="8928720" cy="19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4: ТАБЛИЦА ТРЕБОВАНИЙ. </a:t>
            </a:r>
            <a:br>
              <a:rPr sz="3200"/>
            </a:b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Отметка  выставляется в таблицу требова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блокнот учителя, дневник школьника)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 в графу того умения, которое </a:t>
            </a:r>
            <a:r>
              <a:rPr b="1" i="1" lang="en-US" sz="2400" spc="-1" strike="noStrike">
                <a:solidFill>
                  <a:srgbClr val="2b03f5"/>
                </a:solidFill>
                <a:latin typeface="Arial"/>
              </a:rPr>
              <a:t>было основным</a:t>
            </a:r>
            <a:r>
              <a:rPr b="1" lang="en-US" sz="2400" spc="-1" strike="noStrike">
                <a:solidFill>
                  <a:srgbClr val="2b03f5"/>
                </a:solidFill>
                <a:latin typeface="Arial"/>
              </a:rPr>
              <a:t> в ходе решения задачи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имум – учитель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раза в четверть после контрольной работы. Максимум – учитель и ученики регулярно. Пример: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2768760"/>
            <a:ext cx="640080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Умения из требований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781360"/>
            <a:ext cx="1676160" cy="2654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3149640"/>
            <a:ext cx="198144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яснять значение круговорота веществ в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149640"/>
            <a:ext cx="236196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примеры живых организмов разных «професс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32416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ающий мир, 3 класс. Тема _____________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3149640"/>
            <a:ext cx="2057400" cy="228852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одить примеры взаимосвязи живой и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551196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я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89284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вел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6273720"/>
            <a:ext cx="1676160" cy="368280"/>
          </a:xfrm>
          <a:prstGeom prst="rect">
            <a:avLst/>
          </a:prstGeom>
          <a:solidFill>
            <a:srgbClr val="d8d8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 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51196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590868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3. 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6289560"/>
            <a:ext cx="2057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551196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8480" y="590868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38480" y="6289560"/>
            <a:ext cx="19814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551196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590868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6289560"/>
            <a:ext cx="23619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55213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32360" y="595296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32360" y="63133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87640" y="55213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59280" y="595296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63133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C7A-B746-488B-A36C-BA6A95AC5C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8000" y="0"/>
            <a:ext cx="896472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ТАБЛИЦЫ ТРЕБОВАНИЙ: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 без изменения заполнения официального журна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b03f5"/>
                </a:solidFill>
                <a:latin typeface="Arial"/>
              </a:rPr>
              <a:t>1 шаг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аблицу требова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в своих рабочих материалах) учитель выставляет все необходимые ему отметки (за текущие ответы, за проверочные работы и т.д.) в той шкале отметок, которую он выбр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2b03f5"/>
                </a:solidFill>
                <a:latin typeface="Arial"/>
              </a:rPr>
              <a:t>2 шаг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традиционный журна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учитель переносит отметки, необходимые для правильного оформления журнала (за проверочную работу, за текущие ответы). Отметки выставляются в той шкале, которая принята в данном образовательном учреждении (например, 5-балльн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B48-E051-461E-B9A2-A55C35B7ADB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8000" y="144360"/>
            <a:ext cx="8856720" cy="9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спользование </a:t>
            </a: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АБЛИЦЫ ТРЕБОВАНИЙ: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с изменением заполнения оф. жур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педагогическом совете школы документально (письменно) фиксируется решен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о том, что: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чит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классах использует технологию оценивания учебных успехов, одобренную Российской академией образования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 10. Заключения РАО о работе Образовательной системы «Школа 2100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соответствии с данной технологией в официальный журнал класса выставляются только итоговые отметки за четверть. Текущие отметки выставляются в таблицы требований – в рабочий блокнот учителя (и дневники школьников). Данное решение принимается также на основан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нкта 3-го статьи 15-й Закона «Об образовани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ссийской Федерации: «</a:t>
            </a:r>
            <a:r>
              <a:rPr b="0" lang="ru-RU" sz="2400" spc="-1" strike="noStrike">
                <a:solidFill>
                  <a:srgbClr val="2b03f5"/>
                </a:solidFill>
                <a:latin typeface="Arial"/>
              </a:rPr>
              <a:t>Образовательное учреждение самостоятельно в выборе системы оценок, формы, порядка и периодичности промежуточной аттестации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E27-A88F-4FB1-B6B0-94BA0960F2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8320" y="129240"/>
            <a:ext cx="9027360" cy="10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5: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тказ от отметки и право пересдач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4920" y="1341000"/>
            <a:ext cx="8748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За задачи, решенные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и изучении новой темы,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отметка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ставится только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о желанию ученика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, так как он еще овладевает умениями и знаниями темы и имеет право на ошиб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За каждую задачу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оверочной (контрольной) работы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по итогам темы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отметка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ставится 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всем ученикам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, так как каждый должен показать, как он овладел умениями и знаниями темы. Ученик не может отказаться от выставления этой отметки, но имеет</a:t>
            </a:r>
            <a:r>
              <a:rPr b="1" lang="en-US" sz="3000" spc="-1" strike="noStrike">
                <a:solidFill>
                  <a:srgbClr val="2b03f5"/>
                </a:solidFill>
                <a:latin typeface="Arial"/>
              </a:rPr>
              <a:t> право пересдать </a:t>
            </a:r>
            <a:r>
              <a:rPr b="0" lang="en-US" sz="3000" spc="-1" strike="noStrike">
                <a:solidFill>
                  <a:srgbClr val="2b03f5"/>
                </a:solidFill>
                <a:latin typeface="Arial"/>
              </a:rPr>
              <a:t>(хотя бы один раз) не устраивающую его отметк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B34-672E-42D7-B6BA-645F883BD5E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ПРОВЕРИТЬ ДОСТИЖЕНИЕ НОВЫХ ЦЕЛЕЙ ОБРАЗОВАНИЯ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532944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ГОСУДАРСТВЕННЫЙ СТАНДАР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правлен на реализацию качественно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ново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личностно ориентированн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азвивающе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модели массовой начальной школы…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развити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личности школьника, его творческих способностей;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знаний,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умени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и навыков, обеспечивающих …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деятельность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;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жнейший приоритет – формирование </a:t>
            </a:r>
            <a:r>
              <a:rPr b="1" i="1" lang="ru-RU" sz="2200" spc="-1" strike="noStrike">
                <a:solidFill>
                  <a:srgbClr val="0000ff"/>
                </a:solidFill>
                <a:latin typeface="Arial"/>
              </a:rPr>
              <a:t>общеучебных умени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56000" y="1557360"/>
            <a:ext cx="29876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ТРАДИ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КИМ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– тесты тип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В каком году была Куликовская бит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) 1242. Б) 138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) 1480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 контролируется (в основном)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репродукция отдельных зн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14880" y="5013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5546880" y="155700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7F3-BF6D-4360-83BB-B70F3889F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8000" y="144360"/>
            <a:ext cx="885672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Использование правила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«ПЕРЕСДАЧ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8930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1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ранее оговорить с учениками порядок реализации их права на пересдачу контрольной работы: когда и как это может сделать учитель (этап одного из следующих уроков, урок-пересдач в конце четверти, после уроков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2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 уроке после контрольной работы учитель раздает ученикам их работы со своими отметкам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3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итель кратко разбирает наиболее типичные ошибки, но обязательно без указания тех учеников, которые их соверши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4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еники просматривают свои работы. Могут аргументированно оспорить выставленную учителем отметку (см. правило самооценки). Осмысливают, что именно у них получилось не так (если были ошибки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2b03f5"/>
                </a:solidFill>
                <a:latin typeface="Arial"/>
              </a:rPr>
              <a:t>5 шаг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читель напоминает: «Кто не присутствовал или не справился с каким-либо заданием (кружок без отметки) – должны это пересдать!». Учитель спрашивает: «Кого не устраивает уровень, который вы продемонстрировали в данной работе, кто хочет воспользоваться правом пересдачи?» Каждый ученик принимает решение – будет он пересдавать какую-то задачу из контрольной работы или нет. Учитель объявляет или напоминает принятые сроки и порядок перес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1D8-59FC-4EAF-8BC3-F415D8293D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4720" y="125640"/>
            <a:ext cx="9034560" cy="10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равило 6: Оценка и отметка определяются по УРОВНЯМ УСПЕШНОСТ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971280" y="1368000"/>
            <a:ext cx="8172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03f5"/>
                </a:solidFill>
                <a:latin typeface="Arial"/>
                <a:ea typeface="Times New Roman"/>
              </a:rPr>
              <a:t>Необходим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шение типовой 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добной тем, что решали уже много раз, где требовалось применить сформированные умения и усвоенные знания, прежде всего соответствующие госстандарту, ч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вс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любому предмету. Э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хорошо», но не «отлич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9410"/>
                </a:solidFill>
                <a:latin typeface="Arial"/>
                <a:ea typeface="Times New Roman"/>
              </a:rPr>
              <a:t>Программн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ешение нестандартной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потребовалось либо применить знания по новой, изучаемой в данный момент теме,  либо «старые» знания и умения, но в новой, непривычной ситуации. Это уровень функциональной грамотност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Максимальн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необязательный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решение «сверхзадач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неизученному материалу, когда потребовались либо самостоятельно добытые вне уроков знания, либо новые самостоятельно усвоенные умения. Этот уровень демонстрирует исключительные успехи отдельных учеников по отдельным тема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ерх школьных требовани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евосход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8000" y="5224320"/>
            <a:ext cx="922320" cy="14446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-325440" y="3138480"/>
            <a:ext cx="1368360" cy="1514520"/>
            <a:chOff x="-325440" y="3138480"/>
            <a:chExt cx="1368360" cy="1514520"/>
          </a:xfrm>
        </p:grpSpPr>
        <p:sp>
          <p:nvSpPr>
            <p:cNvPr id="274" name=""/>
            <p:cNvSpPr/>
            <p:nvPr/>
          </p:nvSpPr>
          <p:spPr>
            <a:xfrm>
              <a:off x="-325440" y="3138480"/>
              <a:ext cx="1368360" cy="1406520"/>
            </a:xfrm>
            <a:custGeom>
              <a:avLst/>
              <a:gdLst/>
              <a:ahLst/>
              <a:rect l="l" t="t" r="r" b="b"/>
              <a:pathLst>
                <a:path w="1972" h="1772">
                  <a:moveTo>
                    <a:pt x="1644" y="1464"/>
                  </a:moveTo>
                  <a:lnTo>
                    <a:pt x="1681" y="1403"/>
                  </a:lnTo>
                  <a:lnTo>
                    <a:pt x="1713" y="1338"/>
                  </a:lnTo>
                  <a:lnTo>
                    <a:pt x="1740" y="1270"/>
                  </a:lnTo>
                  <a:lnTo>
                    <a:pt x="1765" y="1199"/>
                  </a:lnTo>
                  <a:lnTo>
                    <a:pt x="1783" y="1124"/>
                  </a:lnTo>
                  <a:lnTo>
                    <a:pt x="1797" y="1047"/>
                  </a:lnTo>
                  <a:lnTo>
                    <a:pt x="1806" y="968"/>
                  </a:lnTo>
                  <a:lnTo>
                    <a:pt x="1808" y="887"/>
                  </a:lnTo>
                  <a:lnTo>
                    <a:pt x="1805" y="796"/>
                  </a:lnTo>
                  <a:lnTo>
                    <a:pt x="1795" y="709"/>
                  </a:lnTo>
                  <a:lnTo>
                    <a:pt x="1778" y="624"/>
                  </a:lnTo>
                  <a:lnTo>
                    <a:pt x="1755" y="542"/>
                  </a:lnTo>
                  <a:lnTo>
                    <a:pt x="1727" y="464"/>
                  </a:lnTo>
                  <a:lnTo>
                    <a:pt x="1693" y="391"/>
                  </a:lnTo>
                  <a:lnTo>
                    <a:pt x="1654" y="323"/>
                  </a:lnTo>
                  <a:lnTo>
                    <a:pt x="1610" y="260"/>
                  </a:lnTo>
                  <a:lnTo>
                    <a:pt x="1562" y="202"/>
                  </a:lnTo>
                  <a:lnTo>
                    <a:pt x="1510" y="151"/>
                  </a:lnTo>
                  <a:lnTo>
                    <a:pt x="1455" y="107"/>
                  </a:lnTo>
                  <a:lnTo>
                    <a:pt x="1395" y="69"/>
                  </a:lnTo>
                  <a:lnTo>
                    <a:pt x="1333" y="39"/>
                  </a:lnTo>
                  <a:lnTo>
                    <a:pt x="1268" y="18"/>
                  </a:lnTo>
                  <a:lnTo>
                    <a:pt x="1201" y="5"/>
                  </a:lnTo>
                  <a:lnTo>
                    <a:pt x="1132" y="0"/>
                  </a:lnTo>
                  <a:lnTo>
                    <a:pt x="1132" y="51"/>
                  </a:lnTo>
                  <a:lnTo>
                    <a:pt x="1197" y="56"/>
                  </a:lnTo>
                  <a:lnTo>
                    <a:pt x="1260" y="68"/>
                  </a:lnTo>
                  <a:lnTo>
                    <a:pt x="1321" y="89"/>
                  </a:lnTo>
                  <a:lnTo>
                    <a:pt x="1380" y="118"/>
                  </a:lnTo>
                  <a:lnTo>
                    <a:pt x="1435" y="153"/>
                  </a:lnTo>
                  <a:lnTo>
                    <a:pt x="1488" y="195"/>
                  </a:lnTo>
                  <a:lnTo>
                    <a:pt x="1537" y="242"/>
                  </a:lnTo>
                  <a:lnTo>
                    <a:pt x="1582" y="296"/>
                  </a:lnTo>
                  <a:lnTo>
                    <a:pt x="1623" y="355"/>
                  </a:lnTo>
                  <a:lnTo>
                    <a:pt x="1660" y="420"/>
                  </a:lnTo>
                  <a:lnTo>
                    <a:pt x="1691" y="489"/>
                  </a:lnTo>
                  <a:lnTo>
                    <a:pt x="1719" y="562"/>
                  </a:lnTo>
                  <a:lnTo>
                    <a:pt x="1739" y="639"/>
                  </a:lnTo>
                  <a:lnTo>
                    <a:pt x="1755" y="719"/>
                  </a:lnTo>
                  <a:lnTo>
                    <a:pt x="1765" y="802"/>
                  </a:lnTo>
                  <a:lnTo>
                    <a:pt x="1768" y="887"/>
                  </a:lnTo>
                  <a:lnTo>
                    <a:pt x="1765" y="968"/>
                  </a:lnTo>
                  <a:lnTo>
                    <a:pt x="1757" y="1047"/>
                  </a:lnTo>
                  <a:lnTo>
                    <a:pt x="1742" y="1122"/>
                  </a:lnTo>
                  <a:lnTo>
                    <a:pt x="1722" y="1196"/>
                  </a:lnTo>
                  <a:lnTo>
                    <a:pt x="1698" y="1266"/>
                  </a:lnTo>
                  <a:lnTo>
                    <a:pt x="1669" y="1332"/>
                  </a:lnTo>
                  <a:lnTo>
                    <a:pt x="1636" y="1396"/>
                  </a:lnTo>
                  <a:lnTo>
                    <a:pt x="1598" y="1453"/>
                  </a:lnTo>
                  <a:lnTo>
                    <a:pt x="1556" y="1506"/>
                  </a:lnTo>
                  <a:lnTo>
                    <a:pt x="1511" y="1554"/>
                  </a:lnTo>
                  <a:lnTo>
                    <a:pt x="1463" y="1598"/>
                  </a:lnTo>
                  <a:lnTo>
                    <a:pt x="1411" y="1635"/>
                  </a:lnTo>
                  <a:lnTo>
                    <a:pt x="1357" y="1665"/>
                  </a:lnTo>
                  <a:lnTo>
                    <a:pt x="1300" y="1689"/>
                  </a:lnTo>
                  <a:lnTo>
                    <a:pt x="1242" y="1707"/>
                  </a:lnTo>
                  <a:lnTo>
                    <a:pt x="1181" y="1716"/>
                  </a:lnTo>
                  <a:lnTo>
                    <a:pt x="1098" y="1716"/>
                  </a:lnTo>
                  <a:lnTo>
                    <a:pt x="1098" y="1718"/>
                  </a:lnTo>
                  <a:lnTo>
                    <a:pt x="1053" y="1712"/>
                  </a:lnTo>
                  <a:lnTo>
                    <a:pt x="1009" y="1703"/>
                  </a:lnTo>
                  <a:lnTo>
                    <a:pt x="965" y="1689"/>
                  </a:lnTo>
                  <a:lnTo>
                    <a:pt x="924" y="1672"/>
                  </a:lnTo>
                  <a:lnTo>
                    <a:pt x="882" y="1651"/>
                  </a:lnTo>
                  <a:lnTo>
                    <a:pt x="843" y="1627"/>
                  </a:lnTo>
                  <a:lnTo>
                    <a:pt x="805" y="1598"/>
                  </a:lnTo>
                  <a:lnTo>
                    <a:pt x="768" y="1568"/>
                  </a:lnTo>
                  <a:lnTo>
                    <a:pt x="733" y="1533"/>
                  </a:lnTo>
                  <a:lnTo>
                    <a:pt x="700" y="1496"/>
                  </a:lnTo>
                  <a:lnTo>
                    <a:pt x="669" y="1455"/>
                  </a:lnTo>
                  <a:lnTo>
                    <a:pt x="639" y="1411"/>
                  </a:lnTo>
                  <a:lnTo>
                    <a:pt x="613" y="1364"/>
                  </a:lnTo>
                  <a:lnTo>
                    <a:pt x="589" y="1316"/>
                  </a:lnTo>
                  <a:lnTo>
                    <a:pt x="567" y="1264"/>
                  </a:lnTo>
                  <a:lnTo>
                    <a:pt x="547" y="1210"/>
                  </a:lnTo>
                  <a:lnTo>
                    <a:pt x="510" y="1230"/>
                  </a:lnTo>
                  <a:lnTo>
                    <a:pt x="522" y="1261"/>
                  </a:lnTo>
                  <a:lnTo>
                    <a:pt x="533" y="1293"/>
                  </a:lnTo>
                  <a:lnTo>
                    <a:pt x="546" y="1323"/>
                  </a:lnTo>
                  <a:lnTo>
                    <a:pt x="560" y="1354"/>
                  </a:lnTo>
                  <a:lnTo>
                    <a:pt x="574" y="1382"/>
                  </a:lnTo>
                  <a:lnTo>
                    <a:pt x="589" y="1409"/>
                  </a:lnTo>
                  <a:lnTo>
                    <a:pt x="605" y="1437"/>
                  </a:lnTo>
                  <a:lnTo>
                    <a:pt x="621" y="1464"/>
                  </a:lnTo>
                  <a:lnTo>
                    <a:pt x="192" y="1464"/>
                  </a:lnTo>
                  <a:lnTo>
                    <a:pt x="192" y="1515"/>
                  </a:lnTo>
                  <a:lnTo>
                    <a:pt x="645" y="1515"/>
                  </a:lnTo>
                  <a:lnTo>
                    <a:pt x="647" y="1517"/>
                  </a:lnTo>
                  <a:lnTo>
                    <a:pt x="653" y="1523"/>
                  </a:lnTo>
                  <a:lnTo>
                    <a:pt x="661" y="1530"/>
                  </a:lnTo>
                  <a:lnTo>
                    <a:pt x="672" y="1539"/>
                  </a:lnTo>
                  <a:lnTo>
                    <a:pt x="683" y="1550"/>
                  </a:lnTo>
                  <a:lnTo>
                    <a:pt x="695" y="1562"/>
                  </a:lnTo>
                  <a:lnTo>
                    <a:pt x="706" y="1573"/>
                  </a:lnTo>
                  <a:lnTo>
                    <a:pt x="716" y="1583"/>
                  </a:lnTo>
                  <a:lnTo>
                    <a:pt x="0" y="1583"/>
                  </a:lnTo>
                  <a:lnTo>
                    <a:pt x="0" y="1635"/>
                  </a:lnTo>
                  <a:lnTo>
                    <a:pt x="773" y="1635"/>
                  </a:lnTo>
                  <a:lnTo>
                    <a:pt x="792" y="1651"/>
                  </a:lnTo>
                  <a:lnTo>
                    <a:pt x="813" y="1666"/>
                  </a:lnTo>
                  <a:lnTo>
                    <a:pt x="834" y="1680"/>
                  </a:lnTo>
                  <a:lnTo>
                    <a:pt x="856" y="1693"/>
                  </a:lnTo>
                  <a:lnTo>
                    <a:pt x="877" y="1706"/>
                  </a:lnTo>
                  <a:lnTo>
                    <a:pt x="898" y="1716"/>
                  </a:lnTo>
                  <a:lnTo>
                    <a:pt x="921" y="1727"/>
                  </a:lnTo>
                  <a:lnTo>
                    <a:pt x="943" y="1736"/>
                  </a:lnTo>
                  <a:lnTo>
                    <a:pt x="966" y="1745"/>
                  </a:lnTo>
                  <a:lnTo>
                    <a:pt x="989" y="1751"/>
                  </a:lnTo>
                  <a:lnTo>
                    <a:pt x="1012" y="1758"/>
                  </a:lnTo>
                  <a:lnTo>
                    <a:pt x="1037" y="1763"/>
                  </a:lnTo>
                  <a:lnTo>
                    <a:pt x="1060" y="1768"/>
                  </a:lnTo>
                  <a:lnTo>
                    <a:pt x="1084" y="1769"/>
                  </a:lnTo>
                  <a:lnTo>
                    <a:pt x="1108" y="1772"/>
                  </a:lnTo>
                  <a:lnTo>
                    <a:pt x="1132" y="1772"/>
                  </a:lnTo>
                  <a:lnTo>
                    <a:pt x="1139" y="1772"/>
                  </a:lnTo>
                  <a:lnTo>
                    <a:pt x="1145" y="1772"/>
                  </a:lnTo>
                  <a:lnTo>
                    <a:pt x="1152" y="1772"/>
                  </a:lnTo>
                  <a:lnTo>
                    <a:pt x="1158" y="1771"/>
                  </a:lnTo>
                  <a:lnTo>
                    <a:pt x="1163" y="1771"/>
                  </a:lnTo>
                  <a:lnTo>
                    <a:pt x="1169" y="1771"/>
                  </a:lnTo>
                  <a:lnTo>
                    <a:pt x="1176" y="1769"/>
                  </a:lnTo>
                  <a:lnTo>
                    <a:pt x="1182" y="1769"/>
                  </a:lnTo>
                  <a:lnTo>
                    <a:pt x="1769" y="1769"/>
                  </a:lnTo>
                  <a:lnTo>
                    <a:pt x="1769" y="1716"/>
                  </a:lnTo>
                  <a:lnTo>
                    <a:pt x="1367" y="1716"/>
                  </a:lnTo>
                  <a:lnTo>
                    <a:pt x="1385" y="1707"/>
                  </a:lnTo>
                  <a:lnTo>
                    <a:pt x="1402" y="1698"/>
                  </a:lnTo>
                  <a:lnTo>
                    <a:pt x="1419" y="1687"/>
                  </a:lnTo>
                  <a:lnTo>
                    <a:pt x="1435" y="1677"/>
                  </a:lnTo>
                  <a:lnTo>
                    <a:pt x="1451" y="1666"/>
                  </a:lnTo>
                  <a:lnTo>
                    <a:pt x="1467" y="1654"/>
                  </a:lnTo>
                  <a:lnTo>
                    <a:pt x="1484" y="1642"/>
                  </a:lnTo>
                  <a:lnTo>
                    <a:pt x="1499" y="1630"/>
                  </a:lnTo>
                  <a:lnTo>
                    <a:pt x="1515" y="1616"/>
                  </a:lnTo>
                  <a:lnTo>
                    <a:pt x="1530" y="1603"/>
                  </a:lnTo>
                  <a:lnTo>
                    <a:pt x="1544" y="1588"/>
                  </a:lnTo>
                  <a:lnTo>
                    <a:pt x="1558" y="1573"/>
                  </a:lnTo>
                  <a:lnTo>
                    <a:pt x="1572" y="1558"/>
                  </a:lnTo>
                  <a:lnTo>
                    <a:pt x="1586" y="1541"/>
                  </a:lnTo>
                  <a:lnTo>
                    <a:pt x="1600" y="1524"/>
                  </a:lnTo>
                  <a:lnTo>
                    <a:pt x="1613" y="1508"/>
                  </a:lnTo>
                  <a:lnTo>
                    <a:pt x="1613" y="1515"/>
                  </a:lnTo>
                  <a:lnTo>
                    <a:pt x="1972" y="1515"/>
                  </a:lnTo>
                  <a:lnTo>
                    <a:pt x="1972" y="1464"/>
                  </a:lnTo>
                  <a:lnTo>
                    <a:pt x="1644" y="14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2400" y="4611600"/>
              <a:ext cx="542520" cy="4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1600" y="3314520"/>
              <a:ext cx="703080" cy="1055880"/>
            </a:xfrm>
            <a:custGeom>
              <a:avLst/>
              <a:gdLst/>
              <a:ahLst/>
              <a:rect l="l" t="t" r="r" b="b"/>
              <a:pathLst>
                <a:path w="1014" h="1329">
                  <a:moveTo>
                    <a:pt x="547" y="289"/>
                  </a:moveTo>
                  <a:lnTo>
                    <a:pt x="547" y="515"/>
                  </a:lnTo>
                  <a:lnTo>
                    <a:pt x="615" y="571"/>
                  </a:lnTo>
                  <a:lnTo>
                    <a:pt x="615" y="485"/>
                  </a:lnTo>
                  <a:lnTo>
                    <a:pt x="653" y="485"/>
                  </a:lnTo>
                  <a:lnTo>
                    <a:pt x="653" y="601"/>
                  </a:lnTo>
                  <a:lnTo>
                    <a:pt x="738" y="671"/>
                  </a:lnTo>
                  <a:lnTo>
                    <a:pt x="738" y="609"/>
                  </a:lnTo>
                  <a:lnTo>
                    <a:pt x="775" y="609"/>
                  </a:lnTo>
                  <a:lnTo>
                    <a:pt x="775" y="701"/>
                  </a:lnTo>
                  <a:lnTo>
                    <a:pt x="873" y="778"/>
                  </a:lnTo>
                  <a:lnTo>
                    <a:pt x="873" y="885"/>
                  </a:lnTo>
                  <a:lnTo>
                    <a:pt x="547" y="733"/>
                  </a:lnTo>
                  <a:lnTo>
                    <a:pt x="547" y="1002"/>
                  </a:lnTo>
                  <a:lnTo>
                    <a:pt x="621" y="1079"/>
                  </a:lnTo>
                  <a:lnTo>
                    <a:pt x="621" y="1166"/>
                  </a:lnTo>
                  <a:lnTo>
                    <a:pt x="508" y="1100"/>
                  </a:lnTo>
                  <a:lnTo>
                    <a:pt x="395" y="1166"/>
                  </a:lnTo>
                  <a:lnTo>
                    <a:pt x="395" y="1080"/>
                  </a:lnTo>
                  <a:lnTo>
                    <a:pt x="469" y="1003"/>
                  </a:lnTo>
                  <a:lnTo>
                    <a:pt x="469" y="733"/>
                  </a:lnTo>
                  <a:lnTo>
                    <a:pt x="144" y="885"/>
                  </a:lnTo>
                  <a:lnTo>
                    <a:pt x="144" y="778"/>
                  </a:lnTo>
                  <a:lnTo>
                    <a:pt x="243" y="700"/>
                  </a:lnTo>
                  <a:lnTo>
                    <a:pt x="243" y="609"/>
                  </a:lnTo>
                  <a:lnTo>
                    <a:pt x="280" y="609"/>
                  </a:lnTo>
                  <a:lnTo>
                    <a:pt x="280" y="669"/>
                  </a:lnTo>
                  <a:lnTo>
                    <a:pt x="355" y="607"/>
                  </a:lnTo>
                  <a:lnTo>
                    <a:pt x="355" y="485"/>
                  </a:lnTo>
                  <a:lnTo>
                    <a:pt x="392" y="485"/>
                  </a:lnTo>
                  <a:lnTo>
                    <a:pt x="392" y="577"/>
                  </a:lnTo>
                  <a:lnTo>
                    <a:pt x="469" y="515"/>
                  </a:lnTo>
                  <a:lnTo>
                    <a:pt x="469" y="162"/>
                  </a:lnTo>
                  <a:lnTo>
                    <a:pt x="470" y="150"/>
                  </a:lnTo>
                  <a:lnTo>
                    <a:pt x="472" y="139"/>
                  </a:lnTo>
                  <a:lnTo>
                    <a:pt x="477" y="130"/>
                  </a:lnTo>
                  <a:lnTo>
                    <a:pt x="483" y="124"/>
                  </a:lnTo>
                  <a:lnTo>
                    <a:pt x="488" y="119"/>
                  </a:lnTo>
                  <a:lnTo>
                    <a:pt x="495" y="116"/>
                  </a:lnTo>
                  <a:lnTo>
                    <a:pt x="502" y="113"/>
                  </a:lnTo>
                  <a:lnTo>
                    <a:pt x="508" y="113"/>
                  </a:lnTo>
                  <a:lnTo>
                    <a:pt x="514" y="113"/>
                  </a:lnTo>
                  <a:lnTo>
                    <a:pt x="521" y="116"/>
                  </a:lnTo>
                  <a:lnTo>
                    <a:pt x="528" y="119"/>
                  </a:lnTo>
                  <a:lnTo>
                    <a:pt x="533" y="124"/>
                  </a:lnTo>
                  <a:lnTo>
                    <a:pt x="539" y="130"/>
                  </a:lnTo>
                  <a:lnTo>
                    <a:pt x="544" y="139"/>
                  </a:lnTo>
                  <a:lnTo>
                    <a:pt x="546" y="150"/>
                  </a:lnTo>
                  <a:lnTo>
                    <a:pt x="547" y="162"/>
                  </a:lnTo>
                  <a:lnTo>
                    <a:pt x="547" y="289"/>
                  </a:lnTo>
                  <a:lnTo>
                    <a:pt x="798" y="121"/>
                  </a:lnTo>
                  <a:lnTo>
                    <a:pt x="782" y="107"/>
                  </a:lnTo>
                  <a:lnTo>
                    <a:pt x="766" y="94"/>
                  </a:lnTo>
                  <a:lnTo>
                    <a:pt x="750" y="82"/>
                  </a:lnTo>
                  <a:lnTo>
                    <a:pt x="733" y="70"/>
                  </a:lnTo>
                  <a:lnTo>
                    <a:pt x="715" y="59"/>
                  </a:lnTo>
                  <a:lnTo>
                    <a:pt x="698" y="50"/>
                  </a:lnTo>
                  <a:lnTo>
                    <a:pt x="680" y="41"/>
                  </a:lnTo>
                  <a:lnTo>
                    <a:pt x="662" y="32"/>
                  </a:lnTo>
                  <a:lnTo>
                    <a:pt x="644" y="24"/>
                  </a:lnTo>
                  <a:lnTo>
                    <a:pt x="624" y="18"/>
                  </a:lnTo>
                  <a:lnTo>
                    <a:pt x="606" y="12"/>
                  </a:lnTo>
                  <a:lnTo>
                    <a:pt x="586" y="8"/>
                  </a:lnTo>
                  <a:lnTo>
                    <a:pt x="567" y="5"/>
                  </a:lnTo>
                  <a:lnTo>
                    <a:pt x="546" y="2"/>
                  </a:lnTo>
                  <a:lnTo>
                    <a:pt x="526" y="0"/>
                  </a:lnTo>
                  <a:lnTo>
                    <a:pt x="506" y="0"/>
                  </a:lnTo>
                  <a:lnTo>
                    <a:pt x="454" y="3"/>
                  </a:lnTo>
                  <a:lnTo>
                    <a:pt x="404" y="14"/>
                  </a:lnTo>
                  <a:lnTo>
                    <a:pt x="356" y="30"/>
                  </a:lnTo>
                  <a:lnTo>
                    <a:pt x="309" y="53"/>
                  </a:lnTo>
                  <a:lnTo>
                    <a:pt x="265" y="80"/>
                  </a:lnTo>
                  <a:lnTo>
                    <a:pt x="224" y="113"/>
                  </a:lnTo>
                  <a:lnTo>
                    <a:pt x="184" y="153"/>
                  </a:lnTo>
                  <a:lnTo>
                    <a:pt x="149" y="195"/>
                  </a:lnTo>
                  <a:lnTo>
                    <a:pt x="115" y="243"/>
                  </a:lnTo>
                  <a:lnTo>
                    <a:pt x="86" y="295"/>
                  </a:lnTo>
                  <a:lnTo>
                    <a:pt x="61" y="349"/>
                  </a:lnTo>
                  <a:lnTo>
                    <a:pt x="40" y="408"/>
                  </a:lnTo>
                  <a:lnTo>
                    <a:pt x="23" y="468"/>
                  </a:lnTo>
                  <a:lnTo>
                    <a:pt x="10" y="532"/>
                  </a:lnTo>
                  <a:lnTo>
                    <a:pt x="2" y="598"/>
                  </a:lnTo>
                  <a:lnTo>
                    <a:pt x="0" y="666"/>
                  </a:lnTo>
                  <a:lnTo>
                    <a:pt x="2" y="734"/>
                  </a:lnTo>
                  <a:lnTo>
                    <a:pt x="10" y="799"/>
                  </a:lnTo>
                  <a:lnTo>
                    <a:pt x="23" y="863"/>
                  </a:lnTo>
                  <a:lnTo>
                    <a:pt x="40" y="925"/>
                  </a:lnTo>
                  <a:lnTo>
                    <a:pt x="61" y="982"/>
                  </a:lnTo>
                  <a:lnTo>
                    <a:pt x="86" y="1036"/>
                  </a:lnTo>
                  <a:lnTo>
                    <a:pt x="115" y="1088"/>
                  </a:lnTo>
                  <a:lnTo>
                    <a:pt x="149" y="1135"/>
                  </a:lnTo>
                  <a:lnTo>
                    <a:pt x="184" y="1178"/>
                  </a:lnTo>
                  <a:lnTo>
                    <a:pt x="224" y="1216"/>
                  </a:lnTo>
                  <a:lnTo>
                    <a:pt x="265" y="1249"/>
                  </a:lnTo>
                  <a:lnTo>
                    <a:pt x="309" y="1277"/>
                  </a:lnTo>
                  <a:lnTo>
                    <a:pt x="356" y="1299"/>
                  </a:lnTo>
                  <a:lnTo>
                    <a:pt x="404" y="1316"/>
                  </a:lnTo>
                  <a:lnTo>
                    <a:pt x="454" y="1326"/>
                  </a:lnTo>
                  <a:lnTo>
                    <a:pt x="506" y="1329"/>
                  </a:lnTo>
                  <a:lnTo>
                    <a:pt x="558" y="1326"/>
                  </a:lnTo>
                  <a:lnTo>
                    <a:pt x="608" y="1316"/>
                  </a:lnTo>
                  <a:lnTo>
                    <a:pt x="657" y="1299"/>
                  </a:lnTo>
                  <a:lnTo>
                    <a:pt x="704" y="1277"/>
                  </a:lnTo>
                  <a:lnTo>
                    <a:pt x="748" y="1249"/>
                  </a:lnTo>
                  <a:lnTo>
                    <a:pt x="790" y="1216"/>
                  </a:lnTo>
                  <a:lnTo>
                    <a:pt x="829" y="1178"/>
                  </a:lnTo>
                  <a:lnTo>
                    <a:pt x="865" y="1135"/>
                  </a:lnTo>
                  <a:lnTo>
                    <a:pt x="897" y="1088"/>
                  </a:lnTo>
                  <a:lnTo>
                    <a:pt x="927" y="1036"/>
                  </a:lnTo>
                  <a:lnTo>
                    <a:pt x="953" y="982"/>
                  </a:lnTo>
                  <a:lnTo>
                    <a:pt x="973" y="925"/>
                  </a:lnTo>
                  <a:lnTo>
                    <a:pt x="991" y="863"/>
                  </a:lnTo>
                  <a:lnTo>
                    <a:pt x="1003" y="799"/>
                  </a:lnTo>
                  <a:lnTo>
                    <a:pt x="1011" y="734"/>
                  </a:lnTo>
                  <a:lnTo>
                    <a:pt x="1014" y="666"/>
                  </a:lnTo>
                  <a:lnTo>
                    <a:pt x="1013" y="624"/>
                  </a:lnTo>
                  <a:lnTo>
                    <a:pt x="1010" y="583"/>
                  </a:lnTo>
                  <a:lnTo>
                    <a:pt x="1005" y="542"/>
                  </a:lnTo>
                  <a:lnTo>
                    <a:pt x="999" y="503"/>
                  </a:lnTo>
                  <a:lnTo>
                    <a:pt x="990" y="464"/>
                  </a:lnTo>
                  <a:lnTo>
                    <a:pt x="980" y="426"/>
                  </a:lnTo>
                  <a:lnTo>
                    <a:pt x="968" y="390"/>
                  </a:lnTo>
                  <a:lnTo>
                    <a:pt x="955" y="355"/>
                  </a:lnTo>
                  <a:lnTo>
                    <a:pt x="940" y="320"/>
                  </a:lnTo>
                  <a:lnTo>
                    <a:pt x="924" y="287"/>
                  </a:lnTo>
                  <a:lnTo>
                    <a:pt x="905" y="255"/>
                  </a:lnTo>
                  <a:lnTo>
                    <a:pt x="887" y="225"/>
                  </a:lnTo>
                  <a:lnTo>
                    <a:pt x="866" y="196"/>
                  </a:lnTo>
                  <a:lnTo>
                    <a:pt x="844" y="169"/>
                  </a:lnTo>
                  <a:lnTo>
                    <a:pt x="823" y="145"/>
                  </a:lnTo>
                  <a:lnTo>
                    <a:pt x="798" y="121"/>
                  </a:lnTo>
                  <a:lnTo>
                    <a:pt x="547" y="289"/>
                  </a:lnTo>
                  <a:close/>
                </a:path>
              </a:pathLst>
            </a:custGeom>
            <a:solidFill>
              <a:srgbClr val="00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1197000"/>
            <a:ext cx="1009440" cy="14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89A-FF6A-4234-8E63-E72A2BAC47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6600" y="66600"/>
            <a:ext cx="901080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Уровень успешности – это оценка, которая может быть переведена в отметку по любой балльной шкале. Например: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8920" y="1988640"/>
            <a:ext cx="4824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b03f5"/>
                </a:solidFill>
                <a:latin typeface="Arial"/>
                <a:ea typeface="Times New Roman"/>
              </a:rPr>
              <a:t>Необходим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хорошо», но не «отлич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9410"/>
                </a:solidFill>
                <a:latin typeface="Arial"/>
                <a:ea typeface="Times New Roman"/>
              </a:rPr>
              <a:t>Программн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н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Максимальный уровен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необязательный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превосходно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48428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РОВНИ УСПЕШ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61080" y="1484280"/>
            <a:ext cx="42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 и 6-балльные ОТ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7080" y="2349360"/>
            <a:ext cx="360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371952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64000" y="5084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ИЧНО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СТЬЮ –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9941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3500280"/>
            <a:ext cx="842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8000" y="47242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16280"/>
            <a:ext cx="88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5B8-8281-4A6A-B62E-FF893A81DE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99410"/>
                </a:solidFill>
                <a:latin typeface="Arial"/>
              </a:rPr>
              <a:t>Предметные контрольны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Общий вид заданий в новых контрольных работах (с 3-го класса):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ормулировка зад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казание проверяемого </a:t>
            </a:r>
            <a:r>
              <a:rPr b="1" i="1" lang="ru-RU" sz="3000" spc="-1" strike="noStrike">
                <a:solidFill>
                  <a:srgbClr val="299410"/>
                </a:solidFill>
                <a:latin typeface="Arial"/>
              </a:rPr>
              <a:t>умен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из требований програм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b03f5"/>
                </a:solidFill>
                <a:latin typeface="Arial"/>
              </a:rPr>
              <a:t>Необходим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стандартная задача – «хорошо», но не «отлич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9410"/>
                </a:solidFill>
                <a:latin typeface="Arial"/>
              </a:rPr>
              <a:t>Программн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стандартная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ча – «отлич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Максимальный уровен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задача сверхуровня школьных требований данного возраста – «превосходно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697-F8E0-4EEA-9516-31ABAE7B54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Итоговые оценки и отметки (за четверть и т.п.) рекомендуется определять не за отрезок учебного года (число уроков четверти), а за учебный модуль (блок тем), который изучали в этот пери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оце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ся в характеристике продемонстрированного учеником на данном отрезке времени уровня возмож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тоговая отме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показатель уровня обученности. Она высчитывается как среднеарифметическое текущих отметок, выставленных с  согласия ученика, и обязательных отметок за проверочные и контрольные работы с учетом их возможной перес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79280" y="-27000"/>
            <a:ext cx="87854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Правило 7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Итоговые оценка и отметка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93A-D1A5-4056-B1CF-55C1026ABB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72400" y="321480"/>
            <a:ext cx="8070120" cy="59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В ЗАКЛЮЧЕНИЕ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Оценка и отметка всегда считались монополией учителя, а развитие самооценки </a:t>
            </a:r>
            <a:r>
              <a:rPr b="0" lang="en-US" sz="3300" spc="-1" strike="noStrike">
                <a:solidFill>
                  <a:srgbClr val="330066"/>
                </a:solidFill>
                <a:latin typeface="Arial"/>
                <a:ea typeface="Times New Roman"/>
              </a:rPr>
              <a:t>–</a:t>
            </a: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 чем-то «дополнительным и необязательным». Если мы хотим помочь нашим детям стать самостоятельными, давайте учить их свободе решений и ответственности за свой выбор.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2b03f5"/>
                </a:solidFill>
                <a:latin typeface="Arial"/>
              </a:rPr>
              <a:t>Развитие самооценки потребует от вас дополнительных усилий, но вскоре вы увидите, как дети станут другими! Как показала практика, они говорят: «Теперь понятно, зачем мы учимся!» и «Я больше не боюсь отвечать, потому что учитель со мной советуется!»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A30-02A5-4842-8E22-603B6A0F5D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ИСПОЛЬЗОВАТЬ ОТМЕТКИ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32511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Arial"/>
              </a:rPr>
              <a:t>ТРАДИЦ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Пя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алльная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ление учеников на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отличников, двоечников…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верка труда учителя по </a:t>
            </a:r>
            <a:r>
              <a:rPr b="1" lang="ru-RU" sz="2200" spc="-1" strike="noStrike">
                <a:solidFill>
                  <a:srgbClr val="f13009"/>
                </a:solidFill>
                <a:latin typeface="Arial"/>
              </a:rPr>
              <a:t>«накопляемости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66920" y="1557360"/>
            <a:ext cx="4848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ТИПИЧНЫЕ ФРАЗ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Реально баллов у нас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четыре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5, 4, 3, 2), допустимых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тр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а положительных –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два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5 и 4)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Твоя четверк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принципиально отличается от </a:t>
            </a:r>
            <a:r>
              <a:rPr b="1" i="1" lang="en-US" sz="2500" spc="-1" strike="noStrike">
                <a:solidFill>
                  <a:srgbClr val="0000ff"/>
                </a:solidFill>
                <a:latin typeface="Arial"/>
              </a:rPr>
              <a:t>его четверки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Сегодня поставлю два, завтра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вообще замолчит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«Старался больше, а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все рав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вышло два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708360" y="5013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417024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C34-9AA4-48CB-BC71-1C8297C13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ГДЕ И КАК ФИКСИРОВАТЬ РЕЗУЛЬТАТЫ КОНТРОЛЯ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672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ТРЕБОВАНИЯ ГОССТАНДАР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 каждому предмет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Знать/понимать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краткий перечен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Уметь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много формулировок конкретных 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Использовать в деятельности: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(много формулировок конкретных действи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6920" y="1557360"/>
            <a:ext cx="4848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ТРАДИЦИИ ФИКСАЦИИ РЕЗУЛЬТАТОВ КОНТРОЛЯ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В официальном журнале мы видим отметку за «такое-то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числ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когда изучалась «такая-то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тема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», но задание могло быть и по пройденно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За чт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конкрет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мой ребенок получил эту отметку?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500" spc="-1" strike="noStrike">
                <a:solidFill>
                  <a:srgbClr val="f13009"/>
                </a:solidFill>
                <a:latin typeface="Arial"/>
              </a:rPr>
              <a:t>Что именно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ему надо доработать?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24360" y="498636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>
            <a:off x="4381560" y="150948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BB1-2434-436F-AA05-DEC5606254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РАЗВИВАТЬ САМООЦЕНКУ ШКОЛЬНИКОВ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2971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ТРАДИЦ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читель «</a:t>
            </a: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стави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отметки», ученики «</a:t>
            </a: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получаю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отметки»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13009"/>
                </a:solidFill>
                <a:latin typeface="Arial"/>
              </a:rPr>
              <a:t>Учитель указывает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на ошибки и на необходимость их исправления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03640" y="1267920"/>
            <a:ext cx="5711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928080" indent="0" algn="ctr"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ГОССТАНДАРТ,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УЧЕБНЫЕ </a:t>
            </a:r>
            <a:r>
              <a:rPr b="1" lang="en-US" sz="2500" spc="-1" strike="noStrike">
                <a:solidFill>
                  <a:srgbClr val="2b03f5"/>
                </a:solidFill>
                <a:latin typeface="Arial"/>
              </a:rPr>
              <a:t>УМЕНИЯ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УЧЕНИКОВ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НАЧ.ШКОЛЫ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преде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пособов контроля и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оцен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ятельности (ответ на вопросы «Такой ли получен результат?», «Правильно ли это делается?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8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ение причин возникающих трудностей, путей их устранения; предвидение трудностей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нахождение ошибо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работе и их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рав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352680" y="502920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80988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9BB-2F00-4F94-8B3A-E9BD6ACA14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КАК СОХРАНИТЬ ЗДОРОВЬЕ НАШИХ ДЕТЕЙ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49040"/>
            <a:ext cx="3898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ИЗ ЦЕЛЕЙ ГОССТАНДАРТ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 НАЧАЛЬНОЙ ШКОЛЕ: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охра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и укрепление физического и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психического здоровь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де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4360" y="1719000"/>
            <a:ext cx="463068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ТРАДИЦИИ ОЦЕНИВАНИЯ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К доск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сейчас пойдет…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Тому, кто с этим не справится, 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влепят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пару»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 algn="ctr"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Не ставьт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f13009"/>
                </a:solidFill>
                <a:latin typeface="Arial"/>
              </a:rPr>
              <a:t>мне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, я исправлю!!!...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284720" y="5084640"/>
            <a:ext cx="825480" cy="1270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716360" y="1552320"/>
            <a:ext cx="0" cy="3600360"/>
          </a:xfrm>
          <a:prstGeom prst="line">
            <a:avLst/>
          </a:prstGeom>
          <a:ln w="152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24B9-DA6D-445E-9349-43EE99ABC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13009"/>
                </a:solidFill>
                <a:latin typeface="Arial"/>
              </a:rPr>
              <a:t>ПРОБЛЕМЫ ОЦЕНИ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97000"/>
            <a:ext cx="85690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Новые образовательные цели не проверяются старыми контрольно измерительными материа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Традиционная фиксация в журнале не позволяет увидеть соответствие треб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Пятибалльные отметки не отражают всего разнообразия качествен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Традиции оценивания не позволяют развивать самооценку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Традиции оценивания дискомфортны для учеников, отрицательно влияют на их мотив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74D-9368-4F4E-ABDB-C41A47FE60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72040" y="248040"/>
            <a:ext cx="8144640" cy="458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САМОЕ ГЛАВНОЕ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О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ТЕХНОЛОГИИ ОЦЕНИВАНИЯ </a:t>
            </a:r>
            <a:br>
              <a:rPr sz="5400"/>
            </a:br>
            <a:r>
              <a:rPr b="1" lang="en-US" sz="5400" spc="-1" strike="noStrike">
                <a:solidFill>
                  <a:srgbClr val="2b03f5"/>
                </a:solidFill>
                <a:latin typeface="Arial"/>
              </a:rPr>
              <a:t>«ШКОЛЫ 2100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72C-6B23-4180-AEB2-ACD5D50C11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4:32:40Z</dcterms:created>
  <dc:creator>Шура</dc:creator>
  <dc:description/>
  <dc:language>en-US</dc:language>
  <cp:lastModifiedBy>M</cp:lastModifiedBy>
  <dcterms:modified xsi:type="dcterms:W3CDTF">2010-03-04T11:58:05Z</dcterms:modified>
  <cp:revision>135</cp:revision>
  <dc:subject/>
  <dc:title>Учебники Образовательной системы «Школа 2100»</dc:title>
</cp:coreProperties>
</file>