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033-1D65-4112-AF98-6F12A6EA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6BF-1719-4EF8-A67C-655095C6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B30-03CB-40E7-AEFE-4C3CA555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C90-08D7-497F-A28E-453A6E6B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E513-AAAF-4D70-89F9-4CC316E8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2259-6A84-45ED-80FF-567EE61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B5E5-CB4D-49E5-AD37-09CA1573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2CEC-9AF7-403E-B8CF-B803C4C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059-AEBF-4736-9795-4DA55504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E553-5ACD-4525-839E-39C37CD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C386-1143-423F-A36D-D1E8413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932-8661-4C9E-B2AE-09F77881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408-750B-407F-BBFA-75198101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E41-81D6-447B-9563-1A34B7A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DD97-9F2C-4C75-B526-CFF7C60F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7DD2-9E50-4235-B329-DAF697FB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B39-AC22-42E5-BE72-E447A7D4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669-B5EB-4F41-9650-C07C186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B3D-9689-41C2-8DA5-4D478029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82B-B6F0-4DF5-96B7-EF40F80E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C69-13B5-4848-9E6A-30DF830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5C9-73D9-49AA-BE25-13F60CA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187-A531-46C3-9D18-B1AD478A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839-428C-4CEC-8119-9C8B261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701F-8344-47EA-A6BF-D7C48B4ECD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0546-CB84-4393-B335-02F9FE347B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pirao.ru/upload/iblock/5544ddf50ff637bb9c037aed22247f22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98508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Технология оценивания учебных успехов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1419480" cy="2160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61960" y="3885840"/>
            <a:ext cx="473076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 Образовательной системы «Школа 2100» и РА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EDC0-9712-4DB5-A76A-B17551B936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-100080"/>
            <a:ext cx="87138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чем мы создавали новую технологию? Наши 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«Главное не знания, а умение ими пользоват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Психологическая комфортность (мотивация успешности, опора на внутренние мотив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инима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Обучение деятельности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970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тразить на этапе контро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ющие принципы «Школы 2100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508464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здать личностно ориентированную технологию оценивания, сочетаемую с практикой массовой школы и официальными нормами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4138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ать ученика полноправным участником контроля (прозрачность прави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939-A604-4595-B4B8-C2A3580176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42800" y="251280"/>
            <a:ext cx="7419240" cy="11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Как мы создавали новую технологию оценива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4920" y="5084640"/>
            <a:ext cx="82501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лючения РА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16 ноября 2005 г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работа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нов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ология оценки учебных успех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73360"/>
            <a:ext cx="2209680" cy="295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Times New Roman"/>
              </a:rPr>
              <a:t>2002 </a:t>
            </a:r>
            <a:r>
              <a:rPr b="1" lang="ru-RU" sz="1800" spc="-1" strike="noStrike">
                <a:solidFill>
                  <a:srgbClr val="2b03f5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Times New Roman"/>
              </a:rPr>
              <a:t>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ь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бщение опыта, формулиро-вание прави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1773360"/>
            <a:ext cx="2520720" cy="28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2004 </a:t>
            </a:r>
            <a:r>
              <a:rPr b="1" lang="en-US" sz="1800" spc="-1" strike="noStrike">
                <a:solidFill>
                  <a:srgbClr val="2b03f5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сперимент РА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ка правил, их уточнение, отработка алгоритмом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05520" y="1773360"/>
            <a:ext cx="2887560" cy="2879640"/>
          </a:xfrm>
          <a:prstGeom prst="rect">
            <a:avLst/>
          </a:prstGeom>
          <a:solidFill>
            <a:srgbClr val="ff66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2008 </a:t>
            </a:r>
            <a:r>
              <a:rPr b="1" lang="en-US" sz="1800" spc="-1" strike="noStrike">
                <a:solidFill>
                  <a:srgbClr val="2b03f5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…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ческий пак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ие набора средств, поддерживающих данную техноло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78040" y="257184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59480" y="257184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4653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9CB-97A4-4D43-96F8-E4BB542E11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360" y="115920"/>
            <a:ext cx="9144000" cy="12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А кто проверял вашу технологию и разрешал ее использовать?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11280" y="1554120"/>
            <a:ext cx="633744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ЙСКАЯ АКАДЕМИЯ 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из Заключения от 18 ноября </a:t>
            </a: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2005 г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пункт 10). «Разработана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технология оценивания учебных успех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разных этапах образовательного процесс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77840" cy="2082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84360" y="3789360"/>
            <a:ext cx="632484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О РОССИЙСКОЙ ФЕДЕР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2008 го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удило государственную премию авторскому коллективу «Школы 2100» за разработку новой образовательной системы (как составляющий элемент экспертировалась и </a:t>
            </a:r>
            <a:r>
              <a:rPr b="1" lang="ru-RU" sz="2400" spc="-1" strike="noStrike">
                <a:solidFill>
                  <a:srgbClr val="299410"/>
                </a:solidFill>
                <a:latin typeface="Arial"/>
              </a:rPr>
              <a:t>технология оценивания учебных успех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Картинка 16 из 67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73360"/>
            <a:ext cx="225756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054-66A8-49D1-9399-EF33829DAC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ё! Но отметка – за решен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+ Учитель в диалог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ОЛЬКО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задача – одна  от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ДЕ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аблице требований по ум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ГДА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щие – по желанию, тематические – обязательны (+ право пересдач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ритериям уровней успеш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переводом в любой тип отме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ТОГОВЫ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неарифм. за учебный моду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78120" y="98280"/>
            <a:ext cx="93358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7 правил технологии: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ЦЕНИВАЕМ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565360"/>
            <a:ext cx="8496000" cy="0"/>
          </a:xfrm>
          <a:prstGeom prst="line">
            <a:avLst/>
          </a:prstGeom>
          <a:ln w="28440">
            <a:solidFill>
              <a:srgbClr val="2b03f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349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3f5"/>
                </a:solidFill>
                <a:latin typeface="Arial"/>
              </a:rPr>
              <a:t>м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6360" y="290844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3f5"/>
                </a:solidFill>
                <a:latin typeface="Arial"/>
              </a:rPr>
              <a:t>ма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425-1049-4191-B9CF-3F426BF19D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03720" y="279720"/>
            <a:ext cx="808128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МИНИМУМ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технологии оценивания учебных успехов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2b03f5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правила 1 </a:t>
            </a: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 3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79C-4733-4CED-A01C-7AD9C1AD08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4920" y="1374480"/>
            <a:ext cx="835344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 1. ОЦЕНКА И ОТМ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b03f5"/>
                </a:solidFill>
                <a:latin typeface="Arial"/>
              </a:rPr>
              <a:t>«Оцениваться может любое, особенно успешное действие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b03f5"/>
                </a:solidFill>
                <a:latin typeface="Arial"/>
              </a:rPr>
              <a:t>а фиксируется отметкой только решение полноценной задачи, т.е. по использованию знаний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9410"/>
                </a:solidFill>
                <a:latin typeface="Arial"/>
              </a:rPr>
              <a:t>Оценка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есная характеристика результатов действия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можно за любое действие ученик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Отмет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фиксация результата оценивания в виде знака из принятой системы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только за решение продуктивной задачи – каждой в отдельност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: Ученика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ЪЯВЛЯЕТС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общая активность на уроке достойна оценки «молодец», «стараешься», но отметка может быть выставлена только за решение одной задачи от начала до кон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0"/>
            <a:ext cx="9036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ервое правило разводит два понятия и ориентирует на нов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914480" cy="20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857-657B-407B-8DC6-9F9FED086B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052640"/>
            <a:ext cx="81723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о 3. ЧИСЛО ОТМ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03f5"/>
                </a:solidFill>
                <a:latin typeface="Arial"/>
                <a:ea typeface="Times New Roman"/>
              </a:rPr>
              <a:t>«За каждую учебную задачу или группу заданий-задач, показывающих овладение отдельным умением, ставится своя отдельная отмет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 1: На уроке учен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аж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ъявлял решение двух разных задач – за урок он получае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раз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метки (они могут быть выставлены в журнал на один день, на два дня в рамках общей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 2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верочной работе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задани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Значит в контрольной работе ученик вид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отмето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е, если необходимо выставить в журнал одну отметку, усредняются по правилу среднего арифметического. Должно быть видно и понятно уче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8000" y="0"/>
            <a:ext cx="9036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Третье правило определяет сколько отметок мы ставим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2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667640" y="3860640"/>
            <a:ext cx="1476360" cy="10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63F-1BD6-4BBE-9321-AECDD4E00E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15560" y="150120"/>
            <a:ext cx="8985600" cy="147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амое главное правило </a:t>
            </a:r>
            <a:r>
              <a:rPr b="1" i="1" lang="en-US" sz="38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№2. Оно напрямую развивает важнейшее организационное умение самооцен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360" y="1917360"/>
            <a:ext cx="820872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о 2. САМООЦ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03f5"/>
                </a:solidFill>
                <a:latin typeface="Arial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2b03f5"/>
                </a:solidFill>
                <a:latin typeface="Arial"/>
              </a:rPr>
              <a:t>Учитель и ученик по возможности определяют оценку и отметку в диалог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можно, когда ученик на уроке предъявляет учителю свое решение продуктивного задания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вет у доски, с мест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2b03f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03f5"/>
                </a:solidFill>
                <a:latin typeface="Arial"/>
              </a:rPr>
              <a:t>Ученик имеет право аргументированно оспорить выставленную отметку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ле сдачи письменного задания учителю, который, соответственно, не может организовать диалог во время проверк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6000" y="1628640"/>
            <a:ext cx="1908000" cy="17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EA6-56C0-40DA-864B-EB8166F132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4360" y="54720"/>
            <a:ext cx="92869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№2. САМООЦЕНКА предполагает освоение учениками 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1198080"/>
            <a:ext cx="8101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АЛГОРИТМА САМООЦЕН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вопросы к ученику):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1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нужно было сделать в этом задании (задаче)? Какая был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нужно было получить в результа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9410"/>
                </a:solidFill>
                <a:latin typeface="Arial"/>
                <a:ea typeface="Times New Roman"/>
              </a:rPr>
              <a:t>2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Удалось получ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 Найдено решение, отв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03f5"/>
                </a:solidFill>
                <a:latin typeface="Arial"/>
                <a:ea typeface="Times New Roman"/>
              </a:rPr>
              <a:t>3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правился полность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с незначительной ошибкой (какой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4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правился полность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с небольшой помощью (кто помогал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м добавляются другие вопросы, в т.ч. «Какую ты ставишь себе отметку?». (Подробнее см. Сборники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310520" y="735120"/>
            <a:ext cx="1654200" cy="153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7CA-A179-457C-B186-98BF2BEF9E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9480" y="195480"/>
            <a:ext cx="8249760" cy="36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КАК ПОЛЬЗОВАТЬСЯ ПРАВИЛОМ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«САМООЦЕНКА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3A4-EEB6-40CA-A90C-AD4210DA28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27760" y="319680"/>
            <a:ext cx="8233200" cy="37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ЗАЧЕМ НУЖНА НОВАЯ ТЕХНОЛОГИЯ ОЦЕНИВАНИЯ?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BBC-C6F8-46D1-8361-621B3EF5C7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2320" y="246960"/>
            <a:ext cx="8524080" cy="10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одготовка к урокам, на которых будет формироваться умение  самооценк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360" y="1719360"/>
            <a:ext cx="7570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b03f5"/>
                </a:solidFill>
                <a:latin typeface="Arial"/>
              </a:rPr>
              <a:t>1 шаг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чител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ирает уро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на которых можно ограничить предметный материал до минимума (см.принцип минимакса). Оставшееся время отводится на выработку у учеников умения самооценива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 дальнейшем менее подробное изучение нескольких тем компенсируется  более осознанным отношением детей к учебе)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планировании урока учител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ира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ля первой демонстрации алгоритма самооценивания легковыполнимо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 изученному материалу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ени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сихологически готового к публичному анализу результатов своей рабо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720" y="2276640"/>
            <a:ext cx="1332000" cy="10792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31160" y="2938320"/>
            <a:ext cx="74304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31160" y="2492280"/>
            <a:ext cx="7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А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51640" y="4076640"/>
            <a:ext cx="1265400" cy="25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226-9F7B-4313-923B-D67220DAD5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0000" y="54720"/>
            <a:ext cx="8639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Формирование умения самооценки (начал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4560" y="1197000"/>
            <a:ext cx="7426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1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ых уроках учитель выбир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ценивания результатов своей работы наибол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ленных уче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 одном уроке по 1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 уче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время учитель помога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у: сам задает ему вопросы по алгоритму самооценки (указывая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орный сигнал: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Задание? Выполнил? Правильно? Сам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Ученик дает ответы, учитель, поправляет его, объясняет, если наблюдается завышение или занижение оц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чание. Вс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тальные учени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этот момент наблюдают, как происходит самооценивание. Необходимо активизировать их внимание вопросами: «Какой шаг по оценке работы мы уже сделали?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778800" y="549360"/>
            <a:ext cx="236520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EE1-37D1-43D2-B199-2F2796FF81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7705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03f5"/>
                </a:solidFill>
                <a:latin typeface="Arial"/>
              </a:rPr>
              <a:t>3 ша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оследующих уроках самооценку по алгоритму предлагается произвести по очеред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м учени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03f5"/>
                </a:solidFill>
                <a:latin typeface="Arial"/>
              </a:rPr>
              <a:t>4 ша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 вместо проговаривания вопросов, учитель предлагает ученика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лядя на опорные сигналы, задавать себе эти вопросы и отвечать на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чание. Помимо диалога самооценка может производиться при коллективной проверке письменных заданий. На доске появляется эталон правильного ответа, и каждый ученик в своей тетради оценивает свое реш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03f5"/>
                </a:solidFill>
                <a:latin typeface="Arial"/>
              </a:rPr>
              <a:t>5 ша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ученики начинают оценивать себя, не глядя на опорные сигналы, учитель может убрать их и доставать, только если у кого-то возникают затруд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азовое умение самооценки сформирова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44280"/>
            <a:ext cx="874872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Формирование умения самооценки (окон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1506240" cy="30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EFA-D4F5-4D96-9CDB-9A59C1E519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46400" y="51120"/>
            <a:ext cx="8646480" cy="9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сформированного умения самооценк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(начало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4560" y="1125360"/>
            <a:ext cx="7273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1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уя урок, учите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тает сокращ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метный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самооцен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рачи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сле предложения учителя: «Оцени свой ответ» следует краткая фраза ученик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ль достигнута, ошибок не было», или «Решение я получил, но с помощью класса», или «Полностью без ошибок решил задачу необходимого уровня, что соответствует отметке «4» - хорошо» и т.п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мнение ученика и учите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падаю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можно вести уро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мнение учите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ли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т мнения ученика, который завысил или занизил свою оценку, необходимо прой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алгоритму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согласовать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985080" y="1033560"/>
            <a:ext cx="2195280" cy="20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A9D-9F42-458F-A478-537233897A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8000" y="-44280"/>
            <a:ext cx="8964720" cy="12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сформированного умения самооценк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(окончание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3 ша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провер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ых раб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еник получает право аргументирова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пор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у и отметку учителя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фразы ученика: «Я не согласен с выставленной отметкой» учитель предлагает ему объяснить свое мнение, используя алгоритм самооц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учени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учителю стои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благодар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го за то, что он помог учителю найти собственную ошибку при провер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учени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учителю необходим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ясн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му на основании чего он принял соответствующее решение, постараться согласовать пози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!! Не все ученики будут готовы признать свои ошибки. Однак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вный 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стный разго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ними, даже если он не заканчивается компромиссом, все равно способствует выработке у них адекватной самооценки, а авторитарное решение учителя – н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6ED-A4BF-478C-BB6A-C03B5712CD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3720" y="279720"/>
            <a:ext cx="808128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МАКСИМУМ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технологии оценивания учебных успехов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2b03f5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правила 4 </a:t>
            </a:r>
            <a:r>
              <a:rPr b="1" i="1" lang="ru-RU" sz="38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 7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309-DA5A-4AE1-BD33-68D31C273B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7640" y="323280"/>
            <a:ext cx="8928720" cy="19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4: ТАБЛИЦА ТРЕБОВАНИЙ. </a:t>
            </a:r>
            <a:br>
              <a:rPr sz="3200"/>
            </a:b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Отметка  выставляется в таблицу требова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блокнот учителя, дневник школьника)</a:t>
            </a: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 в графу того умения, которое </a:t>
            </a:r>
            <a:r>
              <a:rPr b="1" i="1" lang="en-US" sz="2400" spc="-1" strike="noStrike">
                <a:solidFill>
                  <a:srgbClr val="2b03f5"/>
                </a:solidFill>
                <a:latin typeface="Arial"/>
              </a:rPr>
              <a:t>было основным</a:t>
            </a: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 в ходе решения задачи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имум – учител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раза в четверть после контрольной работы. Максимум – учитель и ученики регулярно. Пример: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2768760"/>
            <a:ext cx="640080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Умения из требований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781360"/>
            <a:ext cx="1676160" cy="2654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е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3149640"/>
            <a:ext cx="198144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ять значение круговорота веществ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149640"/>
            <a:ext cx="236196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ить примеры живых организмов разных «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232416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ающий мир, 3 класс. Тема 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3149640"/>
            <a:ext cx="205740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ить примеры взаимосвязи живой и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5511960"/>
            <a:ext cx="1676160" cy="368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я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892840"/>
            <a:ext cx="1676160" cy="368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вел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6273720"/>
            <a:ext cx="1676160" cy="368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511960"/>
            <a:ext cx="2057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5908680"/>
            <a:ext cx="2057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3. 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6289560"/>
            <a:ext cx="2057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5511960"/>
            <a:ext cx="19814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5908680"/>
            <a:ext cx="19814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6289560"/>
            <a:ext cx="19814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5511960"/>
            <a:ext cx="23619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5908680"/>
            <a:ext cx="23619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6289560"/>
            <a:ext cx="23619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55213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595296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32360" y="63133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87640" y="55213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95296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63133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4A9-C1E1-4FB4-8BF0-41BD237169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8000" y="0"/>
            <a:ext cx="8964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ТАБЛИЦЫ ТРЕБОВАНИЙ: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 без изменения заполнения официального журнал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b03f5"/>
                </a:solidFill>
                <a:latin typeface="Arial"/>
              </a:rPr>
              <a:t>1 шаг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таблицу требован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в своих рабочих материалах) учитель выставляет все необходимые ему отметки (за текущие ответы, за проверочные работы и т.д.) в той шкале отметок, которую он выб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b03f5"/>
                </a:solidFill>
                <a:latin typeface="Arial"/>
              </a:rPr>
              <a:t>2 шаг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традиционный журна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учитель переносит отметки, необходимые для правильного оформления журнала (за проверочную работу, за текущие ответы). Отметки выставляются в той шкале, которая принята в данном образовательном учреждении (например, 5-балльна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719-A3F1-49E5-A1B3-174B7837A1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8000" y="144360"/>
            <a:ext cx="8856720" cy="9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АБЛИЦЫ ТРЕБОВАНИЙ: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с изменением заполнения оф. жур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педагогическом совете школы документально (письменно) фиксируется решени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 том, что: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чит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лассах использует технологию оценивания учебных успехов, одобренную Российской академией образовани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 10. Заключения РАО о работе Образовательной системы «Школа 2100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соответствии с данной технологией в официальный журнал класса выставляются только итоговые отметки за четверть. Текущие отметки выставляются в таблицы требований – в рабочий блокнот учителя (и дневники школьников). Данное решение принимается также на основан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а 3-го статьи 15-й Закона «Об образовани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ссийской Федерации: «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Образовательное учреждение самостоятельно в выборе системы оценок, формы, порядка и периодичности промежуточной аттестации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651-A3A2-4F35-AD07-227E166453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8320" y="129240"/>
            <a:ext cx="9027360" cy="10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5: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тказ от отметки и право перес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4920" y="1341000"/>
            <a:ext cx="8748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За задачи, решенные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ри изучении новой темы,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отметка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ставится только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о желанию ученика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, так как он еще овладевает умениями и знаниями темы и имеет право на ошиб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За каждую задачу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роверочной (контрольной) работы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по итогам темы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отметка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ставится 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всем ученикам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, так как каждый должен показать, как он овладел умениями и знаниями темы. Ученик не может отказаться от выставления этой отметки, но имеет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раво пересдать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(хотя бы один раз) не устраивающую его отметк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9BE-20E0-4A77-B1D5-D0C18C95C4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ПРОВЕРИТЬ ДОСТИЖЕНИЕ НОВЫХ ЦЕЛЕЙ ОБРАЗОВАНИЯ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5329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ГОСУДАРСТВЕННЫЙ СТАНДАР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правлен на реализацию качественно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ово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личностно ориентированно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развивающе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модели массовой начальной школы…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развит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личности школьника, его творческих способностей;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знаний,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умени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и навыков, обеспечивающих …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деятельно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;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жнейший приоритет – формирование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общеучебных умени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56000" y="1557360"/>
            <a:ext cx="298764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ТРАДИ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а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КИМо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тесты тип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В каком году была Куликовская бит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) 1242. Б) 138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) 1480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контролируется (в основном)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репродукция отдельных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14880" y="501336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5546880" y="155700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948-30E9-4B5E-ADCE-981C01F11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8000" y="144360"/>
            <a:ext cx="885672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правила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«ПЕРЕСДАЧА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893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1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ранее оговорить с учениками порядок реализации их права на пересдачу контрольной работы: когда и как это может сделать учитель (этап одного из следующих уроков, урок-пересдач в конце четверти, после уроков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 уроке после контрольной работы учитель раздает ученикам их работы со своими отметкам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3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читель кратко разбирает наиболее типичные ошибки, но обязательно без указания тех учеников, которые их соверши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4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ченики просматривают свои работы. Могут аргументированно оспорить выставленную учителем отметку (см. правило самооценки). Осмысливают, что именно у них получилось не так (если были ошиб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5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читель напоминает: «Кто не присутствовал или не справился с каким-либо заданием (кружок без отметки) – должны это пересдать!». Учитель спрашивает: «Кого не устраивает уровень, который вы продемонстрировали в данной работе, кто хочет воспользоваться правом пересдачи?» Каждый ученик принимает решение – будет он пересдавать какую-то задачу из контрольной работы или нет. Учитель объявляет или напоминает принятые сроки и порядок пересда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A23-05D2-4DA3-8BE5-3A91B52B5F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4720" y="125640"/>
            <a:ext cx="9034560" cy="10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6: Оценка и отметка определяются по УРОВНЯМ УСПЕШНОСТ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971280" y="1368000"/>
            <a:ext cx="8172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  <a:ea typeface="Times New Roman"/>
              </a:rPr>
              <a:t>Необходим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шение типовой 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добной тем, что решали уже много раз, где требовалось применить сформированные умения и усвоенные знания, прежде всего соответствующие госстандарту, ч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о вс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любому предмету. Э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хорошо», но не «отлич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410"/>
                </a:solidFill>
                <a:latin typeface="Arial"/>
                <a:ea typeface="Times New Roman"/>
              </a:rPr>
              <a:t>Программн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шение нестандартной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потребовалось либо применить знания по новой, изучаемой в данный момент теме,  либо «старые» знания и умения, но в новой, непривычной ситуации. Это уровень функциональной грамотно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лич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Максимальн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обязательный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решение «сверхзадач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неизученному материалу, когда потребовались либо самостоятельно добытые вне уроков знания, либо новые самостоятельно усвоенные умения. Этот уровень демонстрирует исключительные успехи отдельных учеников по отдельным тема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ерх школьных требовани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ревосход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8000" y="5224320"/>
            <a:ext cx="92232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-325440" y="3138480"/>
            <a:ext cx="1368360" cy="1514520"/>
            <a:chOff x="-325440" y="3138480"/>
            <a:chExt cx="1368360" cy="1514520"/>
          </a:xfrm>
        </p:grpSpPr>
        <p:sp>
          <p:nvSpPr>
            <p:cNvPr id="274" name=""/>
            <p:cNvSpPr/>
            <p:nvPr/>
          </p:nvSpPr>
          <p:spPr>
            <a:xfrm>
              <a:off x="-325440" y="3138480"/>
              <a:ext cx="1368360" cy="1406520"/>
            </a:xfrm>
            <a:custGeom>
              <a:avLst/>
              <a:gdLst/>
              <a:ahLst/>
              <a:rect l="l" t="t" r="r" b="b"/>
              <a:pathLst>
                <a:path w="1972" h="1772">
                  <a:moveTo>
                    <a:pt x="1644" y="1464"/>
                  </a:moveTo>
                  <a:lnTo>
                    <a:pt x="1681" y="1403"/>
                  </a:lnTo>
                  <a:lnTo>
                    <a:pt x="1713" y="1338"/>
                  </a:lnTo>
                  <a:lnTo>
                    <a:pt x="1740" y="1270"/>
                  </a:lnTo>
                  <a:lnTo>
                    <a:pt x="1765" y="1199"/>
                  </a:lnTo>
                  <a:lnTo>
                    <a:pt x="1783" y="1124"/>
                  </a:lnTo>
                  <a:lnTo>
                    <a:pt x="1797" y="1047"/>
                  </a:lnTo>
                  <a:lnTo>
                    <a:pt x="1806" y="968"/>
                  </a:lnTo>
                  <a:lnTo>
                    <a:pt x="1808" y="887"/>
                  </a:lnTo>
                  <a:lnTo>
                    <a:pt x="1805" y="796"/>
                  </a:lnTo>
                  <a:lnTo>
                    <a:pt x="1795" y="709"/>
                  </a:lnTo>
                  <a:lnTo>
                    <a:pt x="1778" y="624"/>
                  </a:lnTo>
                  <a:lnTo>
                    <a:pt x="1755" y="542"/>
                  </a:lnTo>
                  <a:lnTo>
                    <a:pt x="1727" y="464"/>
                  </a:lnTo>
                  <a:lnTo>
                    <a:pt x="1693" y="391"/>
                  </a:lnTo>
                  <a:lnTo>
                    <a:pt x="1654" y="323"/>
                  </a:lnTo>
                  <a:lnTo>
                    <a:pt x="1610" y="260"/>
                  </a:lnTo>
                  <a:lnTo>
                    <a:pt x="1562" y="202"/>
                  </a:lnTo>
                  <a:lnTo>
                    <a:pt x="1510" y="151"/>
                  </a:lnTo>
                  <a:lnTo>
                    <a:pt x="1455" y="107"/>
                  </a:lnTo>
                  <a:lnTo>
                    <a:pt x="1395" y="69"/>
                  </a:lnTo>
                  <a:lnTo>
                    <a:pt x="1333" y="39"/>
                  </a:lnTo>
                  <a:lnTo>
                    <a:pt x="1268" y="18"/>
                  </a:lnTo>
                  <a:lnTo>
                    <a:pt x="1201" y="5"/>
                  </a:lnTo>
                  <a:lnTo>
                    <a:pt x="1132" y="0"/>
                  </a:lnTo>
                  <a:lnTo>
                    <a:pt x="1132" y="51"/>
                  </a:lnTo>
                  <a:lnTo>
                    <a:pt x="1197" y="56"/>
                  </a:lnTo>
                  <a:lnTo>
                    <a:pt x="1260" y="68"/>
                  </a:lnTo>
                  <a:lnTo>
                    <a:pt x="1321" y="89"/>
                  </a:lnTo>
                  <a:lnTo>
                    <a:pt x="1380" y="118"/>
                  </a:lnTo>
                  <a:lnTo>
                    <a:pt x="1435" y="153"/>
                  </a:lnTo>
                  <a:lnTo>
                    <a:pt x="1488" y="195"/>
                  </a:lnTo>
                  <a:lnTo>
                    <a:pt x="1537" y="242"/>
                  </a:lnTo>
                  <a:lnTo>
                    <a:pt x="1582" y="296"/>
                  </a:lnTo>
                  <a:lnTo>
                    <a:pt x="1623" y="355"/>
                  </a:lnTo>
                  <a:lnTo>
                    <a:pt x="1660" y="420"/>
                  </a:lnTo>
                  <a:lnTo>
                    <a:pt x="1691" y="489"/>
                  </a:lnTo>
                  <a:lnTo>
                    <a:pt x="1719" y="562"/>
                  </a:lnTo>
                  <a:lnTo>
                    <a:pt x="1739" y="639"/>
                  </a:lnTo>
                  <a:lnTo>
                    <a:pt x="1755" y="719"/>
                  </a:lnTo>
                  <a:lnTo>
                    <a:pt x="1765" y="802"/>
                  </a:lnTo>
                  <a:lnTo>
                    <a:pt x="1768" y="887"/>
                  </a:lnTo>
                  <a:lnTo>
                    <a:pt x="1765" y="968"/>
                  </a:lnTo>
                  <a:lnTo>
                    <a:pt x="1757" y="1047"/>
                  </a:lnTo>
                  <a:lnTo>
                    <a:pt x="1742" y="1122"/>
                  </a:lnTo>
                  <a:lnTo>
                    <a:pt x="1722" y="1196"/>
                  </a:lnTo>
                  <a:lnTo>
                    <a:pt x="1698" y="1266"/>
                  </a:lnTo>
                  <a:lnTo>
                    <a:pt x="1669" y="1332"/>
                  </a:lnTo>
                  <a:lnTo>
                    <a:pt x="1636" y="1396"/>
                  </a:lnTo>
                  <a:lnTo>
                    <a:pt x="1598" y="1453"/>
                  </a:lnTo>
                  <a:lnTo>
                    <a:pt x="1556" y="1506"/>
                  </a:lnTo>
                  <a:lnTo>
                    <a:pt x="1511" y="1554"/>
                  </a:lnTo>
                  <a:lnTo>
                    <a:pt x="1463" y="1598"/>
                  </a:lnTo>
                  <a:lnTo>
                    <a:pt x="1411" y="1635"/>
                  </a:lnTo>
                  <a:lnTo>
                    <a:pt x="1357" y="1665"/>
                  </a:lnTo>
                  <a:lnTo>
                    <a:pt x="1300" y="1689"/>
                  </a:lnTo>
                  <a:lnTo>
                    <a:pt x="1242" y="1707"/>
                  </a:lnTo>
                  <a:lnTo>
                    <a:pt x="1181" y="1716"/>
                  </a:lnTo>
                  <a:lnTo>
                    <a:pt x="1098" y="1716"/>
                  </a:lnTo>
                  <a:lnTo>
                    <a:pt x="1098" y="1718"/>
                  </a:lnTo>
                  <a:lnTo>
                    <a:pt x="1053" y="1712"/>
                  </a:lnTo>
                  <a:lnTo>
                    <a:pt x="1009" y="1703"/>
                  </a:lnTo>
                  <a:lnTo>
                    <a:pt x="965" y="1689"/>
                  </a:lnTo>
                  <a:lnTo>
                    <a:pt x="924" y="1672"/>
                  </a:lnTo>
                  <a:lnTo>
                    <a:pt x="882" y="1651"/>
                  </a:lnTo>
                  <a:lnTo>
                    <a:pt x="843" y="1627"/>
                  </a:lnTo>
                  <a:lnTo>
                    <a:pt x="805" y="1598"/>
                  </a:lnTo>
                  <a:lnTo>
                    <a:pt x="768" y="1568"/>
                  </a:lnTo>
                  <a:lnTo>
                    <a:pt x="733" y="1533"/>
                  </a:lnTo>
                  <a:lnTo>
                    <a:pt x="700" y="1496"/>
                  </a:lnTo>
                  <a:lnTo>
                    <a:pt x="669" y="1455"/>
                  </a:lnTo>
                  <a:lnTo>
                    <a:pt x="639" y="1411"/>
                  </a:lnTo>
                  <a:lnTo>
                    <a:pt x="613" y="1364"/>
                  </a:lnTo>
                  <a:lnTo>
                    <a:pt x="589" y="1316"/>
                  </a:lnTo>
                  <a:lnTo>
                    <a:pt x="567" y="1264"/>
                  </a:lnTo>
                  <a:lnTo>
                    <a:pt x="547" y="1210"/>
                  </a:lnTo>
                  <a:lnTo>
                    <a:pt x="510" y="1230"/>
                  </a:lnTo>
                  <a:lnTo>
                    <a:pt x="522" y="1261"/>
                  </a:lnTo>
                  <a:lnTo>
                    <a:pt x="533" y="1293"/>
                  </a:lnTo>
                  <a:lnTo>
                    <a:pt x="546" y="1323"/>
                  </a:lnTo>
                  <a:lnTo>
                    <a:pt x="560" y="1354"/>
                  </a:lnTo>
                  <a:lnTo>
                    <a:pt x="574" y="1382"/>
                  </a:lnTo>
                  <a:lnTo>
                    <a:pt x="589" y="1409"/>
                  </a:lnTo>
                  <a:lnTo>
                    <a:pt x="605" y="1437"/>
                  </a:lnTo>
                  <a:lnTo>
                    <a:pt x="621" y="1464"/>
                  </a:lnTo>
                  <a:lnTo>
                    <a:pt x="192" y="1464"/>
                  </a:lnTo>
                  <a:lnTo>
                    <a:pt x="192" y="1515"/>
                  </a:lnTo>
                  <a:lnTo>
                    <a:pt x="645" y="1515"/>
                  </a:lnTo>
                  <a:lnTo>
                    <a:pt x="647" y="1517"/>
                  </a:lnTo>
                  <a:lnTo>
                    <a:pt x="653" y="1523"/>
                  </a:lnTo>
                  <a:lnTo>
                    <a:pt x="661" y="1530"/>
                  </a:lnTo>
                  <a:lnTo>
                    <a:pt x="672" y="1539"/>
                  </a:lnTo>
                  <a:lnTo>
                    <a:pt x="683" y="1550"/>
                  </a:lnTo>
                  <a:lnTo>
                    <a:pt x="695" y="1562"/>
                  </a:lnTo>
                  <a:lnTo>
                    <a:pt x="706" y="1573"/>
                  </a:lnTo>
                  <a:lnTo>
                    <a:pt x="716" y="1583"/>
                  </a:lnTo>
                  <a:lnTo>
                    <a:pt x="0" y="1583"/>
                  </a:lnTo>
                  <a:lnTo>
                    <a:pt x="0" y="1635"/>
                  </a:lnTo>
                  <a:lnTo>
                    <a:pt x="773" y="1635"/>
                  </a:lnTo>
                  <a:lnTo>
                    <a:pt x="792" y="1651"/>
                  </a:lnTo>
                  <a:lnTo>
                    <a:pt x="813" y="1666"/>
                  </a:lnTo>
                  <a:lnTo>
                    <a:pt x="834" y="1680"/>
                  </a:lnTo>
                  <a:lnTo>
                    <a:pt x="856" y="1693"/>
                  </a:lnTo>
                  <a:lnTo>
                    <a:pt x="877" y="1706"/>
                  </a:lnTo>
                  <a:lnTo>
                    <a:pt x="898" y="1716"/>
                  </a:lnTo>
                  <a:lnTo>
                    <a:pt x="921" y="1727"/>
                  </a:lnTo>
                  <a:lnTo>
                    <a:pt x="943" y="1736"/>
                  </a:lnTo>
                  <a:lnTo>
                    <a:pt x="966" y="1745"/>
                  </a:lnTo>
                  <a:lnTo>
                    <a:pt x="989" y="1751"/>
                  </a:lnTo>
                  <a:lnTo>
                    <a:pt x="1012" y="1758"/>
                  </a:lnTo>
                  <a:lnTo>
                    <a:pt x="1037" y="1763"/>
                  </a:lnTo>
                  <a:lnTo>
                    <a:pt x="1060" y="1768"/>
                  </a:lnTo>
                  <a:lnTo>
                    <a:pt x="1084" y="1769"/>
                  </a:lnTo>
                  <a:lnTo>
                    <a:pt x="1108" y="1772"/>
                  </a:lnTo>
                  <a:lnTo>
                    <a:pt x="1132" y="1772"/>
                  </a:lnTo>
                  <a:lnTo>
                    <a:pt x="1139" y="1772"/>
                  </a:lnTo>
                  <a:lnTo>
                    <a:pt x="1145" y="1772"/>
                  </a:lnTo>
                  <a:lnTo>
                    <a:pt x="1152" y="1772"/>
                  </a:lnTo>
                  <a:lnTo>
                    <a:pt x="1158" y="1771"/>
                  </a:lnTo>
                  <a:lnTo>
                    <a:pt x="1163" y="1771"/>
                  </a:lnTo>
                  <a:lnTo>
                    <a:pt x="1169" y="1771"/>
                  </a:lnTo>
                  <a:lnTo>
                    <a:pt x="1176" y="1769"/>
                  </a:lnTo>
                  <a:lnTo>
                    <a:pt x="1182" y="1769"/>
                  </a:lnTo>
                  <a:lnTo>
                    <a:pt x="1769" y="1769"/>
                  </a:lnTo>
                  <a:lnTo>
                    <a:pt x="1769" y="1716"/>
                  </a:lnTo>
                  <a:lnTo>
                    <a:pt x="1367" y="1716"/>
                  </a:lnTo>
                  <a:lnTo>
                    <a:pt x="1385" y="1707"/>
                  </a:lnTo>
                  <a:lnTo>
                    <a:pt x="1402" y="1698"/>
                  </a:lnTo>
                  <a:lnTo>
                    <a:pt x="1419" y="1687"/>
                  </a:lnTo>
                  <a:lnTo>
                    <a:pt x="1435" y="1677"/>
                  </a:lnTo>
                  <a:lnTo>
                    <a:pt x="1451" y="1666"/>
                  </a:lnTo>
                  <a:lnTo>
                    <a:pt x="1467" y="1654"/>
                  </a:lnTo>
                  <a:lnTo>
                    <a:pt x="1484" y="1642"/>
                  </a:lnTo>
                  <a:lnTo>
                    <a:pt x="1499" y="1630"/>
                  </a:lnTo>
                  <a:lnTo>
                    <a:pt x="1515" y="1616"/>
                  </a:lnTo>
                  <a:lnTo>
                    <a:pt x="1530" y="1603"/>
                  </a:lnTo>
                  <a:lnTo>
                    <a:pt x="1544" y="1588"/>
                  </a:lnTo>
                  <a:lnTo>
                    <a:pt x="1558" y="1573"/>
                  </a:lnTo>
                  <a:lnTo>
                    <a:pt x="1572" y="1558"/>
                  </a:lnTo>
                  <a:lnTo>
                    <a:pt x="1586" y="1541"/>
                  </a:lnTo>
                  <a:lnTo>
                    <a:pt x="1600" y="1524"/>
                  </a:lnTo>
                  <a:lnTo>
                    <a:pt x="1613" y="1508"/>
                  </a:lnTo>
                  <a:lnTo>
                    <a:pt x="1613" y="1515"/>
                  </a:lnTo>
                  <a:lnTo>
                    <a:pt x="1972" y="1515"/>
                  </a:lnTo>
                  <a:lnTo>
                    <a:pt x="1972" y="1464"/>
                  </a:lnTo>
                  <a:lnTo>
                    <a:pt x="1644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2400" y="4611600"/>
              <a:ext cx="542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1600" y="3314520"/>
              <a:ext cx="703080" cy="1055880"/>
            </a:xfrm>
            <a:custGeom>
              <a:avLst/>
              <a:gdLst/>
              <a:ahLst/>
              <a:rect l="l" t="t" r="r" b="b"/>
              <a:pathLst>
                <a:path w="1014" h="1329">
                  <a:moveTo>
                    <a:pt x="547" y="289"/>
                  </a:moveTo>
                  <a:lnTo>
                    <a:pt x="547" y="515"/>
                  </a:lnTo>
                  <a:lnTo>
                    <a:pt x="615" y="571"/>
                  </a:lnTo>
                  <a:lnTo>
                    <a:pt x="615" y="485"/>
                  </a:lnTo>
                  <a:lnTo>
                    <a:pt x="653" y="485"/>
                  </a:lnTo>
                  <a:lnTo>
                    <a:pt x="653" y="601"/>
                  </a:lnTo>
                  <a:lnTo>
                    <a:pt x="738" y="671"/>
                  </a:lnTo>
                  <a:lnTo>
                    <a:pt x="738" y="609"/>
                  </a:lnTo>
                  <a:lnTo>
                    <a:pt x="775" y="609"/>
                  </a:lnTo>
                  <a:lnTo>
                    <a:pt x="775" y="701"/>
                  </a:lnTo>
                  <a:lnTo>
                    <a:pt x="873" y="778"/>
                  </a:lnTo>
                  <a:lnTo>
                    <a:pt x="873" y="885"/>
                  </a:lnTo>
                  <a:lnTo>
                    <a:pt x="547" y="733"/>
                  </a:lnTo>
                  <a:lnTo>
                    <a:pt x="547" y="1002"/>
                  </a:lnTo>
                  <a:lnTo>
                    <a:pt x="621" y="1079"/>
                  </a:lnTo>
                  <a:lnTo>
                    <a:pt x="621" y="1166"/>
                  </a:lnTo>
                  <a:lnTo>
                    <a:pt x="508" y="1100"/>
                  </a:lnTo>
                  <a:lnTo>
                    <a:pt x="395" y="1166"/>
                  </a:lnTo>
                  <a:lnTo>
                    <a:pt x="395" y="1080"/>
                  </a:lnTo>
                  <a:lnTo>
                    <a:pt x="469" y="1003"/>
                  </a:lnTo>
                  <a:lnTo>
                    <a:pt x="469" y="733"/>
                  </a:lnTo>
                  <a:lnTo>
                    <a:pt x="144" y="885"/>
                  </a:lnTo>
                  <a:lnTo>
                    <a:pt x="144" y="778"/>
                  </a:lnTo>
                  <a:lnTo>
                    <a:pt x="243" y="700"/>
                  </a:lnTo>
                  <a:lnTo>
                    <a:pt x="243" y="609"/>
                  </a:lnTo>
                  <a:lnTo>
                    <a:pt x="280" y="609"/>
                  </a:lnTo>
                  <a:lnTo>
                    <a:pt x="280" y="669"/>
                  </a:lnTo>
                  <a:lnTo>
                    <a:pt x="355" y="607"/>
                  </a:lnTo>
                  <a:lnTo>
                    <a:pt x="355" y="485"/>
                  </a:lnTo>
                  <a:lnTo>
                    <a:pt x="392" y="485"/>
                  </a:lnTo>
                  <a:lnTo>
                    <a:pt x="392" y="577"/>
                  </a:lnTo>
                  <a:lnTo>
                    <a:pt x="469" y="515"/>
                  </a:lnTo>
                  <a:lnTo>
                    <a:pt x="469" y="162"/>
                  </a:lnTo>
                  <a:lnTo>
                    <a:pt x="470" y="150"/>
                  </a:lnTo>
                  <a:lnTo>
                    <a:pt x="472" y="139"/>
                  </a:lnTo>
                  <a:lnTo>
                    <a:pt x="477" y="130"/>
                  </a:lnTo>
                  <a:lnTo>
                    <a:pt x="483" y="124"/>
                  </a:lnTo>
                  <a:lnTo>
                    <a:pt x="488" y="119"/>
                  </a:lnTo>
                  <a:lnTo>
                    <a:pt x="495" y="116"/>
                  </a:lnTo>
                  <a:lnTo>
                    <a:pt x="502" y="113"/>
                  </a:lnTo>
                  <a:lnTo>
                    <a:pt x="508" y="113"/>
                  </a:lnTo>
                  <a:lnTo>
                    <a:pt x="514" y="113"/>
                  </a:lnTo>
                  <a:lnTo>
                    <a:pt x="521" y="116"/>
                  </a:lnTo>
                  <a:lnTo>
                    <a:pt x="528" y="119"/>
                  </a:lnTo>
                  <a:lnTo>
                    <a:pt x="533" y="124"/>
                  </a:lnTo>
                  <a:lnTo>
                    <a:pt x="539" y="130"/>
                  </a:lnTo>
                  <a:lnTo>
                    <a:pt x="544" y="139"/>
                  </a:lnTo>
                  <a:lnTo>
                    <a:pt x="546" y="150"/>
                  </a:lnTo>
                  <a:lnTo>
                    <a:pt x="547" y="162"/>
                  </a:lnTo>
                  <a:lnTo>
                    <a:pt x="547" y="289"/>
                  </a:lnTo>
                  <a:lnTo>
                    <a:pt x="798" y="121"/>
                  </a:lnTo>
                  <a:lnTo>
                    <a:pt x="782" y="107"/>
                  </a:lnTo>
                  <a:lnTo>
                    <a:pt x="766" y="94"/>
                  </a:lnTo>
                  <a:lnTo>
                    <a:pt x="750" y="82"/>
                  </a:lnTo>
                  <a:lnTo>
                    <a:pt x="733" y="70"/>
                  </a:lnTo>
                  <a:lnTo>
                    <a:pt x="715" y="59"/>
                  </a:lnTo>
                  <a:lnTo>
                    <a:pt x="698" y="50"/>
                  </a:lnTo>
                  <a:lnTo>
                    <a:pt x="680" y="41"/>
                  </a:lnTo>
                  <a:lnTo>
                    <a:pt x="662" y="32"/>
                  </a:lnTo>
                  <a:lnTo>
                    <a:pt x="644" y="24"/>
                  </a:lnTo>
                  <a:lnTo>
                    <a:pt x="624" y="18"/>
                  </a:lnTo>
                  <a:lnTo>
                    <a:pt x="606" y="12"/>
                  </a:lnTo>
                  <a:lnTo>
                    <a:pt x="586" y="8"/>
                  </a:lnTo>
                  <a:lnTo>
                    <a:pt x="567" y="5"/>
                  </a:lnTo>
                  <a:lnTo>
                    <a:pt x="546" y="2"/>
                  </a:lnTo>
                  <a:lnTo>
                    <a:pt x="526" y="0"/>
                  </a:lnTo>
                  <a:lnTo>
                    <a:pt x="506" y="0"/>
                  </a:lnTo>
                  <a:lnTo>
                    <a:pt x="454" y="3"/>
                  </a:lnTo>
                  <a:lnTo>
                    <a:pt x="404" y="14"/>
                  </a:lnTo>
                  <a:lnTo>
                    <a:pt x="356" y="30"/>
                  </a:lnTo>
                  <a:lnTo>
                    <a:pt x="309" y="53"/>
                  </a:lnTo>
                  <a:lnTo>
                    <a:pt x="265" y="80"/>
                  </a:lnTo>
                  <a:lnTo>
                    <a:pt x="224" y="113"/>
                  </a:lnTo>
                  <a:lnTo>
                    <a:pt x="184" y="153"/>
                  </a:lnTo>
                  <a:lnTo>
                    <a:pt x="149" y="195"/>
                  </a:lnTo>
                  <a:lnTo>
                    <a:pt x="115" y="243"/>
                  </a:lnTo>
                  <a:lnTo>
                    <a:pt x="86" y="295"/>
                  </a:lnTo>
                  <a:lnTo>
                    <a:pt x="61" y="349"/>
                  </a:lnTo>
                  <a:lnTo>
                    <a:pt x="40" y="408"/>
                  </a:lnTo>
                  <a:lnTo>
                    <a:pt x="23" y="468"/>
                  </a:lnTo>
                  <a:lnTo>
                    <a:pt x="10" y="532"/>
                  </a:lnTo>
                  <a:lnTo>
                    <a:pt x="2" y="598"/>
                  </a:lnTo>
                  <a:lnTo>
                    <a:pt x="0" y="666"/>
                  </a:lnTo>
                  <a:lnTo>
                    <a:pt x="2" y="734"/>
                  </a:lnTo>
                  <a:lnTo>
                    <a:pt x="10" y="799"/>
                  </a:lnTo>
                  <a:lnTo>
                    <a:pt x="23" y="863"/>
                  </a:lnTo>
                  <a:lnTo>
                    <a:pt x="40" y="925"/>
                  </a:lnTo>
                  <a:lnTo>
                    <a:pt x="61" y="982"/>
                  </a:lnTo>
                  <a:lnTo>
                    <a:pt x="86" y="1036"/>
                  </a:lnTo>
                  <a:lnTo>
                    <a:pt x="115" y="1088"/>
                  </a:lnTo>
                  <a:lnTo>
                    <a:pt x="149" y="1135"/>
                  </a:lnTo>
                  <a:lnTo>
                    <a:pt x="184" y="1178"/>
                  </a:lnTo>
                  <a:lnTo>
                    <a:pt x="224" y="1216"/>
                  </a:lnTo>
                  <a:lnTo>
                    <a:pt x="265" y="1249"/>
                  </a:lnTo>
                  <a:lnTo>
                    <a:pt x="309" y="1277"/>
                  </a:lnTo>
                  <a:lnTo>
                    <a:pt x="356" y="1299"/>
                  </a:lnTo>
                  <a:lnTo>
                    <a:pt x="404" y="1316"/>
                  </a:lnTo>
                  <a:lnTo>
                    <a:pt x="454" y="1326"/>
                  </a:lnTo>
                  <a:lnTo>
                    <a:pt x="506" y="1329"/>
                  </a:lnTo>
                  <a:lnTo>
                    <a:pt x="558" y="1326"/>
                  </a:lnTo>
                  <a:lnTo>
                    <a:pt x="608" y="1316"/>
                  </a:lnTo>
                  <a:lnTo>
                    <a:pt x="657" y="1299"/>
                  </a:lnTo>
                  <a:lnTo>
                    <a:pt x="704" y="1277"/>
                  </a:lnTo>
                  <a:lnTo>
                    <a:pt x="748" y="1249"/>
                  </a:lnTo>
                  <a:lnTo>
                    <a:pt x="790" y="1216"/>
                  </a:lnTo>
                  <a:lnTo>
                    <a:pt x="829" y="1178"/>
                  </a:lnTo>
                  <a:lnTo>
                    <a:pt x="865" y="1135"/>
                  </a:lnTo>
                  <a:lnTo>
                    <a:pt x="897" y="1088"/>
                  </a:lnTo>
                  <a:lnTo>
                    <a:pt x="927" y="1036"/>
                  </a:lnTo>
                  <a:lnTo>
                    <a:pt x="953" y="982"/>
                  </a:lnTo>
                  <a:lnTo>
                    <a:pt x="973" y="925"/>
                  </a:lnTo>
                  <a:lnTo>
                    <a:pt x="991" y="863"/>
                  </a:lnTo>
                  <a:lnTo>
                    <a:pt x="1003" y="799"/>
                  </a:lnTo>
                  <a:lnTo>
                    <a:pt x="1011" y="734"/>
                  </a:lnTo>
                  <a:lnTo>
                    <a:pt x="1014" y="666"/>
                  </a:lnTo>
                  <a:lnTo>
                    <a:pt x="1013" y="624"/>
                  </a:lnTo>
                  <a:lnTo>
                    <a:pt x="1010" y="583"/>
                  </a:lnTo>
                  <a:lnTo>
                    <a:pt x="1005" y="542"/>
                  </a:lnTo>
                  <a:lnTo>
                    <a:pt x="999" y="503"/>
                  </a:lnTo>
                  <a:lnTo>
                    <a:pt x="990" y="464"/>
                  </a:lnTo>
                  <a:lnTo>
                    <a:pt x="980" y="426"/>
                  </a:lnTo>
                  <a:lnTo>
                    <a:pt x="968" y="390"/>
                  </a:lnTo>
                  <a:lnTo>
                    <a:pt x="955" y="355"/>
                  </a:lnTo>
                  <a:lnTo>
                    <a:pt x="940" y="320"/>
                  </a:lnTo>
                  <a:lnTo>
                    <a:pt x="924" y="287"/>
                  </a:lnTo>
                  <a:lnTo>
                    <a:pt x="905" y="255"/>
                  </a:lnTo>
                  <a:lnTo>
                    <a:pt x="887" y="225"/>
                  </a:lnTo>
                  <a:lnTo>
                    <a:pt x="866" y="196"/>
                  </a:lnTo>
                  <a:lnTo>
                    <a:pt x="844" y="169"/>
                  </a:lnTo>
                  <a:lnTo>
                    <a:pt x="823" y="145"/>
                  </a:lnTo>
                  <a:lnTo>
                    <a:pt x="798" y="121"/>
                  </a:lnTo>
                  <a:lnTo>
                    <a:pt x="547" y="289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1197000"/>
            <a:ext cx="1009440" cy="145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CBE-65DC-4D9A-86FF-3BDA8D6AA2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6600" y="66600"/>
            <a:ext cx="901080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ровень успешности – это оценка, которая может быть переведена в отметку по любой балльной шкале. Например: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8920" y="1988640"/>
            <a:ext cx="482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03f5"/>
                </a:solidFill>
                <a:latin typeface="Arial"/>
                <a:ea typeface="Times New Roman"/>
              </a:rPr>
              <a:t>Необходимый уровен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«хорошо», но не «отличн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9410"/>
                </a:solidFill>
                <a:latin typeface="Arial"/>
                <a:ea typeface="Times New Roman"/>
              </a:rPr>
              <a:t>Программный уровен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личн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аксимальный уровен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необязательный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превосходно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1484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И УСПЕШ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61080" y="1484280"/>
            <a:ext cx="42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 и 6-балльные ОТ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37080" y="2349360"/>
            <a:ext cx="36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О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СТЬЮ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8720" y="37195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О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СТЬЮ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4000" y="5084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О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СТЬЮ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350028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8000" y="47242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16280"/>
            <a:ext cx="88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5928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8D5-DBAD-4841-A8EB-74E2DC4B24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843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9410"/>
                </a:solidFill>
                <a:latin typeface="Arial"/>
              </a:rPr>
              <a:t>Предметные контрольные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бщий вид заданий в новых контрольных работах (с 3-го класса):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ормулировка зад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казание проверяемого </a:t>
            </a:r>
            <a:r>
              <a:rPr b="1" i="1" lang="ru-RU" sz="3000" spc="-1" strike="noStrike">
                <a:solidFill>
                  <a:srgbClr val="299410"/>
                </a:solidFill>
                <a:latin typeface="Arial"/>
              </a:rPr>
              <a:t>умен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из требований програм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b03f5"/>
                </a:solidFill>
                <a:latin typeface="Arial"/>
              </a:rPr>
              <a:t>Необходим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стандартная задача – «хорошо», но не «отлично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9410"/>
                </a:solidFill>
                <a:latin typeface="Arial"/>
              </a:rPr>
              <a:t>Программн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тандартна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ча – «отлично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Максимальн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адача сверхуровня школьных требований данного возраста – «превосходно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07E-AD4F-471E-A517-2A81A78E7D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03f5"/>
                </a:solidFill>
                <a:latin typeface="Arial"/>
              </a:rPr>
              <a:t>Итоговые оценки и отметки (за четверть и т.п.) рекомендуется определять не за отрезок учебного года (число уроков четверти), а за учебный модуль (блок тем), который изучали в этот пери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ая оц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ся в характеристике продемонстрированного учеником на данном отрезке времени уровня возмож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ая отме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показатель уровня обученности. Она высчитывается как среднеарифметическое текущих отметок, выставленных с  согласия ученика, и обязательных отметок за проверочные и контрольные работы с учетом их возможной перес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79280" y="-27000"/>
            <a:ext cx="87854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авило 7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Итоговые оценка и отметка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C2C-8F2D-47DD-AE04-FEA68EC1FF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72400" y="321480"/>
            <a:ext cx="8070120" cy="59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В ЗАКЛЮЧЕНИ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Оценка и отметка всегда считались монополией учителя, а развитие самооценки </a:t>
            </a:r>
            <a:r>
              <a:rPr b="0" lang="en-US" sz="3300" spc="-1" strike="noStrike">
                <a:solidFill>
                  <a:srgbClr val="330066"/>
                </a:solidFill>
                <a:latin typeface="Arial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 чем-то «дополнительным и необязательным». Если мы хотим помочь нашим детям стать самостоятельными, давайте учить их свободе решений и ответственности за свой выбор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Развитие самооценки потребует от вас дополнительных усилий, но вскоре вы увидите, как дети станут другими! Как показала практика, они говорят: «Теперь понятно, зачем мы учимся!» и «Я больше не боюсь отвечать, потому что учитель со мной советуется!»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693-13EA-45D5-B897-4205509DC2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ИСПОЛЬЗОВАТЬ ОТМЕТКИ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2511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ТРАДИ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Пят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алльная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ление учеников на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отличников, двоечников…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верка труда учителя по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«накопляемости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мет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66920" y="1557360"/>
            <a:ext cx="4848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b03f5"/>
                </a:solidFill>
                <a:latin typeface="Arial"/>
              </a:rPr>
              <a:t>ТИПИЧНЫЕ ФРАЗ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Реально баллов у нас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четыре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5, 4, 3, 2), допустимых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три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а положительных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два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5 и 4)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Твоя четверка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принципиально отличается от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его четверки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Сегодня поставлю два, завтра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вообще замолчит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, «Старался больше, а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все равн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вышло два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08360" y="501336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4170240" y="155232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B3A-7D1D-415D-A942-CCEC2B353F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ДЕ И КАК ФИКСИРОВАТЬ РЕЗУЛЬТАТЫ КОНТРОЛЯ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672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ТРЕБОВАНИЯ ГОССТАНДАР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 каждому предмет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Знать/понимать: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краткий перече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Уметь: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много формулировок конкретных действ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Использовать в деятельности: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много формулировок конкретных действ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6920" y="1557360"/>
            <a:ext cx="4848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ТРАДИЦИИ ФИКСАЦИИ РЕЗУЛЬТАТОВ КОНТРОЛЯ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 официальном журнале мы видим отметку за «такое-то 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числ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, когда изучалась «такая-то 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тема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, но задание могло быть и по пройденно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За чт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конкретн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мой ребенок получил эту отметку?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Что именн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ему надо доработать?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24360" y="498636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4381560" y="150948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3B9-52A2-4FCD-877F-0AF2FCE9CC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РАЗВИВАТЬ САМООЦЕНКУ ШКОЛЬНИКОВ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2971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ТРАДИЦ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читель «</a:t>
            </a:r>
            <a:r>
              <a:rPr b="1" lang="en-US" sz="2200" spc="-1" strike="noStrike">
                <a:solidFill>
                  <a:srgbClr val="f13009"/>
                </a:solidFill>
                <a:latin typeface="Arial"/>
              </a:rPr>
              <a:t>стави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отметки», ученики «</a:t>
            </a:r>
            <a:r>
              <a:rPr b="1" lang="en-US" sz="2200" spc="-1" strike="noStrike">
                <a:solidFill>
                  <a:srgbClr val="f13009"/>
                </a:solidFill>
                <a:latin typeface="Arial"/>
              </a:rPr>
              <a:t>получаю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отметки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13009"/>
                </a:solidFill>
                <a:latin typeface="Arial"/>
              </a:rPr>
              <a:t>Учитель указыва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на ошибки и на необходимость их исправления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03640" y="1267920"/>
            <a:ext cx="57117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928080" indent="0" algn="ctr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b03f5"/>
                </a:solidFill>
                <a:latin typeface="Arial"/>
              </a:rPr>
              <a:t>ГОССТАНДАРТ,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УЧЕБНЫЕ </a:t>
            </a:r>
            <a:r>
              <a:rPr b="1" lang="en-US" sz="2500" spc="-1" strike="noStrike">
                <a:solidFill>
                  <a:srgbClr val="2b03f5"/>
                </a:solidFill>
                <a:latin typeface="Arial"/>
              </a:rPr>
              <a:t>УМЕНИЯ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УЧЕНИКОВ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НАЧ.ШКОЛ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Опреде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пособов контроля 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оцен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деятельности (ответ на вопросы «Такой ли получен результат?», «Правильно ли это делается?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ение причин возникающих трудностей, путей их устранения; предвидение трудностей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нахождение ошиб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работе и их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рав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352680" y="502920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3809880" y="155232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CBE-07BB-4877-8E25-EC29F1AC61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СОХРАНИТЬ ЗДОРОВЬЕ НАШИХ ДЕТЕЙ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49040"/>
            <a:ext cx="3898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ИЗ ЦЕЛЕЙ ГОССТАНДАРТ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 НАЧАЛЬНОЙ ШКОЛЕ: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хран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и укрепление физического и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психического здоровь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де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4360" y="1719000"/>
            <a:ext cx="463068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ТРАДИЦИИ ОЦЕНИВАНИЯ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К доске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сейчас пойдет…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Тому, кто с этим не справится, 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влепят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пару»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Не ставьте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мне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, я исправлю!!!...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284720" y="508464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4716360" y="155232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985-431B-4FB1-9907-2FFAE82C9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13009"/>
                </a:solidFill>
                <a:latin typeface="Arial"/>
              </a:rPr>
              <a:t>ПРОБЛЕМЫ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197000"/>
            <a:ext cx="85690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овые образовательные цели не проверяются старыми контрольно измерительными материа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Традиционная фиксация в журнале не позволяет увидеть соответствие треб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ятибалльные отметки не отражают всего разнообразия качествен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Традиции оценивания не позволяют развивать самооценку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Традиции оценивания дискомфортны для учеников, отрицательно влияют на их мотив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0A6-E394-4F01-B45A-9CBE2CEA10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2040" y="248040"/>
            <a:ext cx="8144640" cy="458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САМОЕ ГЛАВНОЕ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О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ТЕХНОЛОГИИ ОЦЕНИВАНИЯ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«ШКОЛЫ 2100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8AB-7795-461E-8058-0994631AC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4:32:40Z</dcterms:created>
  <dc:creator>Шура</dc:creator>
  <dc:description/>
  <dc:language>en-US</dc:language>
  <cp:lastModifiedBy>M</cp:lastModifiedBy>
  <dcterms:modified xsi:type="dcterms:W3CDTF">2010-03-04T11:58:05Z</dcterms:modified>
  <cp:revision>135</cp:revision>
  <dc:subject/>
  <dc:title>Учебники Образовательной системы «Школа 2100»</dc:title>
</cp:coreProperties>
</file>