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gif" ContentType="image/gif"/>
  <Override PartName="/ppt/media/image2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DC0-1258-4216-91D8-01071997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943-4740-4B73-A7FB-F16D24EC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7DE-8841-4FE5-A5A6-A077C7A9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D2F-25CB-407A-B916-2D4E309E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8FBF-E90B-4222-B9A4-BC30FD55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F426-9C08-4231-A1F6-B64066E3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868D-EBA8-4811-9AAF-7452AE18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2D7B-5DA9-4740-B9E8-C90F8201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A462-6E9F-4CB4-933B-A3233A71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F8DA-960E-4800-A451-DFDC1E8A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1AF4-B5CD-404A-B06B-15A9E42B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ED4-F06E-4CF7-AC6A-B565B80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1F05-DA1C-499B-B601-4342C04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DC78-AB02-45DE-B302-2CE1D9A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8D59-F966-4C43-AB5D-3354156E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84D2-2B25-43B5-A49D-BF4C689C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8790-6AA6-4E2D-A85F-0F3B44A3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A0A-589D-4F31-942D-68328C8D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F7E-0E64-40FD-A17C-63751FAA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BC9-6B89-487D-AACA-9F14FD9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4AD-257B-4BA4-A5AD-AA9D67B8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A79-CC71-4D8B-8F03-EA25982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3E4-3463-4CFD-8610-2A82FBB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3B3-C34F-46FF-928D-F137949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72C9-86AA-45A1-B448-127DA718F0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8818-3CAA-4E49-B801-DCB724A60E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3399"/>
                </a:solidFill>
                <a:latin typeface="AnastasiaScript"/>
              </a:rPr>
              <a:t>Кислоты</a:t>
            </a:r>
            <a:r>
              <a:rPr b="0" lang="en-US" sz="15000" spc="-1" strike="noStrike">
                <a:solidFill>
                  <a:srgbClr val="ff3399"/>
                </a:solidFill>
                <a:latin typeface="AnastasiaScript"/>
              </a:rPr>
              <a:t>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4582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Сер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ходуется в больших количествах для производства минеральных удобрений, красителей, химических волокон, пластмасс, лекарственных веществ. Используется для извлечения металлов из руд; заполнения кислотных аккумуляторов. Находит применение в нефтяной промышленности для очистки нефтепродукто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4191120" cy="3592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3086280"/>
            <a:ext cx="483876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Фосфор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спользуется в составах для обезжиривания металлических поверхностей перед нанесением защитных покрытий, входит в состав композиций для преобразования ржавчины перед покраской, применяется для защиты от коррозии трубопроводов, прокачивающих морскую воду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4193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Соля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широко применяется в нефтяной промышленности для обработки призабойных зон скважин с целью увеличения нефтеотдачи пластов, используется в составах травильных растворов для удаления ржавчины и отложений в трубопроводах и скважинах, а также как отвердитель фенол-формальдегидных см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504960" cy="3351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449280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nastasiaScript"/>
              </a:rPr>
              <a:t>Интересные факты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крокод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желудке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вает меньше 0,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2754360"/>
            <a:ext cx="762012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емное животное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голый землеко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еет нечувствительные к кислоте клетки кожи даже при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нее 3,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696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99"/>
                </a:solidFill>
                <a:latin typeface="AnastasiaScript"/>
              </a:rPr>
              <a:t> </a:t>
            </a:r>
            <a:r>
              <a:rPr b="0" lang="ru-RU" sz="7200" spc="-1" strike="noStrike">
                <a:solidFill>
                  <a:srgbClr val="ff3399"/>
                </a:solidFill>
                <a:latin typeface="AnastasiaScript"/>
              </a:rPr>
              <a:t>Что такое кислоты </a:t>
            </a:r>
            <a:r>
              <a:rPr b="0" i="1" lang="ru-RU" sz="4000" spc="-1" strike="noStrike">
                <a:solidFill>
                  <a:srgbClr val="ff3399"/>
                </a:solidFill>
                <a:latin typeface="Arial Unicode MS"/>
              </a:rPr>
              <a:t>?</a:t>
            </a:r>
            <a:r>
              <a:rPr b="0" lang="ru-RU" sz="7200" spc="-1" strike="noStrike">
                <a:solidFill>
                  <a:srgbClr val="ff3399"/>
                </a:solidFill>
                <a:latin typeface="AnastasiaScript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3399"/>
                </a:solidFill>
                <a:latin typeface="AnastasiaScript"/>
              </a:rPr>
              <a:t>     </a:t>
            </a:r>
            <a:r>
              <a:rPr b="0" lang="ru-RU" sz="6700" spc="-1" strike="noStrike">
                <a:solidFill>
                  <a:srgbClr val="ff3399"/>
                </a:solidFill>
                <a:latin typeface="AnastasiaScript"/>
              </a:rPr>
              <a:t>Кислоты</a:t>
            </a:r>
            <a:r>
              <a:rPr b="0" lang="en-US" sz="6700" spc="-1" strike="noStrike">
                <a:solidFill>
                  <a:srgbClr val="ff3399"/>
                </a:solidFill>
                <a:latin typeface="AnastasiaScript"/>
              </a:rPr>
              <a:t> -</a:t>
            </a:r>
            <a:r>
              <a:rPr b="0" lang="ru-RU" sz="6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ложные вещества, в состав которых обычно входят атомы водорода, способные замещаться на атомы металлов, и кислотный остаток. Водные растворы кислот имеют кислый вкус, обладают раздражающим действием, способны менять окраску индикаторов, отличаются рядом общих химических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177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ранцузский химик </a:t>
            </a:r>
            <a:r>
              <a:rPr b="0" lang="ru-RU" sz="2800" spc="-1" strike="noStrike">
                <a:solidFill>
                  <a:srgbClr val="ff3399"/>
                </a:solidFill>
                <a:latin typeface="Arial"/>
              </a:rPr>
              <a:t>Антуан Лавуазь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положил, что кислотные свойства обусловлены наличием в молекуле атомов кислорода. Эта гипотеза быстро доказала свою несостоятельность, так как многие кислоты не имеют в своём составе кислорода, в то время как многие кислородсодержащие соединения не проявляют кислотных свойств. Тем не менее, именно эта гипотеза дала название кислороду как химическому элем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3557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181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183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мецкий химик </a:t>
            </a:r>
            <a:r>
              <a:rPr b="0" lang="ru-RU" sz="3200" spc="-1" strike="noStrike">
                <a:solidFill>
                  <a:srgbClr val="ff3399"/>
                </a:solidFill>
                <a:latin typeface="Arial"/>
              </a:rPr>
              <a:t>Юстус Либ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л такое определение кислот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кисло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— это водородосодержащее соединение, водород которого может быть замещён на металл с образованием со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88040" y="152280"/>
            <a:ext cx="36669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49528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ую попытку создать общую теорию кислот и оснований предпринял шведский физикохимик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Сванте Аррениу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его теории, сформулированной в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18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а — это соединение, диссоциирующее в водном растворе с образованием протонов (ионов водорода H+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ория Аррениуса быстро показала свою ограниченность, она не могла объяснить многих экспериментальных фактов. В наше время она имеет главным образом историческое и педагогическое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61080" y="838080"/>
            <a:ext cx="41367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588320" y="125280"/>
            <a:ext cx="5968440" cy="6667200"/>
            <a:chOff x="1588320" y="125280"/>
            <a:chExt cx="5968440" cy="6667200"/>
          </a:xfrm>
        </p:grpSpPr>
        <p:sp>
          <p:nvSpPr>
            <p:cNvPr id="105" name="_s36905"/>
            <p:cNvSpPr/>
            <p:nvPr/>
          </p:nvSpPr>
          <p:spPr>
            <a:xfrm flipH="1" flipV="1">
              <a:off x="3383280" y="2508120"/>
              <a:ext cx="59544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6904"/>
            <p:cNvSpPr/>
            <p:nvPr/>
          </p:nvSpPr>
          <p:spPr>
            <a:xfrm>
              <a:off x="2029680" y="110412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содержан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ислорода 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Бескислород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Cl, H2S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ислородосодержащ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NO3,H2SO4).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6903"/>
            <p:cNvSpPr/>
            <p:nvPr/>
          </p:nvSpPr>
          <p:spPr>
            <a:xfrm flipH="1">
              <a:off x="3088800" y="3781080"/>
              <a:ext cx="744120" cy="19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6902"/>
            <p:cNvSpPr/>
            <p:nvPr/>
          </p:nvSpPr>
          <p:spPr>
            <a:xfrm>
              <a:off x="1588320" y="329904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По растворимо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в вод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Раствори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(H2SO4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Нераствори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(H2SiO3);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6901"/>
            <p:cNvSpPr/>
            <p:nvPr/>
          </p:nvSpPr>
          <p:spPr>
            <a:xfrm flipH="1">
              <a:off x="3913200" y="4365720"/>
              <a:ext cx="33048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6900"/>
            <p:cNvSpPr/>
            <p:nvPr/>
          </p:nvSpPr>
          <p:spPr>
            <a:xfrm>
              <a:off x="2821680" y="506160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летуче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Летучие (H2S, HCl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летучие (H2SO4) ;</a:t>
              </a:r>
              <a:r>
                <a:rPr b="0" lang="ru-RU" sz="17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6899"/>
            <p:cNvSpPr/>
            <p:nvPr/>
          </p:nvSpPr>
          <p:spPr>
            <a:xfrm>
              <a:off x="4902480" y="4365720"/>
              <a:ext cx="330480" cy="78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6898"/>
            <p:cNvSpPr/>
            <p:nvPr/>
          </p:nvSpPr>
          <p:spPr>
            <a:xfrm>
              <a:off x="4802760" y="5061600"/>
              <a:ext cx="152064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принадлежности к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ласса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химических соединен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органические (HBr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Органическ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HCOOH,CH3COOH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6897"/>
            <p:cNvSpPr/>
            <p:nvPr/>
          </p:nvSpPr>
          <p:spPr>
            <a:xfrm>
              <a:off x="5311800" y="3778560"/>
              <a:ext cx="74448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6896"/>
            <p:cNvSpPr/>
            <p:nvPr/>
          </p:nvSpPr>
          <p:spPr>
            <a:xfrm>
              <a:off x="6036120" y="3299040"/>
              <a:ext cx="1520640" cy="173160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По устойчивост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Устойчивые (H2SO4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99"/>
                  </a:solidFill>
                  <a:latin typeface="Arial"/>
                </a:rPr>
                <a:t>Неустойчивые (H2CO3)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36895"/>
            <p:cNvSpPr/>
            <p:nvPr/>
          </p:nvSpPr>
          <p:spPr>
            <a:xfrm flipV="1">
              <a:off x="5164560" y="2508480"/>
              <a:ext cx="597960" cy="54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6894"/>
            <p:cNvSpPr/>
            <p:nvPr/>
          </p:nvSpPr>
          <p:spPr>
            <a:xfrm>
              <a:off x="5594760" y="110160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сил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Сильные — диссоциирую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рактически полностью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онстанты диссоциац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больше 1×10−3 (HNO3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Слабые — констант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иссоциации меньше 1×10−3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(уксусная кислот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Kд= 1,7×10−5)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36893"/>
            <p:cNvSpPr/>
            <p:nvPr/>
          </p:nvSpPr>
          <p:spPr>
            <a:xfrm flipV="1">
              <a:off x="4571640" y="1856160"/>
              <a:ext cx="0" cy="86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6892"/>
            <p:cNvSpPr/>
            <p:nvPr/>
          </p:nvSpPr>
          <p:spPr>
            <a:xfrm>
              <a:off x="3810960" y="12528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 основности —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оличество кисл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атомов водород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Одноосновные (HNO3)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вухосновные (H2SeO4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двухосновные преде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карбоновые кислоты)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Трёхосновные (H3PO4, H3BO3)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Полиосновные (практичес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ff3399"/>
                  </a:solidFill>
                  <a:latin typeface="Arial"/>
                </a:rPr>
                <a:t>не встречаются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6891"/>
            <p:cNvSpPr/>
            <p:nvPr/>
          </p:nvSpPr>
          <p:spPr>
            <a:xfrm>
              <a:off x="3810960" y="2724840"/>
              <a:ext cx="1521360" cy="1730880"/>
            </a:xfrm>
            <a:prstGeom prst="ellipse">
              <a:avLst/>
            </a:prstGeom>
            <a:solidFill>
              <a:srgbClr val="ffe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Arial"/>
                </a:rPr>
                <a:t>Класс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99"/>
                  </a:solidFill>
                  <a:latin typeface="Arial"/>
                </a:rPr>
                <a:t>кисл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10280" y="5056200"/>
            <a:ext cx="2133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Химические свойства кисло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основными оксидами с образованием соли и во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амфотерными оксидами с образованием соли и во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о щелочами с образованием соли и вод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еакция нейтрализац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нерастворимыми основаниями с образованием соли и воды, если полученная соль раствор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е с солями, если выпадает осадок или выделяется газ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е кислоты вытесняют более слабые из их со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3352680" cy="27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3490920"/>
            <a:ext cx="3886200" cy="249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6680" y="4937040"/>
            <a:ext cx="4572000" cy="250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066680" y="4330800"/>
            <a:ext cx="4496040" cy="261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143000" y="2705040"/>
            <a:ext cx="4419720" cy="28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066680" y="6002280"/>
            <a:ext cx="4876920" cy="23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143000" y="5613480"/>
            <a:ext cx="44956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Химические свойства кислот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ллы, стоящие в ряду активности до водорода, вытесняют его из раствора кислоты (кроме азотной кислоты   любой концентрации и концентрированной серной кислоты  ), если образующаяся соль раствор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азотной кислотой и концентрированной серной кислотами реакция идёт инач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рганических кислот характерна реакция этерификации (взаимодействие со спиртами с образованием сложного эфира и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6019920"/>
            <a:ext cx="5715000" cy="233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5943600" cy="241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5334120" cy="260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38080" y="2743200"/>
            <a:ext cx="3886200" cy="268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6858000" y="4626000"/>
            <a:ext cx="2286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nastasiaScript"/>
              </a:rPr>
              <a:t>Кислоты в нашей жизни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Азотная кисл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око используется для производства удобрений, красителей, лаков, пластмасс, лекарственных и взрывчатых веществ, а также химических волокон. 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3594240"/>
            <a:ext cx="4267440" cy="284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40003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pHits™</cp:lastModifiedBy>
  <dcterms:modified xsi:type="dcterms:W3CDTF">2012-02-07T16:24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