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gif" ContentType="image/gif"/>
  <Override PartName="/ppt/media/image25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E6E-E093-4D1D-8F25-4CC0309D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7AC-1E6B-4A2A-8411-B0CBF4DF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5705-6F71-4601-87A9-9657707F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8D6-75F9-4AF8-A2EB-84195512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E887-379B-4B75-8BFC-8FAB3073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838C-8808-4E81-AAF2-CD5AE80B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FCB6-370E-4AE6-85F5-7DBCE68F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F6AB-BA4B-445F-ADC7-18E8BA96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E29B-0BF0-4692-A761-D5336A73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7DDD-E316-43DD-A463-7B8F76B9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1111-C4FE-4EAA-B945-EA527440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44B-3016-4CDF-9B14-02B357EB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7D6E-814E-4C62-B359-C920D88E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2EB1-87C0-4FC1-9DCE-A75AE063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CBAA-3666-44E5-BDBC-2D39919A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05C6-42ED-42F7-BFE9-F7157319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D37F-2015-46AB-A36C-C6960197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657-5E8A-44A1-B80E-31762939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019-EBA9-4F0C-B401-EBC47CE7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676-107F-4970-A91B-570A5F86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319-39B4-4E7F-A5AB-34943446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7C4-D478-4AE0-817B-19EF368A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617-904B-40AB-9E72-6698D956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6861-9610-488D-BA24-B667ECAF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2F5B-F9FC-4E60-A5D1-078EF6AC46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B210-8725-4787-974C-E34585CC74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17521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3399"/>
                </a:solidFill>
                <a:latin typeface="AnastasiaScript"/>
              </a:rPr>
              <a:t>Кислоты</a:t>
            </a:r>
            <a:r>
              <a:rPr b="0" lang="en-US" sz="15000" spc="-1" strike="noStrike">
                <a:solidFill>
                  <a:srgbClr val="ff3399"/>
                </a:solidFill>
                <a:latin typeface="AnastasiaScript"/>
              </a:rPr>
              <a:t>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Серная кисл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сходуется в больших количествах для производства минеральных удобрений, красителей, химических волокон, пластмасс, лекарственных веществ. Используется для извлечения металлов из руд; заполнения кислотных аккумуляторов. Находит применение в нефтяной промышленности для очистки нефтепродуктов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191120" cy="3592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3086280"/>
            <a:ext cx="483876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Фосфорная кисл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спользуется в составах для обезжиривания металлических поверхностей перед нанесением защитных покрытий, входит в состав композиций для преобразования ржавчины перед покраской, применяется для защиты от коррозии трубопроводов, прокачивающих морскую воду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44193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Соляная кисл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ироко применяется в нефтяной промышленности для обработки призабойных зон скважин с целью увеличения нефтеотдачи пластов, используется в составах травильных растворов для удаления ржавчины и отложений в трубопроводах и скважинах, а также как отвердитель фенол-формальдегидных см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3504960" cy="3351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4492800" cy="38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99"/>
                </a:solidFill>
                <a:latin typeface="AnastasiaScript"/>
              </a:rPr>
              <a:t>Интересные факты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крокоди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желудке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p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ывает меньше 0,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9480" y="2754360"/>
            <a:ext cx="762012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земное животное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голый землеко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еет нечувствительные к кислоте клетки кожи даже при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p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нее 3,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6960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99"/>
                </a:solidFill>
                <a:latin typeface="AnastasiaScript"/>
              </a:rPr>
              <a:t> </a:t>
            </a:r>
            <a:r>
              <a:rPr b="0" lang="ru-RU" sz="7200" spc="-1" strike="noStrike">
                <a:solidFill>
                  <a:srgbClr val="ff3399"/>
                </a:solidFill>
                <a:latin typeface="AnastasiaScript"/>
              </a:rPr>
              <a:t>Что такое кислоты </a:t>
            </a:r>
            <a:r>
              <a:rPr b="0" i="1" lang="ru-RU" sz="4000" spc="-1" strike="noStrike">
                <a:solidFill>
                  <a:srgbClr val="ff3399"/>
                </a:solidFill>
                <a:latin typeface="Arial Unicode MS"/>
              </a:rPr>
              <a:t>?</a:t>
            </a:r>
            <a:r>
              <a:rPr b="0" lang="ru-RU" sz="7200" spc="-1" strike="noStrike">
                <a:solidFill>
                  <a:srgbClr val="ff3399"/>
                </a:solidFill>
                <a:latin typeface="AnastasiaScript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3399"/>
                </a:solidFill>
                <a:latin typeface="AnastasiaScript"/>
              </a:rPr>
              <a:t>     </a:t>
            </a:r>
            <a:r>
              <a:rPr b="0" lang="ru-RU" sz="6700" spc="-1" strike="noStrike">
                <a:solidFill>
                  <a:srgbClr val="ff3399"/>
                </a:solidFill>
                <a:latin typeface="AnastasiaScript"/>
              </a:rPr>
              <a:t>Кислоты</a:t>
            </a:r>
            <a:r>
              <a:rPr b="0" lang="en-US" sz="6700" spc="-1" strike="noStrike">
                <a:solidFill>
                  <a:srgbClr val="ff3399"/>
                </a:solidFill>
                <a:latin typeface="AnastasiaScript"/>
              </a:rPr>
              <a:t> -</a:t>
            </a:r>
            <a:r>
              <a:rPr b="0" lang="ru-RU" sz="6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ложные вещества, в состав которых обычно входят атомы водорода, способные замещаться на атомы металлов, и кислотный остаток. Водные растворы кислот имеют кислый вкус, обладают раздражающим действием, способны менять окраску индикаторов, отличаются рядом общих химических свой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177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ранцузский химик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Антуан Лавуазь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положил, что кислотные свойства обусловлены наличием в молекуле атомов кислорода. Эта гипотеза быстро доказала свою несостоятельность, так как многие кислоты не имеют в своём составе кислорода, в то время как многие кислородсодержащие соединения не проявляют кислотных свойств. Тем не менее, именно эта гипотеза дала название кислороду как химическому элемен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10080" y="3124080"/>
            <a:ext cx="3557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181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183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мецкий химик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Юстус Либ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ал такое определение кислота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кисло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— это водородосодержащее соединение, водород которого может быть замещён на металл с образованием со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88040" y="152280"/>
            <a:ext cx="36669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0"/>
            <a:ext cx="4952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ую попытку создать общую теорию кислот и оснований предпринял шведский физикохимик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Сванте Аррениу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но его теории, сформулированной в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188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а — это соединение, диссоциирующее в водном растворе с образованием протонов (ионов водорода H+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Теория Аррениуса быстро показала свою ограниченность, она не могла объяснить многих экспериментальных фактов. В наше время она имеет главным образом историческое и педагогическое 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61080" y="838080"/>
            <a:ext cx="41367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1588320" y="125280"/>
            <a:ext cx="5968440" cy="6667200"/>
            <a:chOff x="1588320" y="125280"/>
            <a:chExt cx="5968440" cy="6667200"/>
          </a:xfrm>
        </p:grpSpPr>
        <p:sp>
          <p:nvSpPr>
            <p:cNvPr id="105" name="_s36905"/>
            <p:cNvSpPr/>
            <p:nvPr/>
          </p:nvSpPr>
          <p:spPr>
            <a:xfrm flipH="1" flipV="1">
              <a:off x="3383280" y="2508120"/>
              <a:ext cx="59544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6904"/>
            <p:cNvSpPr/>
            <p:nvPr/>
          </p:nvSpPr>
          <p:spPr>
            <a:xfrm>
              <a:off x="2029680" y="1104120"/>
              <a:ext cx="1520640" cy="1731600"/>
            </a:xfrm>
            <a:prstGeom prst="ellipse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По содержани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кислорода 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Бескислородн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(HCl, H2S)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Кислородосодержащ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(HNO3,H2SO4).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36903"/>
            <p:cNvSpPr/>
            <p:nvPr/>
          </p:nvSpPr>
          <p:spPr>
            <a:xfrm flipH="1">
              <a:off x="3088800" y="3781080"/>
              <a:ext cx="744120" cy="19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36902"/>
            <p:cNvSpPr/>
            <p:nvPr/>
          </p:nvSpPr>
          <p:spPr>
            <a:xfrm>
              <a:off x="1588320" y="3299040"/>
              <a:ext cx="1520640" cy="1731600"/>
            </a:xfrm>
            <a:prstGeom prst="ellipse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По растворимост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в вод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Растворим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(H2SO4)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Нерастворим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(H2SiO3);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6901"/>
            <p:cNvSpPr/>
            <p:nvPr/>
          </p:nvSpPr>
          <p:spPr>
            <a:xfrm flipH="1">
              <a:off x="3913200" y="4365720"/>
              <a:ext cx="330480" cy="78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36900"/>
            <p:cNvSpPr/>
            <p:nvPr/>
          </p:nvSpPr>
          <p:spPr>
            <a:xfrm>
              <a:off x="2821680" y="5061600"/>
              <a:ext cx="1521360" cy="1730880"/>
            </a:xfrm>
            <a:prstGeom prst="ellipse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По летучест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Летучие (H2S, HCl)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Нелетучие (H2SO4) ;</a:t>
              </a:r>
              <a:r>
                <a:rPr b="0" lang="ru-RU" sz="1700" spc="-1" strike="noStrike">
                  <a:solidFill>
                    <a:srgbClr val="ff3399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36899"/>
            <p:cNvSpPr/>
            <p:nvPr/>
          </p:nvSpPr>
          <p:spPr>
            <a:xfrm>
              <a:off x="4902480" y="4365720"/>
              <a:ext cx="330480" cy="78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36898"/>
            <p:cNvSpPr/>
            <p:nvPr/>
          </p:nvSpPr>
          <p:spPr>
            <a:xfrm>
              <a:off x="4802760" y="5061600"/>
              <a:ext cx="1520640" cy="1730880"/>
            </a:xfrm>
            <a:prstGeom prst="ellipse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По принадлежности к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класса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химических соединени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Неорганические (HBr)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Органическ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(HCOOH,CH3COOH)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36897"/>
            <p:cNvSpPr/>
            <p:nvPr/>
          </p:nvSpPr>
          <p:spPr>
            <a:xfrm>
              <a:off x="5311800" y="3778560"/>
              <a:ext cx="74448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6896"/>
            <p:cNvSpPr/>
            <p:nvPr/>
          </p:nvSpPr>
          <p:spPr>
            <a:xfrm>
              <a:off x="6036120" y="3299040"/>
              <a:ext cx="1520640" cy="1731600"/>
            </a:xfrm>
            <a:prstGeom prst="ellipse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По устойчивост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Устойчивые (H2SO4)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Неустойчивые (H2CO3)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6895"/>
            <p:cNvSpPr/>
            <p:nvPr/>
          </p:nvSpPr>
          <p:spPr>
            <a:xfrm flipV="1">
              <a:off x="5164560" y="2508480"/>
              <a:ext cx="597960" cy="54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6894"/>
            <p:cNvSpPr/>
            <p:nvPr/>
          </p:nvSpPr>
          <p:spPr>
            <a:xfrm>
              <a:off x="5594760" y="1101600"/>
              <a:ext cx="1521360" cy="1730880"/>
            </a:xfrm>
            <a:prstGeom prst="ellipse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По сил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Сильные — диссоциирую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практически полностью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константы диссоци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больше 1×10−3 (HNO3)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Слабые — констант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диссоциации меньше 1×10−3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(уксусная кислот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Kд= 1,7×10−5)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36893"/>
            <p:cNvSpPr/>
            <p:nvPr/>
          </p:nvSpPr>
          <p:spPr>
            <a:xfrm flipV="1">
              <a:off x="4571640" y="1856160"/>
              <a:ext cx="0" cy="86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36892"/>
            <p:cNvSpPr/>
            <p:nvPr/>
          </p:nvSpPr>
          <p:spPr>
            <a:xfrm>
              <a:off x="3810960" y="125280"/>
              <a:ext cx="1521360" cy="1730880"/>
            </a:xfrm>
            <a:prstGeom prst="ellipse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По основности —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количество кисл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атомов водород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Одноосновные (HNO3)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Двухосновные (H2SeO4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двухосновные предельн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карбоновые кислоты)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Трёхосновные (H3PO4, H3BO3)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Полиосновные (практичес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не встречаются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6891"/>
            <p:cNvSpPr/>
            <p:nvPr/>
          </p:nvSpPr>
          <p:spPr>
            <a:xfrm>
              <a:off x="3810960" y="2724840"/>
              <a:ext cx="1521360" cy="1730880"/>
            </a:xfrm>
            <a:prstGeom prst="ellipse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99"/>
                  </a:solidFill>
                  <a:latin typeface="Arial"/>
                </a:rPr>
                <a:t>Класс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99"/>
                  </a:solidFill>
                  <a:latin typeface="Arial"/>
                </a:rPr>
                <a:t>кисло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010280" y="5056200"/>
            <a:ext cx="2133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nastasiaScript"/>
              </a:rPr>
              <a:t>Химические свойства кислот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с основными оксидами с образованием соли и вод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с амфотерными оксидами с образованием соли и вод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со щелочами с образованием соли и вод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реакция нейтрализации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с нерастворимыми основаниями с образованием соли и воды, если полученная соль растворим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с солями, если выпадает осадок или выделяется газ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ые кислоты вытесняют более слабые из их сол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3352680" cy="27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143000" y="3490920"/>
            <a:ext cx="3886200" cy="249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066680" y="4937040"/>
            <a:ext cx="4572000" cy="250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066680" y="4330800"/>
            <a:ext cx="4496040" cy="261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143000" y="2705040"/>
            <a:ext cx="4419720" cy="281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066680" y="6002280"/>
            <a:ext cx="4876920" cy="23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143000" y="5613480"/>
            <a:ext cx="449568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nastasiaScript"/>
              </a:rPr>
              <a:t>Химические свойства кислот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аллы, стоящие в ряду активности до водорода, вытесняют его из раствора кислоты (кроме азотной кислоты   любой концентрации и концентрированной серной кислоты  ), если образующаяся соль раствори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азотной кислотой и концентрированной серной кислотами реакция идёт инач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органических кислот характерна реакция этерификации (взаимодействие со спиртами с образованием сложного эфира и воды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им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6019920"/>
            <a:ext cx="5715000" cy="233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5943600" cy="241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5334120" cy="260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38080" y="2743200"/>
            <a:ext cx="3886200" cy="268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858000" y="4626000"/>
            <a:ext cx="2286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nastasiaScript"/>
              </a:rPr>
              <a:t>Кислоты в нашей жизни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Азотная кисл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широко используется для производства удобрений, красителей, лаков, пластмасс, лекарственных и взрывчатых веществ, а также химических волокон. 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    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3594240"/>
            <a:ext cx="4267440" cy="284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400032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pHits™</cp:lastModifiedBy>
  <dcterms:modified xsi:type="dcterms:W3CDTF">2012-02-07T16:24:1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