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704-79F1-41C4-B4F5-9871F581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A29-979F-43FF-AFB3-2E6AD172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398-E7AA-41C9-90FF-1D8648A2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20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936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E87-6513-490C-9AFB-97C3D24E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504720"/>
            <a:ext cx="78058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CEB-D4F3-451F-ABBE-F096548D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104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020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936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DFB-59FA-4965-91B9-AE3BF1F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71040" y="504720"/>
            <a:ext cx="78058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7104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020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936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A13-EFD8-42BA-9869-89FFA22F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2FC-AD34-459A-85C8-8457A337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4720"/>
            <a:ext cx="78058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72A-2BF8-4D99-B5B9-887E0A5E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1ED-F0CB-41B5-856E-3123D80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741-47FD-4934-B988-B67B0A0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736-8AA2-424F-8981-CC4DE4A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5229F9-CE92-481E-8112-4E76D2A39D9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4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H:/&#1092;&#1086;&#1090;&#1086;%20&#1091;&#1083;&#1080;&#1094;/239h21x4g4zzq2c.jpg" TargetMode="External"/><Relationship Id="rId2" Type="http://schemas.openxmlformats.org/officeDocument/2006/relationships/hyperlink" Target="file:///H:/&#1092;&#1086;&#1090;&#1086;%20&#1091;&#1083;&#1080;&#1094;/265q2g2gj8dwce1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лицы Пер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 ученика 1б кла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ОУ «СОШ№10» г. ПЕР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городских Алексе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Чикилева Ирина Алексеев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Оханская (Г. Звезд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608200"/>
            <a:ext cx="4038480" cy="250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Кунгурская, Красный проспект, (Комсомольский проспек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57200" y="2502000"/>
            <a:ext cx="4267080" cy="258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403848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ица Красноуфимская (Куйбыш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2830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241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ьше на юго-запад улицы шли в следующем поряд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матовская (Поп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бурская (Свердловска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дринская (Борчанин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рбитская (Матрос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мышловская (Крисан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рмаковская (Решетник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армская (Плехан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юхановская (Толмаче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ьняя (Хохряков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ый план старой части Перми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43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85680" indent="-52848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шилова Е.  «Старая Пермь». - Издательство «Курсив», Пермь 199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2848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хайлюк В.  «Город мой Пермь». – Пермь, 1973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2848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ехин А.С.  «Пермь: Очерки архитектуры». – Пермь,1980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2848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графии из личного архива нашей сем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None/>
              <a:tabLst>
                <a:tab algn="l" pos="0"/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 и задач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8055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rmAutofit/>
          </a:bodyPr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место, где зародился город Перм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ить этапы развития улиц гор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комится с планировкой улиц Перми в 19 ве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знать исторические названия улиц в старой части гор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авнить внешний вид улиц в начале века и их современный обл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место предисло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723году в устье реки Ягошиха (река текущая в медвежьем бору) был основан Ягошихинский медеплавильный за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ный городок Ягошиха первоначально насчитывал 9 домов, к 1735 году их было уже 111,1726 году был освещена первая деревяная церковь Перми  им. апостолов Петра и Пав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редине 30х годов 18 века в Прикамье были построены Юго-Осокинский, Курашимский, Висимский, Мотовилихинские, Верхне- и Нижне-Юговские заводы, Егошихинский медеплавильный завод оказался в центре этой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745г, где ныне стоит вокзал Пермь 1, был построен деревянный гостинный двор, образовалась первая незаводская улиц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ул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45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759году случился пожар, почти все дома сгорели, остались лишь каменное здание завода и строящаяся каменная церков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0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коре после пожара от Петропавловской площади появились первые небольшие улочк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жня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ыне Советская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динн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ныне Петропавловская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хня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ыне Ленина). Их дома были построены без особого порядка и занимали место в один квартал между современными улицами Клименко и Н. Островского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:\фото улиц\239h21x4g4zzq2c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:\фото улиц\265q2g2gj8dwce1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3962160" cy="260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396216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убернский город Перм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 октября 1781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ала указ: «Уважая выгодность положения Егошихинского завода (…), предписываем город губернский для Пермского наместничества назначить в сем месте, наименовав оный Перм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м губернатором был назначен генерал-порутчик Евгений Петрович Кашин. Под его руководством началось строительство Пер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пожара 1759 года рабочая слободка, которая занимала место по обеим сторонам реки Егошиха, переселилась повыше, на площадь, которая получила название Заводской (Разгуля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сь город делился на улицы (односторонние улицы назывались линиями) и проулки-переулки. Улицы и линии шли вдоль реки Ка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еречные короткие улочки назывались проул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города Перми 19 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Монастырская (Орджоникидз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191120" cy="277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Петропавловск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267080" cy="262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65760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Сибир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280" y="2333520"/>
            <a:ext cx="4572000" cy="3144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16T18:51:2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