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14E-A037-48AC-8125-190CDAE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8FF-FDE7-44A6-A599-EABF33A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15D-B101-49C1-B626-9C621F00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849-471E-4835-880B-B04E8F23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9D0-2E97-46BE-A46B-B70C92E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162-03DB-41D6-AF01-CA1C04D5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020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9360" y="19062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7104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020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9360" y="8105400"/>
            <a:ext cx="2513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86E-4CBC-48E5-A380-472A977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0EB-5CC7-42EC-8DDB-33B2297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4720"/>
            <a:ext cx="780588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76E-2A19-450E-AB12-CFC1E21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640-323E-4B11-B38E-E642F81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81054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1FD-184E-4897-AC96-CBB3959A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906200"/>
            <a:ext cx="380916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8105400"/>
            <a:ext cx="7805880" cy="56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373-9157-4EF1-8A63-E68544E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6478E4-6415-4804-9534-1B12AA712CA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03280"/>
            <a:ext cx="780444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4440" cy="11866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5880" cy="11868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H:/&#1092;&#1086;&#1090;&#1086;%20&#1091;&#1083;&#1080;&#1094;/239h21x4g4zzq2c.jpg" TargetMode="External"/><Relationship Id="rId2" Type="http://schemas.openxmlformats.org/officeDocument/2006/relationships/hyperlink" Target="file:///H:/&#1092;&#1086;&#1090;&#1086;%20&#1091;&#1083;&#1080;&#1094;/265q2g2gj8dwce1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лицы Пер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 ученика 1б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ОУ «СОШ№10» г. ПЕР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городских Алексе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Чикилева Ирина Алексеев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Оханская (Г. Звезд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57200" y="2608200"/>
            <a:ext cx="4038480" cy="2508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Кунгурская, Красный проспект, (Комсомольский проспек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57200" y="2502000"/>
            <a:ext cx="4267080" cy="258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403848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ица Красноуфимская (Куйбыш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283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ше на юго-запад улицы шли в следующем порядк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матовская (Поп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бурская (Свердловска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дринская (Борчани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рбитская (Матрос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мышловская (Криса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рмаковская (Решетник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армская (Плехано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рюхановская (Толмачев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148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льняя (Хохряков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5000"/>
              </a:lnSpc>
              <a:spcBef>
                <a:spcPts val="601"/>
              </a:spcBef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й план старой части Перми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43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ая литерату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ешилова Е.  «Старая Пермь». - Издательство «Курсив», Пермь 1999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хайлюк В.  «Город мой Пермь». – Пермь, 1973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рехин А.С.  «Пермь: Очерки архитектуры». – Пермь,1980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2848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тографии из личного архива нашей сем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0">
              <a:lnSpc>
                <a:spcPct val="95000"/>
              </a:lnSpc>
              <a:spcBef>
                <a:spcPts val="499"/>
              </a:spcBef>
              <a:spcAft>
                <a:spcPts val="1137"/>
              </a:spcAft>
              <a:buNone/>
              <a:tabLst>
                <a:tab algn="l" pos="0"/>
                <a:tab algn="l" pos="9856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6757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04720"/>
            <a:ext cx="78058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 и задач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8055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rmAutofit/>
          </a:bodyPr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ь место, где зародился город Перм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ить этапы развития улиц г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знакомится с планировкой улиц Перми в 19 ве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знать исторические названия улиц в старой части гор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-60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авнить внешний вид улиц в начале века и их современный обл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1272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место предисло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723году в устье реки Ягошиха (река текущая в медвежьем бору) был основан Ягошихинский медеплавильный за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ный городок Ягошиха первоначально насчитывал 9 домов, к 1735 году их было уже 111,1726 году был освещена первая деревяная церковь Перми  им. апостолов Петра и Павл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ередине 30х годов 18 века в Прикамье были построены Юго-Осокинский, Курашимский, Висимский, Мотовилихинские, Верхне- и Нижне-Юговские заводы, Егошихинский медеплавильный завод оказался в центре этой груп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745г, где ныне стоит вокзал Пермь 1, был построен деревянный гостинный двор, образовалась первая незаводская улиц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0">
              <a:lnSpc>
                <a:spcPct val="95000"/>
              </a:lnSpc>
              <a:spcBef>
                <a:spcPts val="499"/>
              </a:spcBef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улиц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45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759году случился пожар, почти все дома сгорели, остались лишь каменное здание завода и строящаяся каменная церков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8760" indent="-324000">
              <a:lnSpc>
                <a:spcPct val="90000"/>
              </a:lnSpc>
              <a:spcBef>
                <a:spcPts val="499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коре после пожара от Петропавловской площади появились первые небольшие улочк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жня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ыне Советская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динн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ныне Петропавловская)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хня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ыне Ленина). Их дома были построены без особого порядка и занимали место в один квартал между современными улицами Клименко и Н. Островского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45720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:\фото улиц\239h21x4g4zzq2c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:\фото улиц\265q2g2gj8dwce1.j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3962160" cy="2606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396216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убернский город Перм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0" y="16765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 октября 1781 Екатер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а указ: «Уважая выгодность положения Егошихинского завода (…), предписываем город губернский для Пермского наместничества назначить в сем месте, наименовав оный Перм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м губернатором был назначен генерал-порутчик Евгений Петрович Кашин. Под его руководством началось строительство Пер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пожара 1759 года рабочая слободка, которая занимала место по обеим сторонам реки Егошиха, переселилась повыше, на площадь, которая получила название Заводской (Разгуля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сь город делился на улицы (односторонние улицы назывались линиями) и проулки-переулки. Улицы и линии шли вдоль реки Ка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ые короткие улочки назывались проул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 города Перми 19 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4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Монастырская (Орджоникидз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Петропавловска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267080" cy="262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3657600" cy="26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ица Сибир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280" y="2333520"/>
            <a:ext cx="4572000" cy="3144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16T18:51:2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