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D71-7DB3-4946-BA1E-FE8D51B3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A11-2EB3-456D-B162-B46DEBE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E3D6-F946-44CA-A481-284F3ED2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115-7CC9-47F1-BCD8-F7D6146B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37CC-9F7A-4751-B282-877D8B74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F2C2-C2C1-454C-BB6A-6DBE8B4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2E6-1704-4F53-A7D1-575ABB6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35E4-1A7F-4D12-AD97-AC81945E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5A65-7FA9-428B-B505-9D8C826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6755-43A2-4B96-A4DA-CDCA965D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DBB3-0275-4E22-941C-4AE831A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1A0-B38F-4699-98A9-019F7C3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99C-3B25-4FA1-A5EB-C7E5C584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1E7B-8BB2-40C6-86F1-829E169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26D4-7BEF-43F5-8F67-A9F7FABE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B803-4AFB-41BA-8C00-D8787B47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ECFF-C4EB-417A-AEE8-56152AE7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4B9-87CB-4DFD-8B98-29891FC9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C2B-65A0-4531-B824-66E2D3EA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CA3-5C0A-4491-8918-5B496296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A7B-2618-4DA9-8630-B97A9EC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948-28CA-403D-809E-A12FB402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5CBE-3EF7-4112-94EA-50BBEF7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E79-6160-4AB8-A80E-09BBFBC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0e9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8E3-F274-499C-B29C-E8892304F84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e0e9"/>
            </a:gs>
            <a:gs pos="100000">
              <a:srgbClr val="96ab94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EF3B-4536-42C2-9095-40DB8D17612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file:///U4_L53_Ex2.swf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6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611280" y="561960"/>
            <a:ext cx="7993080" cy="590724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3"/>
          <a:stretch/>
        </p:blipFill>
        <p:spPr>
          <a:xfrm>
            <a:off x="-30240" y="993600"/>
            <a:ext cx="6838920" cy="2614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8352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7" descr=""/>
          <p:cNvPicPr/>
          <p:nvPr/>
        </p:nvPicPr>
        <p:blipFill>
          <a:blip r:embed="rId2"/>
          <a:stretch/>
        </p:blipFill>
        <p:spPr>
          <a:xfrm>
            <a:off x="457200" y="165240"/>
            <a:ext cx="8229600" cy="1663560"/>
          </a:xfrm>
          <a:prstGeom prst="rect">
            <a:avLst/>
          </a:prstGeom>
          <a:ln w="0">
            <a:noFill/>
          </a:ln>
        </p:spPr>
      </p:pic>
      <p:pic>
        <p:nvPicPr>
          <p:cNvPr id="87" name="Объект 3" descr=""/>
          <p:cNvPicPr/>
          <p:nvPr/>
        </p:nvPicPr>
        <p:blipFill>
          <a:blip r:embed="rId3"/>
          <a:stretch/>
        </p:blipFill>
        <p:spPr>
          <a:xfrm rot="21066600">
            <a:off x="1654200" y="1701360"/>
            <a:ext cx="1393920" cy="1489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"/>
          <p:cNvPicPr/>
          <p:nvPr/>
        </p:nvPicPr>
        <p:blipFill>
          <a:blip r:embed="rId4"/>
          <a:stretch/>
        </p:blipFill>
        <p:spPr>
          <a:xfrm>
            <a:off x="3708360" y="1728720"/>
            <a:ext cx="150804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"/>
          <p:cNvPicPr/>
          <p:nvPr/>
        </p:nvPicPr>
        <p:blipFill>
          <a:blip r:embed="rId5"/>
          <a:stretch/>
        </p:blipFill>
        <p:spPr>
          <a:xfrm rot="999600">
            <a:off x="5757480" y="1728720"/>
            <a:ext cx="1620720" cy="1476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6"/>
          <a:stretch/>
        </p:blipFill>
        <p:spPr>
          <a:xfrm>
            <a:off x="3429000" y="3348000"/>
            <a:ext cx="2065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3240"/>
            <a:ext cx="9124920" cy="6854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" descr=""/>
          <p:cNvPicPr/>
          <p:nvPr/>
        </p:nvPicPr>
        <p:blipFill>
          <a:blip r:embed="rId2"/>
          <a:stretch/>
        </p:blipFill>
        <p:spPr>
          <a:xfrm>
            <a:off x="465120" y="635040"/>
            <a:ext cx="8196120" cy="5962680"/>
          </a:xfrm>
          <a:prstGeom prst="rect">
            <a:avLst/>
          </a:prstGeom>
          <a:ln w="0">
            <a:noFill/>
          </a:ln>
        </p:spPr>
      </p:pic>
      <p:pic>
        <p:nvPicPr>
          <p:cNvPr id="93" name="Заголовок 7" descr=""/>
          <p:cNvPicPr/>
          <p:nvPr/>
        </p:nvPicPr>
        <p:blipFill>
          <a:blip r:embed="rId3"/>
          <a:stretch/>
        </p:blipFill>
        <p:spPr>
          <a:xfrm>
            <a:off x="-92160" y="-457200"/>
            <a:ext cx="9394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-49320" y="0"/>
            <a:ext cx="9242640" cy="6769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2"/>
          <a:stretch/>
        </p:blipFill>
        <p:spPr>
          <a:xfrm>
            <a:off x="216000" y="272880"/>
            <a:ext cx="8712000" cy="6180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-49320" y="2840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U4_L53_Ex2.sw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920" y="4680"/>
            <a:ext cx="912672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1" descr=""/>
          <p:cNvPicPr/>
          <p:nvPr/>
        </p:nvPicPr>
        <p:blipFill>
          <a:blip r:embed="rId2"/>
          <a:stretch/>
        </p:blipFill>
        <p:spPr>
          <a:xfrm>
            <a:off x="457200" y="-122400"/>
            <a:ext cx="8229600" cy="1543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Сергей\Рабочий стол\0000000001.jpg"/>
          <p:cNvPicPr/>
          <p:nvPr/>
        </p:nvPicPr>
        <p:blipFill>
          <a:blip r:embed="rId3"/>
          <a:stretch/>
        </p:blipFill>
        <p:spPr>
          <a:xfrm>
            <a:off x="1547640" y="957240"/>
            <a:ext cx="5707080" cy="570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56 0.125 0.125 C 0.125 0.194 0.069 0.25 0 0.25 C -0.069 0.25 -0.125 0.194 -0.125 0.125 C -0.125 0.056 -0.069 0 0 0 Z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"/>
          <p:cNvPicPr/>
          <p:nvPr/>
        </p:nvPicPr>
        <p:blipFill>
          <a:blip r:embed="rId2"/>
          <a:stretch/>
        </p:blipFill>
        <p:spPr>
          <a:xfrm>
            <a:off x="316080" y="260280"/>
            <a:ext cx="8503920" cy="626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611280" y="83808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…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171360" y="252360"/>
            <a:ext cx="8778960" cy="6480360"/>
          </a:xfrm>
          <a:prstGeom prst="rect">
            <a:avLst/>
          </a:prstGeom>
          <a:ln w="0">
            <a:noFill/>
          </a:ln>
        </p:spPr>
      </p:pic>
      <p:pic>
        <p:nvPicPr>
          <p:cNvPr id="104" name="Заголовок 1" descr=""/>
          <p:cNvPicPr/>
          <p:nvPr/>
        </p:nvPicPr>
        <p:blipFill>
          <a:blip r:embed="rId2"/>
          <a:stretch/>
        </p:blipFill>
        <p:spPr>
          <a:xfrm>
            <a:off x="317520" y="-109440"/>
            <a:ext cx="8229600" cy="2487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 rot="547200">
            <a:off x="2051280" y="4508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a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 rot="21056400">
            <a:off x="1312560" y="229248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How ol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3564000" y="334980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 rot="607800">
            <a:off x="5056560" y="2433240"/>
            <a:ext cx="206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er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rot="21365400">
            <a:off x="5225760" y="44352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Wh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F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0" y="18864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Book Antiqua"/>
              </a:rPr>
              <a:t>Andrew’s let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5bb0"/>
                </a:solidFill>
                <a:latin typeface="Book Antiqua"/>
              </a:rPr>
              <a:t>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2"/>
          <a:stretch/>
        </p:blipFill>
        <p:spPr>
          <a:xfrm>
            <a:off x="2401920" y="907920"/>
            <a:ext cx="44118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G:\Учитель Года на 4Б классе\Презентация.ppt\упр.2 стр34 (без звуков).JPG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  <p:pic>
        <p:nvPicPr>
          <p:cNvPr id="114" name="Заголовок 1" descr=""/>
          <p:cNvPicPr/>
          <p:nvPr/>
        </p:nvPicPr>
        <p:blipFill>
          <a:blip r:embed="rId2"/>
          <a:stretch/>
        </p:blipFill>
        <p:spPr>
          <a:xfrm>
            <a:off x="396720" y="334800"/>
            <a:ext cx="8229600" cy="2127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132000" y="2790720"/>
            <a:ext cx="51768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WB: ex.</a:t>
            </a:r>
            <a:r>
              <a:rPr b="0" lang="ru-RU" sz="5400" spc="-1" strike="noStrike">
                <a:solidFill>
                  <a:srgbClr val="375bb0"/>
                </a:solidFill>
                <a:latin typeface="Times New Roman"/>
              </a:rPr>
              <a:t>1,</a:t>
            </a:r>
            <a:r>
              <a:rPr b="0" lang="en-US" sz="5400" spc="-1" strike="noStrike">
                <a:solidFill>
                  <a:srgbClr val="375bb0"/>
                </a:solidFill>
                <a:latin typeface="Book Antiqua"/>
              </a:rPr>
              <a:t>3 p.6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3" descr="C:\Documents and Settings\Сергей\Рабочий стол\homework.gif"/>
          <p:cNvPicPr/>
          <p:nvPr/>
        </p:nvPicPr>
        <p:blipFill>
          <a:blip r:embed="rId3"/>
          <a:stretch/>
        </p:blipFill>
        <p:spPr>
          <a:xfrm>
            <a:off x="15840" y="2789280"/>
            <a:ext cx="3672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27:42Z</dcterms:created>
  <dc:creator>Жарова Людмила Владимировна</dc:creator>
  <dc:description>г.Егорьевск МОУ СОШ №15</dc:description>
  <dc:language>en-US</dc:language>
  <cp:lastModifiedBy>Сергей</cp:lastModifiedBy>
  <dcterms:modified xsi:type="dcterms:W3CDTF">2012-07-12T19:43:57Z</dcterms:modified>
  <cp:revision>109</cp:revision>
  <dc:subject/>
  <dc:title>Презентация.ppt</dc:title>
</cp:coreProperties>
</file>