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8FB-EADB-4388-BF54-85DBC83F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829-B59D-4E7E-9C45-873EAA73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577-48E1-48AC-A720-4340B570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D01-F271-491F-859C-3EF916B9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C382-8136-46C3-8219-F470A89B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3AE2-40A9-410E-927B-95C73600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FA60-3E34-4491-AE40-0397DC60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0381-39EA-4819-B12B-019CB285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CB0B-B128-48E5-BF0D-1E1D5046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DAAD-5110-4BAF-89A5-8DBC9FFC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5A6F-223A-4495-AFE4-FCDFFBA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CC8-AD4E-4EC1-8473-4E3027A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FE6D-8BE9-4670-8270-B63D68A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AAE5-C05F-445E-B275-0D8441C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A7D6-465F-430F-8D18-DA99D747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7931-8027-42C0-A0DC-4D5B5633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7239-0DEF-4910-BA46-8348F57E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C6B3-5FC0-4C04-9F79-FED12D42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31E7-72BC-4492-B612-37A41F2F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B21F9-FB70-40F6-A62D-69472668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FF6B-8288-4C19-897F-EEFF3A94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63A8-2C75-40C8-ABB6-B0C7A7F1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DB6-8AF4-4E2B-8997-7CC7E6FE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4339-9BF4-4EF4-94CB-FF0C1532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F8C03-D214-4EFF-A134-89BC2BE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E418-2FE8-44A9-B656-761A8112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64A9-D8AA-4F2B-99F4-2CB63CEE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79BC-FBBE-459F-B0BB-F61EC2B9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3535-1662-4780-950F-FA6408C0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CA9F-8232-4D9F-B4A1-8DFFE7C7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492C8-5BBA-4CA8-BE51-6E6B5D36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4D8CF-4029-4869-BCB3-95497CF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5F792-4851-471D-8AC8-9EC8D664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A94-59B4-4EEE-AEBA-07FC04BD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84C56-F155-41E5-8521-E309AD4B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F2229-2845-4C7B-B314-EAF69C18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55415-EE22-4CC5-AEA4-6D2B5A5B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77B3D-C86B-4CE4-BB91-F96016D2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3283F-7277-4BD6-8F8C-8BD021E2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D451F-4CA4-4AB6-BC8C-31849465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4D34C3-1C1B-4118-885F-2B6183C4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8774B-3C22-459A-8483-57A63274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35344-7587-4187-AB67-6DEF9240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35B4C-EE16-45AA-9032-3EB566B6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143-379E-4DDE-955F-18A8F827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A3B7-FB53-4D9B-B606-7A72F74F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ABCE6-1538-4016-B883-A9B934B4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A6056-491A-4BAE-AC94-CC5DA5A3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F5346-FBF6-4836-8F2A-3B834DAE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DFD7D-FFDE-4803-8BBF-F5AFB519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5AA67-6339-4E81-A997-D7D0A5C2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C579-1A65-4689-898A-531AF65B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0D108-4A49-4DB6-A306-C599E803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FB1C0-CB6C-4E6D-8484-49DBB809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12118-4A69-4ABF-AB90-31E2E3D9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2F0-1F27-44BD-BD26-8147E4C9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855E-8C36-4CA0-A6A6-18DEB3F2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0E8A-2134-4CB2-933B-A7825513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66249-47AF-4D52-A5CE-939C76B8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AB6EE-8B09-411F-825C-612892AA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73836-EE46-40B1-947D-220B0D59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765DC-6B8C-4620-B88A-F418DBAE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EC094-0E9B-4AE4-9086-0DC90953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ECF0B-0612-4BF4-8E61-226B2C37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9E76F-0C90-4710-8E4A-65C4B67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5BBFE-F20D-4237-A833-0E58661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869-598C-4F5B-BB9B-7678564E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2F61C-E135-4686-8EB5-77218A10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8318F-8026-4059-9F4A-268B6549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4EEBA-C3A7-4A23-93B1-ADA26FB3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E7F8B-9619-4949-BEA8-46287956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3F3B-A5ED-468E-B685-9AB969D3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EED62-4175-49ED-8304-CCD46812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E5003-CDD6-4FE3-8E1E-D575A7D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8C18-3FA4-4E1C-B53F-E21359CF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62255-13FB-4E02-8C83-AE1E197F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422E2-89BA-4213-BBE9-A08775B2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F86-DA11-49FD-B1DF-29CB099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EE4DF-5C36-4D89-8BDC-13D38F8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2CF56-15B2-449B-ADDA-FEB785C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85DA5-8C5E-467E-80B3-126AD0D2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0906A-BE8E-443C-884A-C84788B4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9B1B2-BB7D-49ED-A4AC-1B78C336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C8C48-BDAC-4C9B-83DC-2C84ED8A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B416D-2363-4EB2-BE98-9F94A387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9F21D-7D18-4715-95CD-48C9A117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2BCCE-C401-41BA-8523-C812ECA2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4E584-C22C-4899-A36D-5BF0D828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0A6-9115-494E-96A4-00104A4A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E8736-C77E-4298-A129-553F0876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A3F31-D2EE-4657-A3FF-86D0EE26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8E227-19BB-4079-BBC4-D526D4F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8067E-BB18-4A3A-A0E5-D4884C34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046B6-3F60-4457-88EE-C0DB8421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6961A-951F-4D49-93FD-2F88A82A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4FFAE-A97D-43C4-8577-9F59D90E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4CB4-D713-4624-9BB9-2CC856458A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7B05-68E1-4D6F-839B-4768DAE916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5C89-CEE0-405C-9C92-BD8290B9A3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2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37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6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1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2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3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4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5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9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0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1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2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3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4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5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6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7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8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9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0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1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2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3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4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5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6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7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8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9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0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1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2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3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4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5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6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7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8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9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0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1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2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3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4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5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6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7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8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9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0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1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2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3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4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5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6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7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8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9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0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1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2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3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4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5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6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7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8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9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0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1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2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3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4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5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6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7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8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9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0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1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2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3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4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5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6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7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8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9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0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1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2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3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4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5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6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7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8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9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0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1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2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3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4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5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6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7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8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9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0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1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2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3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4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5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6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7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8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9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0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1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2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3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4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5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6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7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8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9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0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1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2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3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4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5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6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7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8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9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0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1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2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3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4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5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6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7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8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9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0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1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2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3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4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5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6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7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8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9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0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1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2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3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4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5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6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7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8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9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0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1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2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3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4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5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6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7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8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9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0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1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2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3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4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5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6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7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8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9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0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1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24AA-F0DC-401D-987E-4168C36AB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394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95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96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97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4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D07E-6A7C-4A9F-B21A-5FA1BA22EF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55B4-0B71-45E2-8570-F3152C5BF5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069F-E530-4DED-8C81-E40DCC1F9B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2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532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3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4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5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6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7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8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9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0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1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2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3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4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5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6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7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8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9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0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1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2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3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4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5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6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7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8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9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0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2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3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8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9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0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1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2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3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4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5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6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7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8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9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0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1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2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3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4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5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6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7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8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9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0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1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2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3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4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5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6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7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8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9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0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1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2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3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4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5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6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7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8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9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0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1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2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3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4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5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6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7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8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9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0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1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2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3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4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5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6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7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8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9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0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1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2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3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4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5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6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7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8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9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0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3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4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5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6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7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8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9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0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1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2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3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4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5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6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7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2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3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4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5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6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7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8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9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0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1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2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3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4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5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6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7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8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9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0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1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2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3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4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5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6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7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8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9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0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1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2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3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4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5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6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7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8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9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0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1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2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3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4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5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6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7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8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9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0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1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2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3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4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5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6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A22E-B9AE-4BF2-AD09-1BCB59DD08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700" spc="-1" strike="noStrike">
                <a:solidFill>
                  <a:srgbClr val="dfdef6"/>
                </a:solidFill>
                <a:latin typeface="Arial"/>
              </a:rPr>
              <a:t>Металлы</a:t>
            </a:r>
            <a:endParaRPr b="0" lang="en-US" sz="117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6e6e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щие химические свойств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0" name="Text Box 5"/>
          <p:cNvSpPr/>
          <p:nvPr/>
        </p:nvSpPr>
        <p:spPr>
          <a:xfrm>
            <a:off x="395280" y="1413000"/>
            <a:ext cx="835344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1) Взаимодействие металлов с кислотами есть окислительно-восстановительный процесс. Окислителем является ион водорода, который принимает электроны от металла: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2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) Взаимодействие металлов с растворами солей менее активных металлов можно иллюстрировать примером действия железа на раствор сульфата меди. В этом случае происходит отрыв электронов от атомов более активного металла (железо) и присоединение их ионами менее активного (меди)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3) Активные металлы взаимодействуют с водой, которая выступает в роли окислителя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4) Металлы, гидроксиды которых амфотерны, как правило взаимодействуют с растворами и кислот, и щелоч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лавное химическое свойство металлов –  они являются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 Black"/>
              </a:rPr>
              <a:t>восстанов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5) Металлы могут образовывать химические соединения между собой. Они имеют общее название – интерметаллические соединения или интерметаллиды. Примером могут служить соединения некоторых металлов с сурьмой: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a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b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b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iSb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i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b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eSb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(х = 0,72 – 0,92). В них чаще всего не соблюдаются степени окисления, характерные в соединениях с неметал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dfdef6"/>
                </a:solidFill>
                <a:latin typeface="Arial Black"/>
              </a:rPr>
              <a:t>Общие химические свойств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щие химические свойства (продолжение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49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еталлы могут окисляться также ионами водорода и ионами других мет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еталлы реагируют со сложными веществ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одо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кислота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створами соле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Picture 4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2952720" cy="527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26" name="Picture 7" descr=""/>
          <p:cNvPicPr/>
          <p:nvPr/>
        </p:nvPicPr>
        <p:blipFill>
          <a:blip r:embed="rId4"/>
          <a:stretch/>
        </p:blipFill>
        <p:spPr>
          <a:xfrm>
            <a:off x="2627280" y="4797360"/>
            <a:ext cx="2808360" cy="55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27" name="Picture 8" descr=""/>
          <p:cNvPicPr/>
          <p:nvPr/>
        </p:nvPicPr>
        <p:blipFill>
          <a:blip r:embed="rId5"/>
          <a:stretch/>
        </p:blipFill>
        <p:spPr>
          <a:xfrm>
            <a:off x="3492360" y="5877000"/>
            <a:ext cx="2880000" cy="528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28" name="Text Box 10"/>
          <p:cNvSpPr/>
          <p:nvPr/>
        </p:nvSpPr>
        <p:spPr>
          <a:xfrm>
            <a:off x="5435640" y="3860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Na - </a:t>
            </a: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29" name="Text Box 12"/>
          <p:cNvSpPr/>
          <p:nvPr/>
        </p:nvSpPr>
        <p:spPr>
          <a:xfrm>
            <a:off x="6443640" y="5950080"/>
            <a:ext cx="27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Fe - </a:t>
            </a: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0" name="Text Box 13"/>
          <p:cNvSpPr/>
          <p:nvPr/>
        </p:nvSpPr>
        <p:spPr>
          <a:xfrm>
            <a:off x="5867280" y="494172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Zn - </a:t>
            </a: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Электрохимический ряд напряж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2" name="Text Box 19"/>
          <p:cNvSpPr/>
          <p:nvPr/>
        </p:nvSpPr>
        <p:spPr>
          <a:xfrm>
            <a:off x="324000" y="2781360"/>
            <a:ext cx="856908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В электрохимическом ряду напряжения металл, стоящий левее, может вытеснить из растворов или расплавов солей металл, стоящей правее. Пользуясь этим рядом, можно предсказать, как Ме будет себя вести в паре с другим.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marL="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В электрохимический ряд напряжения включен также водород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marL="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Это позволяет сделать заключение о том, какие Ме могут вытеснить водород из растворов кислот. Так , например, железо вытесняет водород из растворов кислот, так как находится левее его; медь же не вытесняет водород, так как находится правее его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933" name="Group 30"/>
          <p:cNvGrpSpPr/>
          <p:nvPr/>
        </p:nvGrpSpPr>
        <p:grpSpPr>
          <a:xfrm>
            <a:off x="108000" y="1052640"/>
            <a:ext cx="8964360" cy="1582200"/>
            <a:chOff x="108000" y="1052640"/>
            <a:chExt cx="8964360" cy="1582200"/>
          </a:xfrm>
        </p:grpSpPr>
        <p:grpSp>
          <p:nvGrpSpPr>
            <p:cNvPr id="934" name="Group 17"/>
            <p:cNvGrpSpPr/>
            <p:nvPr/>
          </p:nvGrpSpPr>
          <p:grpSpPr>
            <a:xfrm>
              <a:off x="1127160" y="2058840"/>
              <a:ext cx="6676200" cy="576000"/>
              <a:chOff x="1127160" y="2058840"/>
              <a:chExt cx="6676200" cy="576000"/>
            </a:xfrm>
          </p:grpSpPr>
          <p:sp>
            <p:nvSpPr>
              <p:cNvPr id="935" name="Line 15"/>
              <p:cNvSpPr/>
              <p:nvPr/>
            </p:nvSpPr>
            <p:spPr>
              <a:xfrm>
                <a:off x="1127160" y="2634840"/>
                <a:ext cx="6676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936" name="Text Box 16"/>
              <p:cNvSpPr/>
              <p:nvPr/>
            </p:nvSpPr>
            <p:spPr>
              <a:xfrm>
                <a:off x="1198800" y="2058840"/>
                <a:ext cx="66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ослабление восстановительных свойств, активности</a:t>
                </a: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pic>
          <p:nvPicPr>
            <p:cNvPr id="937" name="Picture 29" descr=""/>
            <p:cNvPicPr/>
            <p:nvPr/>
          </p:nvPicPr>
          <p:blipFill>
            <a:blip r:embed="rId1"/>
            <a:srcRect l="0" t="0" r="0" b="61206"/>
            <a:stretch/>
          </p:blipFill>
          <p:spPr>
            <a:xfrm>
              <a:off x="108000" y="1052640"/>
              <a:ext cx="8964360" cy="720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182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a1827"/>
                </a:solidFill>
                <a:latin typeface="Arial Black"/>
              </a:rPr>
              <a:t>Коррозия металлов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1332000" y="1197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99"/>
                </a:solidFill>
                <a:uFillTx/>
                <a:latin typeface="Arial Black"/>
              </a:rPr>
              <a:t>Коррозия</a:t>
            </a: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 – это химическое и электрохимическое разрушение металлов и их сплавов в результате воздействия на них окружающей среды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0" name="Text Box 7"/>
          <p:cNvSpPr/>
          <p:nvPr/>
        </p:nvSpPr>
        <p:spPr>
          <a:xfrm>
            <a:off x="1332000" y="256536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Существует два вида коррозии: химическая и электрохимическая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1" name="Text Box 8"/>
          <p:cNvSpPr/>
          <p:nvPr/>
        </p:nvSpPr>
        <p:spPr>
          <a:xfrm>
            <a:off x="684360" y="3573360"/>
            <a:ext cx="69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942" name="Picture 9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4103640" cy="360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43" name="Text Box 10"/>
          <p:cNvSpPr/>
          <p:nvPr/>
        </p:nvSpPr>
        <p:spPr>
          <a:xfrm>
            <a:off x="324000" y="3213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6699"/>
                </a:solidFill>
                <a:uFillTx/>
                <a:latin typeface="Arial Black"/>
              </a:rPr>
              <a:t>химическая коррозия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2411280" y="3573360"/>
            <a:ext cx="0" cy="64764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5" name="Text Box 12"/>
          <p:cNvSpPr/>
          <p:nvPr/>
        </p:nvSpPr>
        <p:spPr>
          <a:xfrm>
            <a:off x="4390920" y="321300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6699"/>
                </a:solidFill>
                <a:uFillTx/>
                <a:latin typeface="Arial Black"/>
              </a:rPr>
              <a:t>Электрохимическая  коррозия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6" name="Line 13"/>
          <p:cNvSpPr/>
          <p:nvPr/>
        </p:nvSpPr>
        <p:spPr>
          <a:xfrm>
            <a:off x="6877080" y="3573360"/>
            <a:ext cx="0" cy="5763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947" name="Picture 14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2808360" cy="64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48" name="Text Box 15"/>
          <p:cNvSpPr/>
          <p:nvPr/>
        </p:nvSpPr>
        <p:spPr>
          <a:xfrm>
            <a:off x="611280" y="5003640"/>
            <a:ext cx="381636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Коррозию Ме и их сплавов вызывают такие компоненты окружающей среды, как вода, кислород, оксиды углерода и серы, водные растворы солей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9" name="Text Box 16"/>
          <p:cNvSpPr/>
          <p:nvPr/>
        </p:nvSpPr>
        <p:spPr>
          <a:xfrm>
            <a:off x="5076720" y="5013360"/>
            <a:ext cx="381636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Более активный Ме при электрохимической коррозии разрушается, переходя в воду, тем самым предохраняя менее активный Ме от разрушения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0684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1827"/>
                </a:solidFill>
                <a:latin typeface="Arial Black"/>
              </a:rPr>
              <a:t>Методы борьбы с коррозией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951" name="Group 29"/>
          <p:cNvGrpSpPr/>
          <p:nvPr/>
        </p:nvGrpSpPr>
        <p:grpSpPr>
          <a:xfrm>
            <a:off x="250920" y="1052640"/>
            <a:ext cx="8502480" cy="5178240"/>
            <a:chOff x="250920" y="1052640"/>
            <a:chExt cx="8502480" cy="5178240"/>
          </a:xfrm>
        </p:grpSpPr>
        <p:sp>
          <p:nvSpPr>
            <p:cNvPr id="952" name="Text Box 5"/>
            <p:cNvSpPr/>
            <p:nvPr/>
          </p:nvSpPr>
          <p:spPr>
            <a:xfrm>
              <a:off x="1697040" y="1052640"/>
              <a:ext cx="5692680" cy="3682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36699"/>
                  </a:solidFill>
                  <a:latin typeface="Arial Black"/>
                </a:rPr>
                <a:t>Основные методы защиты от коррозии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3" name="Line 6"/>
            <p:cNvSpPr/>
            <p:nvPr/>
          </p:nvSpPr>
          <p:spPr>
            <a:xfrm>
              <a:off x="1763640" y="15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4" name="Text Box 7"/>
            <p:cNvSpPr/>
            <p:nvPr/>
          </p:nvSpPr>
          <p:spPr>
            <a:xfrm>
              <a:off x="826920" y="2133720"/>
              <a:ext cx="1441440" cy="641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Применение защитных покрытий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5" name="Line 8"/>
            <p:cNvSpPr/>
            <p:nvPr/>
          </p:nvSpPr>
          <p:spPr>
            <a:xfrm>
              <a:off x="3481560" y="1562040"/>
              <a:ext cx="1080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6" name="Text Box 9"/>
            <p:cNvSpPr/>
            <p:nvPr/>
          </p:nvSpPr>
          <p:spPr>
            <a:xfrm>
              <a:off x="2411280" y="2147760"/>
              <a:ext cx="2016360" cy="641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Приготовление сплавов, стойких к  коррозии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7" name="Text Box 10"/>
            <p:cNvSpPr/>
            <p:nvPr/>
          </p:nvSpPr>
          <p:spPr>
            <a:xfrm>
              <a:off x="4643280" y="2147760"/>
              <a:ext cx="1812960" cy="459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Электрохимические методы защиты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8" name="Line 11"/>
            <p:cNvSpPr/>
            <p:nvPr/>
          </p:nvSpPr>
          <p:spPr>
            <a:xfrm>
              <a:off x="5433840" y="1562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9" name="Text Box 12"/>
            <p:cNvSpPr/>
            <p:nvPr/>
          </p:nvSpPr>
          <p:spPr>
            <a:xfrm>
              <a:off x="6804000" y="2133720"/>
              <a:ext cx="1360440" cy="459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Изменение состава среды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0" name="Line 14"/>
            <p:cNvSpPr/>
            <p:nvPr/>
          </p:nvSpPr>
          <p:spPr>
            <a:xfrm>
              <a:off x="7305840" y="1562040"/>
              <a:ext cx="288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1" name="Line 20"/>
            <p:cNvSpPr/>
            <p:nvPr/>
          </p:nvSpPr>
          <p:spPr>
            <a:xfrm>
              <a:off x="1527120" y="2876400"/>
              <a:ext cx="2052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2" name="Text Box 21"/>
            <p:cNvSpPr/>
            <p:nvPr/>
          </p:nvSpPr>
          <p:spPr>
            <a:xfrm>
              <a:off x="250920" y="3573360"/>
              <a:ext cx="2038320" cy="1467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1. Металлические изделия покрывают другими Ме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2. Металлические изделия покрывают лаками, красками и эмалями.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3" name="Line 22"/>
            <p:cNvSpPr/>
            <p:nvPr/>
          </p:nvSpPr>
          <p:spPr>
            <a:xfrm>
              <a:off x="3492360" y="29242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4" name="Text Box 23"/>
            <p:cNvSpPr/>
            <p:nvPr/>
          </p:nvSpPr>
          <p:spPr>
            <a:xfrm>
              <a:off x="2556000" y="3573360"/>
              <a:ext cx="1784160" cy="13716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Части машин, инструменты и предметы быта изготавливают из нержавеющей стали и других сплавов, стойких к коррозии 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5" name="Line 24"/>
            <p:cNvSpPr/>
            <p:nvPr/>
          </p:nvSpPr>
          <p:spPr>
            <a:xfrm flipH="1">
              <a:off x="5433480" y="2924280"/>
              <a:ext cx="180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6" name="Text Box 25"/>
            <p:cNvSpPr/>
            <p:nvPr/>
          </p:nvSpPr>
          <p:spPr>
            <a:xfrm>
              <a:off x="4572000" y="3573360"/>
              <a:ext cx="2465280" cy="2657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1. Применение заклепок, изготовленных из более активных Ме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2. Прикрепление пластинок из более активного Ме для защиты основного металлического изделия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3. Нейтрализация тока, возникающего при коррозии, постоянным током, пропускаемым в противоположном направлении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7" name="Line 26"/>
            <p:cNvSpPr/>
            <p:nvPr/>
          </p:nvSpPr>
          <p:spPr>
            <a:xfrm>
              <a:off x="7956720" y="2852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8" name="Text Box 27"/>
            <p:cNvSpPr/>
            <p:nvPr/>
          </p:nvSpPr>
          <p:spPr>
            <a:xfrm>
              <a:off x="7308720" y="3573360"/>
              <a:ext cx="1444680" cy="459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Добавление ингибиторов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108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a1827"/>
                </a:solidFill>
                <a:latin typeface="Arial Black"/>
              </a:rPr>
              <a:t> </a:t>
            </a:r>
            <a:r>
              <a:rPr b="0" lang="ru-RU" sz="3800" spc="-1" strike="noStrike">
                <a:solidFill>
                  <a:srgbClr val="fa1827"/>
                </a:solidFill>
                <a:latin typeface="Arial Black"/>
              </a:rPr>
              <a:t>Положение металлов в П.С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395280" y="1557360"/>
            <a:ext cx="849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Если в П. С. элементов Д. И. Менделеева провести диагональ от бериллия (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Be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) к астату (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At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), то справа вверх от диагонали будут находиться элементы-неметаллы (исключая элементы побочных подгрупп), а слева внизу – элементы-металлы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(к ним также относятся элементы побочных подгрупп). Элементы, расположенные вблизи диагонали (например, бериллий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Be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алюминий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Al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титан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Ti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германий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Ge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ниобий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Nb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сурьма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Sb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 и др.), обладают двойственным характером. Как видно, наиболее типичные элементы-металлы расположены в начале периодов (начиная со второго). Таким образом из 113 элементов 85 являются металлами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9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древности и в средние века были известны только семь металлов. Это число соотносилось с числом известных тогда планет: Солнце (золото), Юпитер (олово), Луна (серебро), Марс (железо), Меркурий (ртуть), Сатурн (свинец), Венера (мед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лхимики считали, что под влиянием лучей планет в недрах Земли рождаются эти метал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a1827"/>
                </a:solidFill>
                <a:latin typeface="Arial Black"/>
              </a:rPr>
              <a:t> </a:t>
            </a:r>
            <a:r>
              <a:rPr b="0" lang="ru-RU" sz="3800" spc="-1" strike="noStrike">
                <a:solidFill>
                  <a:srgbClr val="fa1827"/>
                </a:solidFill>
                <a:latin typeface="Arial Black"/>
              </a:rPr>
              <a:t>Строение атомов металл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685800" y="12193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395280" y="12538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>
              <a:lnSpc>
                <a:spcPct val="150000"/>
              </a:lnSpc>
              <a:tabLst>
                <a:tab algn="l" pos="0"/>
                <a:tab algn="l" pos="4543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Кристаллические решетки, в узлах которых находятся положительно заряженные ионы и некоторое число нейтральных атомов, между которыми передвигаются относительно свободные электроны, называют </a:t>
            </a:r>
            <a:r>
              <a:rPr b="1" lang="ru-RU" sz="1800" spc="-1" strike="noStrike" u="sng">
                <a:solidFill>
                  <a:srgbClr val="336699"/>
                </a:solidFill>
                <a:uFillTx/>
                <a:latin typeface="Arial Black"/>
              </a:rPr>
              <a:t>металлическими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795" name="Group 52"/>
          <p:cNvGrpSpPr/>
          <p:nvPr/>
        </p:nvGrpSpPr>
        <p:grpSpPr>
          <a:xfrm>
            <a:off x="4427640" y="3213000"/>
            <a:ext cx="4176360" cy="2997000"/>
            <a:chOff x="4427640" y="3213000"/>
            <a:chExt cx="4176360" cy="2997000"/>
          </a:xfrm>
        </p:grpSpPr>
        <p:grpSp>
          <p:nvGrpSpPr>
            <p:cNvPr id="796" name="Group 53"/>
            <p:cNvGrpSpPr/>
            <p:nvPr/>
          </p:nvGrpSpPr>
          <p:grpSpPr>
            <a:xfrm>
              <a:off x="4683960" y="3565440"/>
              <a:ext cx="3599640" cy="2527560"/>
              <a:chOff x="4683960" y="3565440"/>
              <a:chExt cx="3599640" cy="2527560"/>
            </a:xfrm>
          </p:grpSpPr>
          <p:sp>
            <p:nvSpPr>
              <p:cNvPr id="797" name="AutoShape 54"/>
              <p:cNvSpPr/>
              <p:nvPr/>
            </p:nvSpPr>
            <p:spPr>
              <a:xfrm>
                <a:off x="4749120" y="356544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98" name="AutoShape 55"/>
              <p:cNvSpPr/>
              <p:nvPr/>
            </p:nvSpPr>
            <p:spPr>
              <a:xfrm>
                <a:off x="4683960" y="4623840"/>
                <a:ext cx="450360" cy="41220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99" name="AutoShape 56"/>
              <p:cNvSpPr/>
              <p:nvPr/>
            </p:nvSpPr>
            <p:spPr>
              <a:xfrm>
                <a:off x="5712480" y="356544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0" name="AutoShape 57"/>
              <p:cNvSpPr/>
              <p:nvPr/>
            </p:nvSpPr>
            <p:spPr>
              <a:xfrm>
                <a:off x="6741000" y="356544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1" name="AutoShape 58"/>
              <p:cNvSpPr/>
              <p:nvPr/>
            </p:nvSpPr>
            <p:spPr>
              <a:xfrm>
                <a:off x="7833240" y="356544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2" name="AutoShape 59"/>
              <p:cNvSpPr/>
              <p:nvPr/>
            </p:nvSpPr>
            <p:spPr>
              <a:xfrm>
                <a:off x="5712480" y="4623840"/>
                <a:ext cx="450360" cy="41220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3" name="AutoShape 60"/>
              <p:cNvSpPr/>
              <p:nvPr/>
            </p:nvSpPr>
            <p:spPr>
              <a:xfrm>
                <a:off x="6677280" y="4623840"/>
                <a:ext cx="450360" cy="41220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4" name="AutoShape 61"/>
              <p:cNvSpPr/>
              <p:nvPr/>
            </p:nvSpPr>
            <p:spPr>
              <a:xfrm>
                <a:off x="5712480" y="568116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5" name="AutoShape 62"/>
              <p:cNvSpPr/>
              <p:nvPr/>
            </p:nvSpPr>
            <p:spPr>
              <a:xfrm>
                <a:off x="6677280" y="568116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6" name="AutoShape 63"/>
              <p:cNvSpPr/>
              <p:nvPr/>
            </p:nvSpPr>
            <p:spPr>
              <a:xfrm>
                <a:off x="7833240" y="568116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7" name="Oval 64"/>
              <p:cNvSpPr/>
              <p:nvPr/>
            </p:nvSpPr>
            <p:spPr>
              <a:xfrm>
                <a:off x="4683960" y="5681160"/>
                <a:ext cx="448920" cy="4107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8" name="Oval 65"/>
              <p:cNvSpPr/>
              <p:nvPr/>
            </p:nvSpPr>
            <p:spPr>
              <a:xfrm>
                <a:off x="7833240" y="4623840"/>
                <a:ext cx="448920" cy="4107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66"/>
            <p:cNvGrpSpPr/>
            <p:nvPr/>
          </p:nvGrpSpPr>
          <p:grpSpPr>
            <a:xfrm>
              <a:off x="4427640" y="3213000"/>
              <a:ext cx="4176360" cy="2997000"/>
              <a:chOff x="4427640" y="3213000"/>
              <a:chExt cx="4176360" cy="2997000"/>
            </a:xfrm>
          </p:grpSpPr>
          <p:grpSp>
            <p:nvGrpSpPr>
              <p:cNvPr id="810" name="Group 67"/>
              <p:cNvGrpSpPr/>
              <p:nvPr/>
            </p:nvGrpSpPr>
            <p:grpSpPr>
              <a:xfrm>
                <a:off x="4427640" y="4095360"/>
                <a:ext cx="192600" cy="176040"/>
                <a:chOff x="4427640" y="4095360"/>
                <a:chExt cx="192600" cy="176040"/>
              </a:xfrm>
            </p:grpSpPr>
            <p:sp>
              <p:nvSpPr>
                <p:cNvPr id="811" name="Oval 68"/>
                <p:cNvSpPr/>
                <p:nvPr/>
              </p:nvSpPr>
              <p:spPr>
                <a:xfrm>
                  <a:off x="4427640" y="409536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Line 69"/>
                <p:cNvSpPr/>
                <p:nvPr/>
              </p:nvSpPr>
              <p:spPr>
                <a:xfrm>
                  <a:off x="4475160" y="418320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Group 70"/>
              <p:cNvGrpSpPr/>
              <p:nvPr/>
            </p:nvGrpSpPr>
            <p:grpSpPr>
              <a:xfrm>
                <a:off x="5198400" y="3977280"/>
                <a:ext cx="192600" cy="176040"/>
                <a:chOff x="5198400" y="3977280"/>
                <a:chExt cx="192600" cy="176040"/>
              </a:xfrm>
            </p:grpSpPr>
            <p:sp>
              <p:nvSpPr>
                <p:cNvPr id="814" name="Oval 71"/>
                <p:cNvSpPr/>
                <p:nvPr/>
              </p:nvSpPr>
              <p:spPr>
                <a:xfrm>
                  <a:off x="5198400" y="397728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72"/>
                <p:cNvSpPr/>
                <p:nvPr/>
              </p:nvSpPr>
              <p:spPr>
                <a:xfrm>
                  <a:off x="5245920" y="406512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Group 73"/>
              <p:cNvGrpSpPr/>
              <p:nvPr/>
            </p:nvGrpSpPr>
            <p:grpSpPr>
              <a:xfrm>
                <a:off x="5070600" y="5388480"/>
                <a:ext cx="192600" cy="176040"/>
                <a:chOff x="5070600" y="5388480"/>
                <a:chExt cx="192600" cy="176040"/>
              </a:xfrm>
            </p:grpSpPr>
            <p:sp>
              <p:nvSpPr>
                <p:cNvPr id="817" name="Oval 74"/>
                <p:cNvSpPr/>
                <p:nvPr/>
              </p:nvSpPr>
              <p:spPr>
                <a:xfrm>
                  <a:off x="5070600" y="538848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5118120" y="547632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76"/>
              <p:cNvGrpSpPr/>
              <p:nvPr/>
            </p:nvGrpSpPr>
            <p:grpSpPr>
              <a:xfrm>
                <a:off x="5777640" y="5387400"/>
                <a:ext cx="192600" cy="175680"/>
                <a:chOff x="5777640" y="5387400"/>
                <a:chExt cx="192600" cy="175680"/>
              </a:xfrm>
            </p:grpSpPr>
            <p:sp>
              <p:nvSpPr>
                <p:cNvPr id="820" name="Oval 77"/>
                <p:cNvSpPr/>
                <p:nvPr/>
              </p:nvSpPr>
              <p:spPr>
                <a:xfrm>
                  <a:off x="5777640" y="538740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78"/>
                <p:cNvSpPr/>
                <p:nvPr/>
              </p:nvSpPr>
              <p:spPr>
                <a:xfrm>
                  <a:off x="5825160" y="547524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Group 79"/>
              <p:cNvGrpSpPr/>
              <p:nvPr/>
            </p:nvGrpSpPr>
            <p:grpSpPr>
              <a:xfrm>
                <a:off x="7190280" y="4506120"/>
                <a:ext cx="192600" cy="176040"/>
                <a:chOff x="7190280" y="4506120"/>
                <a:chExt cx="192600" cy="176040"/>
              </a:xfrm>
            </p:grpSpPr>
            <p:sp>
              <p:nvSpPr>
                <p:cNvPr id="823" name="Oval 80"/>
                <p:cNvSpPr/>
                <p:nvPr/>
              </p:nvSpPr>
              <p:spPr>
                <a:xfrm>
                  <a:off x="7190280" y="450612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Line 81"/>
                <p:cNvSpPr/>
                <p:nvPr/>
              </p:nvSpPr>
              <p:spPr>
                <a:xfrm>
                  <a:off x="7237800" y="459396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Group 82"/>
              <p:cNvGrpSpPr/>
              <p:nvPr/>
            </p:nvGrpSpPr>
            <p:grpSpPr>
              <a:xfrm>
                <a:off x="5326920" y="3565440"/>
                <a:ext cx="192600" cy="175680"/>
                <a:chOff x="5326920" y="3565440"/>
                <a:chExt cx="192600" cy="175680"/>
              </a:xfrm>
            </p:grpSpPr>
            <p:sp>
              <p:nvSpPr>
                <p:cNvPr id="826" name="Oval 83"/>
                <p:cNvSpPr/>
                <p:nvPr/>
              </p:nvSpPr>
              <p:spPr>
                <a:xfrm>
                  <a:off x="5326920" y="356544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84"/>
                <p:cNvSpPr/>
                <p:nvPr/>
              </p:nvSpPr>
              <p:spPr>
                <a:xfrm>
                  <a:off x="5374440" y="365328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Group 85"/>
              <p:cNvGrpSpPr/>
              <p:nvPr/>
            </p:nvGrpSpPr>
            <p:grpSpPr>
              <a:xfrm>
                <a:off x="7576920" y="5093280"/>
                <a:ext cx="192600" cy="175680"/>
                <a:chOff x="7576920" y="5093280"/>
                <a:chExt cx="192600" cy="175680"/>
              </a:xfrm>
            </p:grpSpPr>
            <p:sp>
              <p:nvSpPr>
                <p:cNvPr id="829" name="Oval 86"/>
                <p:cNvSpPr/>
                <p:nvPr/>
              </p:nvSpPr>
              <p:spPr>
                <a:xfrm>
                  <a:off x="7576920" y="509328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Line 87"/>
                <p:cNvSpPr/>
                <p:nvPr/>
              </p:nvSpPr>
              <p:spPr>
                <a:xfrm>
                  <a:off x="7624440" y="518112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Group 88"/>
              <p:cNvGrpSpPr/>
              <p:nvPr/>
            </p:nvGrpSpPr>
            <p:grpSpPr>
              <a:xfrm>
                <a:off x="6163200" y="3683160"/>
                <a:ext cx="192600" cy="176040"/>
                <a:chOff x="6163200" y="3683160"/>
                <a:chExt cx="192600" cy="176040"/>
              </a:xfrm>
            </p:grpSpPr>
            <p:sp>
              <p:nvSpPr>
                <p:cNvPr id="832" name="Oval 89"/>
                <p:cNvSpPr/>
                <p:nvPr/>
              </p:nvSpPr>
              <p:spPr>
                <a:xfrm>
                  <a:off x="6163200" y="368316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Line 90"/>
                <p:cNvSpPr/>
                <p:nvPr/>
              </p:nvSpPr>
              <p:spPr>
                <a:xfrm>
                  <a:off x="6210720" y="377100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Group 91"/>
              <p:cNvGrpSpPr/>
              <p:nvPr/>
            </p:nvGrpSpPr>
            <p:grpSpPr>
              <a:xfrm>
                <a:off x="5391000" y="4976640"/>
                <a:ext cx="192240" cy="175680"/>
                <a:chOff x="5391000" y="4976640"/>
                <a:chExt cx="192240" cy="175680"/>
              </a:xfrm>
            </p:grpSpPr>
            <p:sp>
              <p:nvSpPr>
                <p:cNvPr id="835" name="Oval 92"/>
                <p:cNvSpPr/>
                <p:nvPr/>
              </p:nvSpPr>
              <p:spPr>
                <a:xfrm>
                  <a:off x="5391000" y="4976640"/>
                  <a:ext cx="19224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Line 93"/>
                <p:cNvSpPr/>
                <p:nvPr/>
              </p:nvSpPr>
              <p:spPr>
                <a:xfrm>
                  <a:off x="5438520" y="5064480"/>
                  <a:ext cx="9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Group 94"/>
              <p:cNvGrpSpPr/>
              <p:nvPr/>
            </p:nvGrpSpPr>
            <p:grpSpPr>
              <a:xfrm>
                <a:off x="5005440" y="3213000"/>
                <a:ext cx="192600" cy="176040"/>
                <a:chOff x="5005440" y="3213000"/>
                <a:chExt cx="192600" cy="176040"/>
              </a:xfrm>
            </p:grpSpPr>
            <p:sp>
              <p:nvSpPr>
                <p:cNvPr id="838" name="Oval 95"/>
                <p:cNvSpPr/>
                <p:nvPr/>
              </p:nvSpPr>
              <p:spPr>
                <a:xfrm>
                  <a:off x="5005440" y="321300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Line 96"/>
                <p:cNvSpPr/>
                <p:nvPr/>
              </p:nvSpPr>
              <p:spPr>
                <a:xfrm>
                  <a:off x="5052960" y="330084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Group 97"/>
              <p:cNvGrpSpPr/>
              <p:nvPr/>
            </p:nvGrpSpPr>
            <p:grpSpPr>
              <a:xfrm>
                <a:off x="4556160" y="5270760"/>
                <a:ext cx="192600" cy="175680"/>
                <a:chOff x="4556160" y="5270760"/>
                <a:chExt cx="192600" cy="175680"/>
              </a:xfrm>
            </p:grpSpPr>
            <p:sp>
              <p:nvSpPr>
                <p:cNvPr id="841" name="Oval 98"/>
                <p:cNvSpPr/>
                <p:nvPr/>
              </p:nvSpPr>
              <p:spPr>
                <a:xfrm>
                  <a:off x="4556160" y="527076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Line 99"/>
                <p:cNvSpPr/>
                <p:nvPr/>
              </p:nvSpPr>
              <p:spPr>
                <a:xfrm>
                  <a:off x="4603680" y="535860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Group 100"/>
              <p:cNvGrpSpPr/>
              <p:nvPr/>
            </p:nvGrpSpPr>
            <p:grpSpPr>
              <a:xfrm>
                <a:off x="5263560" y="5975640"/>
                <a:ext cx="192240" cy="175680"/>
                <a:chOff x="5263560" y="5975640"/>
                <a:chExt cx="192240" cy="175680"/>
              </a:xfrm>
            </p:grpSpPr>
            <p:sp>
              <p:nvSpPr>
                <p:cNvPr id="844" name="Oval 101"/>
                <p:cNvSpPr/>
                <p:nvPr/>
              </p:nvSpPr>
              <p:spPr>
                <a:xfrm>
                  <a:off x="5263560" y="5975640"/>
                  <a:ext cx="19224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02"/>
                <p:cNvSpPr/>
                <p:nvPr/>
              </p:nvSpPr>
              <p:spPr>
                <a:xfrm>
                  <a:off x="5311080" y="6063480"/>
                  <a:ext cx="9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Group 103"/>
              <p:cNvGrpSpPr/>
              <p:nvPr/>
            </p:nvGrpSpPr>
            <p:grpSpPr>
              <a:xfrm>
                <a:off x="8411400" y="4976640"/>
                <a:ext cx="192600" cy="175680"/>
                <a:chOff x="8411400" y="4976640"/>
                <a:chExt cx="192600" cy="175680"/>
              </a:xfrm>
            </p:grpSpPr>
            <p:sp>
              <p:nvSpPr>
                <p:cNvPr id="847" name="Oval 104"/>
                <p:cNvSpPr/>
                <p:nvPr/>
              </p:nvSpPr>
              <p:spPr>
                <a:xfrm>
                  <a:off x="8411400" y="497664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Line 105"/>
                <p:cNvSpPr/>
                <p:nvPr/>
              </p:nvSpPr>
              <p:spPr>
                <a:xfrm>
                  <a:off x="8458920" y="506448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Group 106"/>
              <p:cNvGrpSpPr/>
              <p:nvPr/>
            </p:nvGrpSpPr>
            <p:grpSpPr>
              <a:xfrm>
                <a:off x="5970240" y="4094280"/>
                <a:ext cx="192600" cy="175680"/>
                <a:chOff x="5970240" y="4094280"/>
                <a:chExt cx="192600" cy="175680"/>
              </a:xfrm>
            </p:grpSpPr>
            <p:sp>
              <p:nvSpPr>
                <p:cNvPr id="850" name="Oval 107"/>
                <p:cNvSpPr/>
                <p:nvPr/>
              </p:nvSpPr>
              <p:spPr>
                <a:xfrm>
                  <a:off x="5970240" y="409428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Line 108"/>
                <p:cNvSpPr/>
                <p:nvPr/>
              </p:nvSpPr>
              <p:spPr>
                <a:xfrm>
                  <a:off x="6017760" y="418212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Group 109"/>
              <p:cNvGrpSpPr/>
              <p:nvPr/>
            </p:nvGrpSpPr>
            <p:grpSpPr>
              <a:xfrm>
                <a:off x="5519880" y="4388400"/>
                <a:ext cx="192600" cy="175680"/>
                <a:chOff x="5519880" y="4388400"/>
                <a:chExt cx="192600" cy="175680"/>
              </a:xfrm>
            </p:grpSpPr>
            <p:sp>
              <p:nvSpPr>
                <p:cNvPr id="853" name="Oval 110"/>
                <p:cNvSpPr/>
                <p:nvPr/>
              </p:nvSpPr>
              <p:spPr>
                <a:xfrm>
                  <a:off x="5519880" y="438840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Line 111"/>
                <p:cNvSpPr/>
                <p:nvPr/>
              </p:nvSpPr>
              <p:spPr>
                <a:xfrm>
                  <a:off x="5567400" y="447624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Group 112"/>
              <p:cNvGrpSpPr/>
              <p:nvPr/>
            </p:nvGrpSpPr>
            <p:grpSpPr>
              <a:xfrm>
                <a:off x="7769880" y="5505120"/>
                <a:ext cx="192240" cy="176040"/>
                <a:chOff x="7769880" y="5505120"/>
                <a:chExt cx="192240" cy="176040"/>
              </a:xfrm>
            </p:grpSpPr>
            <p:sp>
              <p:nvSpPr>
                <p:cNvPr id="856" name="Oval 113"/>
                <p:cNvSpPr/>
                <p:nvPr/>
              </p:nvSpPr>
              <p:spPr>
                <a:xfrm>
                  <a:off x="7769880" y="5505120"/>
                  <a:ext cx="19224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Line 114"/>
                <p:cNvSpPr/>
                <p:nvPr/>
              </p:nvSpPr>
              <p:spPr>
                <a:xfrm>
                  <a:off x="7817400" y="5592960"/>
                  <a:ext cx="9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115"/>
              <p:cNvGrpSpPr/>
              <p:nvPr/>
            </p:nvGrpSpPr>
            <p:grpSpPr>
              <a:xfrm>
                <a:off x="7576920" y="3213000"/>
                <a:ext cx="192600" cy="176040"/>
                <a:chOff x="7576920" y="3213000"/>
                <a:chExt cx="192600" cy="176040"/>
              </a:xfrm>
            </p:grpSpPr>
            <p:sp>
              <p:nvSpPr>
                <p:cNvPr id="859" name="Oval 116"/>
                <p:cNvSpPr/>
                <p:nvPr/>
              </p:nvSpPr>
              <p:spPr>
                <a:xfrm>
                  <a:off x="7576920" y="321300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17"/>
                <p:cNvSpPr/>
                <p:nvPr/>
              </p:nvSpPr>
              <p:spPr>
                <a:xfrm>
                  <a:off x="7624440" y="330084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Group 118"/>
              <p:cNvGrpSpPr/>
              <p:nvPr/>
            </p:nvGrpSpPr>
            <p:grpSpPr>
              <a:xfrm>
                <a:off x="7704720" y="3977280"/>
                <a:ext cx="192240" cy="176040"/>
                <a:chOff x="7704720" y="3977280"/>
                <a:chExt cx="192240" cy="176040"/>
              </a:xfrm>
            </p:grpSpPr>
            <p:sp>
              <p:nvSpPr>
                <p:cNvPr id="862" name="Oval 119"/>
                <p:cNvSpPr/>
                <p:nvPr/>
              </p:nvSpPr>
              <p:spPr>
                <a:xfrm>
                  <a:off x="7704720" y="3977280"/>
                  <a:ext cx="19224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Line 120"/>
                <p:cNvSpPr/>
                <p:nvPr/>
              </p:nvSpPr>
              <p:spPr>
                <a:xfrm>
                  <a:off x="7752240" y="4065120"/>
                  <a:ext cx="9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Group 121"/>
              <p:cNvGrpSpPr/>
              <p:nvPr/>
            </p:nvGrpSpPr>
            <p:grpSpPr>
              <a:xfrm>
                <a:off x="6548400" y="3917880"/>
                <a:ext cx="192600" cy="176040"/>
                <a:chOff x="6548400" y="3917880"/>
                <a:chExt cx="192600" cy="176040"/>
              </a:xfrm>
            </p:grpSpPr>
            <p:sp>
              <p:nvSpPr>
                <p:cNvPr id="865" name="Oval 122"/>
                <p:cNvSpPr/>
                <p:nvPr/>
              </p:nvSpPr>
              <p:spPr>
                <a:xfrm>
                  <a:off x="6548400" y="391788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Line 123"/>
                <p:cNvSpPr/>
                <p:nvPr/>
              </p:nvSpPr>
              <p:spPr>
                <a:xfrm>
                  <a:off x="6595920" y="400572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Group 124"/>
              <p:cNvGrpSpPr/>
              <p:nvPr/>
            </p:nvGrpSpPr>
            <p:grpSpPr>
              <a:xfrm>
                <a:off x="6226560" y="4623840"/>
                <a:ext cx="192600" cy="176040"/>
                <a:chOff x="6226560" y="4623840"/>
                <a:chExt cx="192600" cy="176040"/>
              </a:xfrm>
            </p:grpSpPr>
            <p:sp>
              <p:nvSpPr>
                <p:cNvPr id="868" name="Oval 125"/>
                <p:cNvSpPr/>
                <p:nvPr/>
              </p:nvSpPr>
              <p:spPr>
                <a:xfrm>
                  <a:off x="6226560" y="462384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Line 126"/>
                <p:cNvSpPr/>
                <p:nvPr/>
              </p:nvSpPr>
              <p:spPr>
                <a:xfrm>
                  <a:off x="6274080" y="471168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Group 127"/>
              <p:cNvGrpSpPr/>
              <p:nvPr/>
            </p:nvGrpSpPr>
            <p:grpSpPr>
              <a:xfrm>
                <a:off x="6483240" y="5093280"/>
                <a:ext cx="192240" cy="175680"/>
                <a:chOff x="6483240" y="5093280"/>
                <a:chExt cx="192240" cy="175680"/>
              </a:xfrm>
            </p:grpSpPr>
            <p:sp>
              <p:nvSpPr>
                <p:cNvPr id="871" name="Oval 128"/>
                <p:cNvSpPr/>
                <p:nvPr/>
              </p:nvSpPr>
              <p:spPr>
                <a:xfrm>
                  <a:off x="6483240" y="5093280"/>
                  <a:ext cx="19224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6530760" y="5181120"/>
                  <a:ext cx="9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Group 130"/>
              <p:cNvGrpSpPr/>
              <p:nvPr/>
            </p:nvGrpSpPr>
            <p:grpSpPr>
              <a:xfrm>
                <a:off x="6226560" y="5799600"/>
                <a:ext cx="192600" cy="176040"/>
                <a:chOff x="6226560" y="5799600"/>
                <a:chExt cx="192600" cy="176040"/>
              </a:xfrm>
            </p:grpSpPr>
            <p:sp>
              <p:nvSpPr>
                <p:cNvPr id="874" name="Oval 131"/>
                <p:cNvSpPr/>
                <p:nvPr/>
              </p:nvSpPr>
              <p:spPr>
                <a:xfrm>
                  <a:off x="6226560" y="579960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Line 132"/>
                <p:cNvSpPr/>
                <p:nvPr/>
              </p:nvSpPr>
              <p:spPr>
                <a:xfrm>
                  <a:off x="6274080" y="588744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Group 133"/>
              <p:cNvGrpSpPr/>
              <p:nvPr/>
            </p:nvGrpSpPr>
            <p:grpSpPr>
              <a:xfrm>
                <a:off x="7896960" y="4329720"/>
                <a:ext cx="192600" cy="176040"/>
                <a:chOff x="7896960" y="4329720"/>
                <a:chExt cx="192600" cy="176040"/>
              </a:xfrm>
            </p:grpSpPr>
            <p:sp>
              <p:nvSpPr>
                <p:cNvPr id="877" name="Oval 134"/>
                <p:cNvSpPr/>
                <p:nvPr/>
              </p:nvSpPr>
              <p:spPr>
                <a:xfrm>
                  <a:off x="7896960" y="432972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Line 135"/>
                <p:cNvSpPr/>
                <p:nvPr/>
              </p:nvSpPr>
              <p:spPr>
                <a:xfrm>
                  <a:off x="7944480" y="441756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Group 136"/>
              <p:cNvGrpSpPr/>
              <p:nvPr/>
            </p:nvGrpSpPr>
            <p:grpSpPr>
              <a:xfrm>
                <a:off x="6997320" y="5563440"/>
                <a:ext cx="192600" cy="176040"/>
                <a:chOff x="6997320" y="5563440"/>
                <a:chExt cx="192600" cy="176040"/>
              </a:xfrm>
            </p:grpSpPr>
            <p:sp>
              <p:nvSpPr>
                <p:cNvPr id="880" name="Oval 137"/>
                <p:cNvSpPr/>
                <p:nvPr/>
              </p:nvSpPr>
              <p:spPr>
                <a:xfrm>
                  <a:off x="6997320" y="556344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Line 138"/>
                <p:cNvSpPr/>
                <p:nvPr/>
              </p:nvSpPr>
              <p:spPr>
                <a:xfrm>
                  <a:off x="7044840" y="565128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Group 139"/>
              <p:cNvGrpSpPr/>
              <p:nvPr/>
            </p:nvGrpSpPr>
            <p:grpSpPr>
              <a:xfrm>
                <a:off x="7255440" y="6033960"/>
                <a:ext cx="192600" cy="176040"/>
                <a:chOff x="7255440" y="6033960"/>
                <a:chExt cx="192600" cy="176040"/>
              </a:xfrm>
            </p:grpSpPr>
            <p:sp>
              <p:nvSpPr>
                <p:cNvPr id="883" name="Oval 140"/>
                <p:cNvSpPr/>
                <p:nvPr/>
              </p:nvSpPr>
              <p:spPr>
                <a:xfrm>
                  <a:off x="7255440" y="603396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Line 141"/>
                <p:cNvSpPr/>
                <p:nvPr/>
              </p:nvSpPr>
              <p:spPr>
                <a:xfrm>
                  <a:off x="7302960" y="612180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85" name="Text Box 142"/>
          <p:cNvSpPr/>
          <p:nvPr/>
        </p:nvSpPr>
        <p:spPr>
          <a:xfrm>
            <a:off x="539640" y="321300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Связь, которую осуществляют эти относительно свободные электроны между ионами металлов, образующих кристаллическую решетку, называют </a:t>
            </a:r>
            <a:r>
              <a:rPr b="1" lang="ru-RU" sz="1800" spc="-1" strike="noStrike" u="sng">
                <a:solidFill>
                  <a:srgbClr val="336699"/>
                </a:solidFill>
                <a:uFillTx/>
                <a:latin typeface="Arial Black"/>
              </a:rPr>
              <a:t>металлической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676908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a1827"/>
                </a:solidFill>
                <a:latin typeface="Arial Black"/>
              </a:rPr>
              <a:t>Строение атомов Ме (продолжени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45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 главных подгрупп на внешнем уровне имеют 1-3 электрона (4 электрона имеют металлы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группы).  Ме главных подгрупп завершают внешний уровень, отдавая элект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 побочных подгрупп. Предвнешний уровень незавершенный, внешний уровень имеет 1-2 электрона; завершают внешний уровень, отдавая электроны, степень окисления: +1; +2; +3; (+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се металлы - </a:t>
            </a:r>
            <a:r>
              <a:rPr b="1" lang="ru-RU" sz="2000" spc="-1" strike="noStrike" u="sng">
                <a:solidFill>
                  <a:srgbClr val="ff33cc"/>
                </a:solidFill>
                <a:uFillTx/>
                <a:latin typeface="Arial Black"/>
              </a:rPr>
              <a:t>восстанов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изические свойств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Text Box 12"/>
          <p:cNvSpPr/>
          <p:nvPr/>
        </p:nvSpPr>
        <p:spPr>
          <a:xfrm>
            <a:off x="468360" y="1628640"/>
            <a:ext cx="20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890" name="Group 45"/>
          <p:cNvGrpSpPr/>
          <p:nvPr/>
        </p:nvGrpSpPr>
        <p:grpSpPr>
          <a:xfrm>
            <a:off x="179280" y="2381400"/>
            <a:ext cx="8568000" cy="3089160"/>
            <a:chOff x="179280" y="2381400"/>
            <a:chExt cx="8568000" cy="3089160"/>
          </a:xfrm>
        </p:grpSpPr>
        <p:sp>
          <p:nvSpPr>
            <p:cNvPr id="891" name="Text Box 22"/>
            <p:cNvSpPr/>
            <p:nvPr/>
          </p:nvSpPr>
          <p:spPr>
            <a:xfrm>
              <a:off x="5214960" y="4626000"/>
              <a:ext cx="35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температура плавления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2" name="Line 21"/>
            <p:cNvSpPr/>
            <p:nvPr/>
          </p:nvSpPr>
          <p:spPr>
            <a:xfrm>
              <a:off x="5143680" y="4365720"/>
              <a:ext cx="58392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3" name="Text Box 6"/>
            <p:cNvSpPr/>
            <p:nvPr/>
          </p:nvSpPr>
          <p:spPr>
            <a:xfrm>
              <a:off x="3564000" y="3357720"/>
              <a:ext cx="17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 Black"/>
                </a:rPr>
                <a:t>Ме</a:t>
              </a:r>
              <a:endParaRPr b="0" lang="en-US" sz="7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4" name="Text Box 7"/>
            <p:cNvSpPr/>
            <p:nvPr/>
          </p:nvSpPr>
          <p:spPr>
            <a:xfrm>
              <a:off x="357120" y="314316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металлический блеск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5" name="Line 8"/>
            <p:cNvSpPr/>
            <p:nvPr/>
          </p:nvSpPr>
          <p:spPr>
            <a:xfrm flipH="1" flipV="1">
              <a:off x="2857680" y="3642840"/>
              <a:ext cx="7855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6" name="Line 9"/>
            <p:cNvSpPr/>
            <p:nvPr/>
          </p:nvSpPr>
          <p:spPr>
            <a:xfrm flipV="1">
              <a:off x="5170320" y="3335400"/>
              <a:ext cx="73188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7" name="Text Box 13"/>
            <p:cNvSpPr/>
            <p:nvPr/>
          </p:nvSpPr>
          <p:spPr>
            <a:xfrm>
              <a:off x="5862600" y="3040200"/>
              <a:ext cx="26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теплопроводность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8" name="Text Box 14"/>
            <p:cNvSpPr/>
            <p:nvPr/>
          </p:nvSpPr>
          <p:spPr>
            <a:xfrm>
              <a:off x="3230640" y="2381400"/>
              <a:ext cx="28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электропроводность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9" name="Line 17"/>
            <p:cNvSpPr/>
            <p:nvPr/>
          </p:nvSpPr>
          <p:spPr>
            <a:xfrm flipV="1">
              <a:off x="4476600" y="2819520"/>
              <a:ext cx="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0" name="Line 19"/>
            <p:cNvSpPr/>
            <p:nvPr/>
          </p:nvSpPr>
          <p:spPr>
            <a:xfrm flipH="1">
              <a:off x="2916000" y="4292640"/>
              <a:ext cx="7318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1" name="Text Box 20"/>
            <p:cNvSpPr/>
            <p:nvPr/>
          </p:nvSpPr>
          <p:spPr>
            <a:xfrm>
              <a:off x="468360" y="4653000"/>
              <a:ext cx="29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температура кипения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2" name="Line 23"/>
            <p:cNvSpPr/>
            <p:nvPr/>
          </p:nvSpPr>
          <p:spPr>
            <a:xfrm flipH="1">
              <a:off x="3497400" y="4438800"/>
              <a:ext cx="36648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3" name="Text Box 24"/>
            <p:cNvSpPr/>
            <p:nvPr/>
          </p:nvSpPr>
          <p:spPr>
            <a:xfrm>
              <a:off x="2647800" y="51022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твердость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4" name="Line 25"/>
            <p:cNvSpPr/>
            <p:nvPr/>
          </p:nvSpPr>
          <p:spPr>
            <a:xfrm>
              <a:off x="4519440" y="4365720"/>
              <a:ext cx="29376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5" name="Text Box 26"/>
            <p:cNvSpPr/>
            <p:nvPr/>
          </p:nvSpPr>
          <p:spPr>
            <a:xfrm>
              <a:off x="4329000" y="5102280"/>
              <a:ext cx="16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плотность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6" name="Text Box 41"/>
            <p:cNvSpPr/>
            <p:nvPr/>
          </p:nvSpPr>
          <p:spPr>
            <a:xfrm>
              <a:off x="179280" y="3645000"/>
              <a:ext cx="2376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8"/>
          <p:cNvSpPr/>
          <p:nvPr/>
        </p:nvSpPr>
        <p:spPr>
          <a:xfrm>
            <a:off x="214200" y="2071800"/>
            <a:ext cx="864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1) Для всех металлов характерен </a:t>
            </a:r>
            <a:r>
              <a:rPr b="0" lang="ru-RU" sz="1800" spc="-1" strike="noStrike" u="sng">
                <a:solidFill>
                  <a:srgbClr val="336699"/>
                </a:solidFill>
                <a:uFillTx/>
                <a:latin typeface="Arial Black"/>
              </a:rPr>
              <a:t>металлический блеск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обычно серый цвет и непрозрачность, что связано с наличием свободных электронов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2) Тот факт, что металлы обладают хорошей </a:t>
            </a:r>
            <a:r>
              <a:rPr b="0" lang="ru-RU" sz="1800" spc="-1" strike="noStrike" u="sng">
                <a:solidFill>
                  <a:srgbClr val="336699"/>
                </a:solidFill>
                <a:uFillTx/>
                <a:latin typeface="Arial Black"/>
              </a:rPr>
              <a:t>электрической проводимостью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объясняется присутствием в них свободных электронов, которые под влиянием даже небольшой разности потенциалов приобретают направленное движение от отрицательного полюса к положительному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8" name="Text Box 10"/>
          <p:cNvSpPr/>
          <p:nvPr/>
        </p:nvSpPr>
        <p:spPr>
          <a:xfrm>
            <a:off x="250920" y="260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Физические свойства (продолжение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9"/>
          <p:cNvSpPr/>
          <p:nvPr/>
        </p:nvSpPr>
        <p:spPr>
          <a:xfrm>
            <a:off x="468360" y="260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Физические свойства (продолжение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0" name="Rectangle 10"/>
          <p:cNvSpPr/>
          <p:nvPr/>
        </p:nvSpPr>
        <p:spPr>
          <a:xfrm>
            <a:off x="324000" y="1989000"/>
            <a:ext cx="8820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3) В большинстве случаев при обычных условиях </a:t>
            </a:r>
            <a:r>
              <a:rPr b="0" lang="ru-RU" sz="2000" spc="-1" strike="noStrike" u="sng">
                <a:solidFill>
                  <a:srgbClr val="336699"/>
                </a:solidFill>
                <a:uFillTx/>
                <a:latin typeface="Arial Black"/>
              </a:rPr>
              <a:t>теплопроводность</a:t>
            </a: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 металлов изменяется в такой же последовательности, как и их электрическая проводимость. Теплопроводность обуславливается высокой подвижностью  свободных электронов и колебательными движениями атомов, благодаря чему происходит быстрее выравнивание температур в массе металлов.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щие химические свойства (продолжение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406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аиболее энергично металлы реагируют с простыми веществами (неметаллами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галогенами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ислоро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3" name="Picture 8" descr=""/>
          <p:cNvPicPr/>
          <p:nvPr/>
        </p:nvPicPr>
        <p:blipFill>
          <a:blip r:embed="rId2"/>
          <a:stretch/>
        </p:blipFill>
        <p:spPr>
          <a:xfrm>
            <a:off x="3419640" y="2637000"/>
            <a:ext cx="2095200" cy="9810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9" descr=""/>
          <p:cNvPicPr/>
          <p:nvPr/>
        </p:nvPicPr>
        <p:blipFill>
          <a:blip r:embed="rId3"/>
          <a:stretch/>
        </p:blipFill>
        <p:spPr>
          <a:xfrm>
            <a:off x="3419640" y="3645000"/>
            <a:ext cx="2087280" cy="107640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0" descr=""/>
          <p:cNvPicPr/>
          <p:nvPr/>
        </p:nvPicPr>
        <p:blipFill>
          <a:blip r:embed="rId4"/>
          <a:stretch/>
        </p:blipFill>
        <p:spPr>
          <a:xfrm>
            <a:off x="3419640" y="4797360"/>
            <a:ext cx="2087280" cy="1079640"/>
          </a:xfrm>
          <a:prstGeom prst="rect">
            <a:avLst/>
          </a:prstGeom>
          <a:ln w="0">
            <a:noFill/>
          </a:ln>
        </p:spPr>
      </p:pic>
      <p:sp>
        <p:nvSpPr>
          <p:cNvPr id="916" name="Text Box 11"/>
          <p:cNvSpPr/>
          <p:nvPr/>
        </p:nvSpPr>
        <p:spPr>
          <a:xfrm>
            <a:off x="5651640" y="2924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Black"/>
              </a:rPr>
              <a:t>Ca - </a:t>
            </a: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7" name="Text Box 12"/>
          <p:cNvSpPr/>
          <p:nvPr/>
        </p:nvSpPr>
        <p:spPr>
          <a:xfrm>
            <a:off x="5651640" y="4005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Black"/>
              </a:rPr>
              <a:t>Mg - </a:t>
            </a: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8" name="Text Box 13"/>
          <p:cNvSpPr/>
          <p:nvPr/>
        </p:nvSpPr>
        <p:spPr>
          <a:xfrm>
            <a:off x="5722920" y="5013360"/>
            <a:ext cx="31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Black"/>
              </a:rPr>
              <a:t>Na - </a:t>
            </a: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6:23:54Z</dcterms:created>
  <dc:creator>Пользователь</dc:creator>
  <dc:description/>
  <dc:language>en-US</dc:language>
  <cp:lastModifiedBy>XP GAME 2007</cp:lastModifiedBy>
  <dcterms:modified xsi:type="dcterms:W3CDTF">2012-02-07T19:33:54Z</dcterms:modified>
  <cp:revision>197</cp:revision>
  <dc:subject/>
  <dc:title>Презентация PowerPoint</dc:title>
</cp:coreProperties>
</file>