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jpeg" ContentType="image/jpeg"/>
  <Override PartName="/ppt/media/image6.jpeg" ContentType="image/jpeg"/>
  <Override PartName="/ppt/media/image4.gif" ContentType="image/gif"/>
  <Override PartName="/ppt/media/image7.png" ContentType="image/png"/>
  <Override PartName="/ppt/media/image5.png" ContentType="image/png"/>
  <Override PartName="/ppt/media/image8.jpeg" ContentType="image/jpeg"/>
  <Override PartName="/ppt/media/image9.gif" ContentType="image/gif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A69-6627-4E7E-95CA-F92D2E07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265-CA6A-457E-BF77-C342E374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DA8-F56D-4091-85F3-47B6CA54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F1B-68E0-4936-B45C-3207D888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7641-3B34-4E7F-BC25-29A230B3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B648-284F-4AF0-8263-92F99CC2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C7A-8D25-4F9F-BC60-DCC886D8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979-3A0F-4A7D-88B1-D0D96087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8AC-E649-4080-9888-5F65DE92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7074-14B0-44AB-9902-D244BC55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CF47-CB81-4CF1-BD94-DDC18ED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2C0-A638-491F-96DF-6D802935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1EBD-EC3A-4E5E-B5BF-76B4F34F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02FE-F461-4360-9378-2F74A5A1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B8B-0A0D-4C25-9900-20F0976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6A80-7D4E-4248-A4F1-F034278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182-CC82-46CD-AA36-84E6B23E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C7A-22AF-4A65-BA6E-D9AAB8D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51C-1BFC-4595-8B0C-435CAF43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5EE-F389-4206-A5BC-E1BB54A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3F2-F91A-4C40-B73F-2A0DCA5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2A3-3B29-46FC-8019-199B78A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CD8-11E0-47C8-B19D-01BE57CC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EB4-6EE3-4BC0-BDD5-4F2184D9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8500-7091-4351-877D-5BAC089944E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B34-E93F-424B-B644-2E1FA34819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j0233964"/>
          <p:cNvPicPr/>
          <p:nvPr/>
        </p:nvPicPr>
        <p:blipFill>
          <a:blip r:embed="rId1"/>
          <a:stretch/>
        </p:blipFill>
        <p:spPr>
          <a:xfrm>
            <a:off x="6877080" y="404640"/>
            <a:ext cx="2039760" cy="206712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1258920" y="2133720"/>
            <a:ext cx="684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математики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3 классе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1547640" y="404640"/>
            <a:ext cx="56008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Школа 2000..."  - "Школа 2100"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2050920" y="4869000"/>
            <a:ext cx="56008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дёт учитель высшей категории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юкова Лариса Алексеевн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9" descr="VolodinE"/>
          <p:cNvPicPr/>
          <p:nvPr/>
        </p:nvPicPr>
        <p:blipFill>
          <a:blip r:embed="rId2"/>
          <a:srcRect l="3429" t="20720" r="64070" b="5158"/>
          <a:stretch/>
        </p:blipFill>
        <p:spPr>
          <a:xfrm>
            <a:off x="179280" y="4292640"/>
            <a:ext cx="1697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189000"/>
            <a:ext cx="7313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ентябре в классе проводился конкурс плакатов «Нет - террору!» и конкурс сочинений «Природа - наш общий дом.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 – множество победителей конкурса плакатов: Вера, Катя, Вов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– множество победителей конкурса сочинений:  Вера, Алёш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метьте на диаграмме Венна победителей и закончи запис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   В=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   В=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26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1908000" y="3960720"/>
            <a:ext cx="360360" cy="1052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 rot="10800000">
            <a:off x="1907640" y="4940280"/>
            <a:ext cx="360360" cy="9367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9"/>
          <p:cNvSpPr txBox="1"/>
          <p:nvPr/>
        </p:nvSpPr>
        <p:spPr>
          <a:xfrm>
            <a:off x="3564000" y="3984480"/>
            <a:ext cx="1076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3419640" y="535320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Вера,Катя,Вова,Алё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3348000" y="3860640"/>
            <a:ext cx="1584360" cy="649440"/>
          </a:xfrm>
          <a:prstGeom prst="bracePair">
            <a:avLst>
              <a:gd name="adj" fmla="val 8333"/>
            </a:avLst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2"/>
          <p:cNvSpPr/>
          <p:nvPr/>
        </p:nvSpPr>
        <p:spPr>
          <a:xfrm>
            <a:off x="3276720" y="5227560"/>
            <a:ext cx="5688000" cy="649440"/>
          </a:xfrm>
          <a:prstGeom prst="bracePair">
            <a:avLst>
              <a:gd name="adj" fmla="val 8333"/>
            </a:avLst>
          </a:prstGeom>
          <a:noFill/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03280" y="3789360"/>
            <a:ext cx="5763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700360" y="2565360"/>
            <a:ext cx="7920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627280" y="5013360"/>
            <a:ext cx="720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284720" y="3645000"/>
            <a:ext cx="71892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516720" y="2997360"/>
            <a:ext cx="792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27640" y="4941720"/>
            <a:ext cx="720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628640"/>
            <a:ext cx="4968720" cy="4896000"/>
          </a:xfrm>
          <a:prstGeom prst="donut">
            <a:avLst>
              <a:gd name="adj" fmla="val 3615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1844640"/>
            <a:ext cx="4968720" cy="4608720"/>
          </a:xfrm>
          <a:prstGeom prst="donut">
            <a:avLst>
              <a:gd name="adj" fmla="val 3615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66708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 U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={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, 3, 7, 5, 4, 6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16000" y="333360"/>
            <a:ext cx="8028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льтаир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амая яркая звез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созвездии Ор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picture"/>
          <p:cNvPicPr/>
          <p:nvPr/>
        </p:nvPicPr>
        <p:blipFill>
          <a:blip r:embed="rId1"/>
          <a:srcRect l="0" t="28029" r="4382" b="4993"/>
          <a:stretch/>
        </p:blipFill>
        <p:spPr>
          <a:xfrm>
            <a:off x="3059280" y="1773360"/>
            <a:ext cx="5182920" cy="4822560"/>
          </a:xfrm>
          <a:prstGeom prst="rect">
            <a:avLst/>
          </a:prstGeom>
          <a:ln w="69840">
            <a:solidFill>
              <a:srgbClr val="ffff00"/>
            </a:solidFill>
            <a:round/>
          </a:ln>
        </p:spPr>
      </p:pic>
      <p:pic>
        <p:nvPicPr>
          <p:cNvPr id="183" name="Picture 4" descr="teacher"/>
          <p:cNvPicPr/>
          <p:nvPr/>
        </p:nvPicPr>
        <p:blipFill>
          <a:blip r:embed="rId2"/>
          <a:stretch/>
        </p:blipFill>
        <p:spPr>
          <a:xfrm>
            <a:off x="611280" y="3645000"/>
            <a:ext cx="345600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8"/>
          <p:cNvSpPr/>
          <p:nvPr/>
        </p:nvSpPr>
        <p:spPr>
          <a:xfrm>
            <a:off x="5292720" y="4076640"/>
            <a:ext cx="649440" cy="504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9"/>
          <p:cNvSpPr txBox="1"/>
          <p:nvPr/>
        </p:nvSpPr>
        <p:spPr>
          <a:xfrm>
            <a:off x="5724360" y="400536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льта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4"/>
          <p:cNvSpPr/>
          <p:nvPr/>
        </p:nvSpPr>
        <p:spPr>
          <a:xfrm rot="10800000">
            <a:off x="971280" y="2565000"/>
            <a:ext cx="936360" cy="1584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250920" y="1700280"/>
            <a:ext cx="2376360" cy="27352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1692360" y="256536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1"/>
          <p:cNvSpPr txBox="1"/>
          <p:nvPr/>
        </p:nvSpPr>
        <p:spPr>
          <a:xfrm>
            <a:off x="2916360" y="1773360"/>
            <a:ext cx="357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понял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WordArt 22"/>
          <p:cNvSpPr txBox="1"/>
          <p:nvPr/>
        </p:nvSpPr>
        <p:spPr>
          <a:xfrm>
            <a:off x="2843280" y="3141720"/>
            <a:ext cx="504180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 научился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1" name="WordArt 23"/>
          <p:cNvSpPr txBox="1"/>
          <p:nvPr/>
        </p:nvSpPr>
        <p:spPr>
          <a:xfrm>
            <a:off x="2843280" y="5157720"/>
            <a:ext cx="576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не ещё трудно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2" name="WordArt 24"/>
          <p:cNvSpPr txBox="1"/>
          <p:nvPr/>
        </p:nvSpPr>
        <p:spPr>
          <a:xfrm>
            <a:off x="2484360" y="549360"/>
            <a:ext cx="44388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Oval 25"/>
          <p:cNvSpPr/>
          <p:nvPr/>
        </p:nvSpPr>
        <p:spPr>
          <a:xfrm>
            <a:off x="971640" y="2565360"/>
            <a:ext cx="28728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44971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88000" y="2636640"/>
            <a:ext cx="35352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.34  № 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думать задания на нахождение объединения множе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ag00317_"/>
          <p:cNvPicPr/>
          <p:nvPr/>
        </p:nvPicPr>
        <p:blipFill>
          <a:blip r:embed="rId1"/>
          <a:stretch/>
        </p:blipFill>
        <p:spPr>
          <a:xfrm>
            <a:off x="250920" y="3357720"/>
            <a:ext cx="2411280" cy="309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21"/>
          <p:cNvPicPr/>
          <p:nvPr/>
        </p:nvPicPr>
        <p:blipFill>
          <a:blip r:embed="rId2"/>
          <a:stretch/>
        </p:blipFill>
        <p:spPr>
          <a:xfrm>
            <a:off x="4211640" y="692280"/>
            <a:ext cx="44766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0" descr="124.gif"/>
          <p:cNvPicPr/>
          <p:nvPr/>
        </p:nvPicPr>
        <p:blipFill>
          <a:blip r:embed="rId2"/>
          <a:stretch/>
        </p:blipFill>
        <p:spPr>
          <a:xfrm>
            <a:off x="6516720" y="476280"/>
            <a:ext cx="2211480" cy="22334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6"/>
          <p:cNvSpPr txBox="1"/>
          <p:nvPr/>
        </p:nvSpPr>
        <p:spPr>
          <a:xfrm rot="20838600">
            <a:off x="2195640" y="2707920"/>
            <a:ext cx="417672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1" name="01_E.Morricone.mp3" descr=""/>
          <p:cNvPicPr/>
          <p:nvPr/>
        </p:nvPicPr>
        <p:blipFill>
          <a:blip r:embed="rId3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2" name="WordArt 8"/>
          <p:cNvSpPr txBox="1"/>
          <p:nvPr/>
        </p:nvSpPr>
        <p:spPr>
          <a:xfrm>
            <a:off x="1187280" y="1916280"/>
            <a:ext cx="6905880" cy="34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множество звёзд ты, дружок, посмотр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так же, как звёзды, зажгись и гор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бойся ошибок, к победе стремись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ечтай, думай, пробуй,твори и учис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evt="end">
                                        <p:tn val="229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animClr clrSpc="rgb">
                                      <p:cBhvr>
                                        <p:cTn id="253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54" dur="250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826920" y="692280"/>
            <a:ext cx="7991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Тема: "Объединение множеств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826920" y="1628640"/>
            <a:ext cx="151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68000" y="1628640"/>
            <a:ext cx="68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ирование у учащихся представления об объединении множеств и его обозначении на письм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азвитие вычислительных навыков, логического мышления, внимания, самостоятельности, инициативности, математической реч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оспитание интереса к предмету, коммуникативных навыков, чувства сотрудничества и взаимопомощ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9"/>
          <p:cNvSpPr/>
          <p:nvPr/>
        </p:nvSpPr>
        <p:spPr>
          <a:xfrm>
            <a:off x="2556000" y="2565360"/>
            <a:ext cx="4319640" cy="1584360"/>
          </a:xfrm>
          <a:prstGeom prst="roundRect">
            <a:avLst>
              <a:gd name="adj" fmla="val 16667"/>
            </a:avLst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835280" y="1484280"/>
            <a:ext cx="43308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5796000" y="3141720"/>
            <a:ext cx="43344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7020000" y="5805360"/>
            <a:ext cx="433440" cy="360360"/>
          </a:xfrm>
          <a:prstGeom prst="irregularSeal2">
            <a:avLst/>
          </a:prstGeom>
          <a:gradFill rotWithShape="0">
            <a:gsLst>
              <a:gs pos="0">
                <a:srgbClr val="ff6161"/>
              </a:gs>
              <a:gs pos="100000">
                <a:srgbClr val="762d2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476360" y="5013360"/>
            <a:ext cx="649440" cy="574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7740720" y="981000"/>
            <a:ext cx="649080" cy="574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8317080" y="6093000"/>
            <a:ext cx="649080" cy="574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2916360" y="2997360"/>
            <a:ext cx="720720" cy="647640"/>
          </a:xfrm>
          <a:prstGeom prst="irregularSeal2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0" descr="124.gif"/>
          <p:cNvPicPr/>
          <p:nvPr/>
        </p:nvPicPr>
        <p:blipFill>
          <a:blip r:embed="rId2"/>
          <a:stretch/>
        </p:blipFill>
        <p:spPr>
          <a:xfrm>
            <a:off x="4211640" y="2924280"/>
            <a:ext cx="927000" cy="936360"/>
          </a:xfrm>
          <a:prstGeom prst="rect">
            <a:avLst/>
          </a:prstGeom>
          <a:ln w="0">
            <a:noFill/>
          </a:ln>
        </p:spPr>
      </p:pic>
      <p:sp>
        <p:nvSpPr>
          <p:cNvPr id="108" name="Line 20"/>
          <p:cNvSpPr/>
          <p:nvPr/>
        </p:nvSpPr>
        <p:spPr>
          <a:xfrm>
            <a:off x="3708360" y="3068640"/>
            <a:ext cx="504720" cy="290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1"/>
          <p:cNvSpPr/>
          <p:nvPr/>
        </p:nvSpPr>
        <p:spPr>
          <a:xfrm flipH="1">
            <a:off x="3708360" y="3357720"/>
            <a:ext cx="50472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5148360" y="3068640"/>
            <a:ext cx="504720" cy="290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 flipH="1">
            <a:off x="5148360" y="3357720"/>
            <a:ext cx="50472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01_E.Morricone.mp3" descr=""/>
          <p:cNvPicPr/>
          <p:nvPr/>
        </p:nvPicPr>
        <p:blipFill>
          <a:blip r:embed="rId3"/>
          <a:stretch/>
        </p:blipFill>
        <p:spPr>
          <a:xfrm>
            <a:off x="179280" y="6165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83d9"/>
            </a:gs>
            <a:gs pos="50000">
              <a:srgbClr val="a8e7f6"/>
            </a:gs>
            <a:gs pos="100000">
              <a:srgbClr val="d783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Oval 19"/>
          <p:cNvSpPr/>
          <p:nvPr/>
        </p:nvSpPr>
        <p:spPr>
          <a:xfrm>
            <a:off x="3564000" y="1484280"/>
            <a:ext cx="2232000" cy="4392720"/>
          </a:xfrm>
          <a:prstGeom prst="ellips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5796000" y="5229360"/>
            <a:ext cx="1152360" cy="79344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539640" y="907920"/>
            <a:ext cx="5329440" cy="554364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3492360" y="836640"/>
            <a:ext cx="5651640" cy="568800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4427640" y="189000"/>
            <a:ext cx="647640" cy="1898640"/>
          </a:xfrm>
          <a:prstGeom prst="pi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21"/>
          <p:cNvSpPr txBox="1"/>
          <p:nvPr/>
        </p:nvSpPr>
        <p:spPr>
          <a:xfrm>
            <a:off x="395280" y="620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WordArt 22"/>
          <p:cNvSpPr txBox="1"/>
          <p:nvPr/>
        </p:nvSpPr>
        <p:spPr>
          <a:xfrm>
            <a:off x="8028000" y="404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-45360"/>
            <a:ext cx="30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= {    }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14184 -0.06798 E">
                                      <p:cBhvr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6497 L -0.21649 -0.02289 E">
                                      <p:cBhvr>
                                        <p:cTn id="9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79191E-006 L -0.51962 -0.03653 E">
                                      <p:cBhvr>
                                        <p:cTn id="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4104E-006 L 0.11823 -0.40902 E">
                                      <p:cBhvr>
                                        <p:cTn id="103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4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796000" y="5229360"/>
            <a:ext cx="1152360" cy="79344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539640" y="907920"/>
            <a:ext cx="5329440" cy="554364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492360" y="836640"/>
            <a:ext cx="5651640" cy="5688000"/>
          </a:xfrm>
          <a:prstGeom prst="pie">
            <a:avLst/>
          </a:prstGeom>
          <a:solidFill>
            <a:srgbClr val="b4b1db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3"/>
          <p:cNvSpPr txBox="1"/>
          <p:nvPr/>
        </p:nvSpPr>
        <p:spPr>
          <a:xfrm>
            <a:off x="611280" y="476280"/>
            <a:ext cx="71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>
            <a:off x="8028000" y="333360"/>
            <a:ext cx="719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"/>
          <p:cNvPicPr/>
          <p:nvPr/>
        </p:nvPicPr>
        <p:blipFill>
          <a:blip r:embed="rId2"/>
          <a:srcRect l="1902" t="4455" r="57345" b="51079"/>
          <a:stretch/>
        </p:blipFill>
        <p:spPr>
          <a:xfrm>
            <a:off x="971640" y="1197000"/>
            <a:ext cx="7200720" cy="504036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7"/>
          <p:cNvSpPr txBox="1"/>
          <p:nvPr/>
        </p:nvSpPr>
        <p:spPr>
          <a:xfrm>
            <a:off x="611280" y="476280"/>
            <a:ext cx="71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WordArt 18"/>
          <p:cNvSpPr txBox="1"/>
          <p:nvPr/>
        </p:nvSpPr>
        <p:spPr>
          <a:xfrm>
            <a:off x="7885080" y="40464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nechnaya%20siste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"/>
          <p:cNvSpPr/>
          <p:nvPr/>
        </p:nvSpPr>
        <p:spPr>
          <a:xfrm>
            <a:off x="1042920" y="1916280"/>
            <a:ext cx="1728720" cy="129672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619280" y="4221000"/>
            <a:ext cx="1873080" cy="122400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851280" y="2852640"/>
            <a:ext cx="1728720" cy="129708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156360" y="1125360"/>
            <a:ext cx="115236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6804000" y="5300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7524720" y="3284640"/>
            <a:ext cx="1152720" cy="793800"/>
          </a:xfrm>
          <a:prstGeom prst="irregularSeal2">
            <a:avLst/>
          </a:prstGeom>
          <a:solidFill>
            <a:srgbClr val="fa545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 rot="10800000">
            <a:off x="2843280" y="-1611720"/>
            <a:ext cx="3744720" cy="8293320"/>
          </a:xfrm>
          <a:prstGeom prst="pie">
            <a:avLst/>
          </a:prstGeom>
          <a:solidFill>
            <a:srgbClr val="b4b1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1835280" y="836640"/>
            <a:ext cx="612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ЪЕДИН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WordArt 14"/>
          <p:cNvSpPr txBox="1"/>
          <p:nvPr/>
        </p:nvSpPr>
        <p:spPr>
          <a:xfrm>
            <a:off x="395280" y="765000"/>
            <a:ext cx="71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8244000" y="765000"/>
            <a:ext cx="718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5896E-006 C 0.09254 -0.14612 0.18507 -0.29202 0.23629 -0.23075 C 0.2875 -0.16948 0.29532 0.25873 0.30712 0.36717 C 0.31893 0.47561 0.30712 0.41411 0.30712 0.41942 C 0.30712 0.42474 0.30712 0.41156 0.30712 0.39862 E">
                                      <p:cBhvr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22 -0.08555 C 0.03681 -0.37573 0.12084 -0.6659 0.17327 -0.66243 C 0.2257 -0.65896 0.25191 -0.16417 0.26771 -0.06451 E">
                                      <p:cBhvr>
                                        <p:cTn id="11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4 -0.03167 C -0.05138 -0.1445 -0.15763 -0.25711 -0.21267 -0.17849 C -0.2677 -0.09988 -0.26527 0.33688 -0.27569 0.44024 E">
                                      <p:cBhvr>
                                        <p:cTn id="12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00346 C -0.13056 -0.22982 -0.26111 -0.45618 -0.33073 -0.42289 C -0.40035 -0.38959 -0.40295 0.09272 -0.41736 0.19584 E">
                                      <p:cBhvr>
                                        <p:cTn id="12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05804 C 0.000350000000000003 -0.46336 -0.05417 -0.86867 -0.09757 -0.87237 C -0.1408 -0.87584 -0.17274 -0.47815 -0.20469 -0.08023 E">
                                      <p:cBhvr>
                                        <p:cTn id="131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716 L -0.09427 0.48763 E">
                                      <p:cBhvr>
                                        <p:cTn id="14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65896E-006 L 0.14982 0.49826 E">
                                      <p:cBhvr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j0227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j0285246"/>
          <p:cNvPicPr/>
          <p:nvPr/>
        </p:nvPicPr>
        <p:blipFill>
          <a:blip r:embed="rId2"/>
          <a:stretch/>
        </p:blipFill>
        <p:spPr>
          <a:xfrm>
            <a:off x="0" y="3500280"/>
            <a:ext cx="2987640" cy="3357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j0285246"/>
          <p:cNvPicPr/>
          <p:nvPr/>
        </p:nvPicPr>
        <p:blipFill>
          <a:blip r:embed="rId3"/>
          <a:stretch/>
        </p:blipFill>
        <p:spPr>
          <a:xfrm>
            <a:off x="6093000" y="3429000"/>
            <a:ext cx="3051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j0336783"/>
          <p:cNvPicPr/>
          <p:nvPr/>
        </p:nvPicPr>
        <p:blipFill>
          <a:blip r:embed="rId4"/>
          <a:stretch/>
        </p:blipFill>
        <p:spPr>
          <a:xfrm>
            <a:off x="2700360" y="5707080"/>
            <a:ext cx="1347840" cy="1150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j0336783"/>
          <p:cNvPicPr/>
          <p:nvPr/>
        </p:nvPicPr>
        <p:blipFill>
          <a:blip r:embed="rId5"/>
          <a:stretch/>
        </p:blipFill>
        <p:spPr>
          <a:xfrm>
            <a:off x="5219640" y="5724360"/>
            <a:ext cx="1327320" cy="11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j0336783"/>
          <p:cNvPicPr/>
          <p:nvPr/>
        </p:nvPicPr>
        <p:blipFill>
          <a:blip r:embed="rId6"/>
          <a:stretch/>
        </p:blipFill>
        <p:spPr>
          <a:xfrm>
            <a:off x="4067280" y="5013360"/>
            <a:ext cx="1203120" cy="1028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63528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543564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60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7625"/>
            </a:gs>
            <a:gs pos="50000">
              <a:srgbClr val="4fff4f"/>
            </a:gs>
            <a:gs pos="100000">
              <a:srgbClr val="25762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7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j0219082"/>
          <p:cNvPicPr/>
          <p:nvPr/>
        </p:nvPicPr>
        <p:blipFill>
          <a:blip r:embed="rId2"/>
          <a:stretch/>
        </p:blipFill>
        <p:spPr>
          <a:xfrm>
            <a:off x="611280" y="189000"/>
            <a:ext cx="2982960" cy="3024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2050920" y="1484280"/>
            <a:ext cx="5473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ЗВЁЗДНА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ДИСКОТЕК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2771640" y="3213000"/>
            <a:ext cx="3600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7:09:36Z</dcterms:created>
  <dc:creator>User</dc:creator>
  <dc:description/>
  <dc:language>en-US</dc:language>
  <cp:lastModifiedBy>User</cp:lastModifiedBy>
  <dcterms:modified xsi:type="dcterms:W3CDTF">2008-10-06T07:18:38Z</dcterms:modified>
  <cp:revision>13</cp:revision>
  <dc:subject/>
  <dc:title>Слайд 1</dc:title>
</cp:coreProperties>
</file>