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jpeg" ContentType="image/jpeg"/>
  <Override PartName="/ppt/media/image6.jpeg" ContentType="image/jpeg"/>
  <Override PartName="/ppt/media/image4.gif" ContentType="image/gif"/>
  <Override PartName="/ppt/media/image7.png" ContentType="image/png"/>
  <Override PartName="/ppt/media/image5.png" ContentType="image/png"/>
  <Override PartName="/ppt/media/image8.jpeg" ContentType="image/jpeg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9B8-E049-4A92-A31C-F3B06D5C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032-1831-4344-8563-F33991E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8A6-DB84-4733-8BC1-015FC0E0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8AF-473B-454D-BC7F-18279A1F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294-E151-4F8D-B10E-F1ECEE9B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FD1-586B-4688-9F20-9F1E369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C079-FA56-4A3B-A550-622CB33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EA3-6C9B-4BB8-9BAB-4623D2B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AF1-A51D-4AAB-A8CA-C722F44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612-5F29-4EBF-9076-DA57785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B037-E14D-4BEE-B9DC-73C8B21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D5B-ABA0-468F-8BC3-BF0C86E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7237-CD7D-4859-B39F-017273C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F4D-0D93-4226-A4E9-9919D53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76FE-8E66-4213-99C6-1739ABA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EC3C-BF4B-4FBC-A611-BC54284C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2DF-0B02-4284-AD6F-D0426E22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A06-A95F-4BE2-8AF0-1916474B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388-221F-4FB3-93C9-A7694EC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BD4-0D07-478A-A61F-01AB694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F1C-50DA-4174-92F9-A5046561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758-441D-446E-9B02-DF729B1E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8FD-573F-4E88-9629-C232113F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8B1-0F46-4C16-87D0-BEC014E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E393-136B-4D61-A640-FE50757062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9978-867A-4407-A407-7E85682716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j0233964"/>
          <p:cNvPicPr/>
          <p:nvPr/>
        </p:nvPicPr>
        <p:blipFill>
          <a:blip r:embed="rId1"/>
          <a:stretch/>
        </p:blipFill>
        <p:spPr>
          <a:xfrm>
            <a:off x="6877080" y="404640"/>
            <a:ext cx="2039760" cy="206712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1258920" y="2133720"/>
            <a:ext cx="684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математики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3 классе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1547640" y="404640"/>
            <a:ext cx="56008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кола 2000..."  - "Школа 2100"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050920" y="4869000"/>
            <a:ext cx="56008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дёт учитель высшей категори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кова Лариса Алексеевн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9" descr="VolodinE"/>
          <p:cNvPicPr/>
          <p:nvPr/>
        </p:nvPicPr>
        <p:blipFill>
          <a:blip r:embed="rId2"/>
          <a:srcRect l="3429" t="20720" r="64070" b="5158"/>
          <a:stretch/>
        </p:blipFill>
        <p:spPr>
          <a:xfrm>
            <a:off x="179280" y="4292640"/>
            <a:ext cx="1697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189000"/>
            <a:ext cx="7313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ентябре в классе проводился конкурс плакатов «Нет - террору!» и конкурс сочинений «Природа - наш общий дом.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– множество победителей конкурса плакатов: Вера, Катя, В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– множество победителей конкурса сочинений:  Вера, Алёш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метьте на диаграмме Венна победителей и закончи запис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   В=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   В=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1908000" y="3960720"/>
            <a:ext cx="360360" cy="1052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 rot="10800000">
            <a:off x="1907640" y="4940280"/>
            <a:ext cx="360360" cy="9367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9"/>
          <p:cNvSpPr txBox="1"/>
          <p:nvPr/>
        </p:nvSpPr>
        <p:spPr>
          <a:xfrm>
            <a:off x="3564000" y="398448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3419640" y="535320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ера,Катя,Вова,Алё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3348000" y="3860640"/>
            <a:ext cx="1584360" cy="649440"/>
          </a:xfrm>
          <a:prstGeom prst="bracePair">
            <a:avLst>
              <a:gd name="adj" fmla="val 8333"/>
            </a:avLst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3276720" y="5227560"/>
            <a:ext cx="5688000" cy="649440"/>
          </a:xfrm>
          <a:prstGeom prst="bracePair">
            <a:avLst>
              <a:gd name="adj" fmla="val 8333"/>
            </a:avLst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03280" y="378936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565360"/>
            <a:ext cx="792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627280" y="5013360"/>
            <a:ext cx="720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4720" y="3645000"/>
            <a:ext cx="7189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516720" y="2997360"/>
            <a:ext cx="792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27640" y="4941720"/>
            <a:ext cx="720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628640"/>
            <a:ext cx="4968720" cy="4896000"/>
          </a:xfrm>
          <a:prstGeom prst="donut">
            <a:avLst>
              <a:gd name="adj" fmla="val 3615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1844640"/>
            <a:ext cx="4968720" cy="4608720"/>
          </a:xfrm>
          <a:prstGeom prst="donut">
            <a:avLst>
              <a:gd name="adj" fmla="val 3615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66708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 U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={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, 3, 7, 5, 4, 6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6000" y="333360"/>
            <a:ext cx="8028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льтаир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амая яркая звез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созвездии Ор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picture"/>
          <p:cNvPicPr/>
          <p:nvPr/>
        </p:nvPicPr>
        <p:blipFill>
          <a:blip r:embed="rId1"/>
          <a:srcRect l="0" t="28029" r="4382" b="4993"/>
          <a:stretch/>
        </p:blipFill>
        <p:spPr>
          <a:xfrm>
            <a:off x="3059280" y="1773360"/>
            <a:ext cx="5182920" cy="4822560"/>
          </a:xfrm>
          <a:prstGeom prst="rect">
            <a:avLst/>
          </a:prstGeom>
          <a:ln w="69840">
            <a:solidFill>
              <a:srgbClr val="ffff00"/>
            </a:solidFill>
            <a:round/>
          </a:ln>
        </p:spPr>
      </p:pic>
      <p:pic>
        <p:nvPicPr>
          <p:cNvPr id="183" name="Picture 4" descr="teacher"/>
          <p:cNvPicPr/>
          <p:nvPr/>
        </p:nvPicPr>
        <p:blipFill>
          <a:blip r:embed="rId2"/>
          <a:stretch/>
        </p:blipFill>
        <p:spPr>
          <a:xfrm>
            <a:off x="611280" y="3645000"/>
            <a:ext cx="345600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8"/>
          <p:cNvSpPr/>
          <p:nvPr/>
        </p:nvSpPr>
        <p:spPr>
          <a:xfrm>
            <a:off x="5292720" y="4076640"/>
            <a:ext cx="649440" cy="504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724360" y="400536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ьта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/>
          <p:cNvSpPr/>
          <p:nvPr/>
        </p:nvSpPr>
        <p:spPr>
          <a:xfrm rot="10800000">
            <a:off x="971280" y="2565000"/>
            <a:ext cx="936360" cy="158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250920" y="1700280"/>
            <a:ext cx="2376360" cy="27352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1692360" y="256536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1"/>
          <p:cNvSpPr txBox="1"/>
          <p:nvPr/>
        </p:nvSpPr>
        <p:spPr>
          <a:xfrm>
            <a:off x="2916360" y="1773360"/>
            <a:ext cx="357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понял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22"/>
          <p:cNvSpPr txBox="1"/>
          <p:nvPr/>
        </p:nvSpPr>
        <p:spPr>
          <a:xfrm>
            <a:off x="2843280" y="3141720"/>
            <a:ext cx="50418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научилс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23"/>
          <p:cNvSpPr txBox="1"/>
          <p:nvPr/>
        </p:nvSpPr>
        <p:spPr>
          <a:xfrm>
            <a:off x="2843280" y="5157720"/>
            <a:ext cx="576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е ещё трудно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24"/>
          <p:cNvSpPr txBox="1"/>
          <p:nvPr/>
        </p:nvSpPr>
        <p:spPr>
          <a:xfrm>
            <a:off x="2484360" y="549360"/>
            <a:ext cx="4438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Oval 25"/>
          <p:cNvSpPr/>
          <p:nvPr/>
        </p:nvSpPr>
        <p:spPr>
          <a:xfrm>
            <a:off x="971640" y="256536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44971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88000" y="2636640"/>
            <a:ext cx="35352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.34  №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думать задания на нахождение объединения множе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ag00317_"/>
          <p:cNvPicPr/>
          <p:nvPr/>
        </p:nvPicPr>
        <p:blipFill>
          <a:blip r:embed="rId1"/>
          <a:stretch/>
        </p:blipFill>
        <p:spPr>
          <a:xfrm>
            <a:off x="250920" y="3357720"/>
            <a:ext cx="24112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21"/>
          <p:cNvPicPr/>
          <p:nvPr/>
        </p:nvPicPr>
        <p:blipFill>
          <a:blip r:embed="rId2"/>
          <a:stretch/>
        </p:blipFill>
        <p:spPr>
          <a:xfrm>
            <a:off x="4211640" y="692280"/>
            <a:ext cx="44766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0" descr="124.gif"/>
          <p:cNvPicPr/>
          <p:nvPr/>
        </p:nvPicPr>
        <p:blipFill>
          <a:blip r:embed="rId2"/>
          <a:stretch/>
        </p:blipFill>
        <p:spPr>
          <a:xfrm>
            <a:off x="6516720" y="476280"/>
            <a:ext cx="2211480" cy="22334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 rot="20838600">
            <a:off x="2195640" y="2707920"/>
            <a:ext cx="417672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1" name="01_E.Morricone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2" name="WordArt 8"/>
          <p:cNvSpPr txBox="1"/>
          <p:nvPr/>
        </p:nvSpPr>
        <p:spPr>
          <a:xfrm>
            <a:off x="1187280" y="1916280"/>
            <a:ext cx="6905880" cy="34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множество звёзд ты, дружок, посмот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так же, как звёзды, зажгись и гор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бойся ошибок, к победе стремис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чтай, думай, пробуй,твори и учис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9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53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4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826920" y="692280"/>
            <a:ext cx="7991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ма: "Объединение множеств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826920" y="1628640"/>
            <a:ext cx="15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68000" y="1628640"/>
            <a:ext cx="68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ирование у учащихся представления об объединении множеств и его обозначении на письм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азвитие вычислительных навыков, логического мышления, внимания, самостоятельности, инициативности, математической реч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спитание интереса к предмету, коммуникативных навыков, чувства сотрудничества и взаимопомощ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9"/>
          <p:cNvSpPr/>
          <p:nvPr/>
        </p:nvSpPr>
        <p:spPr>
          <a:xfrm>
            <a:off x="2556000" y="2565360"/>
            <a:ext cx="4319640" cy="1584360"/>
          </a:xfrm>
          <a:prstGeom prst="roundRect">
            <a:avLst>
              <a:gd name="adj" fmla="val 16667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835280" y="1484280"/>
            <a:ext cx="43308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5796000" y="3141720"/>
            <a:ext cx="43344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7020000" y="5805360"/>
            <a:ext cx="43344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476360" y="5013360"/>
            <a:ext cx="649440" cy="574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7740720" y="981000"/>
            <a:ext cx="649080" cy="574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8317080" y="6093000"/>
            <a:ext cx="649080" cy="574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2916360" y="2997360"/>
            <a:ext cx="720720" cy="647640"/>
          </a:xfrm>
          <a:prstGeom prst="irregularSeal2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0" descr="124.gif"/>
          <p:cNvPicPr/>
          <p:nvPr/>
        </p:nvPicPr>
        <p:blipFill>
          <a:blip r:embed="rId2"/>
          <a:stretch/>
        </p:blipFill>
        <p:spPr>
          <a:xfrm>
            <a:off x="4211640" y="2924280"/>
            <a:ext cx="927000" cy="936360"/>
          </a:xfrm>
          <a:prstGeom prst="rect">
            <a:avLst/>
          </a:prstGeom>
          <a:ln w="0">
            <a:noFill/>
          </a:ln>
        </p:spPr>
      </p:pic>
      <p:sp>
        <p:nvSpPr>
          <p:cNvPr id="108" name="Line 20"/>
          <p:cNvSpPr/>
          <p:nvPr/>
        </p:nvSpPr>
        <p:spPr>
          <a:xfrm>
            <a:off x="3708360" y="3068640"/>
            <a:ext cx="504720" cy="290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3708360" y="3357720"/>
            <a:ext cx="50472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5148360" y="3068640"/>
            <a:ext cx="504720" cy="290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H="1">
            <a:off x="5148360" y="3357720"/>
            <a:ext cx="50472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1_E.Morricone.mp3" descr=""/>
          <p:cNvPicPr/>
          <p:nvPr/>
        </p:nvPicPr>
        <p:blipFill>
          <a:blip r:embed="rId3"/>
          <a:stretch/>
        </p:blipFill>
        <p:spPr>
          <a:xfrm>
            <a:off x="179280" y="6165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83d9"/>
            </a:gs>
            <a:gs pos="50000">
              <a:srgbClr val="a8e7f6"/>
            </a:gs>
            <a:gs pos="100000">
              <a:srgbClr val="d783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Oval 19"/>
          <p:cNvSpPr/>
          <p:nvPr/>
        </p:nvSpPr>
        <p:spPr>
          <a:xfrm>
            <a:off x="3564000" y="1484280"/>
            <a:ext cx="2232000" cy="4392720"/>
          </a:xfrm>
          <a:prstGeom prst="ellips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5796000" y="5229360"/>
            <a:ext cx="1152360" cy="79344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539640" y="907920"/>
            <a:ext cx="5329440" cy="554364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3492360" y="836640"/>
            <a:ext cx="5651640" cy="568800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4427640" y="189000"/>
            <a:ext cx="647640" cy="1898640"/>
          </a:xfrm>
          <a:prstGeom prst="pi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1"/>
          <p:cNvSpPr txBox="1"/>
          <p:nvPr/>
        </p:nvSpPr>
        <p:spPr>
          <a:xfrm>
            <a:off x="395280" y="620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22"/>
          <p:cNvSpPr txBox="1"/>
          <p:nvPr/>
        </p:nvSpPr>
        <p:spPr>
          <a:xfrm>
            <a:off x="8028000" y="404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-45360"/>
            <a:ext cx="30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= {    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14184 -0.06798 E"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6497 L -0.21649 -0.02289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79191E-006 L -0.51962 -0.03653 E">
                                      <p:cBhvr>
                                        <p:cTn id="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104E-006 L 0.11823 -0.40902 E">
                                      <p:cBhvr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796000" y="5229360"/>
            <a:ext cx="1152360" cy="79344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39640" y="907920"/>
            <a:ext cx="5329440" cy="554364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492360" y="836640"/>
            <a:ext cx="5651640" cy="568800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3"/>
          <p:cNvSpPr txBox="1"/>
          <p:nvPr/>
        </p:nvSpPr>
        <p:spPr>
          <a:xfrm>
            <a:off x="611280" y="476280"/>
            <a:ext cx="71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>
            <a:off x="8028000" y="333360"/>
            <a:ext cx="7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2"/>
          <a:srcRect l="1902" t="4455" r="57345" b="51079"/>
          <a:stretch/>
        </p:blipFill>
        <p:spPr>
          <a:xfrm>
            <a:off x="971640" y="1197000"/>
            <a:ext cx="7200720" cy="50403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7"/>
          <p:cNvSpPr txBox="1"/>
          <p:nvPr/>
        </p:nvSpPr>
        <p:spPr>
          <a:xfrm>
            <a:off x="611280" y="476280"/>
            <a:ext cx="71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18"/>
          <p:cNvSpPr txBox="1"/>
          <p:nvPr/>
        </p:nvSpPr>
        <p:spPr>
          <a:xfrm>
            <a:off x="7885080" y="404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6804000" y="5300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843280" y="-1611720"/>
            <a:ext cx="3744720" cy="8293320"/>
          </a:xfrm>
          <a:prstGeom prst="pi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1835280" y="83664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ЪЕДИ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95280" y="76500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8244000" y="76500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5896E-006 C 0.09254 -0.14612 0.18507 -0.29202 0.23629 -0.23075 C 0.2875 -0.16948 0.29532 0.25873 0.30712 0.36717 C 0.31893 0.47561 0.30712 0.41411 0.30712 0.41942 C 0.30712 0.42474 0.30712 0.41156 0.30712 0.39862 E">
                                      <p:cBhvr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8555 C 0.03681 -0.37573 0.12084 -0.6659 0.17327 -0.66243 C 0.2257 -0.65896 0.25191 -0.16417 0.26771 -0.06451 E">
                                      <p:cBhvr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4 -0.03167 C -0.05138 -0.1445 -0.15763 -0.25711 -0.21267 -0.17849 C -0.2677 -0.09988 -0.26527 0.33688 -0.27569 0.44024 E">
                                      <p:cBhvr>
                                        <p:cTn id="12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346 C -0.13056 -0.22982 -0.26111 -0.45618 -0.33073 -0.42289 C -0.40035 -0.38959 -0.40295 0.09272 -0.41736 0.19584 E">
                                      <p:cBhvr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05804 C 0.000350000000000003 -0.46336 -0.05417 -0.86867 -0.09757 -0.87237 C -0.1408 -0.87584 -0.17274 -0.47815 -0.20469 -0.08023 E">
                                      <p:cBhvr>
                                        <p:cTn id="13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716 L -0.09427 0.48763 E">
                                      <p:cBhvr>
                                        <p:cTn id="14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65896E-006 L 0.14982 0.49826 E">
                                      <p:cBhvr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j0227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j0285246"/>
          <p:cNvPicPr/>
          <p:nvPr/>
        </p:nvPicPr>
        <p:blipFill>
          <a:blip r:embed="rId2"/>
          <a:stretch/>
        </p:blipFill>
        <p:spPr>
          <a:xfrm>
            <a:off x="0" y="3500280"/>
            <a:ext cx="2987640" cy="335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285246"/>
          <p:cNvPicPr/>
          <p:nvPr/>
        </p:nvPicPr>
        <p:blipFill>
          <a:blip r:embed="rId3"/>
          <a:stretch/>
        </p:blipFill>
        <p:spPr>
          <a:xfrm>
            <a:off x="6093000" y="3429000"/>
            <a:ext cx="3051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j0336783"/>
          <p:cNvPicPr/>
          <p:nvPr/>
        </p:nvPicPr>
        <p:blipFill>
          <a:blip r:embed="rId4"/>
          <a:stretch/>
        </p:blipFill>
        <p:spPr>
          <a:xfrm>
            <a:off x="2700360" y="570708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j0336783"/>
          <p:cNvPicPr/>
          <p:nvPr/>
        </p:nvPicPr>
        <p:blipFill>
          <a:blip r:embed="rId5"/>
          <a:stretch/>
        </p:blipFill>
        <p:spPr>
          <a:xfrm>
            <a:off x="5219640" y="5724360"/>
            <a:ext cx="1327320" cy="11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j0336783"/>
          <p:cNvPicPr/>
          <p:nvPr/>
        </p:nvPicPr>
        <p:blipFill>
          <a:blip r:embed="rId6"/>
          <a:stretch/>
        </p:blipFill>
        <p:spPr>
          <a:xfrm>
            <a:off x="4067280" y="5013360"/>
            <a:ext cx="1203120" cy="1028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63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543564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19082"/>
          <p:cNvPicPr/>
          <p:nvPr/>
        </p:nvPicPr>
        <p:blipFill>
          <a:blip r:embed="rId2"/>
          <a:stretch/>
        </p:blipFill>
        <p:spPr>
          <a:xfrm>
            <a:off x="611280" y="189000"/>
            <a:ext cx="2982960" cy="3024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2050920" y="1484280"/>
            <a:ext cx="5473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ЗВЁЗДНА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ДИСКОТЕК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2771640" y="3213000"/>
            <a:ext cx="3600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09:36Z</dcterms:created>
  <dc:creator>User</dc:creator>
  <dc:description/>
  <dc:language>en-US</dc:language>
  <cp:lastModifiedBy>User</cp:lastModifiedBy>
  <dcterms:modified xsi:type="dcterms:W3CDTF">2008-10-06T07:18:38Z</dcterms:modified>
  <cp:revision>13</cp:revision>
  <dc:subject/>
  <dc:title>Слайд 1</dc:title>
</cp:coreProperties>
</file>