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4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323-396C-48BE-990E-EE71F6ED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66B-2E71-4017-BB7E-3FE72C84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370-9F2B-447F-9BF6-9B32269A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407-92A7-47A3-9F08-9A1AEB2F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478-C840-4550-9136-8103AAA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AB3-0CB7-4BB1-BB14-DA2DEE02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CA6-20E3-46F5-85D5-12748B9D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56F-14F0-4928-93B8-E0FEC2A8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14A-04F9-4595-B271-2773541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A493-5312-4278-8234-41815F3B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518-DD66-4597-ADD1-147BDE0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0C8-5000-4720-A731-8AC23EF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D908-7513-49C6-B224-8488ACF26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17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hyperlink" Target="file:///&#1043;&#1088;&#1091;&#1087;&#1087;&#1099;%20&#1082;&#1088;&#1086;&#1074;&#1080;.ppt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9520" y="3962520"/>
            <a:ext cx="5334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Щербань Лариса Степан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биологии 1 катег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го бюджетного общеобразовательного учереждения средняя общеобразовательная школа №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го образования Каневской райо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ицы Каневской  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304920" y="609480"/>
            <a:ext cx="8534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ТАЙНАЯ МУДРОСТЬ ОРГАНИЗМА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43" name="Picture 10" descr="ваня2"/>
          <p:cNvPicPr/>
          <p:nvPr/>
        </p:nvPicPr>
        <p:blipFill>
          <a:blip r:embed="rId1"/>
          <a:stretch/>
        </p:blipFill>
        <p:spPr>
          <a:xfrm>
            <a:off x="457200" y="22860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1143000" y="151920"/>
            <a:ext cx="700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урс интерактивных презентаций "Интерактивная              мозаика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edsovet.s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ип А (I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 группа)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- «Земледелец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152280" y="1371600"/>
            <a:ext cx="6324840" cy="2438280"/>
            <a:chOff x="152280" y="1371600"/>
            <a:chExt cx="6324840" cy="2438280"/>
          </a:xfrm>
        </p:grpSpPr>
        <p:sp>
          <p:nvSpPr>
            <p:cNvPr id="90" name="Rectangle 16"/>
            <p:cNvSpPr/>
            <p:nvPr/>
          </p:nvSpPr>
          <p:spPr>
            <a:xfrm>
              <a:off x="152280" y="1371600"/>
              <a:ext cx="6324840" cy="243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228600" y="1676520"/>
              <a:ext cx="952560" cy="17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"/>
            <p:cNvPicPr/>
            <p:nvPr/>
          </p:nvPicPr>
          <p:blipFill>
            <a:blip r:embed="rId2"/>
            <a:stretch/>
          </p:blipFill>
          <p:spPr>
            <a:xfrm>
              <a:off x="1295280" y="198108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"/>
            <p:cNvPicPr/>
            <p:nvPr/>
          </p:nvPicPr>
          <p:blipFill>
            <a:blip r:embed="rId3"/>
            <a:stretch/>
          </p:blipFill>
          <p:spPr>
            <a:xfrm>
              <a:off x="4800600" y="1676520"/>
              <a:ext cx="160020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4"/>
            <a:stretch/>
          </p:blipFill>
          <p:spPr>
            <a:xfrm>
              <a:off x="3429000" y="1752480"/>
              <a:ext cx="1266840" cy="175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11"/>
          <p:cNvSpPr/>
          <p:nvPr/>
        </p:nvSpPr>
        <p:spPr>
          <a:xfrm>
            <a:off x="99072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мендо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2"/>
          <p:cNvGrpSpPr/>
          <p:nvPr/>
        </p:nvGrpSpPr>
        <p:grpSpPr>
          <a:xfrm>
            <a:off x="228600" y="4876920"/>
            <a:ext cx="8763120" cy="1828800"/>
            <a:chOff x="228600" y="4876920"/>
            <a:chExt cx="8763120" cy="1828800"/>
          </a:xfrm>
        </p:grpSpPr>
        <p:sp>
          <p:nvSpPr>
            <p:cNvPr id="97" name="Rectangle 17"/>
            <p:cNvSpPr/>
            <p:nvPr/>
          </p:nvSpPr>
          <p:spPr>
            <a:xfrm>
              <a:off x="228600" y="4876920"/>
              <a:ext cx="876312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"/>
            <p:cNvPicPr/>
            <p:nvPr/>
          </p:nvPicPr>
          <p:blipFill>
            <a:blip r:embed="rId5"/>
            <a:stretch/>
          </p:blipFill>
          <p:spPr>
            <a:xfrm>
              <a:off x="380880" y="5105520"/>
              <a:ext cx="1905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3" descr=""/>
            <p:cNvPicPr/>
            <p:nvPr/>
          </p:nvPicPr>
          <p:blipFill>
            <a:blip r:embed="rId6"/>
            <a:stretch/>
          </p:blipFill>
          <p:spPr>
            <a:xfrm>
              <a:off x="2514600" y="4952880"/>
              <a:ext cx="2133720" cy="16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4" descr=""/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2152800" cy="15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5" descr=""/>
            <p:cNvPicPr/>
            <p:nvPr/>
          </p:nvPicPr>
          <p:blipFill>
            <a:blip r:embed="rId8"/>
            <a:stretch/>
          </p:blipFill>
          <p:spPr>
            <a:xfrm>
              <a:off x="7238880" y="5029200"/>
              <a:ext cx="1571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 Box 18"/>
          <p:cNvSpPr/>
          <p:nvPr/>
        </p:nvSpPr>
        <p:spPr>
          <a:xfrm>
            <a:off x="2286000" y="4495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9"/>
          <a:stretch/>
        </p:blipFill>
        <p:spPr>
          <a:xfrm>
            <a:off x="6561000" y="838080"/>
            <a:ext cx="2583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ип В (III группа)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- "Странник, кочевник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7026120" y="838080"/>
            <a:ext cx="1965600" cy="33530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8"/>
          <p:cNvGrpSpPr/>
          <p:nvPr/>
        </p:nvGrpSpPr>
        <p:grpSpPr>
          <a:xfrm>
            <a:off x="152280" y="838080"/>
            <a:ext cx="6705720" cy="2210040"/>
            <a:chOff x="152280" y="838080"/>
            <a:chExt cx="6705720" cy="2210040"/>
          </a:xfrm>
        </p:grpSpPr>
        <p:sp>
          <p:nvSpPr>
            <p:cNvPr id="107" name="Rectangle 5"/>
            <p:cNvSpPr/>
            <p:nvPr/>
          </p:nvSpPr>
          <p:spPr>
            <a:xfrm>
              <a:off x="152280" y="1143000"/>
              <a:ext cx="6705720" cy="1905120"/>
            </a:xfrm>
            <a:prstGeom prst="rect">
              <a:avLst/>
            </a:prstGeom>
            <a:solidFill>
              <a:srgbClr val="bbe0e3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7" descr=""/>
            <p:cNvPicPr/>
            <p:nvPr/>
          </p:nvPicPr>
          <p:blipFill>
            <a:blip r:embed="rId2"/>
            <a:stretch/>
          </p:blipFill>
          <p:spPr>
            <a:xfrm>
              <a:off x="228600" y="14479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8" descr=""/>
            <p:cNvPicPr/>
            <p:nvPr/>
          </p:nvPicPr>
          <p:blipFill>
            <a:blip r:embed="rId3"/>
            <a:stretch/>
          </p:blipFill>
          <p:spPr>
            <a:xfrm>
              <a:off x="1752480" y="1562040"/>
              <a:ext cx="175284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9" descr=""/>
            <p:cNvPicPr/>
            <p:nvPr/>
          </p:nvPicPr>
          <p:blipFill>
            <a:blip r:embed="rId4"/>
            <a:stretch/>
          </p:blipFill>
          <p:spPr>
            <a:xfrm>
              <a:off x="3581280" y="1371600"/>
              <a:ext cx="1387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1" descr=""/>
            <p:cNvPicPr/>
            <p:nvPr/>
          </p:nvPicPr>
          <p:blipFill>
            <a:blip r:embed="rId5"/>
            <a:stretch/>
          </p:blipFill>
          <p:spPr>
            <a:xfrm>
              <a:off x="5029200" y="1447920"/>
              <a:ext cx="178128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2"/>
            <p:cNvSpPr/>
            <p:nvPr/>
          </p:nvSpPr>
          <p:spPr>
            <a:xfrm>
              <a:off x="1295280" y="83808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комендова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152280" y="4800600"/>
            <a:ext cx="8229600" cy="1905120"/>
            <a:chOff x="152280" y="4800600"/>
            <a:chExt cx="8229600" cy="1905120"/>
          </a:xfrm>
        </p:grpSpPr>
        <p:sp>
          <p:nvSpPr>
            <p:cNvPr id="114" name="Rectangle 6"/>
            <p:cNvSpPr/>
            <p:nvPr/>
          </p:nvSpPr>
          <p:spPr>
            <a:xfrm>
              <a:off x="152280" y="4800600"/>
              <a:ext cx="8229600" cy="1905120"/>
            </a:xfrm>
            <a:prstGeom prst="rect">
              <a:avLst/>
            </a:prstGeom>
            <a:solidFill>
              <a:srgbClr val="bbe0e3">
                <a:alpha val="6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3" descr=""/>
            <p:cNvPicPr/>
            <p:nvPr/>
          </p:nvPicPr>
          <p:blipFill>
            <a:blip r:embed="rId6"/>
            <a:stretch/>
          </p:blipFill>
          <p:spPr>
            <a:xfrm>
              <a:off x="304920" y="5105520"/>
              <a:ext cx="1676160" cy="14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4" descr=""/>
            <p:cNvPicPr/>
            <p:nvPr/>
          </p:nvPicPr>
          <p:blipFill>
            <a:blip r:embed="rId7"/>
            <a:stretch/>
          </p:blipFill>
          <p:spPr>
            <a:xfrm>
              <a:off x="2209680" y="4952880"/>
              <a:ext cx="2086200" cy="15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5" descr=""/>
            <p:cNvPicPr/>
            <p:nvPr/>
          </p:nvPicPr>
          <p:blipFill>
            <a:blip r:embed="rId8"/>
            <a:stretch/>
          </p:blipFill>
          <p:spPr>
            <a:xfrm>
              <a:off x="4572000" y="4952880"/>
              <a:ext cx="18288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6" descr=""/>
            <p:cNvPicPr/>
            <p:nvPr/>
          </p:nvPicPr>
          <p:blipFill>
            <a:blip r:embed="rId9"/>
            <a:stretch/>
          </p:blipFill>
          <p:spPr>
            <a:xfrm>
              <a:off x="6705720" y="4876920"/>
              <a:ext cx="134784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17"/>
          <p:cNvSpPr/>
          <p:nvPr/>
        </p:nvSpPr>
        <p:spPr>
          <a:xfrm>
            <a:off x="2286000" y="4495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ип АВ (IV группа)</a:t>
            </a:r>
            <a:r>
              <a:rPr b="0" lang="ru-RU" sz="4400" spc="-1" strike="noStrike">
                <a:solidFill>
                  <a:srgbClr val="008000"/>
                </a:solidFill>
                <a:latin typeface="Arial"/>
              </a:rPr>
              <a:t> - "Загадка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391520" y="1219320"/>
            <a:ext cx="150336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447920" y="13716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ренно-смешанная ди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1143000" y="1752480"/>
            <a:ext cx="6095880" cy="3809880"/>
            <a:chOff x="1143000" y="1752480"/>
            <a:chExt cx="6095880" cy="3809880"/>
          </a:xfrm>
        </p:grpSpPr>
        <p:sp>
          <p:nvSpPr>
            <p:cNvPr id="124" name="Rectangle 6"/>
            <p:cNvSpPr/>
            <p:nvPr/>
          </p:nvSpPr>
          <p:spPr>
            <a:xfrm>
              <a:off x="1143000" y="1752480"/>
              <a:ext cx="6095880" cy="3809880"/>
            </a:xfrm>
            <a:prstGeom prst="rect">
              <a:avLst/>
            </a:prstGeom>
            <a:solidFill>
              <a:srgbClr val="bbe0e3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7" descr=""/>
            <p:cNvPicPr/>
            <p:nvPr/>
          </p:nvPicPr>
          <p:blipFill>
            <a:blip r:embed="rId2"/>
            <a:stretch/>
          </p:blipFill>
          <p:spPr>
            <a:xfrm>
              <a:off x="1218960" y="182844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8" descr=""/>
            <p:cNvPicPr/>
            <p:nvPr/>
          </p:nvPicPr>
          <p:blipFill>
            <a:blip r:embed="rId3"/>
            <a:stretch/>
          </p:blipFill>
          <p:spPr>
            <a:xfrm>
              <a:off x="2285640" y="1828440"/>
              <a:ext cx="1295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3657240" y="1828440"/>
              <a:ext cx="90144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0" descr=""/>
            <p:cNvPicPr/>
            <p:nvPr/>
          </p:nvPicPr>
          <p:blipFill>
            <a:blip r:embed="rId5"/>
            <a:stretch/>
          </p:blipFill>
          <p:spPr>
            <a:xfrm>
              <a:off x="4647960" y="1828440"/>
              <a:ext cx="121896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1" descr=""/>
            <p:cNvPicPr/>
            <p:nvPr/>
          </p:nvPicPr>
          <p:blipFill>
            <a:blip r:embed="rId6"/>
            <a:stretch/>
          </p:blipFill>
          <p:spPr>
            <a:xfrm>
              <a:off x="1218960" y="2971440"/>
              <a:ext cx="1066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2" descr=""/>
            <p:cNvPicPr/>
            <p:nvPr/>
          </p:nvPicPr>
          <p:blipFill>
            <a:blip r:embed="rId7"/>
            <a:stretch/>
          </p:blipFill>
          <p:spPr>
            <a:xfrm>
              <a:off x="6019560" y="1828440"/>
              <a:ext cx="11426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3" descr=""/>
            <p:cNvPicPr/>
            <p:nvPr/>
          </p:nvPicPr>
          <p:blipFill>
            <a:blip r:embed="rId8"/>
            <a:stretch/>
          </p:blipFill>
          <p:spPr>
            <a:xfrm>
              <a:off x="2438280" y="2895480"/>
              <a:ext cx="7614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4" descr=""/>
            <p:cNvPicPr/>
            <p:nvPr/>
          </p:nvPicPr>
          <p:blipFill>
            <a:blip r:embed="rId9"/>
            <a:stretch/>
          </p:blipFill>
          <p:spPr>
            <a:xfrm>
              <a:off x="3276360" y="2895480"/>
              <a:ext cx="1447560" cy="9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5" descr=""/>
            <p:cNvPicPr/>
            <p:nvPr/>
          </p:nvPicPr>
          <p:blipFill>
            <a:blip r:embed="rId10"/>
            <a:stretch/>
          </p:blipFill>
          <p:spPr>
            <a:xfrm>
              <a:off x="4800240" y="2895480"/>
              <a:ext cx="825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6" descr=""/>
            <p:cNvPicPr/>
            <p:nvPr/>
          </p:nvPicPr>
          <p:blipFill>
            <a:blip r:embed="rId11"/>
            <a:stretch/>
          </p:blipFill>
          <p:spPr>
            <a:xfrm>
              <a:off x="5714640" y="2895480"/>
              <a:ext cx="137124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7" descr=""/>
            <p:cNvPicPr/>
            <p:nvPr/>
          </p:nvPicPr>
          <p:blipFill>
            <a:blip r:embed="rId12"/>
            <a:stretch/>
          </p:blipFill>
          <p:spPr>
            <a:xfrm>
              <a:off x="2590560" y="4114440"/>
              <a:ext cx="137124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8" descr=""/>
            <p:cNvPicPr/>
            <p:nvPr/>
          </p:nvPicPr>
          <p:blipFill>
            <a:blip r:embed="rId13"/>
            <a:stretch/>
          </p:blipFill>
          <p:spPr>
            <a:xfrm>
              <a:off x="5638680" y="4114440"/>
              <a:ext cx="10630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"/>
            <p:cNvPicPr/>
            <p:nvPr/>
          </p:nvPicPr>
          <p:blipFill>
            <a:blip r:embed="rId14"/>
            <a:stretch/>
          </p:blipFill>
          <p:spPr>
            <a:xfrm>
              <a:off x="1295280" y="4190760"/>
              <a:ext cx="114264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"/>
            <p:cNvPicPr/>
            <p:nvPr/>
          </p:nvPicPr>
          <p:blipFill>
            <a:blip r:embed="rId15"/>
            <a:stretch/>
          </p:blipFill>
          <p:spPr>
            <a:xfrm>
              <a:off x="4190760" y="4114440"/>
              <a:ext cx="114120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AutoShape 23">
            <a:hlinkClick r:id="rId16"/>
          </p:cNvPr>
          <p:cNvSpPr/>
          <p:nvPr/>
        </p:nvSpPr>
        <p:spPr>
          <a:xfrm>
            <a:off x="7010280" y="5943600"/>
            <a:ext cx="1652760" cy="533520"/>
          </a:xfrm>
          <a:custGeom>
            <a:avLst/>
            <a:gdLst>
              <a:gd name="textAreaLeft" fmla="*/ 34560 w 1652760"/>
              <a:gd name="textAreaRight" fmla="*/ 1618200 w 1652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66883" h="21600">
                <a:moveTo>
                  <a:pt x="0" y="0"/>
                </a:moveTo>
                <a:lnTo>
                  <a:pt x="66883" y="0"/>
                </a:lnTo>
                <a:lnTo>
                  <a:pt x="66883" y="21600"/>
                </a:lnTo>
                <a:lnTo>
                  <a:pt x="0" y="21600"/>
                </a:lnTo>
                <a:close/>
              </a:path>
              <a:path fill="lightenLess" w="66883" h="21600">
                <a:moveTo>
                  <a:pt x="0" y="0"/>
                </a:moveTo>
                <a:lnTo>
                  <a:pt x="66883" y="0"/>
                </a:lnTo>
                <a:lnTo>
                  <a:pt x="65483" y="1400"/>
                </a:lnTo>
                <a:lnTo>
                  <a:pt x="1400" y="1400"/>
                </a:lnTo>
                <a:close/>
              </a:path>
              <a:path fill="darken" w="66883" h="21600">
                <a:moveTo>
                  <a:pt x="66883" y="0"/>
                </a:moveTo>
                <a:lnTo>
                  <a:pt x="66883" y="21600"/>
                </a:lnTo>
                <a:lnTo>
                  <a:pt x="65483" y="20200"/>
                </a:lnTo>
                <a:lnTo>
                  <a:pt x="65483" y="1400"/>
                </a:lnTo>
                <a:close/>
              </a:path>
              <a:path fill="darkenLess" w="66883" h="21600">
                <a:moveTo>
                  <a:pt x="66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83" y="20200"/>
                </a:lnTo>
                <a:close/>
              </a:path>
              <a:path fill="lighten" w="66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те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62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6868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8000"/>
                </a:solidFill>
                <a:uFillTx/>
                <a:latin typeface="Arial"/>
              </a:rPr>
              <a:t>Генетическая 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rcRect l="2692" t="3500" r="3029" b="5678"/>
          <a:stretch/>
        </p:blipFill>
        <p:spPr>
          <a:xfrm>
            <a:off x="0" y="4514760"/>
            <a:ext cx="5105520" cy="1897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rcRect l="3757" t="0" r="3627" b="6509"/>
          <a:stretch/>
        </p:blipFill>
        <p:spPr>
          <a:xfrm>
            <a:off x="228600" y="1981080"/>
            <a:ext cx="5410080" cy="1555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0" y="1066680"/>
            <a:ext cx="5486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у первой пары родителе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атери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а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отца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упп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е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терозигот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0" y="3657600"/>
            <a:ext cx="6019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первой пары родителей дети могут иметь либо первую, либо вторую группы кров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У второй пары родителей вторая группа: мать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мать гетерозиготная), отец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5791320" y="3733920"/>
            <a:ext cx="2819160" cy="228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477120" y="2590920"/>
            <a:ext cx="2666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ВЕТ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 второй пары могут быть де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Y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рупп крови, т.е. детей первой группы у них быть не может. Значит, ребенок с первой группе крови принадлежит первой п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исок источников основного содерж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ru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www.poedi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-doctor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Энциклопедический словарь БЭС И.Владим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писок источников иллюст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poedim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mp-doctor.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bloodл"/>
          <p:cNvPicPr/>
          <p:nvPr/>
        </p:nvPicPr>
        <p:blipFill>
          <a:blip r:embed="rId1"/>
          <a:stretch/>
        </p:blipFill>
        <p:spPr>
          <a:xfrm>
            <a:off x="1828800" y="19810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ов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жидкая ткань сердечно-сосудистой системы позвоночных животных, состоящая из плазмы, эритроцитов, лейкоцитов и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индивидуальных антигенных характеристик эритроцитов, определяемое с помощью методов идентификации специфических групп углеводов и белков, включённых в мембраны эритроцитов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295280" y="380880"/>
            <a:ext cx="61722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Г Р У П П А    К Р О В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Picture 12" descr="ваня2"/>
          <p:cNvPicPr/>
          <p:nvPr/>
        </p:nvPicPr>
        <p:blipFill>
          <a:blip r:embed="rId1"/>
          <a:stretch/>
        </p:blipFill>
        <p:spPr>
          <a:xfrm>
            <a:off x="56386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8"/>
          <p:cNvGrpSpPr/>
          <p:nvPr/>
        </p:nvGrpSpPr>
        <p:grpSpPr>
          <a:xfrm>
            <a:off x="2286000" y="3048120"/>
            <a:ext cx="4724280" cy="3429000"/>
            <a:chOff x="2286000" y="3048120"/>
            <a:chExt cx="4724280" cy="3429000"/>
          </a:xfrm>
        </p:grpSpPr>
        <p:sp>
          <p:nvSpPr>
            <p:cNvPr id="51" name="AutoShape 7"/>
            <p:cNvSpPr/>
            <p:nvPr/>
          </p:nvSpPr>
          <p:spPr>
            <a:xfrm>
              <a:off x="2286000" y="3048120"/>
              <a:ext cx="4724280" cy="3429000"/>
            </a:xfrm>
            <a:custGeom>
              <a:avLst/>
              <a:gdLst>
                <a:gd name="textAreaLeft" fmla="*/ 1181160 w 4724280"/>
                <a:gd name="textAreaRight" fmla="*/ 3543480 w 472428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4" descr=""/>
            <p:cNvPicPr/>
            <p:nvPr/>
          </p:nvPicPr>
          <p:blipFill>
            <a:blip r:embed="rId1"/>
            <a:stretch/>
          </p:blipFill>
          <p:spPr>
            <a:xfrm>
              <a:off x="3504960" y="3200400"/>
              <a:ext cx="2307960" cy="32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 Box 10"/>
          <p:cNvSpPr/>
          <p:nvPr/>
        </p:nvSpPr>
        <p:spPr>
          <a:xfrm>
            <a:off x="35812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1143000" y="380880"/>
            <a:ext cx="754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КЛАССИФИКАЦИЯ ГРУПП КРОВ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228600" y="2209680"/>
            <a:ext cx="19810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934320" y="2209680"/>
            <a:ext cx="19810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218960"/>
            <a:ext cx="87631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лазме крови человека могут содержаться агглютинины α и β, в эритроцитах — агглютиногены A и B, причём из белков A и α содержится один и только один, то же самое — для белков B и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им образом, существует четыре допустимых комбинации; то, какая из них характерна для данного человека, определяет его группу кр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и β: первая 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 β: вторая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α и B: третья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 и B: четвёртая (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447920" y="457200"/>
            <a:ext cx="6172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 И С Т Е М А     А В 0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с-фактор — это антиген, который находится на поверхности эритроцитов. Он обнаружен в 1940 году Карлом Ландштейнером и А.Вейнером. Известно, что резус-система — это сложная система, включающая более 40 антигенов, обозначаемых цифрами, буквами и символами. Чаще всего встречаются резус-антигены типа D (85 %), С (70 %), Е (30 %), е (80 %) — они же и обладают наиболее выраженной антиг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1447920" y="533520"/>
            <a:ext cx="6172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ЕЗУС-СИСТЕМА Rh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ДРУГИ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Келл (Kell) состоит из 2 антигенов, образующих 3 группы крови (К—К, К—k, k—k). Антигены системы Келл по активности стоят на втором месте после системы резус. Они могут вызвать сенсибилизацию при беременности, переливании крови; служат причиной гемолитической болезни новорожденных и гемотрансфузионных ослож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д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Кидд (Kidd) включает 2 антигена, образующих 3 группы крови: lk (a+b-), lk (A+b+) и lk (a-b+). Антигены системы Кидд также обладают изоиммунными свойствами и могут привести к гемолитической болезни новорожденных и гемотрансфузионным осложн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фф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Даффи (Duffy) включает 2 антигена, образующих 3 группы крови Fy (a+b-), Fy (a+b+) и Fy (a-b+). Антигены системы Даффи в редких случаях могут вызвать сенсибилизацию и гемотрансфузионные осло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MN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овая система MNSs является сложной системой; она состоит из 9 групп крови. Антигены этой системы активны, могут вызвать образование изоиммунных антител, то есть привести к несовместимости при переливании крови. Известны случаи гемолитической болезни новорожденных, вызванные антителами, образованными к антигенам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Особенности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00988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743200" y="533520"/>
            <a:ext cx="213372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169704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7140600" y="685800"/>
            <a:ext cx="2003400" cy="2743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228600" y="2133720"/>
            <a:ext cx="213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 0 (I группа) - "Охотник". Сильный, самодостаточный лид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743200" y="3505320"/>
            <a:ext cx="2133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А (II группа) - "Земледелец". 37,8% населения Земли - представители этого ти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334120" y="228600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В (III группа) - "Странник, кочевник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балансированный гибкий, созидатель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238880" y="36576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 АВ (IV группа) - "Загадка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Тип 0 (I группа)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- «Охотник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25909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20"/>
          <p:cNvGrpSpPr/>
          <p:nvPr/>
        </p:nvGrpSpPr>
        <p:grpSpPr>
          <a:xfrm>
            <a:off x="0" y="1143000"/>
            <a:ext cx="6477120" cy="2209680"/>
            <a:chOff x="0" y="1143000"/>
            <a:chExt cx="6477120" cy="2209680"/>
          </a:xfrm>
        </p:grpSpPr>
        <p:sp>
          <p:nvSpPr>
            <p:cNvPr id="75" name="Rectangle 6"/>
            <p:cNvSpPr/>
            <p:nvPr/>
          </p:nvSpPr>
          <p:spPr>
            <a:xfrm>
              <a:off x="0" y="1447920"/>
              <a:ext cx="6477120" cy="1904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138744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0" descr=""/>
            <p:cNvPicPr/>
            <p:nvPr/>
          </p:nvPicPr>
          <p:blipFill>
            <a:blip r:embed="rId3"/>
            <a:stretch/>
          </p:blipFill>
          <p:spPr>
            <a:xfrm>
              <a:off x="1447920" y="1981080"/>
              <a:ext cx="1676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1" descr=""/>
            <p:cNvPicPr/>
            <p:nvPr/>
          </p:nvPicPr>
          <p:blipFill>
            <a:blip r:embed="rId4"/>
            <a:stretch/>
          </p:blipFill>
          <p:spPr>
            <a:xfrm>
              <a:off x="3200400" y="1905120"/>
              <a:ext cx="17478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1523880"/>
              <a:ext cx="1403280" cy="17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/>
            <p:cNvSpPr/>
            <p:nvPr/>
          </p:nvSpPr>
          <p:spPr>
            <a:xfrm>
              <a:off x="1219320" y="1143000"/>
              <a:ext cx="39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екомендова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5"/>
          <p:cNvSpPr/>
          <p:nvPr/>
        </p:nvSpPr>
        <p:spPr>
          <a:xfrm>
            <a:off x="2209680" y="44197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каз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1"/>
          <p:cNvGrpSpPr/>
          <p:nvPr/>
        </p:nvGrpSpPr>
        <p:grpSpPr>
          <a:xfrm>
            <a:off x="152280" y="4800600"/>
            <a:ext cx="8229600" cy="1905120"/>
            <a:chOff x="152280" y="4800600"/>
            <a:chExt cx="8229600" cy="1905120"/>
          </a:xfrm>
        </p:grpSpPr>
        <p:sp>
          <p:nvSpPr>
            <p:cNvPr id="83" name="Rectangle 14"/>
            <p:cNvSpPr/>
            <p:nvPr/>
          </p:nvSpPr>
          <p:spPr>
            <a:xfrm>
              <a:off x="152280" y="4800600"/>
              <a:ext cx="82296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6" descr=""/>
            <p:cNvPicPr/>
            <p:nvPr/>
          </p:nvPicPr>
          <p:blipFill>
            <a:blip r:embed="rId6"/>
            <a:stretch/>
          </p:blipFill>
          <p:spPr>
            <a:xfrm>
              <a:off x="228600" y="5029200"/>
              <a:ext cx="1676520" cy="15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7" descr=""/>
            <p:cNvPicPr/>
            <p:nvPr/>
          </p:nvPicPr>
          <p:blipFill>
            <a:blip r:embed="rId7"/>
            <a:stretch/>
          </p:blipFill>
          <p:spPr>
            <a:xfrm>
              <a:off x="1981080" y="5410080"/>
              <a:ext cx="182880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8" descr=""/>
            <p:cNvPicPr/>
            <p:nvPr/>
          </p:nvPicPr>
          <p:blipFill>
            <a:blip r:embed="rId8"/>
            <a:stretch/>
          </p:blipFill>
          <p:spPr>
            <a:xfrm>
              <a:off x="4038480" y="4952880"/>
              <a:ext cx="153360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9" descr=""/>
            <p:cNvPicPr/>
            <p:nvPr/>
          </p:nvPicPr>
          <p:blipFill>
            <a:blip r:embed="rId9"/>
            <a:stretch/>
          </p:blipFill>
          <p:spPr>
            <a:xfrm>
              <a:off x="5791320" y="4952880"/>
              <a:ext cx="2133360" cy="161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16T14:15:20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