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432-EA09-4A86-ABEF-5C45D6DA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2B2-BE25-46D1-A769-D0E84FC4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659-0D67-460C-85CC-7F40DF1E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601-8979-42CE-9D66-FE866B0A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F410-B728-4960-96B2-706F994D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CE03-271A-40E2-9393-414F092D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C35E-0432-4EF2-A450-92CD1396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292C-4557-4B1C-B126-79F4935C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DD01-11D0-49AE-9BDA-2AC3F7AB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91ED-7F87-4A62-AC6F-8B4838E8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BB27-8331-4A49-BE18-5B50ECC6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724-D3EF-46DD-9A0A-F2B545EC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07D4-11B0-4912-833A-51E81213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6153-AF5F-483C-B38F-7CA93B6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936D-7F6C-4E3D-BC00-C6E61B97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2C43-A854-4764-B4AF-B212788C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5AB3-1268-4C3D-8E98-C4E84BF2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33A-C5B0-4006-A54F-0F609AF3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01E-A721-4674-A77D-6D636AA9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2FC-F50D-4E2A-BB92-7F1E3495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FD2-1411-4ACB-A87D-8D219592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166-BFD8-44D3-9E19-B06D89D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D0D2-B534-49B5-B2B0-643925F7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122-AA31-46BC-A059-F36198CE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40D7-DFD9-4129-A102-3CD159F8DF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E630-C9D2-49C3-A1AB-0C32BE5276F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Тестирование учащихс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10 класса по теме: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«Политическая карта мира» </a:t>
            </a:r>
            <a:br>
              <a:rPr sz="4800"/>
            </a:br>
            <a:br>
              <a:rPr sz="2400"/>
            </a:br>
            <a:r>
              <a:rPr b="1" lang="ru-RU" sz="2400" spc="-1" strike="noStrike">
                <a:solidFill>
                  <a:srgbClr val="95934b"/>
                </a:solidFill>
                <a:latin typeface="Tahoma"/>
              </a:rPr>
              <a:t>учитель географии МБОУ Любучанская СОШ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Медведева Елена Васильевна</a:t>
            </a:r>
            <a:endParaRPr b="0" lang="en-US" sz="2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9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Страны, имеющие наи-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 большую численность  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 населения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Китай, Инд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США, Канад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Индонезия, Непал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Россия, СШ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10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На современной политической карте мира насчитывается стран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240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150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1000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2000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1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Расширение НАТО на восток – сложная военно-политическая проблема для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Эстонии и Латви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Росси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Польши и Венгри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Чехии и Словакии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2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В состав большой «8» не входит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США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Итал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Испан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ерма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3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К новым индустриальным странам относитс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Инд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Непал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Коре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Чили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4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В состав ключевых стран входит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Нигери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Аргентин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Пакистан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разил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5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Самое большое по площади государство Земли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Канад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Росс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Китай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Инд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6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Островным государством является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Дани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Итал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Испан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Исланд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7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Страна с переходной экономикой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Грец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Австр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Словак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Финлянд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52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18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.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Полуостровным государством является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Франци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Чил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Инд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i="1" lang="ru-RU" sz="4400" spc="-1" strike="noStrike">
                <a:solidFill>
                  <a:srgbClr val="95934b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Мексик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1. 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Больше всего «горячих    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точек» вы найдете на  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карте</a:t>
            </a:r>
            <a:r>
              <a:rPr b="1" lang="ru-RU" sz="4400" spc="-1" strike="noStrike">
                <a:solidFill>
                  <a:srgbClr val="ffc000"/>
                </a:solidFill>
                <a:latin typeface="Tahoma"/>
              </a:rPr>
              <a:t>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Европы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Ази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Северной Америки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 Южной Америки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Tahoma"/>
              </a:rPr>
              <a:t>2. 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Важную роль в урегулировании междуна-родных  конфликтов игра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ООН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ОПЕК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НАТО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 Красный Крест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000"/>
                </a:solidFill>
                <a:latin typeface="Tahoma"/>
              </a:rPr>
              <a:t>3. </a:t>
            </a: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Высокий уровень экономи-</a:t>
            </a:r>
            <a:br>
              <a:rPr sz="4000"/>
            </a:b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ческого и социального разви-</a:t>
            </a:r>
            <a:br>
              <a:rPr sz="4000"/>
            </a:b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тия страны характеризуется в </a:t>
            </a:r>
            <a:br>
              <a:rPr sz="4000"/>
            </a:b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первую очередь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А. Численностью населения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Б. ВВП на душу населения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В. Плотностью населения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Г. Ценами на газеты и журналы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4064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4. Примером объединения стран в одно государство могут служить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Югослав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Росс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Чехословак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</a:t>
            </a:r>
            <a:r>
              <a:rPr b="1" lang="ru-RU" sz="4400" spc="-1" strike="noStrike">
                <a:solidFill>
                  <a:srgbClr val="95934b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ерман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5. </a:t>
            </a: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К странам переселенчес- 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    кого типа относятс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Индия, Китай, Израиль, ЮАР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Канада, Австралия, Новая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   Зеландия, ЮАР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США, Великобритания,  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    Австралия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6. Наибольшее количество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развивающихся стран нахо-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дится в:</a:t>
            </a: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А. Азии, Африке, Латинской 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    Америке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Б. Юго-Восточной Азии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В. Центральной и Южной Африке</a:t>
            </a:r>
            <a:br>
              <a:rPr sz="4000"/>
            </a:b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Г. Австралии и Океан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7. На протяжении всего послевоенного периода глав-</a:t>
            </a:r>
            <a:br>
              <a:rPr sz="4400"/>
            </a:b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ной «горячей точкой» остаетс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СШ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Экваториальная Африк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Ближний Восток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 Росс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Tahoma"/>
              </a:rPr>
              <a:t>8. </a:t>
            </a:r>
            <a:r>
              <a:rPr b="1" i="1" lang="ru-RU" sz="4000" spc="-1" strike="noStrike">
                <a:solidFill>
                  <a:srgbClr val="ffc000"/>
                </a:solidFill>
                <a:latin typeface="Tahoma"/>
              </a:rPr>
              <a:t>Примером разъединения  страны и образования на её месте двух или нескольких государств может служить: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А. Куба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Б. Чехословак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В. Германия</a:t>
            </a:r>
            <a:br>
              <a:rPr sz="4400"/>
            </a:b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Г. Венгрия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2:39:10Z</dcterms:created>
  <dc:creator>Елена Васильевна</dc:creator>
  <dc:description/>
  <dc:language>en-US</dc:language>
  <cp:lastModifiedBy>Denis</cp:lastModifiedBy>
  <dcterms:modified xsi:type="dcterms:W3CDTF">2012-07-16T17:29:41Z</dcterms:modified>
  <cp:revision>8</cp:revision>
  <dc:subject/>
  <dc:title>Тестирование учащихся  10 класса по темам:  «Политическая карта мира», «Население мира»</dc:title>
</cp:coreProperties>
</file>