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7D2A-EE27-4C4B-B6B1-240CCAAA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9AC9-81A3-488D-88EC-E1025DED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BA2-7885-4D1A-8C11-D3FB90C2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C70-C3A6-4D1F-86E5-2705E86A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BCEF-5D41-4D9C-BCAC-B0F2165D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E38E-67D8-4D57-B890-670DDA8B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E046-CBA7-437C-B27A-55B1A4FB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3D22-5A3C-4192-8F93-88E3DC87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4409-5319-4D54-81D9-AB7E6474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C37C-1FC8-4449-B548-9C67B9B8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A448-7928-47E1-BD23-EDE39AFE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B8AE-18F4-460C-B6BA-EE374428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1C78-02E0-4FD1-918B-0B603576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1BDF-8B8D-4FF2-99E2-3DBCE5FA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FED8-761A-48D3-B72D-17D53FD5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8CEF-A967-4D43-AE9E-AD0CCD3D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B2A4-1093-4095-BC07-D5891AB5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A819-ACA0-46B3-9C9F-75324679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EE3C-E9EF-46C2-96E3-5A549E0E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C0D6-D199-4A7A-A5BF-C8DF156D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371-02AB-48E9-8729-ADE2EDFC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F9A9-09E5-4056-B991-82DDB3A2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828-B7B5-4BCF-83D5-5F6E1674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36B-484A-49D6-8A04-41105E97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D40F-F4E4-4B8E-AD50-F8C60AA0CB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4271-EF10-481A-A0D7-5279C6F4ECB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Тестирование учащихся 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10 класса по теме:</a:t>
            </a: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«Политическая карта мира» </a:t>
            </a:r>
            <a:br>
              <a:rPr sz="4800"/>
            </a:br>
            <a:br>
              <a:rPr sz="2400"/>
            </a:br>
            <a:r>
              <a:rPr b="1" lang="ru-RU" sz="2400" spc="-1" strike="noStrike">
                <a:solidFill>
                  <a:srgbClr val="95934b"/>
                </a:solidFill>
                <a:latin typeface="Tahoma"/>
              </a:rPr>
              <a:t>учитель географии МБОУ Любучанская СОШ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Медведева Елена Васильевна</a:t>
            </a:r>
            <a:endParaRPr b="0" lang="en-US" sz="2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52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9.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Страны, имеющие наи-</a:t>
            </a:r>
            <a:br>
              <a:rPr sz="4400"/>
            </a:b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    большую численность  </a:t>
            </a:r>
            <a:br>
              <a:rPr sz="4400"/>
            </a:b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    населения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Китай, Инд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США, Канада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Индонезия, Непал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i="1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Россия, СШ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52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10.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На современной политической карте мира насчитывается стран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240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150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1000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i="1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2000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52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11</a:t>
            </a: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.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Расширение НАТО на восток – сложная военно-политическая проблема для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Эстонии и Латвии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России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Польши и Венгрии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i="1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Чехии и Словакии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52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12</a:t>
            </a: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.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В состав большой «8» не входит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США 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Итал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Испан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i="1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ерма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52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13</a:t>
            </a: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.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К новым индустриальным странам относится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Инд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Непал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Коре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i="1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Чили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52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14</a:t>
            </a: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.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В состав ключевых стран входит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Нигерия 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Аргентина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Пакистан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i="1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разил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52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15</a:t>
            </a: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.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Самое большое по площади государство Земли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Канада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Росс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Китай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i="1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Инд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52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16</a:t>
            </a: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.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Островным государством является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Дания 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Итал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Испан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i="1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Исланд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52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17</a:t>
            </a: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.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Страна с переходной экономикой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Грец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Австр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Словак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i="1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Финлянд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52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18</a:t>
            </a: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.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Полуостровным государством является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Франция 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Чили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Инд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i="1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Мексик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ahoma"/>
              </a:rPr>
              <a:t>1. 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Больше всего «горячих    </a:t>
            </a:r>
            <a:br>
              <a:rPr sz="4400"/>
            </a:b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   точек» вы найдете на  </a:t>
            </a:r>
            <a:br>
              <a:rPr sz="4400"/>
            </a:b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   карте</a:t>
            </a: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Европы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Азии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Северной Америки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 Южной Америки</a:t>
            </a:r>
            <a:br>
              <a:rPr sz="4400"/>
            </a:b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Tahoma"/>
              </a:rPr>
              <a:t>2. 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Важную роль в урегулировании междуна-родных  конфликтов игра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ООН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ОПЕК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НАТО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 Красный Крест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000"/>
                </a:solidFill>
                <a:latin typeface="Tahoma"/>
              </a:rPr>
              <a:t>3. </a:t>
            </a:r>
            <a:r>
              <a:rPr b="1" i="1" lang="ru-RU" sz="4000" spc="-1" strike="noStrike">
                <a:solidFill>
                  <a:srgbClr val="ffc000"/>
                </a:solidFill>
                <a:latin typeface="Tahoma"/>
              </a:rPr>
              <a:t>Высокий уровень экономи-</a:t>
            </a:r>
            <a:br>
              <a:rPr sz="4000"/>
            </a:br>
            <a:r>
              <a:rPr b="1" i="1" lang="ru-RU" sz="4000" spc="-1" strike="noStrike">
                <a:solidFill>
                  <a:srgbClr val="ffc000"/>
                </a:solidFill>
                <a:latin typeface="Tahoma"/>
              </a:rPr>
              <a:t>ческого и социального разви-</a:t>
            </a:r>
            <a:br>
              <a:rPr sz="4000"/>
            </a:br>
            <a:r>
              <a:rPr b="1" i="1" lang="ru-RU" sz="4000" spc="-1" strike="noStrike">
                <a:solidFill>
                  <a:srgbClr val="ffc000"/>
                </a:solidFill>
                <a:latin typeface="Tahoma"/>
              </a:rPr>
              <a:t>тия страны характеризуется в </a:t>
            </a:r>
            <a:br>
              <a:rPr sz="4000"/>
            </a:br>
            <a:r>
              <a:rPr b="1" i="1" lang="ru-RU" sz="4000" spc="-1" strike="noStrike">
                <a:solidFill>
                  <a:srgbClr val="ffc000"/>
                </a:solidFill>
                <a:latin typeface="Tahoma"/>
              </a:rPr>
              <a:t>первую очередь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А. Численностью населения</a:t>
            </a:r>
            <a:br>
              <a:rPr sz="40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Б. ВВП на душу населения</a:t>
            </a:r>
            <a:br>
              <a:rPr sz="40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В. Плотностью населения</a:t>
            </a:r>
            <a:br>
              <a:rPr sz="40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Г. Ценами на газеты и журналы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4064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4. Примером объединения стран в одно государство могут служить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Югослав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Росс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Чехословак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lang="ru-RU" sz="4400" spc="-1" strike="noStrike">
                <a:solidFill>
                  <a:srgbClr val="95934b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ерма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ahoma"/>
              </a:rPr>
              <a:t>5. 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К странам переселенчес- </a:t>
            </a:r>
            <a:br>
              <a:rPr sz="4400"/>
            </a:b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   кого типа относятся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Индия, Китай, Израиль, ЮАР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Канада, Австралия, Новая 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    Зеландия, ЮАР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США, Великобритания,  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    Австралия</a:t>
            </a:r>
            <a:br>
              <a:rPr sz="4400"/>
            </a:b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6. Наибольшее количество</a:t>
            </a:r>
            <a:br>
              <a:rPr sz="4400"/>
            </a:b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развивающихся стран нахо-</a:t>
            </a:r>
            <a:br>
              <a:rPr sz="4400"/>
            </a:b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дится в:</a:t>
            </a: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А. Азии, Африке, Латинской </a:t>
            </a:r>
            <a:br>
              <a:rPr sz="40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    Америке</a:t>
            </a:r>
            <a:br>
              <a:rPr sz="40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Б. Юго-Восточной Азии</a:t>
            </a:r>
            <a:br>
              <a:rPr sz="40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В. Центральной и Южной Африке</a:t>
            </a:r>
            <a:br>
              <a:rPr sz="40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Г. Австралии и Океан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7. На протяжении всего послевоенного периода глав-</a:t>
            </a:r>
            <a:br>
              <a:rPr sz="4400"/>
            </a:b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ной «горячей точкой» остается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США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Экваториальная Африка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Ближний Восток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 Росс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8. </a:t>
            </a:r>
            <a:r>
              <a:rPr b="1" i="1" lang="ru-RU" sz="4000" spc="-1" strike="noStrike">
                <a:solidFill>
                  <a:srgbClr val="ffc000"/>
                </a:solidFill>
                <a:latin typeface="Tahoma"/>
              </a:rPr>
              <a:t>Примером разъединения  страны и образования на её месте двух или нескольких государств может служить:</a:t>
            </a: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Куба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Чехословак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Герман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 Венгр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2:39:10Z</dcterms:created>
  <dc:creator>Елена Васильевна</dc:creator>
  <dc:description/>
  <dc:language>en-US</dc:language>
  <cp:lastModifiedBy>Denis</cp:lastModifiedBy>
  <dcterms:modified xsi:type="dcterms:W3CDTF">2012-07-16T17:29:41Z</dcterms:modified>
  <cp:revision>8</cp:revision>
  <dc:subject/>
  <dc:title>Тестирование учащихся  10 класса по темам:  «Политическая карта мира», «Население мира»</dc:title>
</cp:coreProperties>
</file>