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0E04-C882-45BC-8DA6-2B38FA4C2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F818-1698-4DF6-8254-CCA0BA717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2F31E-78D1-4CE0-BFF1-07702E33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C8FB-59D1-407C-BC38-3030AE6F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F02D-31D6-42EE-8546-A1DEF244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9ADA-0722-4183-A922-CA6D0A57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C5FA-92BE-43EB-BFED-E91A0A17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0463-B1D6-494F-BB0E-8263B8C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D91-136F-4CB7-8565-EA2EA1B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23E9-5E88-48B4-AC7C-0C434BA7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65A6-C538-4080-8779-A9228280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4458-0CEF-421D-9AAB-D49CB29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FE5-1CD8-49BC-A22C-C8D6F63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7080-98D7-488F-9D9E-B7FD83EA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F04-F538-4B79-A546-3BB1677F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D801-BF21-45FA-9BD9-92E09BFC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F7B-E5C9-4121-B280-9E8DDAAB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DCB-BF9E-4A38-B09F-999A7A35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881A-984A-4FD0-90F6-2867BBAD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B9BD-890A-498F-B7C7-C6F2FE1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0A4F-5C4A-4B18-AA3E-EAB161FA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AC3A-20AF-4438-9601-FB59D5D8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5A7C-13BA-4396-9441-B927D83B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3F53-52D7-4D11-843A-E3DFC0D6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7AFD-61D4-43DC-B024-44C5725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2568-7EBD-4DF3-912A-1B274E7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6"/>
          <p:cNvGrpSpPr/>
          <p:nvPr/>
        </p:nvGrpSpPr>
        <p:grpSpPr>
          <a:xfrm>
            <a:off x="-19440" y="0"/>
            <a:ext cx="9163440" cy="6858000"/>
            <a:chOff x="-19440" y="0"/>
            <a:chExt cx="9163440" cy="6858000"/>
          </a:xfrm>
        </p:grpSpPr>
        <p:grpSp>
          <p:nvGrpSpPr>
            <p:cNvPr id="1" name="Group 165"/>
            <p:cNvGrpSpPr/>
            <p:nvPr/>
          </p:nvGrpSpPr>
          <p:grpSpPr>
            <a:xfrm>
              <a:off x="-19440" y="0"/>
              <a:ext cx="9163440" cy="1943280"/>
              <a:chOff x="-19440" y="0"/>
              <a:chExt cx="9163440" cy="1943280"/>
            </a:xfrm>
          </p:grpSpPr>
          <p:pic>
            <p:nvPicPr>
              <p:cNvPr id="2" name="Picture 149" descr="4_1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9144000" cy="194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Picture 153" descr="6"/>
              <p:cNvPicPr/>
              <p:nvPr/>
            </p:nvPicPr>
            <p:blipFill>
              <a:blip r:embed="rId3"/>
              <a:stretch/>
            </p:blipFill>
            <p:spPr>
              <a:xfrm>
                <a:off x="8086680" y="0"/>
                <a:ext cx="1057320" cy="134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Picture 158" descr="123"/>
              <p:cNvPicPr/>
              <p:nvPr/>
            </p:nvPicPr>
            <p:blipFill>
              <a:blip r:embed="rId4"/>
              <a:stretch/>
            </p:blipFill>
            <p:spPr>
              <a:xfrm rot="930000">
                <a:off x="75960" y="151920"/>
                <a:ext cx="861840" cy="831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" name="Rectangle 164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Picture 163" descr="artplus_nature_naturalcity38_g"/>
            <p:cNvPicPr/>
            <p:nvPr/>
          </p:nvPicPr>
          <p:blipFill>
            <a:blip r:embed="rId5"/>
            <a:srcRect l="0" t="0" r="31579" b="0"/>
            <a:stretch/>
          </p:blipFill>
          <p:spPr>
            <a:xfrm>
              <a:off x="7543800" y="5322960"/>
              <a:ext cx="1600200" cy="15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41144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304560" y="653688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51D6-2B59-4FBD-86DA-F672A5C0AC2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914040" y="653688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4"/>
          <p:cNvSpPr/>
          <p:nvPr/>
        </p:nvSpPr>
        <p:spPr>
          <a:xfrm>
            <a:off x="3505320" y="5943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3636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6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Picture 161" descr="artplus_nature_naturalcity38_g"/>
            <p:cNvPicPr/>
            <p:nvPr/>
          </p:nvPicPr>
          <p:blipFill>
            <a:blip r:embed="rId2"/>
            <a:srcRect l="12504" t="0" r="0" b="0"/>
            <a:stretch/>
          </p:blipFill>
          <p:spPr>
            <a:xfrm>
              <a:off x="1905120" y="4681440"/>
              <a:ext cx="1969920" cy="17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60" descr="artplus_nature_naturalcity38_g"/>
            <p:cNvPicPr/>
            <p:nvPr/>
          </p:nvPicPr>
          <p:blipFill>
            <a:blip r:embed="rId3"/>
            <a:srcRect l="12504" t="0" r="0" b="0"/>
            <a:stretch/>
          </p:blipFill>
          <p:spPr>
            <a:xfrm>
              <a:off x="0" y="3205080"/>
              <a:ext cx="2990880" cy="32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59" descr="artplus_nature_naturalcity38_e"/>
            <p:cNvPicPr/>
            <p:nvPr/>
          </p:nvPicPr>
          <p:blipFill>
            <a:blip r:embed="rId4"/>
            <a:srcRect l="0" t="0" r="0" b="11526"/>
            <a:stretch/>
          </p:blipFill>
          <p:spPr>
            <a:xfrm>
              <a:off x="0" y="4114800"/>
              <a:ext cx="914400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" name="Group 162"/>
            <p:cNvGrpSpPr/>
            <p:nvPr/>
          </p:nvGrpSpPr>
          <p:grpSpPr>
            <a:xfrm>
              <a:off x="0" y="0"/>
              <a:ext cx="9144000" cy="3200400"/>
              <a:chOff x="0" y="0"/>
              <a:chExt cx="9144000" cy="3200400"/>
            </a:xfrm>
          </p:grpSpPr>
          <p:pic>
            <p:nvPicPr>
              <p:cNvPr id="55" name="Picture 153" descr="7"/>
              <p:cNvPicPr/>
              <p:nvPr/>
            </p:nvPicPr>
            <p:blipFill>
              <a:blip r:embed="rId5"/>
              <a:stretch/>
            </p:blipFill>
            <p:spPr>
              <a:xfrm>
                <a:off x="0" y="0"/>
                <a:ext cx="9144000" cy="32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40" descr="04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0"/>
                <a:ext cx="1361880" cy="116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" name="Picture 163" descr="water_2"/>
            <p:cNvPicPr/>
            <p:nvPr/>
          </p:nvPicPr>
          <p:blipFill>
            <a:blip r:embed="rId7"/>
            <a:stretch/>
          </p:blipFill>
          <p:spPr>
            <a:xfrm>
              <a:off x="762120" y="914400"/>
              <a:ext cx="866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dt" idx="5"/>
          </p:nvPr>
        </p:nvSpPr>
        <p:spPr>
          <a:xfrm>
            <a:off x="63241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534520" y="647676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25C9-23B3-4DF4-996D-8E5A75F81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2438280"/>
            <a:ext cx="67057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7181f"/>
                </a:solidFill>
                <a:latin typeface="Arial"/>
              </a:rPr>
              <a:t>Возраст дерева. 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полни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: Мухамбетова Зарин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ченица 2 класса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106200" y="189000"/>
            <a:ext cx="88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униципальное  казенное образовательное учреждение 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олдатско- Степновская средняя общеобразовательная школа 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3800" y="4724280"/>
            <a:ext cx="4082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Ледяе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2928960" y="5950080"/>
            <a:ext cx="4143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Солдатско- Степ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Хорошее упражнение по математике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28480"/>
            <a:ext cx="3786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то называется </a:t>
            </a:r>
            <a:r>
              <a:rPr b="1" lang="ru-RU" sz="2400" spc="-1" strike="noStrike">
                <a:solidFill>
                  <a:srgbClr val="7cd10e"/>
                </a:solidFill>
                <a:latin typeface="Verdana"/>
              </a:rPr>
              <a:t>«обхват дерева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46ade"/>
                </a:solidFill>
                <a:latin typeface="Verdana"/>
              </a:rPr>
              <a:t>Считается, что каждые 2,5 см обхвата соответствуют одному году жизни дерева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Итак: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646ade"/>
                </a:solidFill>
                <a:latin typeface="Verdana"/>
              </a:rPr>
              <a:t>1)</a:t>
            </a: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Измерь обхват дерева на высоте 1,5 м от земл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646ade"/>
                </a:solidFill>
                <a:latin typeface="Verdana"/>
              </a:rPr>
              <a:t>2)</a:t>
            </a: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аздели это число на 2,5 и получишь приблизительный</a:t>
            </a:r>
            <a:r>
              <a:rPr b="1" i="1" lang="ru-RU" sz="1800" spc="-1" strike="noStrike">
                <a:solidFill>
                  <a:srgbClr val="d7181f"/>
                </a:solidFill>
                <a:latin typeface="Verdan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озраст дерева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Содержимое 5" descr="DSC00326.JPG"/>
          <p:cNvPicPr/>
          <p:nvPr/>
        </p:nvPicPr>
        <p:blipFill>
          <a:blip r:embed="rId1"/>
          <a:stretch/>
        </p:blipFill>
        <p:spPr>
          <a:xfrm>
            <a:off x="4429080" y="1571760"/>
            <a:ext cx="3429000" cy="442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7181f"/>
                </a:solidFill>
                <a:uFillTx/>
                <a:latin typeface="Verdana"/>
              </a:rPr>
              <a:t>Обхват дерева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d10e"/>
                </a:solidFill>
                <a:latin typeface="Verdana"/>
              </a:rPr>
              <a:t>Мы решили  свою задачку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46ade"/>
                </a:solidFill>
                <a:uFillTx/>
                <a:latin typeface="Verdana"/>
              </a:rPr>
              <a:t>Пример: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Обхват одного из деревьев на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школьном дворе составил </a:t>
            </a:r>
            <a:r>
              <a:rPr b="1" i="1" lang="ru-RU" sz="2400" spc="-1" strike="noStrike">
                <a:solidFill>
                  <a:srgbClr val="d7181f"/>
                </a:solidFill>
                <a:latin typeface="Verdana"/>
              </a:rPr>
              <a:t>0,84 м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(84 см), поэтому 84/2,5=33 года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озраст нашего дерева составил </a:t>
            </a:r>
            <a:r>
              <a:rPr b="1" i="1" lang="ru-RU" sz="2400" spc="-1" strike="noStrike">
                <a:solidFill>
                  <a:srgbClr val="d7181f"/>
                </a:solidFill>
                <a:latin typeface="Verdana"/>
              </a:rPr>
              <a:t>33 года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Содержимое 5" descr="DSC00328.JPG"/>
          <p:cNvPicPr/>
          <p:nvPr/>
        </p:nvPicPr>
        <p:blipFill>
          <a:blip r:embed="rId1"/>
          <a:stretch/>
        </p:blipFill>
        <p:spPr>
          <a:xfrm>
            <a:off x="2786040" y="3357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Практическая значимость работы: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33" descr="26"/>
          <p:cNvPicPr/>
          <p:nvPr/>
        </p:nvPicPr>
        <p:blipFill>
          <a:blip r:embed="rId1"/>
          <a:stretch/>
        </p:blipFill>
        <p:spPr>
          <a:xfrm>
            <a:off x="250920" y="1197000"/>
            <a:ext cx="3529080" cy="2496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67280" y="1483920"/>
            <a:ext cx="507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 ходе выполнения работы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я узнал,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что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тения являются 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«легкими» нашей планеты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и благодаря им мы дышим. В прошлом вся земля была покрыта огромным лесом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 протяжении тысячелетий человек вырубал леса. Небрежное отношение с огнем приводило к многочисленным пожарам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ля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восстановления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лесов потребуется сотни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, т.к. деревья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растут очень медленно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Если мы не хотим лишиться природных богатств леса, необходимо их </a:t>
            </a:r>
            <a:r>
              <a:rPr b="0" i="1" lang="ru-RU" sz="2000" spc="-1" strike="noStrike">
                <a:solidFill>
                  <a:srgbClr val="d7181f"/>
                </a:solidFill>
                <a:latin typeface="Verdana"/>
              </a:rPr>
              <a:t>охранять</a:t>
            </a:r>
            <a:r>
              <a:rPr b="1" i="1" lang="ru-RU" sz="2000" spc="-1" strike="noStrike">
                <a:solidFill>
                  <a:srgbClr val="d7181f"/>
                </a:solidFill>
                <a:latin typeface="Verdana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5" descr="27"/>
          <p:cNvPicPr/>
          <p:nvPr/>
        </p:nvPicPr>
        <p:blipFill>
          <a:blip r:embed="rId2"/>
          <a:stretch/>
        </p:blipFill>
        <p:spPr>
          <a:xfrm>
            <a:off x="250920" y="3789360"/>
            <a:ext cx="3529080" cy="273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ade"/>
                </a:solidFill>
                <a:latin typeface="Verdana"/>
              </a:rPr>
              <a:t>             </a:t>
            </a:r>
            <a:r>
              <a:rPr b="1" lang="ru-RU" sz="4400" spc="-1" strike="noStrike" u="sng">
                <a:solidFill>
                  <a:srgbClr val="d43636"/>
                </a:solidFill>
                <a:uFillTx/>
                <a:latin typeface="Verdana"/>
              </a:rPr>
              <a:t>Актуальность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8"/>
          <p:cNvSpPr/>
          <p:nvPr/>
        </p:nvSpPr>
        <p:spPr>
          <a:xfrm>
            <a:off x="539640" y="1197000"/>
            <a:ext cx="81360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8bf1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один из жарких, солнечных летних дней           мы всей семьей отправились на отдых в лес. Мое внимание привлекло то, что одно и тоже дерево, например сосна, имеет разную высоту и толщину ствола. Я спросила у папы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чему деревья имеют разный размер?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Папа сказал мне, что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ждое дерево имеет свой возраст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Дерево может жить очень долго, несколько столетий. В течении всей своей жизни оно постоянно растет, но только медлен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Хочешь узнать об этом подроб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46ade"/>
                </a:solidFill>
                <a:uFillTx/>
                <a:latin typeface="Verdana"/>
              </a:rPr>
              <a:t>Задачи: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d10e"/>
                </a:solidFill>
                <a:latin typeface="Verdana"/>
              </a:rPr>
              <a:t>1)</a:t>
            </a:r>
            <a:r>
              <a:rPr b="0" lang="ru-RU" sz="3200" spc="-1" strike="noStrike">
                <a:solidFill>
                  <a:srgbClr val="98bf1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Учиться работать с разными</a:t>
            </a:r>
            <a:r>
              <a:rPr b="0" lang="ru-RU" sz="3200" spc="-1" strike="noStrike">
                <a:solidFill>
                  <a:srgbClr val="98bf1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источниками информации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944e"/>
                </a:solidFill>
                <a:latin typeface="Verdana"/>
              </a:rPr>
              <a:t>                </a:t>
            </a:r>
            <a:r>
              <a:rPr b="1" i="1" lang="ru-RU" sz="2400" spc="-1" strike="noStrike">
                <a:solidFill>
                  <a:srgbClr val="646ade"/>
                </a:solidFill>
                <a:latin typeface="Verdana"/>
              </a:rPr>
              <a:t>1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терне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51944e"/>
                </a:solidFill>
                <a:latin typeface="Verdana"/>
              </a:rPr>
              <a:t>           </a:t>
            </a:r>
            <a:r>
              <a:rPr b="1" i="1" lang="ru-RU" sz="2400" spc="-1" strike="noStrike">
                <a:solidFill>
                  <a:srgbClr val="646ade"/>
                </a:solidFill>
                <a:latin typeface="Verdana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пециальная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литература</a:t>
            </a:r>
            <a:r>
              <a:rPr b="1" i="1" lang="ru-RU" sz="2800" spc="-1" strike="noStrike">
                <a:solidFill>
                  <a:srgbClr val="51944e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(книги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ериодические издания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d10e"/>
                </a:solidFill>
                <a:latin typeface="Verdana"/>
              </a:rPr>
              <a:t>2)</a:t>
            </a:r>
            <a:r>
              <a:rPr b="0" lang="ru-RU" sz="3200" spc="-1" strike="noStrike">
                <a:solidFill>
                  <a:srgbClr val="98bf1d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Провести исследования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d10e"/>
                </a:solidFill>
                <a:latin typeface="Verdana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d43636"/>
                </a:solidFill>
                <a:latin typeface="Verdana"/>
              </a:rPr>
              <a:t>Наблюдать, обобщить, сделать выводы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05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646ade"/>
                </a:solidFill>
                <a:uFillTx/>
                <a:latin typeface="Verdana"/>
              </a:rPr>
              <a:t>Цель: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накомство со способ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пределения возраста деревьев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43636"/>
                </a:solidFill>
                <a:uFillTx/>
                <a:latin typeface="Verdana"/>
              </a:rPr>
              <a:t>Методы исследования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3" descr="5"/>
          <p:cNvPicPr/>
          <p:nvPr/>
        </p:nvPicPr>
        <p:blipFill>
          <a:blip r:embed="rId1"/>
          <a:stretch/>
        </p:blipFill>
        <p:spPr>
          <a:xfrm>
            <a:off x="0" y="1052640"/>
            <a:ext cx="4643280" cy="547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16000" y="2205000"/>
            <a:ext cx="4427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Verdana"/>
              </a:rPr>
              <a:t>наблюдение;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Verdana"/>
              </a:rPr>
              <a:t>практическая работа;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46ade"/>
                </a:solidFill>
                <a:latin typeface="Verdana"/>
              </a:rPr>
              <a:t>обобщение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d7181f"/>
                </a:solidFill>
                <a:uFillTx/>
                <a:latin typeface="Verdana"/>
              </a:rPr>
              <a:t>Как узнать возраст хвойного дерева.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3280" y="1628640"/>
            <a:ext cx="450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Мы можем вычислить возраст хвойного дерева посчитав, сколько на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 u="sng">
                <a:solidFill>
                  <a:srgbClr val="51944e"/>
                </a:solidFill>
                <a:uFillTx/>
                <a:latin typeface="Verdana"/>
              </a:rPr>
              <a:t>ярусов ветве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аждый год на дереве появляется новый ярус. Но нужно быть внимательным с возрастом нижние ветви засыхают и опадают. На их месте остаются метки, которые со временем понемногу зарастают корой и становятся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евидимыми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2" descr="Рисунок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1628640"/>
            <a:ext cx="4716360" cy="482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Определение возраста небольшого дерева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51280" y="1844280"/>
            <a:ext cx="529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осмотрев как следует на небольшое дерево. Мы увидели, что побеги, появившиеся в этом году, отличаются от остальных частей. Кора на них более гладкая, древесина мягкая. </a:t>
            </a:r>
            <a:r>
              <a:rPr b="1" i="1" lang="ru-RU" sz="2000" spc="-1" strike="noStrike">
                <a:solidFill>
                  <a:srgbClr val="51944e"/>
                </a:solidFill>
                <a:latin typeface="Verdana"/>
              </a:rPr>
              <a:t>Каждый год из почек появляются новые побеги.</a:t>
            </a: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Молодой побег отделен от прошлогоднего выступающим кольцом. Этот шрам оставили чешуйки отпавшей почки. На новых ростках еще нет веток. Они вырастут в следующем году из почек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28" descr="Рисунок3"/>
          <p:cNvPicPr/>
          <p:nvPr/>
        </p:nvPicPr>
        <p:blipFill>
          <a:blip r:embed="rId1"/>
          <a:stretch/>
        </p:blipFill>
        <p:spPr>
          <a:xfrm>
            <a:off x="0" y="1341360"/>
            <a:ext cx="428472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d7181f"/>
                </a:solidFill>
                <a:uFillTx/>
                <a:latin typeface="Verdana"/>
              </a:rPr>
              <a:t>Кольцо за один год.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28640"/>
            <a:ext cx="83818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Чтобы определить возраст дерева, нужн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осчитать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 u="sng">
                <a:solidFill>
                  <a:srgbClr val="51944e"/>
                </a:solidFill>
                <a:uFillTx/>
                <a:latin typeface="Verdana"/>
              </a:rPr>
              <a:t>годичные кольца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а е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тволе. За один год древесина увеличивается на одно кольцо. В каждом кольце есть толстый светлый слой, который сформировался весной. Другой слой тоньше и темнее, он появился в летний период и служит дереву опорой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181f"/>
                </a:solidFill>
                <a:latin typeface="Verdana"/>
              </a:rPr>
              <a:t> </a:t>
            </a:r>
            <a:r>
              <a:rPr b="1" lang="ru-RU" sz="2800" spc="-1" strike="noStrike" u="sng">
                <a:solidFill>
                  <a:srgbClr val="646ade"/>
                </a:solidFill>
                <a:uFillTx/>
                <a:latin typeface="Verdana"/>
              </a:rPr>
              <a:t>Объектом исследования является спил.</a:t>
            </a:r>
            <a:br>
              <a:rPr sz="2800"/>
            </a:br>
            <a:r>
              <a:rPr b="1" lang="ru-RU" sz="4000" spc="-1" strike="noStrike">
                <a:solidFill>
                  <a:srgbClr val="d7181f"/>
                </a:solidFill>
                <a:latin typeface="Verdana"/>
              </a:rPr>
              <a:t>О чем рассказывает спил дерева?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419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bf1d"/>
                </a:solidFill>
                <a:latin typeface="Verdana"/>
              </a:rPr>
              <a:t>Спи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ерева позволяет нам не только определить возраст дерева, но и рассказывает историю всей жизни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скорость роста, климат, в котором оно росло, его болезни и т.д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4214880" y="207180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0" y="264312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50640"/>
            <a:ext cx="85690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7181f"/>
                </a:solidFill>
                <a:uFillTx/>
                <a:latin typeface="Verdana"/>
              </a:rPr>
              <a:t>Что показали исследования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едметом исследования мною был выбран спил березы. Кора березы очень тонкая и светлая. Подсчет колец на спиле показал, что данному дереву было всего </a:t>
            </a:r>
            <a:r>
              <a:rPr b="1" i="1" lang="ru-RU" sz="2800" spc="-1" strike="noStrike">
                <a:solidFill>
                  <a:srgbClr val="1bafc3"/>
                </a:solidFill>
                <a:latin typeface="Verdana"/>
              </a:rPr>
              <a:t>22 года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. Это очень молодое дерево. Спил имеет широкие и узкие кольца. Значит не всегда были благоприятными условия для его развития. Темные пятна на трех этапах жизни дерева показали, что оно было затронуто огнем или молнией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27:31Z</dcterms:created>
  <dc:creator>123</dc:creator>
  <dc:description/>
  <dc:language>en-US</dc:language>
  <cp:lastModifiedBy>User</cp:lastModifiedBy>
  <dcterms:modified xsi:type="dcterms:W3CDTF">2012-07-14T09:16:18Z</dcterms:modified>
  <cp:revision>56</cp:revision>
  <dc:subject/>
  <dc:title>Дерево – живое существо </dc:title>
</cp:coreProperties>
</file>