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FE30-94E6-409E-AB04-F8F73A0D5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8985-9A9D-4856-9283-0E5E09480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6A04-02AE-4C16-8990-B1AD30C3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5F12-12F4-4417-9B43-5DDBC3CE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66BAC-4237-4F6E-A6DA-9792F921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7AA69-F97B-4E38-9753-3A20550E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A420-A3DE-4E3E-8ED5-9144C1D8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7669-6AD0-470F-AFF5-5F4277BC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4136-5AE2-411B-89DC-B28781A1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833D-6EAE-4B16-890E-D6CA7948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F8CF-5FD0-4B94-AE55-8E531709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69D3-3B21-4782-ABB1-3AFE3CC8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3875-A7B2-44A5-91D2-107160AD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7C3B-9112-4D43-8779-ABE91D35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6000-CB65-4527-9FD7-386E00A0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431D-B166-4214-BF5D-883F2A5A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3CE9-0A5C-4FD0-AFDF-E7B811CE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1204-796C-4FCA-9F3F-102F1D83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3A8C-3344-406D-B6E1-E80FD4DA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F3E5-1AD1-421C-8CD1-80E6A887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589A-295F-4FA9-A19E-71F50256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FE26E-3825-4EBC-A66C-49E72CFB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6BDDA-C036-4E9E-89C7-FEF458AC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B12F-5634-4BBC-9E9E-CEF36D50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E5C31-F1BC-4DC4-BAE5-063C63F5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FBB48-C738-4130-85ED-2E67A3E7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6"/>
          <p:cNvGrpSpPr/>
          <p:nvPr/>
        </p:nvGrpSpPr>
        <p:grpSpPr>
          <a:xfrm>
            <a:off x="-19440" y="0"/>
            <a:ext cx="9163440" cy="6858000"/>
            <a:chOff x="-19440" y="0"/>
            <a:chExt cx="9163440" cy="6858000"/>
          </a:xfrm>
        </p:grpSpPr>
        <p:grpSp>
          <p:nvGrpSpPr>
            <p:cNvPr id="1" name="Group 165"/>
            <p:cNvGrpSpPr/>
            <p:nvPr/>
          </p:nvGrpSpPr>
          <p:grpSpPr>
            <a:xfrm>
              <a:off x="-19440" y="0"/>
              <a:ext cx="9163440" cy="1943280"/>
              <a:chOff x="-19440" y="0"/>
              <a:chExt cx="9163440" cy="1943280"/>
            </a:xfrm>
          </p:grpSpPr>
          <p:pic>
            <p:nvPicPr>
              <p:cNvPr id="2" name="Picture 149" descr="4_1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194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Picture 153" descr="6"/>
              <p:cNvPicPr/>
              <p:nvPr/>
            </p:nvPicPr>
            <p:blipFill>
              <a:blip r:embed="rId3"/>
              <a:stretch/>
            </p:blipFill>
            <p:spPr>
              <a:xfrm>
                <a:off x="8086680" y="0"/>
                <a:ext cx="1057320" cy="134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Picture 158" descr="123"/>
              <p:cNvPicPr/>
              <p:nvPr/>
            </p:nvPicPr>
            <p:blipFill>
              <a:blip r:embed="rId4"/>
              <a:stretch/>
            </p:blipFill>
            <p:spPr>
              <a:xfrm rot="930000">
                <a:off x="75960" y="151920"/>
                <a:ext cx="861840" cy="831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" name="Rectangle 16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" name="Picture 163" descr="artplus_nature_naturalcity38_g"/>
            <p:cNvPicPr/>
            <p:nvPr/>
          </p:nvPicPr>
          <p:blipFill>
            <a:blip r:embed="rId5"/>
            <a:srcRect l="0" t="0" r="31579" b="0"/>
            <a:stretch/>
          </p:blipFill>
          <p:spPr>
            <a:xfrm>
              <a:off x="7543800" y="5322960"/>
              <a:ext cx="1600200" cy="15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41144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304560" y="653688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3DA5-7837-4CF1-8BD6-9BADC115D40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ftr" idx="3"/>
          </p:nvPr>
        </p:nvSpPr>
        <p:spPr>
          <a:xfrm>
            <a:off x="914040" y="653688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4"/>
          <p:cNvSpPr/>
          <p:nvPr/>
        </p:nvSpPr>
        <p:spPr>
          <a:xfrm>
            <a:off x="3505320" y="5943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3636"/>
                </a:solidFill>
                <a:latin typeface="Arial Black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6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1" name="Picture 161" descr="artplus_nature_naturalcity38_g"/>
            <p:cNvPicPr/>
            <p:nvPr/>
          </p:nvPicPr>
          <p:blipFill>
            <a:blip r:embed="rId2"/>
            <a:srcRect l="12504" t="0" r="0" b="0"/>
            <a:stretch/>
          </p:blipFill>
          <p:spPr>
            <a:xfrm>
              <a:off x="1905120" y="4681440"/>
              <a:ext cx="1969920" cy="17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60" descr="artplus_nature_naturalcity38_g"/>
            <p:cNvPicPr/>
            <p:nvPr/>
          </p:nvPicPr>
          <p:blipFill>
            <a:blip r:embed="rId3"/>
            <a:srcRect l="12504" t="0" r="0" b="0"/>
            <a:stretch/>
          </p:blipFill>
          <p:spPr>
            <a:xfrm>
              <a:off x="0" y="3205080"/>
              <a:ext cx="2990880" cy="32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59" descr="artplus_nature_naturalcity38_e"/>
            <p:cNvPicPr/>
            <p:nvPr/>
          </p:nvPicPr>
          <p:blipFill>
            <a:blip r:embed="rId4"/>
            <a:srcRect l="0" t="0" r="0" b="11526"/>
            <a:stretch/>
          </p:blipFill>
          <p:spPr>
            <a:xfrm>
              <a:off x="0" y="4114800"/>
              <a:ext cx="914400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Group 162"/>
            <p:cNvGrpSpPr/>
            <p:nvPr/>
          </p:nvGrpSpPr>
          <p:grpSpPr>
            <a:xfrm>
              <a:off x="0" y="0"/>
              <a:ext cx="9144000" cy="3200400"/>
              <a:chOff x="0" y="0"/>
              <a:chExt cx="9144000" cy="3200400"/>
            </a:xfrm>
          </p:grpSpPr>
          <p:pic>
            <p:nvPicPr>
              <p:cNvPr id="55" name="Picture 153" descr="7"/>
              <p:cNvPicPr/>
              <p:nvPr/>
            </p:nvPicPr>
            <p:blipFill>
              <a:blip r:embed="rId5"/>
              <a:stretch/>
            </p:blipFill>
            <p:spPr>
              <a:xfrm>
                <a:off x="0" y="0"/>
                <a:ext cx="9144000" cy="32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140" descr="04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0"/>
                <a:ext cx="1361880" cy="1163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" name="Picture 163" descr="water_2"/>
            <p:cNvPicPr/>
            <p:nvPr/>
          </p:nvPicPr>
          <p:blipFill>
            <a:blip r:embed="rId7"/>
            <a:stretch/>
          </p:blipFill>
          <p:spPr>
            <a:xfrm>
              <a:off x="762120" y="914400"/>
              <a:ext cx="866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759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dt" idx="5"/>
          </p:nvPr>
        </p:nvSpPr>
        <p:spPr>
          <a:xfrm>
            <a:off x="63241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534520" y="647676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D4DD-3F9B-4926-A0CF-C0E200D10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2438280"/>
            <a:ext cx="67057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7181f"/>
                </a:solidFill>
                <a:latin typeface="Arial"/>
              </a:rPr>
              <a:t>Возраст дерева. 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373392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полнил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: Мухамбетова Зари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еница 2 класса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106200" y="189000"/>
            <a:ext cx="889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униципальное  казенное образовательное учреждение 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Солдатско- Степновская средняя общеобразовательная школа 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573800" y="4724280"/>
            <a:ext cx="40820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Ледяев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6"/>
          <p:cNvSpPr/>
          <p:nvPr/>
        </p:nvSpPr>
        <p:spPr>
          <a:xfrm>
            <a:off x="2928960" y="5950080"/>
            <a:ext cx="4143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 Солдатско- Степ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7181f"/>
                </a:solidFill>
                <a:uFillTx/>
                <a:latin typeface="Verdana"/>
              </a:rPr>
              <a:t>Хорошее упражнение по математике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428480"/>
            <a:ext cx="37861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то называется </a:t>
            </a:r>
            <a:r>
              <a:rPr b="1" lang="ru-RU" sz="2400" spc="-1" strike="noStrike">
                <a:solidFill>
                  <a:srgbClr val="7cd10e"/>
                </a:solidFill>
                <a:latin typeface="Verdana"/>
              </a:rPr>
              <a:t>«обхват дерева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46ade"/>
                </a:solidFill>
                <a:latin typeface="Verdana"/>
              </a:rPr>
              <a:t>Считается, что каждые 2,5 см обхвата соответствуют одному году жизни дерева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7181f"/>
                </a:solidFill>
                <a:latin typeface="Verdana"/>
              </a:rPr>
              <a:t>Итак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7181f"/>
                </a:solidFill>
                <a:latin typeface="Verdana"/>
              </a:rPr>
              <a:t>     </a:t>
            </a:r>
            <a:r>
              <a:rPr b="1" i="1" lang="ru-RU" sz="1800" spc="-1" strike="noStrike">
                <a:solidFill>
                  <a:srgbClr val="646ade"/>
                </a:solidFill>
                <a:latin typeface="Verdana"/>
              </a:rPr>
              <a:t>1)</a:t>
            </a:r>
            <a:r>
              <a:rPr b="1" i="1" lang="ru-RU" sz="1800" spc="-1" strike="noStrike">
                <a:solidFill>
                  <a:srgbClr val="d7181f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змерь обхват дерева на высоте 1,5 м от земли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7181f"/>
                </a:solidFill>
                <a:latin typeface="Verdana"/>
              </a:rPr>
              <a:t>     </a:t>
            </a:r>
            <a:r>
              <a:rPr b="1" i="1" lang="ru-RU" sz="1800" spc="-1" strike="noStrike">
                <a:solidFill>
                  <a:srgbClr val="646ade"/>
                </a:solidFill>
                <a:latin typeface="Verdana"/>
              </a:rPr>
              <a:t>2)</a:t>
            </a:r>
            <a:r>
              <a:rPr b="1" i="1" lang="ru-RU" sz="1800" spc="-1" strike="noStrike">
                <a:solidFill>
                  <a:srgbClr val="d7181f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аздели это число на 2,5 и получишь приблизительный</a:t>
            </a:r>
            <a:r>
              <a:rPr b="1" i="1" lang="ru-RU" sz="1800" spc="-1" strike="noStrike">
                <a:solidFill>
                  <a:srgbClr val="d7181f"/>
                </a:solidFill>
                <a:latin typeface="Verdan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озраст дерева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Содержимое 5" descr="DSC00326.JPG"/>
          <p:cNvPicPr/>
          <p:nvPr/>
        </p:nvPicPr>
        <p:blipFill>
          <a:blip r:embed="rId1"/>
          <a:stretch/>
        </p:blipFill>
        <p:spPr>
          <a:xfrm>
            <a:off x="4429080" y="1571760"/>
            <a:ext cx="3429000" cy="442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7181f"/>
                </a:solidFill>
                <a:uFillTx/>
                <a:latin typeface="Verdana"/>
              </a:rPr>
              <a:t>Обхват дерева.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d10e"/>
                </a:solidFill>
                <a:latin typeface="Verdana"/>
              </a:rPr>
              <a:t>Мы решили  свою задачку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46ade"/>
                </a:solidFill>
                <a:uFillTx/>
                <a:latin typeface="Verdana"/>
              </a:rPr>
              <a:t>Пример: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Обхват одного из деревьев на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школьном дворе составил </a:t>
            </a:r>
            <a:r>
              <a:rPr b="1" i="1" lang="ru-RU" sz="2400" spc="-1" strike="noStrike">
                <a:solidFill>
                  <a:srgbClr val="d7181f"/>
                </a:solidFill>
                <a:latin typeface="Verdana"/>
              </a:rPr>
              <a:t>0,84 м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(84 см), поэтому 84/2,5=33 года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озраст нашего дерева составил </a:t>
            </a:r>
            <a:r>
              <a:rPr b="1" i="1" lang="ru-RU" sz="2400" spc="-1" strike="noStrike">
                <a:solidFill>
                  <a:srgbClr val="d7181f"/>
                </a:solidFill>
                <a:latin typeface="Verdana"/>
              </a:rPr>
              <a:t>33 года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Содержимое 5" descr="DSC00328.JPG"/>
          <p:cNvPicPr/>
          <p:nvPr/>
        </p:nvPicPr>
        <p:blipFill>
          <a:blip r:embed="rId1"/>
          <a:stretch/>
        </p:blipFill>
        <p:spPr>
          <a:xfrm>
            <a:off x="2786040" y="3357720"/>
            <a:ext cx="2928960" cy="3071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7181f"/>
                </a:solidFill>
                <a:uFillTx/>
                <a:latin typeface="Verdana"/>
              </a:rPr>
              <a:t>Практическая значимость работы: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33" descr="26"/>
          <p:cNvPicPr/>
          <p:nvPr/>
        </p:nvPicPr>
        <p:blipFill>
          <a:blip r:embed="rId1"/>
          <a:stretch/>
        </p:blipFill>
        <p:spPr>
          <a:xfrm>
            <a:off x="250920" y="1197000"/>
            <a:ext cx="3529080" cy="24969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067280" y="1483920"/>
            <a:ext cx="507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 ходе выполнения работы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я узнал,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что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растения являются  </a:t>
            </a:r>
            <a:r>
              <a:rPr b="0" i="1" lang="ru-RU" sz="2000" spc="-1" strike="noStrike">
                <a:solidFill>
                  <a:srgbClr val="d7181f"/>
                </a:solidFill>
                <a:latin typeface="Verdana"/>
              </a:rPr>
              <a:t>«легкими» нашей планеты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и благодаря им мы дышим. В прошлом вся земля была покрыта огромным лесом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а протяжении тысячелетий человек вырубал леса. Небрежное отношение с огнем приводило к многочисленным пожарам.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ля </a:t>
            </a:r>
            <a:r>
              <a:rPr b="0" i="1" lang="ru-RU" sz="2000" spc="-1" strike="noStrike">
                <a:solidFill>
                  <a:srgbClr val="d7181f"/>
                </a:solidFill>
                <a:latin typeface="Verdana"/>
              </a:rPr>
              <a:t>восстановления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лесов потребуется сотни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, т.к. деревья </a:t>
            </a:r>
            <a:r>
              <a:rPr b="0" i="1" lang="ru-RU" sz="2000" spc="-1" strike="noStrike">
                <a:solidFill>
                  <a:srgbClr val="d7181f"/>
                </a:solidFill>
                <a:latin typeface="Verdana"/>
              </a:rPr>
              <a:t>растут очень медленно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Если мы не хотим лишиться природных богатств леса, необходимо их </a:t>
            </a:r>
            <a:r>
              <a:rPr b="0" i="1" lang="ru-RU" sz="2000" spc="-1" strike="noStrike">
                <a:solidFill>
                  <a:srgbClr val="d7181f"/>
                </a:solidFill>
                <a:latin typeface="Verdana"/>
              </a:rPr>
              <a:t>охранять</a:t>
            </a:r>
            <a:r>
              <a:rPr b="1" i="1" lang="ru-RU" sz="2000" spc="-1" strike="noStrike">
                <a:solidFill>
                  <a:srgbClr val="d7181f"/>
                </a:solidFill>
                <a:latin typeface="Verdana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35" descr="27"/>
          <p:cNvPicPr/>
          <p:nvPr/>
        </p:nvPicPr>
        <p:blipFill>
          <a:blip r:embed="rId2"/>
          <a:stretch/>
        </p:blipFill>
        <p:spPr>
          <a:xfrm>
            <a:off x="250920" y="3789360"/>
            <a:ext cx="3529080" cy="2735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6ade"/>
                </a:solidFill>
                <a:latin typeface="Verdana"/>
              </a:rPr>
              <a:t>             </a:t>
            </a:r>
            <a:r>
              <a:rPr b="1" lang="ru-RU" sz="4400" spc="-1" strike="noStrike" u="sng">
                <a:solidFill>
                  <a:srgbClr val="d43636"/>
                </a:solidFill>
                <a:uFillTx/>
                <a:latin typeface="Verdana"/>
              </a:rPr>
              <a:t>Актуальность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38"/>
          <p:cNvSpPr/>
          <p:nvPr/>
        </p:nvSpPr>
        <p:spPr>
          <a:xfrm>
            <a:off x="539640" y="1197000"/>
            <a:ext cx="81360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98bf1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один из жарких, солнечных летних дней           мы всей семьей отправились на отдых в лес. Мое внимание привлекло то, что одно и тоже дерево, например сосна, имеет разную высоту и толщину ствола. Я спросила у папы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чему деревья имеют разный размер?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апа сказал мне, что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ждое дерево имеет свой возраст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Дерево может жить очень долго, несколько столетий. В течении всей своей жизни оно постоянно растет, но только медлен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Хочешь узнать об этом подроб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46ade"/>
                </a:solidFill>
                <a:uFillTx/>
                <a:latin typeface="Verdana"/>
              </a:rPr>
              <a:t>Задачи: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cd10e"/>
                </a:solidFill>
                <a:latin typeface="Verdana"/>
              </a:rPr>
              <a:t>1)</a:t>
            </a:r>
            <a:r>
              <a:rPr b="0" lang="ru-RU" sz="3200" spc="-1" strike="noStrike">
                <a:solidFill>
                  <a:srgbClr val="98bf1d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d43636"/>
                </a:solidFill>
                <a:latin typeface="Verdana"/>
              </a:rPr>
              <a:t>Учиться работать с разными</a:t>
            </a:r>
            <a:r>
              <a:rPr b="0" lang="ru-RU" sz="3200" spc="-1" strike="noStrike">
                <a:solidFill>
                  <a:srgbClr val="98bf1d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d43636"/>
                </a:solidFill>
                <a:latin typeface="Verdana"/>
              </a:rPr>
              <a:t>источниками информации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944e"/>
                </a:solidFill>
                <a:latin typeface="Verdana"/>
              </a:rPr>
              <a:t>                </a:t>
            </a:r>
            <a:r>
              <a:rPr b="1" i="1" lang="ru-RU" sz="2400" spc="-1" strike="noStrike">
                <a:solidFill>
                  <a:srgbClr val="646ade"/>
                </a:solidFill>
                <a:latin typeface="Verdana"/>
              </a:rPr>
              <a:t>1.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терне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1944e"/>
                </a:solidFill>
                <a:latin typeface="Verdana"/>
              </a:rPr>
              <a:t>           </a:t>
            </a:r>
            <a:r>
              <a:rPr b="1" i="1" lang="ru-RU" sz="2400" spc="-1" strike="noStrike">
                <a:solidFill>
                  <a:srgbClr val="646ade"/>
                </a:solidFill>
                <a:latin typeface="Verdana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пециальная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литература</a:t>
            </a:r>
            <a:r>
              <a:rPr b="1" i="1" lang="ru-RU" sz="2800" spc="-1" strike="noStrike">
                <a:solidFill>
                  <a:srgbClr val="51944e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(книги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ериодические издания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cd10e"/>
                </a:solidFill>
                <a:latin typeface="Verdana"/>
              </a:rPr>
              <a:t>2)</a:t>
            </a:r>
            <a:r>
              <a:rPr b="0" lang="ru-RU" sz="3200" spc="-1" strike="noStrike">
                <a:solidFill>
                  <a:srgbClr val="98bf1d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d43636"/>
                </a:solidFill>
                <a:latin typeface="Verdana"/>
              </a:rPr>
              <a:t>Провести исследования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cd10e"/>
                </a:solidFill>
                <a:latin typeface="Verdana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d43636"/>
                </a:solidFill>
                <a:latin typeface="Verdana"/>
              </a:rPr>
              <a:t>Наблюдать, обобщить, сделать выводы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05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646ade"/>
                </a:solidFill>
                <a:uFillTx/>
                <a:latin typeface="Verdana"/>
              </a:rPr>
              <a:t>Цель:</a:t>
            </a: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накомство со способ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пределения возраста деревьев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43636"/>
                </a:solidFill>
                <a:uFillTx/>
                <a:latin typeface="Verdana"/>
              </a:rPr>
              <a:t>Методы исследования.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3" descr="5"/>
          <p:cNvPicPr/>
          <p:nvPr/>
        </p:nvPicPr>
        <p:blipFill>
          <a:blip r:embed="rId1"/>
          <a:stretch/>
        </p:blipFill>
        <p:spPr>
          <a:xfrm>
            <a:off x="0" y="1052640"/>
            <a:ext cx="4643280" cy="5472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16000" y="2205000"/>
            <a:ext cx="4427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46ade"/>
                </a:solidFill>
                <a:latin typeface="Verdana"/>
              </a:rPr>
              <a:t>наблюдение;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46ade"/>
                </a:solidFill>
                <a:latin typeface="Verdana"/>
              </a:rPr>
              <a:t>практическая работа;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46ade"/>
                </a:solidFill>
                <a:latin typeface="Verdana"/>
              </a:rPr>
              <a:t>обобщение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7181f"/>
                </a:solidFill>
                <a:uFillTx/>
                <a:latin typeface="Verdana"/>
              </a:rPr>
              <a:t>Как узнать возраст хвойного дерева.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3280" y="1628640"/>
            <a:ext cx="450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Мы можем вычислить возраст хвойного дерева посчитав, сколько на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ем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 u="sng">
                <a:solidFill>
                  <a:srgbClr val="51944e"/>
                </a:solidFill>
                <a:uFillTx/>
                <a:latin typeface="Verdana"/>
              </a:rPr>
              <a:t>ярусов ветвей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Каждый год на дереве появляется новый ярус. Но нужно быть внимательным с возрастом нижние ветви засыхают и опадают. На их месте остаются метки, которые со временем понемногу зарастают корой и становятся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евидимыми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2" descr="Рисунок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1628640"/>
            <a:ext cx="4716360" cy="482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7181f"/>
                </a:solidFill>
                <a:uFillTx/>
                <a:latin typeface="Verdana"/>
              </a:rPr>
              <a:t>Определение возраста небольшого дерева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51280" y="1844280"/>
            <a:ext cx="529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смотрев как следует на небольшое дерево. Мы увидели, что побеги, появившиеся в этом году, отличаются от остальных частей. Кора на них более гладкая, древесина мягкая. </a:t>
            </a:r>
            <a:r>
              <a:rPr b="1" i="1" lang="ru-RU" sz="2000" spc="-1" strike="noStrike">
                <a:solidFill>
                  <a:srgbClr val="51944e"/>
                </a:solidFill>
                <a:latin typeface="Verdana"/>
              </a:rPr>
              <a:t>Каждый год из почек появляются новые побеги.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Молодой побег отделен от прошлогоднего выступающим кольцом. Этот шрам оставили чешуйки отпавшей почки. На новых ростках еще нет веток. Они вырастут в следующем году из почек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8" descr="Рисунок3"/>
          <p:cNvPicPr/>
          <p:nvPr/>
        </p:nvPicPr>
        <p:blipFill>
          <a:blip r:embed="rId1"/>
          <a:stretch/>
        </p:blipFill>
        <p:spPr>
          <a:xfrm>
            <a:off x="0" y="1341360"/>
            <a:ext cx="4284720" cy="518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d7181f"/>
                </a:solidFill>
                <a:uFillTx/>
                <a:latin typeface="Verdana"/>
              </a:rPr>
              <a:t>Кольцо за один год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628640"/>
            <a:ext cx="83818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Чтобы определить возраст дерева, нужно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осчитать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 u="sng">
                <a:solidFill>
                  <a:srgbClr val="51944e"/>
                </a:solidFill>
                <a:uFillTx/>
                <a:latin typeface="Verdana"/>
              </a:rPr>
              <a:t>годичные кольца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на его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тволе. За один год древесина увеличивается на одно кольцо. В каждом кольце есть толстый светлый слой, который сформировался весной. Другой слой тоньше и темнее, он появился в летний период и служит дереву опорой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181f"/>
                </a:solidFill>
                <a:latin typeface="Verdana"/>
              </a:rPr>
              <a:t> </a:t>
            </a:r>
            <a:r>
              <a:rPr b="1" lang="ru-RU" sz="2800" spc="-1" strike="noStrike" u="sng">
                <a:solidFill>
                  <a:srgbClr val="646ade"/>
                </a:solidFill>
                <a:uFillTx/>
                <a:latin typeface="Verdana"/>
              </a:rPr>
              <a:t>Объектом исследования является спил.</a:t>
            </a:r>
            <a:br>
              <a:rPr sz="2800"/>
            </a:br>
            <a:r>
              <a:rPr b="1" lang="ru-RU" sz="4000" spc="-1" strike="noStrike">
                <a:solidFill>
                  <a:srgbClr val="d7181f"/>
                </a:solidFill>
                <a:latin typeface="Verdana"/>
              </a:rPr>
              <a:t>О чем рассказывает спил дерева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4419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bf1d"/>
                </a:solidFill>
                <a:latin typeface="Verdana"/>
              </a:rPr>
              <a:t>Спил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дерева позволяет нам не только определить возраст дерева, но и рассказывает историю всей жизни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скорость роста, климат, в котором оно росло, его болезни и т.д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4214880" y="207180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0" y="2643120"/>
            <a:ext cx="4114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50640"/>
            <a:ext cx="85690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7181f"/>
                </a:solidFill>
                <a:uFillTx/>
                <a:latin typeface="Verdana"/>
              </a:rPr>
              <a:t>Что показали исследования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редметом исследования мною был выбран спил березы. Кора березы очень тонкая и светлая. Подсчет колец на спиле показал, что данному дереву было всего </a:t>
            </a:r>
            <a:r>
              <a:rPr b="1" i="1" lang="ru-RU" sz="2800" spc="-1" strike="noStrike">
                <a:solidFill>
                  <a:srgbClr val="1bafc3"/>
                </a:solidFill>
                <a:latin typeface="Verdana"/>
              </a:rPr>
              <a:t>22 года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. Это очень молодое дерево. Спил имеет широкие и узкие кольца. Значит не всегда были благоприятными условия для его развития. Темные пятна на трех этапах жизни дерева показали, что оно было затронуто огнем или молнией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3:27:31Z</dcterms:created>
  <dc:creator>123</dc:creator>
  <dc:description/>
  <dc:language>en-US</dc:language>
  <cp:lastModifiedBy>User</cp:lastModifiedBy>
  <dcterms:modified xsi:type="dcterms:W3CDTF">2012-07-14T09:16:18Z</dcterms:modified>
  <cp:revision>56</cp:revision>
  <dc:subject/>
  <dc:title>Дерево – живое существо </dc:title>
</cp:coreProperties>
</file>