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0.png" ContentType="image/png"/>
  <Override PartName="/ppt/media/image27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5419-5ED8-48F2-AE8C-EEFA119E19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299F-2B60-4BA1-B585-93C998BED4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380A-61EC-4A3C-ABF4-94A1B09634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00A-EE57-480A-AC0D-0F2D0A09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DF2-AC95-4A88-BA86-961772DB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865-38D0-41DF-94C4-0EFDC59E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C857-F96B-4B09-A2B3-48239A8A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3E6-C0DB-42DE-A1C9-8D2CAE47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9E5-F01D-4298-A2DD-7CFFDABA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5F4-6A30-4492-93D9-5E6E20F9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17D-F452-43DD-8841-ED844C34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EC2-2697-47E0-B7B7-14A4DF95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3D4-6EBE-421E-8742-D883AF93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137-8FFC-4F4C-9B8C-65F64AC8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273-0553-47AC-B6C8-42BD9F09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1DCD-99BB-4CAC-8D4C-F715964BF1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9720" y="213840"/>
            <a:ext cx="70722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МОУ Дивногорская СОШ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WordArt 2"/>
          <p:cNvSpPr txBox="1"/>
          <p:nvPr/>
        </p:nvSpPr>
        <p:spPr>
          <a:xfrm>
            <a:off x="1214280" y="1857240"/>
            <a:ext cx="6643800" cy="785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 Black"/>
              </a:rPr>
              <a:t>Пусть говоря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 Black"/>
              <a:ea typeface="Arial Black"/>
            </a:endParaRPr>
          </a:p>
        </p:txBody>
      </p:sp>
      <p:pic>
        <p:nvPicPr>
          <p:cNvPr id="50" name="Прямоугольник 8" descr=""/>
          <p:cNvPicPr/>
          <p:nvPr/>
        </p:nvPicPr>
        <p:blipFill>
          <a:blip r:embed="rId2"/>
          <a:stretch/>
        </p:blipFill>
        <p:spPr>
          <a:xfrm>
            <a:off x="176040" y="3425760"/>
            <a:ext cx="8937720" cy="1974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3" descr=""/>
          <p:cNvPicPr/>
          <p:nvPr/>
        </p:nvPicPr>
        <p:blipFill>
          <a:blip r:embed="rId3"/>
          <a:stretch/>
        </p:blipFill>
        <p:spPr>
          <a:xfrm>
            <a:off x="3224160" y="5803920"/>
            <a:ext cx="2328840" cy="7794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14" descr=""/>
          <p:cNvPicPr/>
          <p:nvPr/>
        </p:nvPicPr>
        <p:blipFill>
          <a:blip r:embed="rId4"/>
          <a:stretch/>
        </p:blipFill>
        <p:spPr>
          <a:xfrm>
            <a:off x="1901880" y="2011320"/>
            <a:ext cx="543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99680" y="228600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5400" spc="-1" strike="noStrike">
                <a:solidFill>
                  <a:srgbClr val="17375e"/>
                </a:solidFill>
                <a:latin typeface="Calibri"/>
              </a:rPr>
              <a:t>Гений в отличие от талант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это не только высшая степень одаренности, но это обязательно и создание новых, гениальных твор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е.jpg"/>
          <p:cNvPicPr/>
          <p:nvPr/>
        </p:nvPicPr>
        <p:blipFill>
          <a:blip r:embed="rId1"/>
          <a:stretch/>
        </p:blipFill>
        <p:spPr>
          <a:xfrm>
            <a:off x="428760" y="214200"/>
            <a:ext cx="2857320" cy="215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53735"/>
                </a:solidFill>
                <a:latin typeface="Calibri"/>
              </a:rPr>
              <a:t>Наш генетический набор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5" descr="к.jpg"/>
          <p:cNvPicPr/>
          <p:nvPr/>
        </p:nvPicPr>
        <p:blipFill>
          <a:blip r:embed="rId1"/>
          <a:stretch/>
        </p:blipFill>
        <p:spPr>
          <a:xfrm>
            <a:off x="2928960" y="1785960"/>
            <a:ext cx="3071880" cy="3311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400" y="1071720"/>
            <a:ext cx="28573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10253f"/>
                </a:solidFill>
                <a:latin typeface="Calibri"/>
              </a:rPr>
              <a:t>Рассуд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Выгнутая вправо стрелка 9"/>
          <p:cNvSpPr/>
          <p:nvPr/>
        </p:nvSpPr>
        <p:spPr>
          <a:xfrm>
            <a:off x="6286680" y="2000160"/>
            <a:ext cx="2143080" cy="1428840"/>
          </a:xfrm>
          <a:custGeom>
            <a:avLst/>
            <a:gdLst>
              <a:gd name="textAreaLeft" fmla="*/ 286920 w 2143080"/>
              <a:gd name="textAreaRight" fmla="*/ 1856160 w 2143080"/>
              <a:gd name="textAreaTop" fmla="*/ 223200 h 1428840"/>
              <a:gd name="textAreaBottom" fmla="*/ 10270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Выгнутая влево стрелка 10"/>
          <p:cNvSpPr/>
          <p:nvPr/>
        </p:nvSpPr>
        <p:spPr>
          <a:xfrm>
            <a:off x="428760" y="2000160"/>
            <a:ext cx="2214360" cy="1500120"/>
          </a:xfrm>
          <a:custGeom>
            <a:avLst/>
            <a:gdLst>
              <a:gd name="textAreaLeft" fmla="*/ 296640 w 2214360"/>
              <a:gd name="textAreaRight" fmla="*/ 1917720 w 2214360"/>
              <a:gd name="textAreaTop" fmla="*/ 234360 h 1500120"/>
              <a:gd name="textAreaBottom" fmla="*/ 107820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671700"/>
                <a:lnTo>
                  <a:pt x="17942" y="21503"/>
                </a:lnTo>
                <a:lnTo>
                  <a:pt x="21600" y="16200"/>
                </a:lnTo>
                <a:lnTo>
                  <a:pt x="17942" y="10703"/>
                </a:lnTo>
                <a:lnTo>
                  <a:pt x="17942" y="13403"/>
                </a:lnTo>
                <a:arcTo wR="21600" hR="6750" stAng="7128300" swAng="3205714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Текст 4"/>
          <p:cNvSpPr/>
          <p:nvPr/>
        </p:nvSpPr>
        <p:spPr>
          <a:xfrm>
            <a:off x="5715000" y="1071720"/>
            <a:ext cx="2857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10253f"/>
                </a:solidFill>
                <a:latin typeface="Calibri"/>
              </a:rPr>
              <a:t>Эмо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люс 12"/>
          <p:cNvSpPr/>
          <p:nvPr/>
        </p:nvSpPr>
        <p:spPr>
          <a:xfrm>
            <a:off x="3786120" y="4929120"/>
            <a:ext cx="1285920" cy="785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Текст 4"/>
          <p:cNvSpPr/>
          <p:nvPr/>
        </p:nvSpPr>
        <p:spPr>
          <a:xfrm>
            <a:off x="2071800" y="5643720"/>
            <a:ext cx="5000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10253f"/>
                </a:solidFill>
                <a:latin typeface="Calibri"/>
              </a:rPr>
              <a:t>Подсозн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59984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2960" indent="-282960" algn="ctr"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Calibri"/>
              </a:rPr>
              <a:t>Наши возможности и способност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трелка вниз 2"/>
          <p:cNvSpPr/>
          <p:nvPr/>
        </p:nvSpPr>
        <p:spPr>
          <a:xfrm>
            <a:off x="3786120" y="214200"/>
            <a:ext cx="1714680" cy="1500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5 генетических факторов гениальности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 из книги «Генетика и гениальность»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ысоколобость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иперурикемия -- повышенный уровень содержания в крови мочевой кислоты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циклотимия, ил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езкие перепад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строени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6.jpg"/>
          <p:cNvPicPr/>
          <p:nvPr/>
        </p:nvPicPr>
        <p:blipFill>
          <a:blip r:embed="rId1"/>
          <a:stretch/>
        </p:blipFill>
        <p:spPr>
          <a:xfrm>
            <a:off x="5500800" y="4000680"/>
            <a:ext cx="2958840" cy="22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71840" y="571320"/>
            <a:ext cx="6114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индром Марфана: высокий рост при худом, сухом теле, паукообразные пальцы, длинные конечности и, как правило, подвывих хрусталика глаза, а также часто врожденный порок сердц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индром Мориса, а попросту говоря, разновидность гермафродитиз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3" descr="OS20050.jpg"/>
          <p:cNvPicPr/>
          <p:nvPr/>
        </p:nvPicPr>
        <p:blipFill>
          <a:blip r:embed="rId1"/>
          <a:stretch/>
        </p:blipFill>
        <p:spPr>
          <a:xfrm>
            <a:off x="357120" y="642960"/>
            <a:ext cx="2214720" cy="535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аследственные признаки(их пять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Развитие врожденных способносте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Упорство, трудолюбие, упрямство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аличие выдающихся работ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уховная связь с народ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Прямоугольник 3" descr=""/>
          <p:cNvPicPr/>
          <p:nvPr/>
        </p:nvPicPr>
        <p:blipFill>
          <a:blip r:embed="rId1"/>
          <a:stretch/>
        </p:blipFill>
        <p:spPr>
          <a:xfrm>
            <a:off x="615960" y="237960"/>
            <a:ext cx="8101080" cy="10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8548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Обладала ли Софья Васильевна этими признак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е.jpg"/>
          <p:cNvPicPr/>
          <p:nvPr/>
        </p:nvPicPr>
        <p:blipFill>
          <a:blip r:embed="rId1"/>
          <a:stretch/>
        </p:blipFill>
        <p:spPr>
          <a:xfrm>
            <a:off x="3143160" y="1643040"/>
            <a:ext cx="3008520" cy="4497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Если для одной женщины хорошо и спокойно иметь наряду с воспитанием детей работу домохозяйки, то для другой этого может быть мало. Ведь понятно, что очень трудно музыканту не играть, художнику не рисовать, врачу не лечить и т.д. И правильно ли это будет перед Богом? Потому что встает ведь вопрос талантов, которые человеку зачем-то были даны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Немного статистики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астота встречаемости гениев - 1:50 000 000, один признанн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ений на 50 миллион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елове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 данным генетиков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астота рожд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тенциаль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ения 1:100 0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bc9491-001.jpg"/>
          <p:cNvPicPr/>
          <p:nvPr/>
        </p:nvPicPr>
        <p:blipFill>
          <a:blip r:embed="rId1"/>
          <a:stretch/>
        </p:blipFill>
        <p:spPr>
          <a:xfrm>
            <a:off x="5715000" y="2643120"/>
            <a:ext cx="2770200" cy="3463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00040" y="164304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Ложно утверждать, что гений всегда пробьется сам.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з ста гениев девяносто девять гибнут безвестными.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олько преодолев несказанные трудности,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аждый сотый достигает признания.»</a:t>
            </a:r>
            <a:br>
              <a:rPr sz="2800"/>
            </a:br>
            <a:br>
              <a:rPr sz="28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Рудольф Диз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2" descr=""/>
          <p:cNvPicPr/>
          <p:nvPr/>
        </p:nvPicPr>
        <p:blipFill>
          <a:blip r:embed="rId1"/>
          <a:stretch/>
        </p:blipFill>
        <p:spPr>
          <a:xfrm>
            <a:off x="493560" y="1560600"/>
            <a:ext cx="4042080" cy="452268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3" descr=""/>
          <p:cNvPicPr/>
          <p:nvPr/>
        </p:nvPicPr>
        <p:blipFill>
          <a:blip r:embed="rId2"/>
          <a:stretch/>
        </p:blipFill>
        <p:spPr>
          <a:xfrm>
            <a:off x="1116000" y="401760"/>
            <a:ext cx="7332840" cy="1141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Софья Ковалевская: математическая единица"/>
          <p:cNvPicPr/>
          <p:nvPr/>
        </p:nvPicPr>
        <p:blipFill>
          <a:blip r:embed="rId3"/>
          <a:stretch/>
        </p:blipFill>
        <p:spPr>
          <a:xfrm>
            <a:off x="5072040" y="2357280"/>
            <a:ext cx="3824280" cy="30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2" descr=""/>
          <p:cNvPicPr/>
          <p:nvPr/>
        </p:nvPicPr>
        <p:blipFill>
          <a:blip r:embed="rId2"/>
          <a:stretch/>
        </p:blipFill>
        <p:spPr>
          <a:xfrm>
            <a:off x="189000" y="1652760"/>
            <a:ext cx="9058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6" descr="д.jpg"/>
          <p:cNvPicPr/>
          <p:nvPr/>
        </p:nvPicPr>
        <p:blipFill>
          <a:blip r:embed="rId1"/>
          <a:stretch/>
        </p:blipFill>
        <p:spPr>
          <a:xfrm>
            <a:off x="357120" y="2571840"/>
            <a:ext cx="2890800" cy="2293920"/>
          </a:xfrm>
          <a:prstGeom prst="rect">
            <a:avLst/>
          </a:prstGeom>
          <a:ln w="9360">
            <a:solidFill>
              <a:srgbClr val="000000"/>
            </a:solidFill>
            <a:prstDash val="sysDash"/>
            <a:miter/>
          </a:ln>
        </p:spPr>
      </p:pic>
      <p:pic>
        <p:nvPicPr>
          <p:cNvPr id="57" name="Содержимое 2" descr=""/>
          <p:cNvPicPr/>
          <p:nvPr/>
        </p:nvPicPr>
        <p:blipFill>
          <a:blip r:embed="rId2"/>
          <a:stretch/>
        </p:blipFill>
        <p:spPr>
          <a:xfrm>
            <a:off x="3071880" y="1060560"/>
            <a:ext cx="5810040" cy="607212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5" descr=""/>
          <p:cNvPicPr/>
          <p:nvPr/>
        </p:nvPicPr>
        <p:blipFill>
          <a:blip r:embed="rId3"/>
          <a:stretch/>
        </p:blipFill>
        <p:spPr>
          <a:xfrm>
            <a:off x="1579680" y="-208080"/>
            <a:ext cx="44002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6" descr=""/>
          <p:cNvPicPr/>
          <p:nvPr/>
        </p:nvPicPr>
        <p:blipFill>
          <a:blip r:embed="rId1"/>
          <a:stretch/>
        </p:blipFill>
        <p:spPr>
          <a:xfrm>
            <a:off x="1116000" y="706320"/>
            <a:ext cx="725976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56760" y="1571400"/>
            <a:ext cx="6472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древности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алан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по-древнегречески – talanton) называли крупную весовую (более 25 кг) и денежную единиц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раннехристианские времена слово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алант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приобрело новое значение – "природные способности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Прямоугольник 2" descr=""/>
          <p:cNvPicPr/>
          <p:nvPr/>
        </p:nvPicPr>
        <p:blipFill>
          <a:blip r:embed="rId1"/>
          <a:stretch/>
        </p:blipFill>
        <p:spPr>
          <a:xfrm>
            <a:off x="1517760" y="109440"/>
            <a:ext cx="3987720" cy="18226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н.jpg"/>
          <p:cNvPicPr/>
          <p:nvPr/>
        </p:nvPicPr>
        <p:blipFill>
          <a:blip r:embed="rId2"/>
          <a:stretch/>
        </p:blipFill>
        <p:spPr>
          <a:xfrm>
            <a:off x="6143760" y="1143000"/>
            <a:ext cx="2544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071440" y="1285920"/>
            <a:ext cx="5357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Прямоугольник 4" descr=""/>
          <p:cNvPicPr/>
          <p:nvPr/>
        </p:nvPicPr>
        <p:blipFill>
          <a:blip r:embed="rId1"/>
          <a:stretch/>
        </p:blipFill>
        <p:spPr>
          <a:xfrm>
            <a:off x="1189080" y="3067200"/>
            <a:ext cx="6400800" cy="35416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в.jpg"/>
          <p:cNvPicPr/>
          <p:nvPr/>
        </p:nvPicPr>
        <p:blipFill>
          <a:blip r:embed="rId2"/>
          <a:stretch/>
        </p:blipFill>
        <p:spPr>
          <a:xfrm>
            <a:off x="2357280" y="285840"/>
            <a:ext cx="3684600" cy="2714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71680" y="928800"/>
            <a:ext cx="7829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8000" spc="-1" strike="noStrike" u="sng">
                <a:solidFill>
                  <a:srgbClr val="000000"/>
                </a:solidFill>
                <a:uFillTx/>
                <a:latin typeface="Calibri"/>
              </a:rPr>
              <a:t>Гениальность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2" descr="i.jpg"/>
          <p:cNvPicPr/>
          <p:nvPr/>
        </p:nvPicPr>
        <p:blipFill>
          <a:blip r:embed="rId1"/>
          <a:stretch/>
        </p:blipFill>
        <p:spPr>
          <a:xfrm>
            <a:off x="1857240" y="2643120"/>
            <a:ext cx="5000760" cy="3627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5"/>
          <p:cNvSpPr/>
          <p:nvPr/>
        </p:nvSpPr>
        <p:spPr>
          <a:xfrm>
            <a:off x="285840" y="1143000"/>
            <a:ext cx="5715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Гениальность — это терпение мысли, сосредоточенной в известном направлен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Гениальность — это один процент терп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99 — пот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ди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Гений — это талант изобретения того, чему нельзя научить или научит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6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437680" cy="9032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12.jpg"/>
          <p:cNvPicPr/>
          <p:nvPr/>
        </p:nvPicPr>
        <p:blipFill>
          <a:blip r:embed="rId2"/>
          <a:stretch/>
        </p:blipFill>
        <p:spPr>
          <a:xfrm>
            <a:off x="6000840" y="1500120"/>
            <a:ext cx="2833560" cy="45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493560" y="274680"/>
            <a:ext cx="8242560" cy="1511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6840" y="1785960"/>
            <a:ext cx="78296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«Гениальность — наивысшее проявление творческих сил человека... Предполагает врожденную способность к продуктивной деятельности в той или иной области при универсальном даровании...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3:19:25Z</dcterms:created>
  <dc:creator>LENA</dc:creator>
  <dc:description/>
  <dc:language>en-US</dc:language>
  <cp:lastModifiedBy>LENA</cp:lastModifiedBy>
  <dcterms:modified xsi:type="dcterms:W3CDTF">2010-01-30T16:05:50Z</dcterms:modified>
  <cp:revision>40</cp:revision>
  <dc:subject/>
  <dc:title>Слайд 1</dc:title>
</cp:coreProperties>
</file>