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E189-E774-4667-A537-BCD8FC6BC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A57-2913-4EDF-ADC6-EC95E008D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ED5-4C37-4876-8E5C-E3BA234848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E9A-7D99-463E-A4DF-75DE8F68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D36-BAD6-4624-B6A6-474AB42B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03A-A98C-4FCD-B73C-55B8FDBB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F2D-867D-4B50-BBFD-2FD86E3E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9F2-BADE-43ED-9C3B-F55B350C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518-BFB4-49A0-8DD8-E9A4849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B79-709D-4CF7-B665-B87A6E3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7DB-3F38-45FE-AD7A-084FBC4B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625-6CD7-4E68-A0BB-7564B146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508-1908-4909-B152-6604FC2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E17-BD40-4453-8C5D-4167FF1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1B2-6A12-4DB2-86E2-D8523A1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C2B7-2580-4006-874A-CC06B0067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9720" y="21384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МОУ Дивногорская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1214280" y="1857240"/>
            <a:ext cx="664380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Пусть говор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176040" y="3425760"/>
            <a:ext cx="893772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3" descr=""/>
          <p:cNvPicPr/>
          <p:nvPr/>
        </p:nvPicPr>
        <p:blipFill>
          <a:blip r:embed="rId3"/>
          <a:stretch/>
        </p:blipFill>
        <p:spPr>
          <a:xfrm>
            <a:off x="3224160" y="5803920"/>
            <a:ext cx="2328840" cy="779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4" descr=""/>
          <p:cNvPicPr/>
          <p:nvPr/>
        </p:nvPicPr>
        <p:blipFill>
          <a:blip r:embed="rId4"/>
          <a:stretch/>
        </p:blipFill>
        <p:spPr>
          <a:xfrm>
            <a:off x="1901880" y="2011320"/>
            <a:ext cx="543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99680" y="228600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17375e"/>
                </a:solidFill>
                <a:latin typeface="Calibri"/>
              </a:rPr>
              <a:t>Гений в отличие от тала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не только высшая степень одаренности, но это обязательно и создание новых, гениальных твор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е.jpg"/>
          <p:cNvPicPr/>
          <p:nvPr/>
        </p:nvPicPr>
        <p:blipFill>
          <a:blip r:embed="rId1"/>
          <a:stretch/>
        </p:blipFill>
        <p:spPr>
          <a:xfrm>
            <a:off x="428760" y="214200"/>
            <a:ext cx="2857320" cy="215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Наш генетический набор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к.jpg"/>
          <p:cNvPicPr/>
          <p:nvPr/>
        </p:nvPicPr>
        <p:blipFill>
          <a:blip r:embed="rId1"/>
          <a:stretch/>
        </p:blipFill>
        <p:spPr>
          <a:xfrm>
            <a:off x="2928960" y="1785960"/>
            <a:ext cx="3071880" cy="3311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28573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Рассуд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Выгнутая вправо стрелка 9"/>
          <p:cNvSpPr/>
          <p:nvPr/>
        </p:nvSpPr>
        <p:spPr>
          <a:xfrm>
            <a:off x="6286680" y="2000160"/>
            <a:ext cx="2143080" cy="1428840"/>
          </a:xfrm>
          <a:custGeom>
            <a:avLst/>
            <a:gdLst>
              <a:gd name="textAreaLeft" fmla="*/ 286920 w 2143080"/>
              <a:gd name="textAreaRight" fmla="*/ 1856160 w 2143080"/>
              <a:gd name="textAreaTop" fmla="*/ 223200 h 1428840"/>
              <a:gd name="textAreaBottom" fmla="*/ 10270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лево стрелка 10"/>
          <p:cNvSpPr/>
          <p:nvPr/>
        </p:nvSpPr>
        <p:spPr>
          <a:xfrm>
            <a:off x="428760" y="2000160"/>
            <a:ext cx="2214360" cy="1500120"/>
          </a:xfrm>
          <a:custGeom>
            <a:avLst/>
            <a:gdLst>
              <a:gd name="textAreaLeft" fmla="*/ 296640 w 2214360"/>
              <a:gd name="textAreaRight" fmla="*/ 1917720 w 221436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71700"/>
                <a:lnTo>
                  <a:pt x="17942" y="21503"/>
                </a:lnTo>
                <a:lnTo>
                  <a:pt x="21600" y="16200"/>
                </a:lnTo>
                <a:lnTo>
                  <a:pt x="17942" y="10703"/>
                </a:lnTo>
                <a:lnTo>
                  <a:pt x="17942" y="13403"/>
                </a:lnTo>
                <a:arcTo wR="21600" hR="6750" stAng="7128300" swAng="32057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4"/>
          <p:cNvSpPr/>
          <p:nvPr/>
        </p:nvSpPr>
        <p:spPr>
          <a:xfrm>
            <a:off x="5715000" y="107172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Эмо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люс 12"/>
          <p:cNvSpPr/>
          <p:nvPr/>
        </p:nvSpPr>
        <p:spPr>
          <a:xfrm>
            <a:off x="3786120" y="4929120"/>
            <a:ext cx="128592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4"/>
          <p:cNvSpPr/>
          <p:nvPr/>
        </p:nvSpPr>
        <p:spPr>
          <a:xfrm>
            <a:off x="2071800" y="5643720"/>
            <a:ext cx="5000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Под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 algn="ctr"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Наши возможности и способност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2"/>
          <p:cNvSpPr/>
          <p:nvPr/>
        </p:nvSpPr>
        <p:spPr>
          <a:xfrm>
            <a:off x="3786120" y="214200"/>
            <a:ext cx="1714680" cy="1500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5 генетических факторов гениальности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из книги «Генетика и гениальность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ысоколобос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иперурикемия -- повышенный уровень содержания в крови мочевой кислот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циклотимия, и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зкие перепад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строе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6.jpg"/>
          <p:cNvPicPr/>
          <p:nvPr/>
        </p:nvPicPr>
        <p:blipFill>
          <a:blip r:embed="rId1"/>
          <a:stretch/>
        </p:blipFill>
        <p:spPr>
          <a:xfrm>
            <a:off x="5500800" y="4000680"/>
            <a:ext cx="2958840" cy="22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71840" y="571320"/>
            <a:ext cx="6114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ндром Марфана: высокий рост при худом, сухом теле, паукообразные пальцы, длинные конечности и, как правило, подвывих хрусталика глаза, а также часто врожденный порок серд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ндром Мориса, а попросту говоря, разновидность гермафродит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OS20050.jpg"/>
          <p:cNvPicPr/>
          <p:nvPr/>
        </p:nvPicPr>
        <p:blipFill>
          <a:blip r:embed="rId1"/>
          <a:stretch/>
        </p:blipFill>
        <p:spPr>
          <a:xfrm>
            <a:off x="357120" y="642960"/>
            <a:ext cx="2214720" cy="535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следственные признаки(их пять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звитие врожденных способност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Упорство, трудолюбие, упрямств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личие выдающихся рабо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уховная связь с наро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15960" y="237960"/>
            <a:ext cx="810108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85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Обладала ли Софья Васильевна этими призна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е.jpg"/>
          <p:cNvPicPr/>
          <p:nvPr/>
        </p:nvPicPr>
        <p:blipFill>
          <a:blip r:embed="rId1"/>
          <a:stretch/>
        </p:blipFill>
        <p:spPr>
          <a:xfrm>
            <a:off x="3143160" y="1643040"/>
            <a:ext cx="3008520" cy="4497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Если для одной женщины хорошо и спокойно иметь наряду с воспитанием детей работу домохозяйки, то для другой этого может быть мало. Ведь понятно, что очень трудно музыканту не играть, художнику не рисовать, врачу не лечить и т.д. И правильно ли это будет перед Богом? Потому что встает ведь вопрос талантов, которые человеку зачем-то были даны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Немного статистик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встречаемости гениев - 1:50 000 000, один призна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ний на 50 миллио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елов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данным генетик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ро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тенциа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ния 1:100 0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bc9491-001.jpg"/>
          <p:cNvPicPr/>
          <p:nvPr/>
        </p:nvPicPr>
        <p:blipFill>
          <a:blip r:embed="rId1"/>
          <a:stretch/>
        </p:blipFill>
        <p:spPr>
          <a:xfrm>
            <a:off x="5715000" y="2643120"/>
            <a:ext cx="2770200" cy="346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00040" y="1643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Ложно утверждать, что гений всегда пробьется сам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з ста гениев девяносто девять гибнут безвестными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лько преодолев несказанные трудности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дый сотый достигает признания.»</a:t>
            </a:r>
            <a:br>
              <a:rPr sz="2800"/>
            </a:b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Рудольф Диз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2" descr=""/>
          <p:cNvPicPr/>
          <p:nvPr/>
        </p:nvPicPr>
        <p:blipFill>
          <a:blip r:embed="rId1"/>
          <a:stretch/>
        </p:blipFill>
        <p:spPr>
          <a:xfrm>
            <a:off x="493560" y="1560600"/>
            <a:ext cx="4042080" cy="4522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1116000" y="401760"/>
            <a:ext cx="7332840" cy="114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офья Ковалевская: математическая единица"/>
          <p:cNvPicPr/>
          <p:nvPr/>
        </p:nvPicPr>
        <p:blipFill>
          <a:blip r:embed="rId3"/>
          <a:stretch/>
        </p:blipFill>
        <p:spPr>
          <a:xfrm>
            <a:off x="5072040" y="2357280"/>
            <a:ext cx="3824280" cy="30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189000" y="1652760"/>
            <a:ext cx="9058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д.jpg"/>
          <p:cNvPicPr/>
          <p:nvPr/>
        </p:nvPicPr>
        <p:blipFill>
          <a:blip r:embed="rId1"/>
          <a:stretch/>
        </p:blipFill>
        <p:spPr>
          <a:xfrm>
            <a:off x="357120" y="2571840"/>
            <a:ext cx="2890800" cy="2293920"/>
          </a:xfrm>
          <a:prstGeom prst="rect">
            <a:avLst/>
          </a:prstGeom>
          <a:ln w="9360">
            <a:solidFill>
              <a:srgbClr val="000000"/>
            </a:solidFill>
            <a:prstDash val="sysDash"/>
            <a:miter/>
          </a:ln>
        </p:spPr>
      </p:pic>
      <p:pic>
        <p:nvPicPr>
          <p:cNvPr id="57" name="Содержимое 2" descr=""/>
          <p:cNvPicPr/>
          <p:nvPr/>
        </p:nvPicPr>
        <p:blipFill>
          <a:blip r:embed="rId2"/>
          <a:stretch/>
        </p:blipFill>
        <p:spPr>
          <a:xfrm>
            <a:off x="3071880" y="1060560"/>
            <a:ext cx="5810040" cy="607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3"/>
          <a:stretch/>
        </p:blipFill>
        <p:spPr>
          <a:xfrm>
            <a:off x="1579680" y="-208080"/>
            <a:ext cx="4400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6" descr=""/>
          <p:cNvPicPr/>
          <p:nvPr/>
        </p:nvPicPr>
        <p:blipFill>
          <a:blip r:embed="rId1"/>
          <a:stretch/>
        </p:blipFill>
        <p:spPr>
          <a:xfrm>
            <a:off x="1116000" y="706320"/>
            <a:ext cx="725976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6760" y="1571400"/>
            <a:ext cx="6472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древност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алан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по-древнегречески – talanton) называли крупную весовую (более 25 кг) и денежную единиц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ннехристианские времена слов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алант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приобрело новое значение – "природные способност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1517760" y="109440"/>
            <a:ext cx="3987720" cy="18226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н.jpg"/>
          <p:cNvPicPr/>
          <p:nvPr/>
        </p:nvPicPr>
        <p:blipFill>
          <a:blip r:embed="rId2"/>
          <a:stretch/>
        </p:blipFill>
        <p:spPr>
          <a:xfrm>
            <a:off x="6143760" y="1143000"/>
            <a:ext cx="2544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71440" y="1285920"/>
            <a:ext cx="535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1189080" y="3067200"/>
            <a:ext cx="6400800" cy="3541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в.jpg"/>
          <p:cNvPicPr/>
          <p:nvPr/>
        </p:nvPicPr>
        <p:blipFill>
          <a:blip r:embed="rId2"/>
          <a:stretch/>
        </p:blipFill>
        <p:spPr>
          <a:xfrm>
            <a:off x="2357280" y="285840"/>
            <a:ext cx="3684600" cy="271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71680" y="928800"/>
            <a:ext cx="7829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Calibri"/>
              </a:rPr>
              <a:t>Гениальность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i.jpg"/>
          <p:cNvPicPr/>
          <p:nvPr/>
        </p:nvPicPr>
        <p:blipFill>
          <a:blip r:embed="rId1"/>
          <a:stretch/>
        </p:blipFill>
        <p:spPr>
          <a:xfrm>
            <a:off x="1857240" y="2643120"/>
            <a:ext cx="5000760" cy="362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5"/>
          <p:cNvSpPr/>
          <p:nvPr/>
        </p:nvSpPr>
        <p:spPr>
          <a:xfrm>
            <a:off x="285840" y="1143000"/>
            <a:ext cx="571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альность — это терпение мысли, сосредоточенной в известном направлен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альность — это один процент терп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99 — пот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ди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й — это талант изобретения того, чему нельзя научить или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6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437680" cy="903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12.jpg"/>
          <p:cNvPicPr/>
          <p:nvPr/>
        </p:nvPicPr>
        <p:blipFill>
          <a:blip r:embed="rId2"/>
          <a:stretch/>
        </p:blipFill>
        <p:spPr>
          <a:xfrm>
            <a:off x="6000840" y="1500120"/>
            <a:ext cx="2833560" cy="45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93560" y="27468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6840" y="1785960"/>
            <a:ext cx="7829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«Гениальность — наивысшее проявление творческих сил человека... Предполагает врожденную способность к продуктивной деятельности в той или иной области при универсальном даровании.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19:25Z</dcterms:created>
  <dc:creator>LENA</dc:creator>
  <dc:description/>
  <dc:language>en-US</dc:language>
  <cp:lastModifiedBy>LENA</cp:lastModifiedBy>
  <dcterms:modified xsi:type="dcterms:W3CDTF">2010-01-30T16:05:50Z</dcterms:modified>
  <cp:revision>40</cp:revision>
  <dc:subject/>
  <dc:title>Слайд 1</dc:title>
</cp:coreProperties>
</file>