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BBB-2EE7-4A1F-9541-8CC06E07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BD2-F130-4D02-83A9-24CE3C14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AA1-1DFE-4C40-B73F-EFDCC7BA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2AF-916B-4AA7-9FB1-179B640D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F30D-2D45-434D-84BE-D9E958A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8945-A090-43E0-A784-32F8391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6DDF-EDA5-4A8E-9792-1B8E0F1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3070-8077-40E3-BE12-8C29372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382-AC41-43A5-964B-D6F5B20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23C3-6BA7-46C7-9089-D5E9C49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806C-4225-4DF2-894F-6B7ED344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92E-E161-4E30-A45A-74778E8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FBD4-DF8E-4414-878E-A98A95A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AAD-CFCE-4C90-8AEB-C2F68A3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01E-DA8F-43CA-8AD0-E0701F69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624-2BF9-43DD-9B6F-EA5FA135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8A4B-103B-47BA-AE6A-0475790B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62B-7058-4BA1-ABB7-209CC81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D45-EC13-43F0-BD68-79A10F9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149-EF0E-471A-ACF5-7A4AD62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D3-5C0E-4405-AD0B-25F2677C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179-C511-4F07-B7BB-9D16C74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DAE-4E15-437A-B467-855897B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378-4ACD-4EA8-8DD8-72C1FC8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455-5F7A-487C-958B-FEF9583996C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526-9F11-4DC2-9BF1-C0CB8F36CFE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курс  презентаций  «Великие  люди  России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общество  взаимопомощи  учителей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dsover.s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55640" y="5373360"/>
            <a:ext cx="453708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:  Ветошкина  Наталья     Владимировн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 МБОУ «Кезская  СОШ  №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0"/>
            <a:ext cx="3960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276640"/>
            <a:ext cx="48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ександр  Невский – полководец,  воин  и  диплома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Начало  княжения  Александра  Невского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40 г. Немецкие рыцари – крестоносцы, собрав большие силы, двинулись на русские  земли. Немцы  уничтожили  и  сожгли  города,  окружавшие  Псков. Псковское  войско  было  разбито. Нашлись  и предатели, которые привели  крестоносцев к стенам города,  один из них Твердило Михайлови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3284640"/>
            <a:ext cx="45860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74170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одно с немцами были и шведы и финны, во главе шведского войска стоял правитель Биргер, близкий родственник коро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н шведов был таков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  реке  Неве пересечь Ладожское  озеро, взять город  Ладогу,  пригород Новгорода, далее по реке Волхов дойти до Великого  Новгорода и покорить е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&amp;Kcy;&amp;acy;&amp;rcy;&amp;tcy;&amp;icy;&amp;ncy;&amp;kcy;&amp;acy; 13 &amp;icy;&amp;zcy; 49724"/>
          <p:cNvPicPr/>
          <p:nvPr/>
        </p:nvPicPr>
        <p:blipFill>
          <a:blip r:embed="rId1"/>
          <a:stretch/>
        </p:blipFill>
        <p:spPr>
          <a:xfrm>
            <a:off x="3419640" y="3933720"/>
            <a:ext cx="393696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6000" y="1125000"/>
            <a:ext cx="727236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едводитель шведов написал Александру  письмо: «Если  можешь,  сопротивляйся, знай, что я уже здесь и пленю  землю  твою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лександр помолился в храме Святой  Софии  и  сказал  своему  небольшому  войску  такие слова: «Нас  не много,  а  враг силён,  но  Бог  не  в  силе, а  в  правде:  идите  с  вашим  князем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&amp;Kcy;&amp;acy;&amp;rcy;&amp;tcy;&amp;icy;&amp;ncy;&amp;kcy;&amp;acy; 1 &amp;icy;&amp;zcy; 49724"/>
          <p:cNvPicPr/>
          <p:nvPr/>
        </p:nvPicPr>
        <p:blipFill>
          <a:blip r:embed="rId1"/>
          <a:stretch/>
        </p:blipFill>
        <p:spPr>
          <a:xfrm>
            <a:off x="3132000" y="3645000"/>
            <a:ext cx="43419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тром  15  июля  1240 г.,  около  11 ч,  внезапно перед шведами  возникли  воины князя Александра, бесстрашно бросились  на  неприятеля  и  стали  рубить мечами и топорами  в  самой  гуще  врагов. До  нас дошли  имена русских  богатырей,  отличившихся  особенной  храбростью  и  бесстрашием.  Один  рубил  мечом  лодки, другой топором, третий,  новгородец  по  имени Савва,  смог добраться до  шатра  с  золотым  верхом  и  подсёк  у  него  столб.  Шатёр  рухнул,  и  это  придало  ещё  больше  силы  новгородским  воинам.  Сам  Александр  сражался  как  рядовой  воин,  нагнал  Биргера  и  полоснул  копьём  по  его  лицу.  Позже  летописец  скажет: «Возложил  ему  печать на лицо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125360"/>
            <a:ext cx="3313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тери  шведов  были  очень  велики,  и  они  в  панике  уплыли  по  реке  Неве  к  морю  и  дальше  в  свои  земл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 честь  этой  победы  князя  Александра  окрестили  Невски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городцы  долго  торжествовали  побед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&amp;Kcy;&amp;acy;&amp;rcy;&amp;tcy;&amp;icy;&amp;ncy;&amp;kcy;&amp;acy; 5 &amp;icy;&amp;zcy; 49724"/>
          <p:cNvPicPr/>
          <p:nvPr/>
        </p:nvPicPr>
        <p:blipFill>
          <a:blip r:embed="rId1"/>
          <a:stretch/>
        </p:blipFill>
        <p:spPr>
          <a:xfrm>
            <a:off x="4643280" y="1989000"/>
            <a:ext cx="42674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7634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пределах Новгорода продолжали  бесчинствовать немцы, покорённые ими латыши  и другие  племена, присоединившиеся  к  захватчикам.  Псков находился  в  руках  чужеземцев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овгородцы поняли, что им грозит такая же участь, что никто им не поможет, кроме Александра, и снова пошли к нему с поклоном. Александр как благородный человек понимал,  что  обиды нужно забывать, когда дело касалось судьбы всей Рус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Снова собрав войско, отправился Александр Невский освобождать Русь от немецких рыцарей и разгромил построенную немцами крепость Капорье. С пленными обращался милостиво, предателей жестоко наказыва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 вскоре стало известно, что враг не хочет уходить, а снова собрал ещё большее войско и идёт новым походом на Псков. И тогда Александр Невский вышел с дружиной навстречу враг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ыла суббота, 15 апреля 1242 г.  В  этот  день  и  произошла битва на Чудском озере, не менее знаменитая, чем невская, и известная в истории как Ледовое побоищ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&amp;Kcy;&amp;acy;&amp;rcy;&amp;tcy;&amp;icy;&amp;ncy;&amp;kcy;&amp;acy; 1 &amp;icy;&amp;zcy; 1087"/>
          <p:cNvPicPr/>
          <p:nvPr/>
        </p:nvPicPr>
        <p:blipFill>
          <a:blip r:embed="rId1"/>
          <a:stretch/>
        </p:blipFill>
        <p:spPr>
          <a:xfrm>
            <a:off x="3419640" y="3789360"/>
            <a:ext cx="39099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 этом  бою  в  полной  мере  раскрылся талант  Александра, зрелого  и  мудрого  полководца.  В  сражении  на  Неве он  применял привычные для того времени военные приёмы, подходы в построении войска. На этот раз князь Александр не побоялся изменить устоявшиеся привычк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Он хорошо знал, как рыцари-крестоносцы строили  своё войско: «клином», или «свиньёй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&amp;Kcy;&amp;acy;&amp;rcy;&amp;tcy;&amp;icy;&amp;ncy;&amp;kcy;&amp;acy; 1 &amp;icy;&amp;zcy; 9234"/>
          <p:cNvPicPr/>
          <p:nvPr/>
        </p:nvPicPr>
        <p:blipFill>
          <a:blip r:embed="rId1"/>
          <a:stretch/>
        </p:blipFill>
        <p:spPr>
          <a:xfrm>
            <a:off x="5724360" y="1628640"/>
            <a:ext cx="27403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«Клин» включал устрашающего вида всадников, закованных в броню и вооружённых длинными компьями. За  их спинами двигалось оставшееся войско. Клин должен был прорвать центр русского войска, разбросать его, а идущие сзади  должны окружить русских воинов с флангов, т.е. с боков. Таким приёмом немцы побеждали во всех сражениях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4102200"/>
            <a:ext cx="2374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Русские предводители, как правило, все свои главные силы сосредотачивали в центре и разом бросали их на противника. На этот раз Александр основные силы своего войска спрятал на флангах, а в центре построил передовой полк из лучников, пращников (праща – вид оружия) и лёгкой конницы. За спиной этого полка находился крутой обрыв к озе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1430280"/>
            <a:ext cx="2592360" cy="1933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3952800"/>
            <a:ext cx="25923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47640" y="-360"/>
            <a:ext cx="734544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Жизнь  русского  князя  Александра  Ярославовича,  прозванного  впоследствии  Александром  Невским,  протекала  в  первой  половине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XIII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в.,  т.е. почти  800 лет  назад.  Но  Россия  продолжает  помнить  и  свято  чтить  память  замечательного полководца,  не  раз  спасавшего  Русь  от  нашествия  враго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Жизнь  князя  Александра  всегда  была  освещена  высокой  целью – служить  Родине  и  охранять  её  от  посягательства  чужеземце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1844640"/>
            <a:ext cx="36320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916280"/>
            <a:ext cx="36320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2498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лк должен был заманить передовые отряды немцев к озеру. Немецкие рыцари по обыкновению ринулись в центр русского войска, рассекли его на две части и начали преследовать, но неожиданно для себя оказались на краю крутого обрыва. Тяжёлое вооружение, не позволявшее им лавировать, сковывало свободу действий. А сзади на них напирало их же войско, не давая возможности развернуться и снова нападат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342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489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это время основные силы русских с флангов зажали немцев в жёсткие тиски. Неприятель пытался выбраться из ловушки и спастись бегством по льду озера. Завязалась одна из самых жестоких битв в нашей истории. Русские воины на концах копий имели крючки, с помощью которых умело сбрасывали рыцарей на землю, и те, отягощённые железными доспехами, неспособные к действиям, не могли оказать серьёзного сопротивления.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&amp;Kcy;&amp;acy;&amp;rcy;&amp;tcy;&amp;icy;&amp;ncy;&amp;kcy;&amp;acy; 13 &amp;icy;&amp;zcy; 1087"/>
          <p:cNvPicPr/>
          <p:nvPr/>
        </p:nvPicPr>
        <p:blipFill>
          <a:blip r:embed="rId1"/>
          <a:stretch/>
        </p:blipFill>
        <p:spPr>
          <a:xfrm>
            <a:off x="2411280" y="3884760"/>
            <a:ext cx="56167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4968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емцы бежали по льду, стремясь добраться до противоположного берега. Лёд начал проваливаться , и враги в тяжёлых доспехах уходили на дно. Впервые в русской военной истории получилось организованное преследование противника, и это вошло в военную  наук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О битве на Чудском озере в старинной книге было написано: «была злая сеча, слышались треск копий, звук мечей. Не видно было льда от крови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&amp;Kcy;&amp;acy;&amp;rcy;&amp;tcy;&amp;icy;&amp;ncy;&amp;kcy;&amp;acy; 198 &amp;icy;&amp;zcy; 1087"/>
          <p:cNvPicPr/>
          <p:nvPr/>
        </p:nvPicPr>
        <p:blipFill>
          <a:blip r:embed="rId1"/>
          <a:stretch/>
        </p:blipFill>
        <p:spPr>
          <a:xfrm>
            <a:off x="6156360" y="1484280"/>
            <a:ext cx="278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4392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Летом 1242 г. Был заключён мир с немецким орденом, силы которого были окончательно подорваны. Завоёванные прежде земли по договору были возвращены новгородцам и Пскову. Потом ещё несколько столетий немцы опасались нападать на Русь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Эти  две победы очень важны для дальнейшего развития Руси. Северные и западные границы Руси были в безопасност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&amp;Kcy;&amp;acy;&amp;rcy;&amp;tcy;&amp;icy;&amp;ncy;&amp;kcy;&amp;acy; 6 &amp;icy;&amp;zcy; 18495"/>
          <p:cNvPicPr/>
          <p:nvPr/>
        </p:nvPicPr>
        <p:blipFill>
          <a:blip r:embed="rId1"/>
          <a:stretch/>
        </p:blipFill>
        <p:spPr>
          <a:xfrm>
            <a:off x="5867280" y="1268280"/>
            <a:ext cx="2779920" cy="3721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5661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Памятник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Александру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евскому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 Курск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5113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а  восточных  рубежах Руси нависли несметные полчища монголов. Александр Невский понимал, что не пришло ещё время сражаться с ними, так как у русского  народа не было достаточно  сил, чтобы победить их.  И  он  выбрал путь дипломатии, переговоров и вынужденного признания силы победителей. Это не было трусостью и  предательством. Он  являлся передовым человеком своего времени и понимал, надо терпеть, чтобы сохранить Русь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&amp;Kcy;&amp;acy;&amp;rcy;&amp;tcy;&amp;icy;&amp;ncy;&amp;kcy;&amp;acy; 33 &amp;icy;&amp;zcy; 138720"/>
          <p:cNvPicPr/>
          <p:nvPr/>
        </p:nvPicPr>
        <p:blipFill>
          <a:blip r:embed="rId1"/>
          <a:stretch/>
        </p:blipFill>
        <p:spPr>
          <a:xfrm>
            <a:off x="6372360" y="1268280"/>
            <a:ext cx="2516040" cy="379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84720" y="515772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евский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ортретна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алерея Патриарх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осковских и всея Руси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усь православная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6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лександр дважды ездил в Большую Орду, с успехом вёл переговоры с татарскими ханами и благополучно возвращался оттуда. Монгольские ханы уважали Александра за храбрость и назначили его главным князем на Руси. Это позволило Александру Невскому улаживать опасные конфликты между монголами и русскими князьями, спасать многие города и селения от новых бедств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" descr="&amp;Kcy;&amp;acy;&amp;rcy;&amp;tcy;&amp;icy;&amp;ncy;&amp;kcy;&amp;acy; 1 &amp;icy;&amp;zcy; 3345"/>
          <p:cNvPicPr/>
          <p:nvPr/>
        </p:nvPicPr>
        <p:blipFill>
          <a:blip r:embed="rId1"/>
          <a:stretch/>
        </p:blipFill>
        <p:spPr>
          <a:xfrm>
            <a:off x="3276720" y="3789360"/>
            <a:ext cx="3983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56108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ким образом, Русь могла развиваться, мужать, копить силы, изучать коварного врага, уживаться до поры с завоевателями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годами ханы ужесточали требования к завоёванным народам. Последние должны были платить непосильную дань, а тех, кто не мог собрать её, хватали и уводили в рабство в монгольские степ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 Руси вспыхивали  восстания, князья и простой народ оказывали неповинов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&amp;Kcy;&amp;acy;&amp;rcy;&amp;tcy;&amp;icy;&amp;ncy;&amp;kcy;&amp;acy; 24 &amp;icy;&amp;zcy; 3345"/>
          <p:cNvPicPr/>
          <p:nvPr/>
        </p:nvPicPr>
        <p:blipFill>
          <a:blip r:embed="rId1"/>
          <a:stretch/>
        </p:blipFill>
        <p:spPr>
          <a:xfrm>
            <a:off x="3348000" y="4076640"/>
            <a:ext cx="38386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62 г. Такие волнения вспыхнули в землях Ростова, Суздаля, Владимира, Переяславля и многих других. Народ выгонял и даже убивал сборщиков податей. Разгневанный хан снова готовился отомстить русским  и  собирал отряды для усмирения. Александр Невский отправился в Орду, привёз с собою дары для хана и снова уговорил его не разорять русские города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&amp;Kcy;&amp;acy;&amp;rcy;&amp;tcy;&amp;icy;&amp;ncy;&amp;kcy;&amp;acy; 3 &amp;icy;&amp;zcy; 768"/>
          <p:cNvPicPr/>
          <p:nvPr/>
        </p:nvPicPr>
        <p:blipFill>
          <a:blip r:embed="rId1"/>
          <a:stretch/>
        </p:blipFill>
        <p:spPr>
          <a:xfrm>
            <a:off x="5796000" y="1557360"/>
            <a:ext cx="2830320" cy="3529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796000" y="544500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Александр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евский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 Орд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876 - Г.И. Семирадский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Хан долго не отпускал князя и продержал его у себя почти полгода. По дороге в своё княжество  Владимирское князь тяжело заболел и умер 14 ноября 1263 г., «много потрудившись за землю русскую, за Новгород и за Псков, за всё великое княжение, отдавая свой живот за православную веру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начале Александр Невский был похоронен в монастыре во Владимире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" descr="&amp;Pcy;&amp;acy;&amp;mcy;&amp;yacy;&amp;tcy;&amp;ncy;&amp;icy;&amp;kcy; &amp;Acy;&amp;lcy;&amp;iecy;&amp;kcy;&amp;scy;&amp;acy;&amp;ncy;&amp;dcy;&amp;rcy;&amp;ucy; &amp;Ncy;&amp;iecy;&amp;vcy;&amp;scy;&amp;kcy;&amp;ocy;&amp;mcy;&amp;ucy;"/>
          <p:cNvPicPr/>
          <p:nvPr/>
        </p:nvPicPr>
        <p:blipFill>
          <a:blip r:embed="rId1"/>
          <a:stretch/>
        </p:blipFill>
        <p:spPr>
          <a:xfrm>
            <a:off x="5940360" y="1268280"/>
            <a:ext cx="2586240" cy="384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940360" y="5445000"/>
            <a:ext cx="26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амятник Александру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вскому в Псков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Позднее русский  царь Пётр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основал в построенном им новом городе  Санк-Петербурге монастырь в честь Александра Невского и велел перевезти туда останки князя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Империатрица Екатерина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в 1725 г. Учредила орден Александра Невского, и это была в то время одна из высших наград российского государства. Орден был украшен золотом, серебром, алмазами, рубинами и эмалью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Badge to Order St Alexander Nevsky 1820-1830.jpg"/>
          <p:cNvPicPr/>
          <p:nvPr/>
        </p:nvPicPr>
        <p:blipFill>
          <a:blip r:embed="rId1"/>
          <a:stretch/>
        </p:blipFill>
        <p:spPr>
          <a:xfrm>
            <a:off x="6227640" y="1989000"/>
            <a:ext cx="228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92360" y="1484280"/>
            <a:ext cx="6912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Русь  во  времена  Александра  Невског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Немецкие  рыцари  ордена  крестоносце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Завоевател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Начало  княжения  Александра  Невског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Битва  на  Неве  (15  июля  1240 г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Битва  На  Чудском  озере  (15  апреля  1242 г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Александр  Невский  и  монгол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И  ещё  об Александре Невск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Иллюстрации и литера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942 г. Был учреждён другой орден Александра Невского. Им награждались талантливые командиры, которые вместе со своими солдатами проводили наиболее дерзкие и успешные военные  операции,  обеспечивая победу советских войск в борьбе с немецкими захватчиками. До конца войны этим орденом награждали более 40 тыс. командиров Советской  Арми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" descr="AlexNevskyOrder.gif"/>
          <p:cNvPicPr/>
          <p:nvPr/>
        </p:nvPicPr>
        <p:blipFill>
          <a:blip r:embed="rId1"/>
          <a:stretch/>
        </p:blipFill>
        <p:spPr>
          <a:xfrm>
            <a:off x="6012000" y="2205000"/>
            <a:ext cx="26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56108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РДЕН  АЛЕКСАНДРА  НЕВСКОГО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СОХРАНЕН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 системе наград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Постановлением Верховного Совета  РФ от 20 марта 1992 года N</a:t>
            </a: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 2557-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  &amp;Zcy;&amp;ncy;&amp;acy;&amp;kcy; &amp;ocy;&amp;rcy;&amp;dcy;&amp;iecy;&amp;ncy;&amp;acy; &amp;Acy;&amp;lcy;&amp;iecy;&amp;kcy;&amp;scy;&amp;acy;&amp;ncy;&amp;dcy;&amp;rcy;&amp;acy; &amp;Ncy;&amp;iecy;&amp;vcy;&amp;scy;&amp;kcy;&amp;ocy;&amp;gcy;&amp;ocy;  "/>
          <p:cNvPicPr/>
          <p:nvPr/>
        </p:nvPicPr>
        <p:blipFill>
          <a:blip r:embed="rId1"/>
          <a:stretch/>
        </p:blipFill>
        <p:spPr>
          <a:xfrm>
            <a:off x="3564000" y="3141720"/>
            <a:ext cx="32446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69636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 итогам рейтинговог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олосования в проект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Имя России»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лавным персонаж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оссийской истории объявле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вятой благоверный великий княз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aeaea"/>
                </a:solidFill>
                <a:uFillTx/>
                <a:latin typeface="Times New Roman"/>
              </a:rPr>
              <a:t>Александр Невск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гда  родился  Александр  Невский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 являлся  отцом  Александра 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звали жену Александр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 каком  году  была  Невская  битва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определило победу русских воинов в битве на реке Нев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6. Почему в 1241году некому было защитить Новгородскую землю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7. Дата битвы на Чудском озере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8. Каким был боевой порядок войска и сил русских перед началом битвы на Чудском озер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9. Почему русские одержали победу на Чудском озер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0. В чём проявился полководческий талант Александра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1. В каком году Александр Невский стал «великим князем» и получил ярлык от хан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2. Для каких целей совершались поездки Александром Невским в Орду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3. Кто явился инициатором перенесения мощей  Александра Невского в Александро-Невский монастырь в Санкт-Петербурге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4. Когда был учрежден первый орден Александра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усь  во  времена  Александра  Невског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280" y="1125360"/>
            <a:ext cx="720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рудное  это  было  врем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усь  состояла  из  множества  мелких  княжеств,  центром  которых  был  какой-нибудь  город,  а  во  главе  стоял  князь,  имел  свою  дружину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нязья часто ссорились  и  вели  междоусобные  войны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обенное  положение  занимал  Новгород: не было правителя, все вопросы обсуждало вече, решало вопросы  войны  и  мира, а для этого приглашало князей из других  мест со своей дружиной  или  ставило его во главе своего войс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http://www.pseudology.org/tatary/Kipchaky_Moskali.ht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http://www.baltinfo.ru/author/p_78/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http://award.adm.gov.ru/orden/orden_11b.ht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ru.wikipedia.org/wiki/%C0%EB%E5%EA%F1%E0%ED%E4%F0%E0_%CD%E5%E2%F1%EA%EE%E3%EE_%EE%F0%E4%E5%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http://upload.wikimedia.org/wikipedia/commons/thumb/f/f3/Badge_to_Order_St_Alexander_Nevsky_1820-1830.jpg/200px-Badge_to_Order_St_Alexander_Nevsky_1820-1830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http://www.old-pskov.ru/images1/23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033.radikal.ru/1110/00/cd7766693572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http://www.makaleci.com/wp-content/uploads/2009/11/Eski-T%C3%BCrkler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http://www.oboznik.ru/wp-content/uploads/2012/04/124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http://img12.imageshost.ru/img/2011/06/19/image_4dfe3c5416520.jpg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7000"/>
          </a:bodyPr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mages.wikia.com/assassinscreed/images/5/5e/ACR_MPCrusaderRe.p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2. http://img.playground.ru/images/5/8/SR-104048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3. http://on-infantry.narod.ru/srvec/imgi/rus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. http://www.zhaba.ru/_pics/f067cipev630ik2u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5.http://stranamasterov.ru/files/imagecache/orig_with_logo4/i2011/03/07/1274109734_56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6. http://freelance.ru/img/portfolio/pics/00/02/3E/147057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7. http://www.ruskline.ru/images/2011/21690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. http://kartini.ucoz.ru/_ph/1/2/592609529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9. http://young.rzd.ru/dbmm/images/41/4080/44279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0. http://barn-school6.ucoz.ru/nov/kartinki/0007-007-Novgorod-gorod-voinskoj-slavy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1.http://imgfotki.yandex.ru/get/4607/worldsoul.c/0_5c582_872da23f_XL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2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shkolazhizni.ru/img/content/i39/39416_or.jpg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3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mg1.liveinternet.ru/images/attach/c/2/69/889/69889626_1296238424_3675df45c1a5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4. http://im6-tub-ru.yandex.net/i?id=53659284-48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5. http://im2-tub-ru.yandex.net/i?id=23751422-50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6. http://im4-tub-ru.yandex.net/i?id=307677668-55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7. http://im7-tub-ru.yandex.net/i?id=154996060-67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8. http://img-fotki.yandex.ru/get/5003/lidiia-lunina.56/0_4012d_7dfce06d_X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9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www.stihi.ru/pics/2009/12/04/2174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1714680" cy="127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1714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Беседы о знаменитых людях России: 3-7 класс. – М.: ТЦ Сфера, 2005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. Книга будущих командиров. – Изд. 5-е, доп. – М.: Мол. Гвардия, 1988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. Презентация Воропаевой Насти ученицы 10в класса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krsosh2007.narod.ru/Document/Pressa.do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усь  во  времена  Александра  Невског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2498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к  случилось  и  с  отцом  Александра,  князем  Ярославом.  Новгородцы  несколько  раз  приглашали  его  к  себе  и  также  часто  прогоняли  его  из-за  крутого нрава. Свидетелем  таких  повторяющихся  ссор  и  примирений  стал  и  молодой  князь  Александр,  отрочество  и  юность  которого  проходили  в  Новгороде,  и  он  вынужден  был  с  отцом  и  братом  то  покидать  его,  то  возвращаться  сно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448000" cy="182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1589040" cy="171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51640" y="3141720"/>
            <a:ext cx="3168360" cy="574560"/>
          </a:xfrm>
          <a:prstGeom prst="rect">
            <a:avLst/>
          </a:prstGeom>
          <a:solidFill>
            <a:srgbClr val="819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Ярослав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севолодович – отец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лександ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5877000"/>
            <a:ext cx="3168720" cy="574560"/>
          </a:xfrm>
          <a:prstGeom prst="rect">
            <a:avLst/>
          </a:prstGeom>
          <a:solidFill>
            <a:srgbClr val="819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 Александ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мецкие  рыцари  ордена  крестоносце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753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 севера  и  запада  уже  много  веков  на  славян  нападали  немецкие  племен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мцы  активно  проникали  повсюду  под  предлогом  распространения  христианской  веры  и подчинения  римскому  папе,  главе  католической  церкв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па  создал  целую  воинственную  общину (организацию)  из  самых  знатных  людей – орден  крестоносце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&amp;Kcy;&amp;acy;&amp;rcy;&amp;tcy;&amp;icy;&amp;ncy;&amp;kcy;&amp;acy; 22 &amp;icy;&amp;zcy; 1196"/>
          <p:cNvPicPr/>
          <p:nvPr/>
        </p:nvPicPr>
        <p:blipFill>
          <a:blip r:embed="rId1"/>
          <a:stretch/>
        </p:blipFill>
        <p:spPr>
          <a:xfrm>
            <a:off x="6227640" y="119700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602136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ыцарь-крестоносец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мецкие  рыцари  ордена  крестоносце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4321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чались  непрерывные  войны  и  столкновения  Новгорода  с  немецкими  рыцарям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мецкие  рыцари  при  подстрекательстве  римского  папы  считали  русских  людей  врагами  западного  христианства,  поборниками  язычников,  поэтому  насильно  обращали  в  свою  веру  всех,  кто  встречался  на  пути  их  продвижения  на  восток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&amp;Kcy;&amp;acy;&amp;rcy;&amp;tcy;&amp;icy;&amp;ncy;&amp;kcy;&amp;acy; 37 &amp;icy;&amp;zcy; 1196"/>
          <p:cNvPicPr/>
          <p:nvPr/>
        </p:nvPicPr>
        <p:blipFill>
          <a:blip r:embed="rId1"/>
          <a:stretch/>
        </p:blipFill>
        <p:spPr>
          <a:xfrm>
            <a:off x="6804000" y="2852640"/>
            <a:ext cx="199728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&amp;Kcy;&amp;acy;&amp;rcy;&amp;tcy;&amp;icy;&amp;ncy;&amp;kcy;&amp;acy; 31 &amp;icy;&amp;zcy; 1196"/>
          <p:cNvPicPr/>
          <p:nvPr/>
        </p:nvPicPr>
        <p:blipFill>
          <a:blip r:embed="rId2"/>
          <a:stretch/>
        </p:blipFill>
        <p:spPr>
          <a:xfrm>
            <a:off x="5580000" y="981000"/>
            <a:ext cx="1238400" cy="336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37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ыцари-крестоносц 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Завоевател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396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  севере  Руси  нашими  врагами  были  шведы,  которых  римский  папа  призывал  идти  походом  на  Русь,  чтобы  наказать,  проучить  мятежников  за  их  непокорность  ему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мая  страшная  опасность  нависала  на  востоке.  Вся  Русь  в  то  время  уже  много  лет  стонала  под  монголо-татарским  иг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&amp;Kcy;&amp;acy;&amp;rcy;&amp;tcy;&amp;icy;&amp;ncy;&amp;kcy;&amp;acy; 3 &amp;icy;&amp;zcy; 3027"/>
          <p:cNvPicPr/>
          <p:nvPr/>
        </p:nvPicPr>
        <p:blipFill>
          <a:blip r:embed="rId1"/>
          <a:stretch/>
        </p:blipFill>
        <p:spPr>
          <a:xfrm>
            <a:off x="5724360" y="1125360"/>
            <a:ext cx="230832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5805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сский  воин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Начало  княжения  Александра  Невского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396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36 г. – начало княжения  Александра  как  замечательного  полководца  и  предводителя  русского  войс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36 г. – женится  на  полоцкой княжне  Александре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вые  годы  своего  правления  Александр  посвятил  укреплению  Новгород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&amp;Kcy;&amp;acy;&amp;rcy;&amp;tcy;&amp;icy;&amp;ncy;&amp;kcy;&amp;acy; 38 &amp;icy;&amp;zcy; 3027"/>
          <p:cNvPicPr/>
          <p:nvPr/>
        </p:nvPicPr>
        <p:blipFill>
          <a:blip r:embed="rId1"/>
          <a:stretch/>
        </p:blipFill>
        <p:spPr>
          <a:xfrm>
            <a:off x="5651640" y="1125360"/>
            <a:ext cx="244944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&amp;Kcy;&amp;acy;&amp;rcy;&amp;tcy;&amp;icy;&amp;ncy;&amp;kcy;&amp;acy; 59 &amp;icy;&amp;zcy; 3027"/>
          <p:cNvPicPr/>
          <p:nvPr/>
        </p:nvPicPr>
        <p:blipFill>
          <a:blip r:embed="rId2"/>
          <a:stretch/>
        </p:blipFill>
        <p:spPr>
          <a:xfrm>
            <a:off x="5724360" y="3284640"/>
            <a:ext cx="23990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Наталья</cp:lastModifiedBy>
  <dcterms:modified xsi:type="dcterms:W3CDTF">2012-07-18T16:52:33Z</dcterms:modified>
  <cp:revision>72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