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13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EF06-7EEE-4ECD-B0C9-7C488F04F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9780-2AC0-4C17-9FFF-FC30F1C7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78AD-859E-40B3-A58E-AE3B9E77F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1EAE-E80A-4DD8-A3A4-2ED4E03B3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35E4-9790-4CF0-9305-8B643DDC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F30C-4792-4FB9-AF0E-E75B748B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7F6A-C88D-45A3-AA0D-82230872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208C-4432-46BA-BA95-49C63B87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7989-23FE-4A6E-B3AB-1EDF1B30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44A9-F1AB-411A-8C1B-18491E72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6B0E-E148-4282-9AFE-C0193905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0F29-BC2F-4C51-8C13-010EB815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5B53-3AF5-4612-9513-14355890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357F-28FD-47B0-A79F-34458AB1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7518-2310-459C-B186-CDEE9503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0A41-C9FC-4876-8BC7-DD43CBF5C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F48A-CEA9-415A-BFD8-98E2C7680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D6BA-4F84-42A3-8423-2AD98EA5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236C-09A2-4C6D-88AF-6E5D00B4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5318-C2B5-41F2-982F-D4522902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716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999A-B9FD-4391-8834-B13DEDFA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C16B-C02E-4CCA-9E53-EA83289C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CEF3-575B-4BFF-AFBD-0591270C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7343-81D8-46FE-9E67-E75298F9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573200" cy="6858000"/>
            <a:chOff x="0" y="0"/>
            <a:chExt cx="1573200" cy="6858000"/>
          </a:xfrm>
        </p:grpSpPr>
        <p:sp>
          <p:nvSpPr>
            <p:cNvPr id="1" name=""/>
            <p:cNvSpPr/>
            <p:nvPr/>
          </p:nvSpPr>
          <p:spPr>
            <a:xfrm>
              <a:off x="1268280" y="1440"/>
              <a:ext cx="304920" cy="6856560"/>
            </a:xfrm>
            <a:prstGeom prst="rect">
              <a:avLst/>
            </a:prstGeom>
            <a:gradFill rotWithShape="0">
              <a:gsLst>
                <a:gs pos="0">
                  <a:srgbClr val="819e81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8110" t="0" r="0" b="0"/>
            <a:stretch/>
          </p:blipFill>
          <p:spPr>
            <a:xfrm>
              <a:off x="0" y="0"/>
              <a:ext cx="12603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669A-F58A-460F-B229-C4DE214559A3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187F-92B1-47E6-9D65-D6AB193A96A0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нкурс  презентаций  «Великие  люди  России»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Сообщество  взаимопомощи  учителей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dsover.su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355640" y="5373360"/>
            <a:ext cx="4537080" cy="110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втор:  Ветошкина  Наталья     Владимировна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итель  МБОУ «Кезская  СОШ  №1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27640" y="0"/>
            <a:ext cx="3960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08360" y="2276640"/>
            <a:ext cx="48960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лександр  Невский – полководец,  воин  и  диплома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47640" y="259920"/>
            <a:ext cx="734544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66"/>
                </a:solidFill>
                <a:latin typeface="Times New Roman"/>
              </a:rPr>
              <a:t>Начало  княжения  Александра  Невского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7280" y="1125360"/>
            <a:ext cx="7561440" cy="215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1240 г. Немецкие рыцари – крестоносцы, собрав большие силы, двинулись на русские  земли. Немцы  уничтожили  и  сожгли  города,  окружавшие  Псков. Псковское  войско  было  разбито. Нашлись  и предатели, которые привели  крестоносцев к стенам города,  один из них Твердило Михайлович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916360" y="3284640"/>
            <a:ext cx="458604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47640" y="259920"/>
            <a:ext cx="734544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66"/>
                </a:solidFill>
                <a:latin typeface="Times New Roman"/>
              </a:rPr>
              <a:t>Битва  на  Неве  (15  июля  1240 г.)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6920" y="1125000"/>
            <a:ext cx="741708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Заодно с немцами были и шведы и финны, во главе шведского войска стоял правитель Биргер, близкий родственник короля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лан шведов был таков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о  реке  Неве пересечь Ладожское  озеро, взять город  Ладогу,  пригород Новгорода, далее по реке Волхов дойти до Великого  Новгорода и покорить его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7" name="" descr="&amp;Kcy;&amp;acy;&amp;rcy;&amp;tcy;&amp;icy;&amp;ncy;&amp;kcy;&amp;acy; 13 &amp;icy;&amp;zcy; 49724"/>
          <p:cNvPicPr/>
          <p:nvPr/>
        </p:nvPicPr>
        <p:blipFill>
          <a:blip r:embed="rId1"/>
          <a:stretch/>
        </p:blipFill>
        <p:spPr>
          <a:xfrm>
            <a:off x="3419640" y="3933720"/>
            <a:ext cx="3936960" cy="2708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6308640"/>
            <a:ext cx="719280" cy="549360"/>
          </a:xfrm>
          <a:custGeom>
            <a:avLst/>
            <a:gdLst>
              <a:gd name="textAreaLeft" fmla="*/ 35280 w 719280"/>
              <a:gd name="textAreaRight" fmla="*/ 684000 w 719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8277" h="21600">
                <a:moveTo>
                  <a:pt x="0" y="0"/>
                </a:moveTo>
                <a:lnTo>
                  <a:pt x="28277" y="0"/>
                </a:lnTo>
                <a:lnTo>
                  <a:pt x="28277" y="21600"/>
                </a:lnTo>
                <a:lnTo>
                  <a:pt x="0" y="21600"/>
                </a:lnTo>
                <a:close/>
              </a:path>
              <a:path fill="lightenLess" w="28277" h="21600">
                <a:moveTo>
                  <a:pt x="0" y="0"/>
                </a:moveTo>
                <a:lnTo>
                  <a:pt x="28277" y="0"/>
                </a:lnTo>
                <a:lnTo>
                  <a:pt x="26877" y="1400"/>
                </a:lnTo>
                <a:lnTo>
                  <a:pt x="1400" y="1400"/>
                </a:lnTo>
                <a:close/>
              </a:path>
              <a:path fill="darken" w="28277" h="21600">
                <a:moveTo>
                  <a:pt x="28277" y="0"/>
                </a:moveTo>
                <a:lnTo>
                  <a:pt x="28277" y="21600"/>
                </a:lnTo>
                <a:lnTo>
                  <a:pt x="26877" y="20200"/>
                </a:lnTo>
                <a:lnTo>
                  <a:pt x="26877" y="1400"/>
                </a:lnTo>
                <a:close/>
              </a:path>
              <a:path fill="darkenLess" w="28277" h="21600">
                <a:moveTo>
                  <a:pt x="28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7" y="20200"/>
                </a:lnTo>
                <a:close/>
              </a:path>
              <a:path fill="lighten" w="28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77" h="21600">
                <a:moveTo>
                  <a:pt x="14138" y="3837"/>
                </a:moveTo>
                <a:lnTo>
                  <a:pt x="16715" y="6448"/>
                </a:lnTo>
                <a:lnTo>
                  <a:pt x="16715" y="4707"/>
                </a:lnTo>
                <a:lnTo>
                  <a:pt x="18490" y="4707"/>
                </a:lnTo>
                <a:lnTo>
                  <a:pt x="18490" y="8224"/>
                </a:lnTo>
                <a:lnTo>
                  <a:pt x="21101" y="10800"/>
                </a:lnTo>
                <a:lnTo>
                  <a:pt x="19448" y="10800"/>
                </a:lnTo>
                <a:lnTo>
                  <a:pt x="19448" y="17989"/>
                </a:lnTo>
                <a:lnTo>
                  <a:pt x="8829" y="17989"/>
                </a:lnTo>
                <a:lnTo>
                  <a:pt x="8829" y="10800"/>
                </a:lnTo>
                <a:lnTo>
                  <a:pt x="7175" y="10800"/>
                </a:lnTo>
                <a:close/>
              </a:path>
              <a:path fill="darkenLess" w="28277" h="21600">
                <a:moveTo>
                  <a:pt x="16715" y="6448"/>
                </a:moveTo>
                <a:lnTo>
                  <a:pt x="16715" y="4707"/>
                </a:lnTo>
                <a:lnTo>
                  <a:pt x="18490" y="4707"/>
                </a:lnTo>
                <a:lnTo>
                  <a:pt x="18490" y="8224"/>
                </a:lnTo>
                <a:close/>
              </a:path>
              <a:path fill="darkenLess" w="28277" h="21600">
                <a:moveTo>
                  <a:pt x="13216" y="14299"/>
                </a:moveTo>
                <a:lnTo>
                  <a:pt x="15061" y="14299"/>
                </a:lnTo>
                <a:lnTo>
                  <a:pt x="15061" y="17989"/>
                </a:lnTo>
                <a:lnTo>
                  <a:pt x="19448" y="17989"/>
                </a:lnTo>
                <a:lnTo>
                  <a:pt x="19448" y="10800"/>
                </a:lnTo>
                <a:lnTo>
                  <a:pt x="8829" y="10800"/>
                </a:lnTo>
                <a:lnTo>
                  <a:pt x="8829" y="17989"/>
                </a:lnTo>
                <a:lnTo>
                  <a:pt x="13216" y="17989"/>
                </a:lnTo>
                <a:close/>
              </a:path>
            </a:pathLst>
          </a:custGeom>
          <a:solidFill>
            <a:srgbClr val="f2f3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47640" y="259920"/>
            <a:ext cx="734544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66"/>
                </a:solidFill>
                <a:latin typeface="Times New Roman"/>
              </a:rPr>
              <a:t>Битва  на  Неве  (15  июля  1240 г.)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76000" y="1125000"/>
            <a:ext cx="7272360" cy="25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редводитель шведов написал Александру  письмо: «Если  можешь,  сопротивляйся, знай, что я уже здесь и пленю  землю  твою»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Александр помолился в храме Святой  Софии  и  сказал  своему  небольшому  войску  такие слова: «Нас  не много,  а  враг силён,  но  Бог  не  в  силе, а  в  правде:  идите  с  вашим  князем»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1" name="" descr="&amp;Kcy;&amp;acy;&amp;rcy;&amp;tcy;&amp;icy;&amp;ncy;&amp;kcy;&amp;acy; 1 &amp;icy;&amp;zcy; 49724"/>
          <p:cNvPicPr/>
          <p:nvPr/>
        </p:nvPicPr>
        <p:blipFill>
          <a:blip r:embed="rId1"/>
          <a:stretch/>
        </p:blipFill>
        <p:spPr>
          <a:xfrm>
            <a:off x="3132000" y="3645000"/>
            <a:ext cx="434196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47640" y="259920"/>
            <a:ext cx="734544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66"/>
                </a:solidFill>
                <a:latin typeface="Times New Roman"/>
              </a:rPr>
              <a:t>Битва  на  Неве  (15  июля  1240 г.)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7280" y="1125360"/>
            <a:ext cx="756144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Утром  15  июля  1240 г.,  около  11 ч,  внезапно перед шведами  возникли  воины князя Александра, бесстрашно бросились  на  неприятеля  и  стали  рубить мечами и топорами  в  самой  гуще  врагов. До  нас дошли  имена русских  богатырей,  отличившихся  особенной  храбростью  и  бесстрашием.  Один  рубил  мечом  лодки, другой топором, третий,  новгородец  по  имени Савва,  смог добраться до  шатра  с  золотым  верхом  и  подсёк  у  него  столб.  Шатёр  рухнул,  и  это  придало  ещё  больше  силы  новгородским  воинам.  Сам  Александр  сражался  как  рядовой  воин,  нагнал  Биргера  и  полоснул  копьём  по  его  лицу.  Позже  летописец  скажет: «Возложил  ему  печать на лицо»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47640" y="259920"/>
            <a:ext cx="734544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66"/>
                </a:solidFill>
                <a:latin typeface="Times New Roman"/>
              </a:rPr>
              <a:t>Битва  на  Неве  (15  июля  1240 г.)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02920" y="1125360"/>
            <a:ext cx="331308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отери  шведов  были  очень  велики,  и  они  в  панике  уплыли  по  реке  Неве  к  морю  и  дальше  в  свои  земл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  честь  этой  победы  князя  Александра  окрестили  Невским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Новгородцы  долго  торжествовали  победу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" name="" descr="&amp;Kcy;&amp;acy;&amp;rcy;&amp;tcy;&amp;icy;&amp;ncy;&amp;kcy;&amp;acy; 5 &amp;icy;&amp;zcy; 49724"/>
          <p:cNvPicPr/>
          <p:nvPr/>
        </p:nvPicPr>
        <p:blipFill>
          <a:blip r:embed="rId1"/>
          <a:stretch/>
        </p:blipFill>
        <p:spPr>
          <a:xfrm>
            <a:off x="4643280" y="1989000"/>
            <a:ext cx="426744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66"/>
                </a:solidFill>
                <a:latin typeface="Times New Roman"/>
              </a:rPr>
              <a:t>Битва  на  Чудском  озере (15 апреля 1242 г.)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58920" y="1125360"/>
            <a:ext cx="763416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В пределах Новгорода продолжали  бесчинствовать немцы, покорённые ими латыши  и другие  племена, присоединившиеся  к  захватчикам.  Псков находился  в  руках  чужеземцев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Новгородцы поняли, что им грозит такая же участь, что никто им не поможет, кроме Александра, и снова пошли к нему с поклоном. Александр как благородный человек понимал,  что  обиды нужно забывать, когда дело касалось судьбы всей Руси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Снова собрав войско, отправился Александр Невский освобождать Русь от немецких рыцарей и разгромил построенную немцами крепость Капорье. С пленными обращался милостиво, предателей жестоко наказывал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308640"/>
            <a:ext cx="719280" cy="549360"/>
          </a:xfrm>
          <a:custGeom>
            <a:avLst/>
            <a:gdLst>
              <a:gd name="textAreaLeft" fmla="*/ 35280 w 719280"/>
              <a:gd name="textAreaRight" fmla="*/ 684000 w 719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8277" h="21600">
                <a:moveTo>
                  <a:pt x="0" y="0"/>
                </a:moveTo>
                <a:lnTo>
                  <a:pt x="28277" y="0"/>
                </a:lnTo>
                <a:lnTo>
                  <a:pt x="28277" y="21600"/>
                </a:lnTo>
                <a:lnTo>
                  <a:pt x="0" y="21600"/>
                </a:lnTo>
                <a:close/>
              </a:path>
              <a:path fill="lightenLess" w="28277" h="21600">
                <a:moveTo>
                  <a:pt x="0" y="0"/>
                </a:moveTo>
                <a:lnTo>
                  <a:pt x="28277" y="0"/>
                </a:lnTo>
                <a:lnTo>
                  <a:pt x="26877" y="1400"/>
                </a:lnTo>
                <a:lnTo>
                  <a:pt x="1400" y="1400"/>
                </a:lnTo>
                <a:close/>
              </a:path>
              <a:path fill="darken" w="28277" h="21600">
                <a:moveTo>
                  <a:pt x="28277" y="0"/>
                </a:moveTo>
                <a:lnTo>
                  <a:pt x="28277" y="21600"/>
                </a:lnTo>
                <a:lnTo>
                  <a:pt x="26877" y="20200"/>
                </a:lnTo>
                <a:lnTo>
                  <a:pt x="26877" y="1400"/>
                </a:lnTo>
                <a:close/>
              </a:path>
              <a:path fill="darkenLess" w="28277" h="21600">
                <a:moveTo>
                  <a:pt x="28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7" y="20200"/>
                </a:lnTo>
                <a:close/>
              </a:path>
              <a:path fill="lighten" w="28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77" h="21600">
                <a:moveTo>
                  <a:pt x="14138" y="3837"/>
                </a:moveTo>
                <a:lnTo>
                  <a:pt x="16715" y="6448"/>
                </a:lnTo>
                <a:lnTo>
                  <a:pt x="16715" y="4707"/>
                </a:lnTo>
                <a:lnTo>
                  <a:pt x="18490" y="4707"/>
                </a:lnTo>
                <a:lnTo>
                  <a:pt x="18490" y="8224"/>
                </a:lnTo>
                <a:lnTo>
                  <a:pt x="21101" y="10800"/>
                </a:lnTo>
                <a:lnTo>
                  <a:pt x="19448" y="10800"/>
                </a:lnTo>
                <a:lnTo>
                  <a:pt x="19448" y="17989"/>
                </a:lnTo>
                <a:lnTo>
                  <a:pt x="8829" y="17989"/>
                </a:lnTo>
                <a:lnTo>
                  <a:pt x="8829" y="10800"/>
                </a:lnTo>
                <a:lnTo>
                  <a:pt x="7175" y="10800"/>
                </a:lnTo>
                <a:close/>
              </a:path>
              <a:path fill="darkenLess" w="28277" h="21600">
                <a:moveTo>
                  <a:pt x="16715" y="6448"/>
                </a:moveTo>
                <a:lnTo>
                  <a:pt x="16715" y="4707"/>
                </a:lnTo>
                <a:lnTo>
                  <a:pt x="18490" y="4707"/>
                </a:lnTo>
                <a:lnTo>
                  <a:pt x="18490" y="8224"/>
                </a:lnTo>
                <a:close/>
              </a:path>
              <a:path fill="darkenLess" w="28277" h="21600">
                <a:moveTo>
                  <a:pt x="13216" y="14299"/>
                </a:moveTo>
                <a:lnTo>
                  <a:pt x="15061" y="14299"/>
                </a:lnTo>
                <a:lnTo>
                  <a:pt x="15061" y="17989"/>
                </a:lnTo>
                <a:lnTo>
                  <a:pt x="19448" y="17989"/>
                </a:lnTo>
                <a:lnTo>
                  <a:pt x="19448" y="10800"/>
                </a:lnTo>
                <a:lnTo>
                  <a:pt x="8829" y="10800"/>
                </a:lnTo>
                <a:lnTo>
                  <a:pt x="8829" y="17989"/>
                </a:lnTo>
                <a:lnTo>
                  <a:pt x="13216" y="17989"/>
                </a:lnTo>
                <a:close/>
              </a:path>
            </a:pathLst>
          </a:custGeom>
          <a:solidFill>
            <a:srgbClr val="f2f3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66"/>
                </a:solidFill>
                <a:latin typeface="Times New Roman"/>
              </a:rPr>
              <a:t>Битва  на  Чудском  озере (15 апреля 1242 г.)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7280" y="1125360"/>
            <a:ext cx="7561440" cy="27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Но вскоре стало известно, что враг не хочет уходить, а снова собрал ещё большее войско и идёт новым походом на Псков. И тогда Александр Невский вышел с дружиной навстречу врагу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Была суббота, 15 апреля 1242 г.  В  этот  день  и  произошла битва на Чудском озере, не менее знаменитая, чем невская, и известная в истории как Ледовое побоище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2" name="" descr="&amp;Kcy;&amp;acy;&amp;rcy;&amp;tcy;&amp;icy;&amp;ncy;&amp;kcy;&amp;acy; 1 &amp;icy;&amp;zcy; 1087"/>
          <p:cNvPicPr/>
          <p:nvPr/>
        </p:nvPicPr>
        <p:blipFill>
          <a:blip r:embed="rId1"/>
          <a:stretch/>
        </p:blipFill>
        <p:spPr>
          <a:xfrm>
            <a:off x="3419640" y="3789360"/>
            <a:ext cx="390996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66"/>
                </a:solidFill>
                <a:latin typeface="Times New Roman"/>
              </a:rPr>
              <a:t>Битва  на  Чудском  озере (15 апреля 1242 г.)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8560" y="1125360"/>
            <a:ext cx="432108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В  этом  бою  в  полной  мере  раскрылся талант  Александра, зрелого  и  мудрого  полководца.  В  сражении  на  Неве он  применял привычные для того времени военные приёмы, подходы в построении войска. На этот раз князь Александр не побоялся изменить устоявшиеся привычки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Он хорошо знал, как рыцари-крестоносцы строили  своё войско: «клином», или «свиньёй»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5" name="" descr="&amp;Kcy;&amp;acy;&amp;rcy;&amp;tcy;&amp;icy;&amp;ncy;&amp;kcy;&amp;acy; 1 &amp;icy;&amp;zcy; 9234"/>
          <p:cNvPicPr/>
          <p:nvPr/>
        </p:nvPicPr>
        <p:blipFill>
          <a:blip r:embed="rId1"/>
          <a:stretch/>
        </p:blipFill>
        <p:spPr>
          <a:xfrm>
            <a:off x="5724360" y="1628640"/>
            <a:ext cx="2740320" cy="40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66"/>
                </a:solidFill>
                <a:latin typeface="Times New Roman"/>
              </a:rPr>
              <a:t>Битва  на  Чудском  озере (15 апреля 1242 г.)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58560" y="1125360"/>
            <a:ext cx="432108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«Клин» включал устрашающего вида всадников, закованных в броню и вооружённых длинными компьями. За  их спинами двигалось оставшееся войско. Клин должен был прорвать центр русского войска, разбросать его, а идущие сзади  должны окружить русских воинов с флангов, т.е. с боков. Таким приёмом немцы побеждали во всех сражениях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012000" y="1844640"/>
            <a:ext cx="2374920" cy="1584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084720" y="4102200"/>
            <a:ext cx="237492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66"/>
                </a:solidFill>
                <a:latin typeface="Times New Roman"/>
              </a:rPr>
              <a:t>Битва  на  Чудском  озере (15 апреля 1242 г.)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58560" y="1125360"/>
            <a:ext cx="432108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Русские предводители, как правило, все свои главные силы сосредотачивали в центре и разом бросали их на противника. На этот раз Александр основные силы своего войска спрятал на флангах, а в центре построил передовой полк из лучников, пращников (праща – вид оружия) и лёгкой конницы. За спиной этого полка находился крутой обрыв к озеру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867280" y="1430280"/>
            <a:ext cx="2592360" cy="1933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867280" y="3952800"/>
            <a:ext cx="2592360" cy="19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547640" y="-360"/>
            <a:ext cx="7345440" cy="65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Жизнь  русского  князя  Александра  Ярославовича,  прозванного  впоследствии  Александром  Невским,  протекала  в  первой  половине 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XIII</a:t>
            </a: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  в.,  т.е. почти  800 лет  назад.  Но  Россия  продолжает  помнить  и  свято  чтить  память  замечательного полководца,  не  раз  спасавшего  Русь  от  нашествия  врагов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Жизнь  князя  Александра  всегда  была  освещена  высокой  целью – служить  Родине  и  охранять  её  от  посягательства  чужеземцев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1844640"/>
            <a:ext cx="363204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292720" y="1916280"/>
            <a:ext cx="363204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66"/>
                </a:solidFill>
                <a:latin typeface="Times New Roman"/>
              </a:rPr>
              <a:t>Битва  на  Чудском  озере (15 апреля 1242 г.)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58560" y="1125360"/>
            <a:ext cx="424980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олк должен был заманить передовые отряды немцев к озеру. Немецкие рыцари по обыкновению ринулись в центр русского войска, рассекли его на две части и начали преследовать, но неожиданно для себя оказались на краю крутого обрыва. Тяжёлое вооружение, не позволявшее им лавировать, сковывало свободу действий. А сзади на них напирало их же войско, не давая возможности развернуться и снова нападать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508720" y="1557360"/>
            <a:ext cx="34210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66"/>
                </a:solidFill>
                <a:latin typeface="Times New Roman"/>
              </a:rPr>
              <a:t>Битва  на  Чудском  озере (15 апреля 1242 г.)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58560" y="1125360"/>
            <a:ext cx="7489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1000"/>
          </a:bodyPr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 это время основные силы русских с флангов зажали немцев в жёсткие тиски. Неприятель пытался выбраться из ловушки и спастись бегством по льду озера. Завязалась одна из самых жестоких битв в нашей истории. Русские воины на концах копий имели крючки, с помощью которых умело сбрасывали рыцарей на землю, и те, отягощённые железными доспехами, неспособные к действиям, не могли оказать серьёзного сопротивления.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9" name="" descr="&amp;Kcy;&amp;acy;&amp;rcy;&amp;tcy;&amp;icy;&amp;ncy;&amp;kcy;&amp;acy; 13 &amp;icy;&amp;zcy; 1087"/>
          <p:cNvPicPr/>
          <p:nvPr/>
        </p:nvPicPr>
        <p:blipFill>
          <a:blip r:embed="rId1"/>
          <a:stretch/>
        </p:blipFill>
        <p:spPr>
          <a:xfrm>
            <a:off x="2411280" y="3884760"/>
            <a:ext cx="5616720" cy="28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66"/>
                </a:solidFill>
                <a:latin typeface="Times New Roman"/>
              </a:rPr>
              <a:t>Битва  на  Чудском  озере (15 апреля 1242 г.)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58920" y="1125360"/>
            <a:ext cx="496872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Немцы бежали по льду, стремясь добраться до противоположного берега. Лёд начал проваливаться , и враги в тяжёлых доспехах уходили на дно. Впервые в русской военной истории получилось организованное преследование противника, и это вошло в военную  науку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О битве на Чудском озере в старинной книге было написано: «была злая сеча, слышались треск копий, звук мечей. Не видно было льда от крови»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2" name="" descr="&amp;Kcy;&amp;acy;&amp;rcy;&amp;tcy;&amp;icy;&amp;ncy;&amp;kcy;&amp;acy; 198 &amp;icy;&amp;zcy; 1087"/>
          <p:cNvPicPr/>
          <p:nvPr/>
        </p:nvPicPr>
        <p:blipFill>
          <a:blip r:embed="rId1"/>
          <a:stretch/>
        </p:blipFill>
        <p:spPr>
          <a:xfrm>
            <a:off x="6156360" y="1484280"/>
            <a:ext cx="2789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66"/>
                </a:solidFill>
                <a:latin typeface="Times New Roman"/>
              </a:rPr>
              <a:t>Битва  на  Чудском  озере (15 апреля 1242 г.)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58920" y="1125360"/>
            <a:ext cx="439272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Летом 1242 г. Был заключён мир с немецким орденом, силы которого были окончательно подорваны. Завоёванные прежде земли по договору были возвращены новгородцам и Пскову. Потом ещё несколько столетий немцы опасались нападать на Русь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Эти  две победы очень важны для дальнейшего развития Руси. Северные и западные границы Руси были в безопасности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5" name="" descr="&amp;Kcy;&amp;acy;&amp;rcy;&amp;tcy;&amp;icy;&amp;ncy;&amp;kcy;&amp;acy; 6 &amp;icy;&amp;zcy; 18495"/>
          <p:cNvPicPr/>
          <p:nvPr/>
        </p:nvPicPr>
        <p:blipFill>
          <a:blip r:embed="rId1"/>
          <a:stretch/>
        </p:blipFill>
        <p:spPr>
          <a:xfrm>
            <a:off x="5867280" y="1268280"/>
            <a:ext cx="2779920" cy="37213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796000" y="5661000"/>
            <a:ext cx="273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Памятник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Александру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Невскому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в Курске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6308640"/>
            <a:ext cx="719280" cy="549360"/>
          </a:xfrm>
          <a:custGeom>
            <a:avLst/>
            <a:gdLst>
              <a:gd name="textAreaLeft" fmla="*/ 35280 w 719280"/>
              <a:gd name="textAreaRight" fmla="*/ 684000 w 719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8277" h="21600">
                <a:moveTo>
                  <a:pt x="0" y="0"/>
                </a:moveTo>
                <a:lnTo>
                  <a:pt x="28277" y="0"/>
                </a:lnTo>
                <a:lnTo>
                  <a:pt x="28277" y="21600"/>
                </a:lnTo>
                <a:lnTo>
                  <a:pt x="0" y="21600"/>
                </a:lnTo>
                <a:close/>
              </a:path>
              <a:path fill="lightenLess" w="28277" h="21600">
                <a:moveTo>
                  <a:pt x="0" y="0"/>
                </a:moveTo>
                <a:lnTo>
                  <a:pt x="28277" y="0"/>
                </a:lnTo>
                <a:lnTo>
                  <a:pt x="26877" y="1400"/>
                </a:lnTo>
                <a:lnTo>
                  <a:pt x="1400" y="1400"/>
                </a:lnTo>
                <a:close/>
              </a:path>
              <a:path fill="darken" w="28277" h="21600">
                <a:moveTo>
                  <a:pt x="28277" y="0"/>
                </a:moveTo>
                <a:lnTo>
                  <a:pt x="28277" y="21600"/>
                </a:lnTo>
                <a:lnTo>
                  <a:pt x="26877" y="20200"/>
                </a:lnTo>
                <a:lnTo>
                  <a:pt x="26877" y="1400"/>
                </a:lnTo>
                <a:close/>
              </a:path>
              <a:path fill="darkenLess" w="28277" h="21600">
                <a:moveTo>
                  <a:pt x="28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7" y="20200"/>
                </a:lnTo>
                <a:close/>
              </a:path>
              <a:path fill="lighten" w="28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77" h="21600">
                <a:moveTo>
                  <a:pt x="14138" y="3837"/>
                </a:moveTo>
                <a:lnTo>
                  <a:pt x="16715" y="6448"/>
                </a:lnTo>
                <a:lnTo>
                  <a:pt x="16715" y="4707"/>
                </a:lnTo>
                <a:lnTo>
                  <a:pt x="18490" y="4707"/>
                </a:lnTo>
                <a:lnTo>
                  <a:pt x="18490" y="8224"/>
                </a:lnTo>
                <a:lnTo>
                  <a:pt x="21101" y="10800"/>
                </a:lnTo>
                <a:lnTo>
                  <a:pt x="19448" y="10800"/>
                </a:lnTo>
                <a:lnTo>
                  <a:pt x="19448" y="17989"/>
                </a:lnTo>
                <a:lnTo>
                  <a:pt x="8829" y="17989"/>
                </a:lnTo>
                <a:lnTo>
                  <a:pt x="8829" y="10800"/>
                </a:lnTo>
                <a:lnTo>
                  <a:pt x="7175" y="10800"/>
                </a:lnTo>
                <a:close/>
              </a:path>
              <a:path fill="darkenLess" w="28277" h="21600">
                <a:moveTo>
                  <a:pt x="16715" y="6448"/>
                </a:moveTo>
                <a:lnTo>
                  <a:pt x="16715" y="4707"/>
                </a:lnTo>
                <a:lnTo>
                  <a:pt x="18490" y="4707"/>
                </a:lnTo>
                <a:lnTo>
                  <a:pt x="18490" y="8224"/>
                </a:lnTo>
                <a:close/>
              </a:path>
              <a:path fill="darkenLess" w="28277" h="21600">
                <a:moveTo>
                  <a:pt x="13216" y="14299"/>
                </a:moveTo>
                <a:lnTo>
                  <a:pt x="15061" y="14299"/>
                </a:lnTo>
                <a:lnTo>
                  <a:pt x="15061" y="17989"/>
                </a:lnTo>
                <a:lnTo>
                  <a:pt x="19448" y="17989"/>
                </a:lnTo>
                <a:lnTo>
                  <a:pt x="19448" y="10800"/>
                </a:lnTo>
                <a:lnTo>
                  <a:pt x="8829" y="10800"/>
                </a:lnTo>
                <a:lnTo>
                  <a:pt x="8829" y="17989"/>
                </a:lnTo>
                <a:lnTo>
                  <a:pt x="13216" y="17989"/>
                </a:lnTo>
                <a:close/>
              </a:path>
            </a:pathLst>
          </a:custGeom>
          <a:solidFill>
            <a:srgbClr val="f2f3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8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66"/>
                </a:solidFill>
                <a:latin typeface="Times New Roman"/>
              </a:rPr>
              <a:t>Александр  Невский  и  монголы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58920" y="1125360"/>
            <a:ext cx="511344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На  восточных  рубежах Руси нависли несметные полчища монголов. Александр Невский понимал, что не пришло ещё время сражаться с ними, так как у русского  народа не было достаточно  сил, чтобы победить их.  И  он  выбрал путь дипломатии, переговоров и вынужденного признания силы победителей. Это не было трусостью и  предательством. Он  являлся передовым человеком своего времени и понимал, надо терпеть, чтобы сохранить Русь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0" name="" descr="&amp;Kcy;&amp;acy;&amp;rcy;&amp;tcy;&amp;icy;&amp;ncy;&amp;kcy;&amp;acy; 33 &amp;icy;&amp;zcy; 138720"/>
          <p:cNvPicPr/>
          <p:nvPr/>
        </p:nvPicPr>
        <p:blipFill>
          <a:blip r:embed="rId1"/>
          <a:stretch/>
        </p:blipFill>
        <p:spPr>
          <a:xfrm>
            <a:off x="6372360" y="1268280"/>
            <a:ext cx="2516040" cy="37990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084720" y="5157720"/>
            <a:ext cx="280836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Александр</a:t>
            </a: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Невский</a:t>
            </a: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Портретная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галерея Патриархов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Московских и всея Руси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Русь православная.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2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66"/>
                </a:solidFill>
                <a:latin typeface="Times New Roman"/>
              </a:rPr>
              <a:t>Александр  Невский  и  монголы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58920" y="1125000"/>
            <a:ext cx="763416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Александр дважды ездил в Большую Орду, с успехом вёл переговоры с татарскими ханами и благополучно возвращался оттуда. Монгольские ханы уважали Александра за храбрость и назначили его главным князем на Руси. Это позволило Александру Невскому улаживать опасные конфликты между монголами и русскими князьями, спасать многие города и селения от новых бедствий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4" name="" descr="&amp;Kcy;&amp;acy;&amp;rcy;&amp;tcy;&amp;icy;&amp;ncy;&amp;kcy;&amp;acy; 1 &amp;icy;&amp;zcy; 3345"/>
          <p:cNvPicPr/>
          <p:nvPr/>
        </p:nvPicPr>
        <p:blipFill>
          <a:blip r:embed="rId1"/>
          <a:stretch/>
        </p:blipFill>
        <p:spPr>
          <a:xfrm>
            <a:off x="3276720" y="3789360"/>
            <a:ext cx="398304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66"/>
                </a:solidFill>
                <a:latin typeface="Times New Roman"/>
              </a:rPr>
              <a:t>Александр  Невский  и  монголы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58560" y="1125000"/>
            <a:ext cx="7561080" cy="30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Таким образом, Русь могла развиваться, мужать, копить силы, изучать коварного врага, уживаться до поры с завоевателями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 годами ханы ужесточали требования к завоёванным народам. Последние должны были платить непосильную дань, а тех, кто не мог собрать её, хватали и уводили в рабство в монгольские степ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На Руси вспыхивали  восстания, князья и простой народ оказывали неповиновения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7" name="" descr="&amp;Kcy;&amp;acy;&amp;rcy;&amp;tcy;&amp;icy;&amp;ncy;&amp;kcy;&amp;acy; 24 &amp;icy;&amp;zcy; 3345"/>
          <p:cNvPicPr/>
          <p:nvPr/>
        </p:nvPicPr>
        <p:blipFill>
          <a:blip r:embed="rId1"/>
          <a:stretch/>
        </p:blipFill>
        <p:spPr>
          <a:xfrm>
            <a:off x="3348000" y="4076640"/>
            <a:ext cx="383868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4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66"/>
                </a:solidFill>
                <a:latin typeface="Times New Roman"/>
              </a:rPr>
              <a:t>Александр  Невский  и  монголы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58560" y="1125360"/>
            <a:ext cx="453708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В 1262 г. Такие волнения вспыхнули в землях Ростова, Суздаля, Владимира, Переяславля и многих других. Народ выгонял и даже убивал сборщиков податей. Разгневанный хан снова готовился отомстить русским  и  собирал отряды для усмирения. Александр Невский отправился в Орду, привёз с собою дары для хана и снова уговорил его не разорять русские города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0" name="" descr="&amp;Kcy;&amp;acy;&amp;rcy;&amp;tcy;&amp;icy;&amp;ncy;&amp;kcy;&amp;acy; 3 &amp;icy;&amp;zcy; 768"/>
          <p:cNvPicPr/>
          <p:nvPr/>
        </p:nvPicPr>
        <p:blipFill>
          <a:blip r:embed="rId1"/>
          <a:stretch/>
        </p:blipFill>
        <p:spPr>
          <a:xfrm>
            <a:off x="5796000" y="1557360"/>
            <a:ext cx="2830320" cy="3529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796000" y="5445000"/>
            <a:ext cx="2879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Александр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Невский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в Орде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1876 - Г.И. Семирадский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66"/>
                </a:solidFill>
                <a:latin typeface="Times New Roman"/>
              </a:rPr>
              <a:t>Александр  Невский  и  монголы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58560" y="1125360"/>
            <a:ext cx="453708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Хан долго не отпускал князя и продержал его у себя почти полгода. По дороге в своё княжество  Владимирское князь тяжело заболел и умер 14 ноября 1263 г., «много потрудившись за землю русскую, за Новгород и за Псков, за всё великое княжение, отдавая свой живот за православную веру»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Вначале Александр Невский был похоронен в монастыре во Владимире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4" name="" descr="&amp;Pcy;&amp;acy;&amp;mcy;&amp;yacy;&amp;tcy;&amp;ncy;&amp;icy;&amp;kcy; &amp;Acy;&amp;lcy;&amp;iecy;&amp;kcy;&amp;scy;&amp;acy;&amp;ncy;&amp;dcy;&amp;rcy;&amp;ucy; &amp;Ncy;&amp;iecy;&amp;vcy;&amp;scy;&amp;kcy;&amp;ocy;&amp;mcy;&amp;ucy;"/>
          <p:cNvPicPr/>
          <p:nvPr/>
        </p:nvPicPr>
        <p:blipFill>
          <a:blip r:embed="rId1"/>
          <a:stretch/>
        </p:blipFill>
        <p:spPr>
          <a:xfrm>
            <a:off x="5940360" y="1268280"/>
            <a:ext cx="2586240" cy="38451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940360" y="5445000"/>
            <a:ext cx="266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амятник Александру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Невскому в Псков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6308640"/>
            <a:ext cx="719280" cy="549360"/>
          </a:xfrm>
          <a:custGeom>
            <a:avLst/>
            <a:gdLst>
              <a:gd name="textAreaLeft" fmla="*/ 35280 w 719280"/>
              <a:gd name="textAreaRight" fmla="*/ 684000 w 719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8277" h="21600">
                <a:moveTo>
                  <a:pt x="0" y="0"/>
                </a:moveTo>
                <a:lnTo>
                  <a:pt x="28277" y="0"/>
                </a:lnTo>
                <a:lnTo>
                  <a:pt x="28277" y="21600"/>
                </a:lnTo>
                <a:lnTo>
                  <a:pt x="0" y="21600"/>
                </a:lnTo>
                <a:close/>
              </a:path>
              <a:path fill="lightenLess" w="28277" h="21600">
                <a:moveTo>
                  <a:pt x="0" y="0"/>
                </a:moveTo>
                <a:lnTo>
                  <a:pt x="28277" y="0"/>
                </a:lnTo>
                <a:lnTo>
                  <a:pt x="26877" y="1400"/>
                </a:lnTo>
                <a:lnTo>
                  <a:pt x="1400" y="1400"/>
                </a:lnTo>
                <a:close/>
              </a:path>
              <a:path fill="darken" w="28277" h="21600">
                <a:moveTo>
                  <a:pt x="28277" y="0"/>
                </a:moveTo>
                <a:lnTo>
                  <a:pt x="28277" y="21600"/>
                </a:lnTo>
                <a:lnTo>
                  <a:pt x="26877" y="20200"/>
                </a:lnTo>
                <a:lnTo>
                  <a:pt x="26877" y="1400"/>
                </a:lnTo>
                <a:close/>
              </a:path>
              <a:path fill="darkenLess" w="28277" h="21600">
                <a:moveTo>
                  <a:pt x="28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7" y="20200"/>
                </a:lnTo>
                <a:close/>
              </a:path>
              <a:path fill="lighten" w="28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77" h="21600">
                <a:moveTo>
                  <a:pt x="14138" y="3837"/>
                </a:moveTo>
                <a:lnTo>
                  <a:pt x="16715" y="6448"/>
                </a:lnTo>
                <a:lnTo>
                  <a:pt x="16715" y="4707"/>
                </a:lnTo>
                <a:lnTo>
                  <a:pt x="18490" y="4707"/>
                </a:lnTo>
                <a:lnTo>
                  <a:pt x="18490" y="8224"/>
                </a:lnTo>
                <a:lnTo>
                  <a:pt x="21101" y="10800"/>
                </a:lnTo>
                <a:lnTo>
                  <a:pt x="19448" y="10800"/>
                </a:lnTo>
                <a:lnTo>
                  <a:pt x="19448" y="17989"/>
                </a:lnTo>
                <a:lnTo>
                  <a:pt x="8829" y="17989"/>
                </a:lnTo>
                <a:lnTo>
                  <a:pt x="8829" y="10800"/>
                </a:lnTo>
                <a:lnTo>
                  <a:pt x="7175" y="10800"/>
                </a:lnTo>
                <a:close/>
              </a:path>
              <a:path fill="darkenLess" w="28277" h="21600">
                <a:moveTo>
                  <a:pt x="16715" y="6448"/>
                </a:moveTo>
                <a:lnTo>
                  <a:pt x="16715" y="4707"/>
                </a:lnTo>
                <a:lnTo>
                  <a:pt x="18490" y="4707"/>
                </a:lnTo>
                <a:lnTo>
                  <a:pt x="18490" y="8224"/>
                </a:lnTo>
                <a:close/>
              </a:path>
              <a:path fill="darkenLess" w="28277" h="21600">
                <a:moveTo>
                  <a:pt x="13216" y="14299"/>
                </a:moveTo>
                <a:lnTo>
                  <a:pt x="15061" y="14299"/>
                </a:lnTo>
                <a:lnTo>
                  <a:pt x="15061" y="17989"/>
                </a:lnTo>
                <a:lnTo>
                  <a:pt x="19448" y="17989"/>
                </a:lnTo>
                <a:lnTo>
                  <a:pt x="19448" y="10800"/>
                </a:lnTo>
                <a:lnTo>
                  <a:pt x="8829" y="10800"/>
                </a:lnTo>
                <a:lnTo>
                  <a:pt x="8829" y="17989"/>
                </a:lnTo>
                <a:lnTo>
                  <a:pt x="13216" y="17989"/>
                </a:lnTo>
                <a:close/>
              </a:path>
            </a:pathLst>
          </a:custGeom>
          <a:solidFill>
            <a:srgbClr val="f2f3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66"/>
                </a:solidFill>
                <a:latin typeface="Times New Roman"/>
              </a:rPr>
              <a:t>И ещё об Александре  Невском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58560" y="1125360"/>
            <a:ext cx="453708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Позднее русский  царь Пётр 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 основал в построенном им новом городе  Санк-Петербурге монастырь в честь Александра Невского и велел перевезти туда останки князя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Империатрица Екатерина 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 в 1725 г. Учредила орден Александра Невского, и это была в то время одна из высших наград российского государства. Орден был украшен золотом, серебром, алмазами, рубинами и эмалью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9" name="" descr="Badge to Order St Alexander Nevsky 1820-1830.jpg"/>
          <p:cNvPicPr/>
          <p:nvPr/>
        </p:nvPicPr>
        <p:blipFill>
          <a:blip r:embed="rId1"/>
          <a:stretch/>
        </p:blipFill>
        <p:spPr>
          <a:xfrm>
            <a:off x="6227640" y="1989000"/>
            <a:ext cx="228600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3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692360" y="1484280"/>
            <a:ext cx="69120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1af96"/>
                </a:solidFill>
                <a:uFillTx/>
                <a:latin typeface="Times New Roman"/>
              </a:rPr>
              <a:t>Русь  во  времена  Александра  Невског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1af96"/>
                </a:solidFill>
                <a:uFillTx/>
                <a:latin typeface="Times New Roman"/>
              </a:rPr>
              <a:t>Немецкие  рыцари  ордена  крестоносцев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1af96"/>
                </a:solidFill>
                <a:uFillTx/>
                <a:latin typeface="Times New Roman"/>
              </a:rPr>
              <a:t>Завоевател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1af96"/>
                </a:solidFill>
                <a:uFillTx/>
                <a:latin typeface="Times New Roman"/>
              </a:rPr>
              <a:t>Начало  княжения  Александра  Невског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1af96"/>
                </a:solidFill>
                <a:uFillTx/>
                <a:latin typeface="Times New Roman"/>
              </a:rPr>
              <a:t>Битва  на  Неве  (15  июля  1240 г.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1af96"/>
                </a:solidFill>
                <a:uFillTx/>
                <a:latin typeface="Times New Roman"/>
              </a:rPr>
              <a:t>Битва  На  Чудском  озере  (15  апреля  1242 г.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1af96"/>
                </a:solidFill>
                <a:uFillTx/>
                <a:latin typeface="Times New Roman"/>
              </a:rPr>
              <a:t>Александр  Невский  и  монголы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1af96"/>
                </a:solidFill>
                <a:uFillTx/>
                <a:latin typeface="Times New Roman"/>
              </a:rPr>
              <a:t>И  ещё  об Александре Невском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1af96"/>
                </a:solidFill>
                <a:uFillTx/>
                <a:latin typeface="Times New Roman"/>
              </a:rPr>
              <a:t>Иллюстрации и литератур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6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одержани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66"/>
                </a:solidFill>
                <a:latin typeface="Times New Roman"/>
              </a:rPr>
              <a:t>И ещё об Александре  Невском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58560" y="1125360"/>
            <a:ext cx="453708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В 1942 г. Был учреждён другой орден Александра Невского. Им награждались талантливые командиры, которые вместе со своими солдатами проводили наиболее дерзкие и успешные военные  операции,  обеспечивая победу советских войск в борьбе с немецкими захватчиками. До конца войны этим орденом награждали более 40 тыс. командиров Советской  Армии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2" name="" descr="AlexNevskyOrder.gif"/>
          <p:cNvPicPr/>
          <p:nvPr/>
        </p:nvPicPr>
        <p:blipFill>
          <a:blip r:embed="rId1"/>
          <a:stretch/>
        </p:blipFill>
        <p:spPr>
          <a:xfrm>
            <a:off x="6012000" y="2205000"/>
            <a:ext cx="26654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0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56108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66"/>
                </a:solidFill>
                <a:latin typeface="Times New Roman"/>
              </a:rPr>
              <a:t>И ещё об Александре  Невском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58560" y="1125000"/>
            <a:ext cx="7561080" cy="237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ОРДЕН  АЛЕКСАНДРА  НЕВСКОГО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СОХРАНЕН</a:t>
            </a: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в системе наград Российской Федерации</a:t>
            </a: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Постановлением Верховного Совета  РФ от 20 марта 1992 года N</a:t>
            </a:r>
            <a:r>
              <a:rPr b="1" lang="ru-RU" sz="2400" spc="-1" strike="noStrike" u="sng">
                <a:solidFill>
                  <a:srgbClr val="eaeaea"/>
                </a:solidFill>
                <a:uFillTx/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 2557-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5" name="" descr="  &amp;Zcy;&amp;ncy;&amp;acy;&amp;kcy; &amp;ocy;&amp;rcy;&amp;dcy;&amp;iecy;&amp;ncy;&amp;acy; &amp;Acy;&amp;lcy;&amp;iecy;&amp;kcy;&amp;scy;&amp;acy;&amp;ncy;&amp;dcy;&amp;rcy;&amp;acy; &amp;Ncy;&amp;iecy;&amp;vcy;&amp;scy;&amp;kcy;&amp;ocy;&amp;gcy;&amp;ocy;  "/>
          <p:cNvPicPr/>
          <p:nvPr/>
        </p:nvPicPr>
        <p:blipFill>
          <a:blip r:embed="rId1"/>
          <a:stretch/>
        </p:blipFill>
        <p:spPr>
          <a:xfrm>
            <a:off x="3564000" y="3141720"/>
            <a:ext cx="324468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7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емь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упруга — Александра, дочь Брячислава Полоцкого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ыновья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асилий (до 1245—1271) — новгородский князь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митрий (1250—1294) — Князь Новгородский (1260—1263), князь переяславский, великий князь владимирский в 1276—1281 и 1283—1293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Андрей (ок. 1255—1304) — князь костромской в (1276—1293), (1296—1304), великий князь владимирский (1281—1284, 1292—1304), князь новгородский в (1281—1285, 1292—1304), князь городецкий в (1264—1304)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аниил (1261—1303) — первый князь московский (1263—1303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очери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Евдокия, ставшая женой Константина Ростиславича Смоленского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7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0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3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6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2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5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Канонизаци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883120" y="1341360"/>
            <a:ext cx="3051360" cy="4680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6920" y="980640"/>
            <a:ext cx="475308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анонизирован Русской православной церковью в лике благоверных при митрополите Макарии на Московском Соборе 1547 года. Память: 23 ноября и 30 августа. Дни празднования святого Александра Невского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23 мая— Собор Ростово-Ярославских святых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30 августа— день перенесения мощей в Санкт-Петербург (1724) — главный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4 ноября— день кончины в Городце (1263) — отменён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23 ноября— день погребения во Владимире, в схиме Алексия (1263)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84720" y="6021000"/>
            <a:ext cx="324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Икона святого благоверного князя Александра Невского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7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0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3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6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9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4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Память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105228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 наше время именем Александра Невского названы церкви, улицы, площади и памятники, посвященные ему. Например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316160" y="2924280"/>
            <a:ext cx="2635200" cy="3529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825120" y="6490440"/>
            <a:ext cx="357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Храм Александра Невского в Ялт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5003640" y="3429000"/>
            <a:ext cx="3969000" cy="2976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146920" y="6490440"/>
            <a:ext cx="37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Храм Александра Невского в Софи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1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Памятник в Санкт-Петербурге (Усть-Ижора)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660840" y="0"/>
            <a:ext cx="3201840" cy="60958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6308640"/>
            <a:ext cx="719280" cy="549360"/>
          </a:xfrm>
          <a:custGeom>
            <a:avLst/>
            <a:gdLst>
              <a:gd name="textAreaLeft" fmla="*/ 35280 w 719280"/>
              <a:gd name="textAreaRight" fmla="*/ 684000 w 719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8277" h="21600">
                <a:moveTo>
                  <a:pt x="0" y="0"/>
                </a:moveTo>
                <a:lnTo>
                  <a:pt x="28277" y="0"/>
                </a:lnTo>
                <a:lnTo>
                  <a:pt x="28277" y="21600"/>
                </a:lnTo>
                <a:lnTo>
                  <a:pt x="0" y="21600"/>
                </a:lnTo>
                <a:close/>
              </a:path>
              <a:path fill="lightenLess" w="28277" h="21600">
                <a:moveTo>
                  <a:pt x="0" y="0"/>
                </a:moveTo>
                <a:lnTo>
                  <a:pt x="28277" y="0"/>
                </a:lnTo>
                <a:lnTo>
                  <a:pt x="26877" y="1400"/>
                </a:lnTo>
                <a:lnTo>
                  <a:pt x="1400" y="1400"/>
                </a:lnTo>
                <a:close/>
              </a:path>
              <a:path fill="darken" w="28277" h="21600">
                <a:moveTo>
                  <a:pt x="28277" y="0"/>
                </a:moveTo>
                <a:lnTo>
                  <a:pt x="28277" y="21600"/>
                </a:lnTo>
                <a:lnTo>
                  <a:pt x="26877" y="20200"/>
                </a:lnTo>
                <a:lnTo>
                  <a:pt x="26877" y="1400"/>
                </a:lnTo>
                <a:close/>
              </a:path>
              <a:path fill="darkenLess" w="28277" h="21600">
                <a:moveTo>
                  <a:pt x="28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7" y="20200"/>
                </a:lnTo>
                <a:close/>
              </a:path>
              <a:path fill="lighten" w="28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77" h="21600">
                <a:moveTo>
                  <a:pt x="14138" y="3837"/>
                </a:moveTo>
                <a:lnTo>
                  <a:pt x="16715" y="6448"/>
                </a:lnTo>
                <a:lnTo>
                  <a:pt x="16715" y="4707"/>
                </a:lnTo>
                <a:lnTo>
                  <a:pt x="18490" y="4707"/>
                </a:lnTo>
                <a:lnTo>
                  <a:pt x="18490" y="8224"/>
                </a:lnTo>
                <a:lnTo>
                  <a:pt x="21101" y="10800"/>
                </a:lnTo>
                <a:lnTo>
                  <a:pt x="19448" y="10800"/>
                </a:lnTo>
                <a:lnTo>
                  <a:pt x="19448" y="17989"/>
                </a:lnTo>
                <a:lnTo>
                  <a:pt x="8829" y="17989"/>
                </a:lnTo>
                <a:lnTo>
                  <a:pt x="8829" y="10800"/>
                </a:lnTo>
                <a:lnTo>
                  <a:pt x="7175" y="10800"/>
                </a:lnTo>
                <a:close/>
              </a:path>
              <a:path fill="darkenLess" w="28277" h="21600">
                <a:moveTo>
                  <a:pt x="16715" y="6448"/>
                </a:moveTo>
                <a:lnTo>
                  <a:pt x="16715" y="4707"/>
                </a:lnTo>
                <a:lnTo>
                  <a:pt x="18490" y="4707"/>
                </a:lnTo>
                <a:lnTo>
                  <a:pt x="18490" y="8224"/>
                </a:lnTo>
                <a:close/>
              </a:path>
              <a:path fill="darkenLess" w="28277" h="21600">
                <a:moveTo>
                  <a:pt x="13216" y="14299"/>
                </a:moveTo>
                <a:lnTo>
                  <a:pt x="15061" y="14299"/>
                </a:lnTo>
                <a:lnTo>
                  <a:pt x="15061" y="17989"/>
                </a:lnTo>
                <a:lnTo>
                  <a:pt x="19448" y="17989"/>
                </a:lnTo>
                <a:lnTo>
                  <a:pt x="19448" y="10800"/>
                </a:lnTo>
                <a:lnTo>
                  <a:pt x="8829" y="10800"/>
                </a:lnTo>
                <a:lnTo>
                  <a:pt x="8829" y="17989"/>
                </a:lnTo>
                <a:lnTo>
                  <a:pt x="13216" y="17989"/>
                </a:lnTo>
                <a:close/>
              </a:path>
            </a:pathLst>
          </a:custGeom>
          <a:solidFill>
            <a:srgbClr val="f2f3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60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308640"/>
            <a:ext cx="719280" cy="549360"/>
          </a:xfrm>
          <a:custGeom>
            <a:avLst/>
            <a:gdLst>
              <a:gd name="textAreaLeft" fmla="*/ 35280 w 719280"/>
              <a:gd name="textAreaRight" fmla="*/ 684000 w 719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8277" h="21600">
                <a:moveTo>
                  <a:pt x="0" y="0"/>
                </a:moveTo>
                <a:lnTo>
                  <a:pt x="28277" y="0"/>
                </a:lnTo>
                <a:lnTo>
                  <a:pt x="28277" y="21600"/>
                </a:lnTo>
                <a:lnTo>
                  <a:pt x="0" y="21600"/>
                </a:lnTo>
                <a:close/>
              </a:path>
              <a:path fill="lightenLess" w="28277" h="21600">
                <a:moveTo>
                  <a:pt x="0" y="0"/>
                </a:moveTo>
                <a:lnTo>
                  <a:pt x="28277" y="0"/>
                </a:lnTo>
                <a:lnTo>
                  <a:pt x="26877" y="1400"/>
                </a:lnTo>
                <a:lnTo>
                  <a:pt x="1400" y="1400"/>
                </a:lnTo>
                <a:close/>
              </a:path>
              <a:path fill="darken" w="28277" h="21600">
                <a:moveTo>
                  <a:pt x="28277" y="0"/>
                </a:moveTo>
                <a:lnTo>
                  <a:pt x="28277" y="21600"/>
                </a:lnTo>
                <a:lnTo>
                  <a:pt x="26877" y="20200"/>
                </a:lnTo>
                <a:lnTo>
                  <a:pt x="26877" y="1400"/>
                </a:lnTo>
                <a:close/>
              </a:path>
              <a:path fill="darkenLess" w="28277" h="21600">
                <a:moveTo>
                  <a:pt x="28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7" y="20200"/>
                </a:lnTo>
                <a:close/>
              </a:path>
              <a:path fill="lighten" w="28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77" h="21600">
                <a:moveTo>
                  <a:pt x="14138" y="3837"/>
                </a:moveTo>
                <a:lnTo>
                  <a:pt x="16715" y="6448"/>
                </a:lnTo>
                <a:lnTo>
                  <a:pt x="16715" y="4707"/>
                </a:lnTo>
                <a:lnTo>
                  <a:pt x="18490" y="4707"/>
                </a:lnTo>
                <a:lnTo>
                  <a:pt x="18490" y="8224"/>
                </a:lnTo>
                <a:lnTo>
                  <a:pt x="21101" y="10800"/>
                </a:lnTo>
                <a:lnTo>
                  <a:pt x="19448" y="10800"/>
                </a:lnTo>
                <a:lnTo>
                  <a:pt x="19448" y="17989"/>
                </a:lnTo>
                <a:lnTo>
                  <a:pt x="8829" y="17989"/>
                </a:lnTo>
                <a:lnTo>
                  <a:pt x="8829" y="10800"/>
                </a:lnTo>
                <a:lnTo>
                  <a:pt x="7175" y="10800"/>
                </a:lnTo>
                <a:close/>
              </a:path>
              <a:path fill="darkenLess" w="28277" h="21600">
                <a:moveTo>
                  <a:pt x="16715" y="6448"/>
                </a:moveTo>
                <a:lnTo>
                  <a:pt x="16715" y="4707"/>
                </a:lnTo>
                <a:lnTo>
                  <a:pt x="18490" y="4707"/>
                </a:lnTo>
                <a:lnTo>
                  <a:pt x="18490" y="8224"/>
                </a:lnTo>
                <a:close/>
              </a:path>
              <a:path fill="darkenLess" w="28277" h="21600">
                <a:moveTo>
                  <a:pt x="13216" y="14299"/>
                </a:moveTo>
                <a:lnTo>
                  <a:pt x="15061" y="14299"/>
                </a:lnTo>
                <a:lnTo>
                  <a:pt x="15061" y="17989"/>
                </a:lnTo>
                <a:lnTo>
                  <a:pt x="19448" y="17989"/>
                </a:lnTo>
                <a:lnTo>
                  <a:pt x="19448" y="10800"/>
                </a:lnTo>
                <a:lnTo>
                  <a:pt x="8829" y="10800"/>
                </a:lnTo>
                <a:lnTo>
                  <a:pt x="8829" y="17989"/>
                </a:lnTo>
                <a:lnTo>
                  <a:pt x="13216" y="17989"/>
                </a:lnTo>
                <a:close/>
              </a:path>
            </a:pathLst>
          </a:custGeom>
          <a:solidFill>
            <a:srgbClr val="f2f3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907640" y="981000"/>
            <a:ext cx="6696360" cy="511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о итогам рейтинговог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голосования в проекте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«Имя России»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главным персонаже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российской истории объявлен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святой благоверный великий княз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eaeaea"/>
                </a:solidFill>
                <a:uFillTx/>
                <a:latin typeface="Times New Roman"/>
              </a:rPr>
              <a:t>Александр Невский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Викторин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716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Когда  родился  Александр  Невский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Кто  являлся  отцом  Александра  Невского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Как звали жену Александра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  каком  году  была  Невская  битва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Что определило победу русских воинов в битве на реке Неве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0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5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0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5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Викторин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716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6. Почему в 1241году некому было защитить Новгородскую землю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7. Дата битвы на Чудском озере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8. Каким был боевой порядок войска и сил русских перед началом битвы на Чудском озере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9. Почему русские одержали победу на Чудском озере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10. В чём проявился полководческий талант Александра Невского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7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2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7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Викторин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716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11. В каком году Александр Невский стал «великим князем» и получил ярлык от хана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12. Для каких целей совершались поездки Александром Невским в Орду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13. Кто явился инициатором перенесения мощей  Александра Невского в Александро-Невский монастырь в Санкт-Петербурге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14. Когда был учрежден первый орден Александра Невского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9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4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9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4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7640" y="259920"/>
            <a:ext cx="734544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Русь  во  времена  Александра  Невского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47280" y="1125360"/>
            <a:ext cx="720108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Трудное  это  было  время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Русь  состояла  из  множества  мелких  княжеств,  центром  которых  был  какой-нибудь  город,  а  во  главе  стоял  князь,  имел  свою  дружину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нязья часто ссорились  и  вели  междоусобные  войны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собенное  положение  занимал  Новгород: не было правителя, все вопросы обсуждало вече, решало вопросы  войны  и  мира, а для этого приглашало князей из других  мест со своей дружиной  или  ставило его во главе своего войска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Источники  иллюстраций: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7280" y="1052280"/>
            <a:ext cx="7956720" cy="50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6000"/>
          </a:bodyPr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http://www.pseudology.org/tatary/Kipchaky_Moskali.ht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http://www.baltinfo.ru/author/p_78/1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 http://award.adm.gov.ru/orden/orden_11b.ht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http://ru.wikipedia.org/wiki/%C0%EB%E5%EA%F1%E0%ED%E4%F0%E0_%CD%E5%E2%F1%EA%EE%E3%EE_%EE%F0%E4%E5%E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5.http://upload.wikimedia.org/wikipedia/commons/thumb/f/f3/Badge_to_Order_St_Alexander_Nevsky_1820-1830.jpg/200px-Badge_to_Order_St_Alexander_Nevsky_1820-1830.jp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6. http://www.old-pskov.ru/images1/23.jp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http://i033.radikal.ru/1110/00/cd7766693572.jp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8. http://www.makaleci.com/wp-content/uploads/2009/11/Eski-T%C3%BCrkler.jp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9. http://www.oboznik.ru/wp-content/uploads/2012/04/124.jp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0. http://img12.imageshost.ru/img/2011/06/19/image_4dfe3c5416520.jpg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Источники  иллюстраций: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7280" y="1052280"/>
            <a:ext cx="7956720" cy="50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7000"/>
          </a:bodyPr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1.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http://images.wikia.com/assassinscreed/images/5/5e/ACR_MPCrusaderRe.pn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2. http://img.playground.ru/images/5/8/SR-104048.jp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3. http://on-infantry.narod.ru/srvec/imgi/rus.jp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4. http://www.zhaba.ru/_pics/f067cipev630ik2u.jp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5.http://stranamasterov.ru/files/imagecache/orig_with_logo4/i2011/03/07/1274109734_56.jp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6. http://freelance.ru/img/portfolio/pics/00/02/3E/147057.jp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7. http://www.ruskline.ru/images/2011/21690.jp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8. http://kartini.ucoz.ru/_ph/1/2/592609529.jp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9. http://young.rzd.ru/dbmm/images/41/4080/442798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20. http://barn-school6.ucoz.ru/nov/kartinki/0007-007-Novgorod-gorod-voinskoj-slavy.jp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21.http://imgfotki.yandex.ru/get/4607/worldsoul.c/0_5c582_872da23f_XL.jp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Источники  иллюстраций: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7280" y="1052280"/>
            <a:ext cx="7956720" cy="50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2.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http://shkolazhizni.ru/img/content/i39/39416_or.jpg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3.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http://img1.liveinternet.ru/images/attach/c/2/69/889/69889626_1296238424_3675df45c1a5.jp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24. http://im6-tub-ru.yandex.net/i?id=53659284-48-7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25. http://im2-tub-ru.yandex.net/i?id=23751422-50-7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26. http://im4-tub-ru.yandex.net/i?id=307677668-55-7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27. http://im7-tub-ru.yandex.net/i?id=154996060-67-7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28. http://img-fotki.yandex.ru/get/5003/lidiia-lunina.56/0_4012d_7dfce06d_X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29.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http://www.stihi.ru/pics/2009/12/04/2174.jp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30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68120" y="46080"/>
            <a:ext cx="1714680" cy="12794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68120" y="46080"/>
            <a:ext cx="171468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Литература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7280" y="1052280"/>
            <a:ext cx="7956720" cy="50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1.Беседы о знаменитых людях России: 3-7 класс. – М.: ТЦ Сфера, 2005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2. Книга будущих командиров. – Изд. 5-е, доп. – М.: Мол. Гвардия, 1988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3. Презентация Воропаевой Насти ученицы 10в класса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krsosh2007.narod.ru/Document/Pressa.doc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47640" y="259920"/>
            <a:ext cx="734544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Русь  во  времена  Александра  Невского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8560" y="1125360"/>
            <a:ext cx="424980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Так  случилось  и  с  отцом  Александра,  князем  Ярославом.  Новгородцы  несколько  раз  приглашали  его  к  себе  и  также  часто  прогоняли  его  из-за  крутого нрава. Свидетелем  таких  повторяющихся  ссор  и  примирений  стал  и  молодой  князь  Александр,  отрочество  и  юность  которого  проходили  в  Новгороде,  и  он  вынужден  был  с  отцом  и  братом  то  покидать  его,  то  возвращаться  снов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300720" y="3933720"/>
            <a:ext cx="2448000" cy="1827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796000" y="1268280"/>
            <a:ext cx="1589040" cy="1714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651640" y="3141720"/>
            <a:ext cx="3168360" cy="574560"/>
          </a:xfrm>
          <a:prstGeom prst="rect">
            <a:avLst/>
          </a:prstGeom>
          <a:solidFill>
            <a:srgbClr val="819e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Ярослав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II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Всеволодович – отец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Александр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24360" y="5877000"/>
            <a:ext cx="3168720" cy="574560"/>
          </a:xfrm>
          <a:prstGeom prst="rect">
            <a:avLst/>
          </a:prstGeom>
          <a:solidFill>
            <a:srgbClr val="819e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Князь  Александр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308640"/>
            <a:ext cx="719280" cy="549360"/>
          </a:xfrm>
          <a:custGeom>
            <a:avLst/>
            <a:gdLst>
              <a:gd name="textAreaLeft" fmla="*/ 35280 w 719280"/>
              <a:gd name="textAreaRight" fmla="*/ 684000 w 719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8277" h="21600">
                <a:moveTo>
                  <a:pt x="0" y="0"/>
                </a:moveTo>
                <a:lnTo>
                  <a:pt x="28277" y="0"/>
                </a:lnTo>
                <a:lnTo>
                  <a:pt x="28277" y="21600"/>
                </a:lnTo>
                <a:lnTo>
                  <a:pt x="0" y="21600"/>
                </a:lnTo>
                <a:close/>
              </a:path>
              <a:path fill="lightenLess" w="28277" h="21600">
                <a:moveTo>
                  <a:pt x="0" y="0"/>
                </a:moveTo>
                <a:lnTo>
                  <a:pt x="28277" y="0"/>
                </a:lnTo>
                <a:lnTo>
                  <a:pt x="26877" y="1400"/>
                </a:lnTo>
                <a:lnTo>
                  <a:pt x="1400" y="1400"/>
                </a:lnTo>
                <a:close/>
              </a:path>
              <a:path fill="darken" w="28277" h="21600">
                <a:moveTo>
                  <a:pt x="28277" y="0"/>
                </a:moveTo>
                <a:lnTo>
                  <a:pt x="28277" y="21600"/>
                </a:lnTo>
                <a:lnTo>
                  <a:pt x="26877" y="20200"/>
                </a:lnTo>
                <a:lnTo>
                  <a:pt x="26877" y="1400"/>
                </a:lnTo>
                <a:close/>
              </a:path>
              <a:path fill="darkenLess" w="28277" h="21600">
                <a:moveTo>
                  <a:pt x="28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7" y="20200"/>
                </a:lnTo>
                <a:close/>
              </a:path>
              <a:path fill="lighten" w="28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77" h="21600">
                <a:moveTo>
                  <a:pt x="14138" y="3837"/>
                </a:moveTo>
                <a:lnTo>
                  <a:pt x="16715" y="6448"/>
                </a:lnTo>
                <a:lnTo>
                  <a:pt x="16715" y="4707"/>
                </a:lnTo>
                <a:lnTo>
                  <a:pt x="18490" y="4707"/>
                </a:lnTo>
                <a:lnTo>
                  <a:pt x="18490" y="8224"/>
                </a:lnTo>
                <a:lnTo>
                  <a:pt x="21101" y="10800"/>
                </a:lnTo>
                <a:lnTo>
                  <a:pt x="19448" y="10800"/>
                </a:lnTo>
                <a:lnTo>
                  <a:pt x="19448" y="17989"/>
                </a:lnTo>
                <a:lnTo>
                  <a:pt x="8829" y="17989"/>
                </a:lnTo>
                <a:lnTo>
                  <a:pt x="8829" y="10800"/>
                </a:lnTo>
                <a:lnTo>
                  <a:pt x="7175" y="10800"/>
                </a:lnTo>
                <a:close/>
              </a:path>
              <a:path fill="darkenLess" w="28277" h="21600">
                <a:moveTo>
                  <a:pt x="16715" y="6448"/>
                </a:moveTo>
                <a:lnTo>
                  <a:pt x="16715" y="4707"/>
                </a:lnTo>
                <a:lnTo>
                  <a:pt x="18490" y="4707"/>
                </a:lnTo>
                <a:lnTo>
                  <a:pt x="18490" y="8224"/>
                </a:lnTo>
                <a:close/>
              </a:path>
              <a:path fill="darkenLess" w="28277" h="21600">
                <a:moveTo>
                  <a:pt x="13216" y="14299"/>
                </a:moveTo>
                <a:lnTo>
                  <a:pt x="15061" y="14299"/>
                </a:lnTo>
                <a:lnTo>
                  <a:pt x="15061" y="17989"/>
                </a:lnTo>
                <a:lnTo>
                  <a:pt x="19448" y="17989"/>
                </a:lnTo>
                <a:lnTo>
                  <a:pt x="19448" y="10800"/>
                </a:lnTo>
                <a:lnTo>
                  <a:pt x="8829" y="10800"/>
                </a:lnTo>
                <a:lnTo>
                  <a:pt x="8829" y="17989"/>
                </a:lnTo>
                <a:lnTo>
                  <a:pt x="13216" y="17989"/>
                </a:lnTo>
                <a:close/>
              </a:path>
            </a:pathLst>
          </a:custGeom>
          <a:solidFill>
            <a:srgbClr val="f2f3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47640" y="259920"/>
            <a:ext cx="734544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Немецкие  рыцари  ордена  крестоносцев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58560" y="1125360"/>
            <a:ext cx="475308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  севера  и  запада  уже  много  веков  на  славян  нападали  немецкие  племена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Немцы  активно  проникали  повсюду  под  предлогом  распространения  христианской  веры  и подчинения  римскому  папе,  главе  католической  церкви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апа  создал  целую  воинственную  общину (организацию)  из  самых  знатных  людей – орден  крестоносцев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5" name="" descr="&amp;Kcy;&amp;acy;&amp;rcy;&amp;tcy;&amp;icy;&amp;ncy;&amp;kcy;&amp;acy; 22 &amp;icy;&amp;zcy; 1196"/>
          <p:cNvPicPr/>
          <p:nvPr/>
        </p:nvPicPr>
        <p:blipFill>
          <a:blip r:embed="rId1"/>
          <a:stretch/>
        </p:blipFill>
        <p:spPr>
          <a:xfrm>
            <a:off x="6227640" y="1197000"/>
            <a:ext cx="2286000" cy="4572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084720" y="6021360"/>
            <a:ext cx="280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Рыцарь-крестоносец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с оружием и в доспехах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47640" y="259920"/>
            <a:ext cx="734544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Немецкие  рыцари  ордена  крестоносцев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7280" y="1125360"/>
            <a:ext cx="432144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Начались  непрерывные  войны  и  столкновения  Новгорода  с  немецкими  рыцарями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Немецкие  рыцари  при  подстрекательстве  римского  папы  считали  русских  людей  врагами  западного  христианства,  поборниками  язычников,  поэтому  насильно  обращали  в  свою  веру  всех,  кто  встречался  на  пути  их  продвижения  на  восток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9" name="" descr="&amp;Kcy;&amp;acy;&amp;rcy;&amp;tcy;&amp;icy;&amp;ncy;&amp;kcy;&amp;acy; 37 &amp;icy;&amp;zcy; 1196"/>
          <p:cNvPicPr/>
          <p:nvPr/>
        </p:nvPicPr>
        <p:blipFill>
          <a:blip r:embed="rId1"/>
          <a:stretch/>
        </p:blipFill>
        <p:spPr>
          <a:xfrm>
            <a:off x="6804000" y="2852640"/>
            <a:ext cx="1997280" cy="1997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&amp;Kcy;&amp;acy;&amp;rcy;&amp;tcy;&amp;icy;&amp;ncy;&amp;kcy;&amp;acy; 31 &amp;icy;&amp;zcy; 1196"/>
          <p:cNvPicPr/>
          <p:nvPr/>
        </p:nvPicPr>
        <p:blipFill>
          <a:blip r:embed="rId2"/>
          <a:stretch/>
        </p:blipFill>
        <p:spPr>
          <a:xfrm>
            <a:off x="5580000" y="981000"/>
            <a:ext cx="1238400" cy="3360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6308640"/>
            <a:ext cx="719280" cy="549360"/>
          </a:xfrm>
          <a:custGeom>
            <a:avLst/>
            <a:gdLst>
              <a:gd name="textAreaLeft" fmla="*/ 35280 w 719280"/>
              <a:gd name="textAreaRight" fmla="*/ 684000 w 719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8277" h="21600">
                <a:moveTo>
                  <a:pt x="0" y="0"/>
                </a:moveTo>
                <a:lnTo>
                  <a:pt x="28277" y="0"/>
                </a:lnTo>
                <a:lnTo>
                  <a:pt x="28277" y="21600"/>
                </a:lnTo>
                <a:lnTo>
                  <a:pt x="0" y="21600"/>
                </a:lnTo>
                <a:close/>
              </a:path>
              <a:path fill="lightenLess" w="28277" h="21600">
                <a:moveTo>
                  <a:pt x="0" y="0"/>
                </a:moveTo>
                <a:lnTo>
                  <a:pt x="28277" y="0"/>
                </a:lnTo>
                <a:lnTo>
                  <a:pt x="26877" y="1400"/>
                </a:lnTo>
                <a:lnTo>
                  <a:pt x="1400" y="1400"/>
                </a:lnTo>
                <a:close/>
              </a:path>
              <a:path fill="darken" w="28277" h="21600">
                <a:moveTo>
                  <a:pt x="28277" y="0"/>
                </a:moveTo>
                <a:lnTo>
                  <a:pt x="28277" y="21600"/>
                </a:lnTo>
                <a:lnTo>
                  <a:pt x="26877" y="20200"/>
                </a:lnTo>
                <a:lnTo>
                  <a:pt x="26877" y="1400"/>
                </a:lnTo>
                <a:close/>
              </a:path>
              <a:path fill="darkenLess" w="28277" h="21600">
                <a:moveTo>
                  <a:pt x="28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7" y="20200"/>
                </a:lnTo>
                <a:close/>
              </a:path>
              <a:path fill="lighten" w="28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77" h="21600">
                <a:moveTo>
                  <a:pt x="14138" y="3837"/>
                </a:moveTo>
                <a:lnTo>
                  <a:pt x="16715" y="6448"/>
                </a:lnTo>
                <a:lnTo>
                  <a:pt x="16715" y="4707"/>
                </a:lnTo>
                <a:lnTo>
                  <a:pt x="18490" y="4707"/>
                </a:lnTo>
                <a:lnTo>
                  <a:pt x="18490" y="8224"/>
                </a:lnTo>
                <a:lnTo>
                  <a:pt x="21101" y="10800"/>
                </a:lnTo>
                <a:lnTo>
                  <a:pt x="19448" y="10800"/>
                </a:lnTo>
                <a:lnTo>
                  <a:pt x="19448" y="17989"/>
                </a:lnTo>
                <a:lnTo>
                  <a:pt x="8829" y="17989"/>
                </a:lnTo>
                <a:lnTo>
                  <a:pt x="8829" y="10800"/>
                </a:lnTo>
                <a:lnTo>
                  <a:pt x="7175" y="10800"/>
                </a:lnTo>
                <a:close/>
              </a:path>
              <a:path fill="darkenLess" w="28277" h="21600">
                <a:moveTo>
                  <a:pt x="16715" y="6448"/>
                </a:moveTo>
                <a:lnTo>
                  <a:pt x="16715" y="4707"/>
                </a:lnTo>
                <a:lnTo>
                  <a:pt x="18490" y="4707"/>
                </a:lnTo>
                <a:lnTo>
                  <a:pt x="18490" y="8224"/>
                </a:lnTo>
                <a:close/>
              </a:path>
              <a:path fill="darkenLess" w="28277" h="21600">
                <a:moveTo>
                  <a:pt x="13216" y="14299"/>
                </a:moveTo>
                <a:lnTo>
                  <a:pt x="15061" y="14299"/>
                </a:lnTo>
                <a:lnTo>
                  <a:pt x="15061" y="17989"/>
                </a:lnTo>
                <a:lnTo>
                  <a:pt x="19448" y="17989"/>
                </a:lnTo>
                <a:lnTo>
                  <a:pt x="19448" y="10800"/>
                </a:lnTo>
                <a:lnTo>
                  <a:pt x="8829" y="10800"/>
                </a:lnTo>
                <a:lnTo>
                  <a:pt x="8829" y="17989"/>
                </a:lnTo>
                <a:lnTo>
                  <a:pt x="13216" y="17989"/>
                </a:lnTo>
                <a:close/>
              </a:path>
            </a:pathLst>
          </a:custGeom>
          <a:solidFill>
            <a:srgbClr val="f2f3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96000" y="537372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Рыцари-крестоносц ы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с оружием и в доспехах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7640" y="259920"/>
            <a:ext cx="734544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Завоеватели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6920" y="1125360"/>
            <a:ext cx="396108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На  севере  Руси  нашими  врагами  были  шведы,  которых  римский  папа  призывал  идти  походом  на  Русь,  чтобы  наказать,  проучить  мятежников  за  их  непокорность  ему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амая  страшная  опасность  нависала  на  востоке.  Вся  Русь  в  то  время  уже  много  лет  стонала  под  монголо-татарским  игом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" descr="&amp;Kcy;&amp;acy;&amp;rcy;&amp;tcy;&amp;icy;&amp;ncy;&amp;kcy;&amp;acy; 3 &amp;icy;&amp;zcy; 3027"/>
          <p:cNvPicPr/>
          <p:nvPr/>
        </p:nvPicPr>
        <p:blipFill>
          <a:blip r:embed="rId1"/>
          <a:stretch/>
        </p:blipFill>
        <p:spPr>
          <a:xfrm>
            <a:off x="5724360" y="1125360"/>
            <a:ext cx="2308320" cy="4572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6308640"/>
            <a:ext cx="719280" cy="549360"/>
          </a:xfrm>
          <a:custGeom>
            <a:avLst/>
            <a:gdLst>
              <a:gd name="textAreaLeft" fmla="*/ 35280 w 719280"/>
              <a:gd name="textAreaRight" fmla="*/ 684000 w 719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8277" h="21600">
                <a:moveTo>
                  <a:pt x="0" y="0"/>
                </a:moveTo>
                <a:lnTo>
                  <a:pt x="28277" y="0"/>
                </a:lnTo>
                <a:lnTo>
                  <a:pt x="28277" y="21600"/>
                </a:lnTo>
                <a:lnTo>
                  <a:pt x="0" y="21600"/>
                </a:lnTo>
                <a:close/>
              </a:path>
              <a:path fill="lightenLess" w="28277" h="21600">
                <a:moveTo>
                  <a:pt x="0" y="0"/>
                </a:moveTo>
                <a:lnTo>
                  <a:pt x="28277" y="0"/>
                </a:lnTo>
                <a:lnTo>
                  <a:pt x="26877" y="1400"/>
                </a:lnTo>
                <a:lnTo>
                  <a:pt x="1400" y="1400"/>
                </a:lnTo>
                <a:close/>
              </a:path>
              <a:path fill="darken" w="28277" h="21600">
                <a:moveTo>
                  <a:pt x="28277" y="0"/>
                </a:moveTo>
                <a:lnTo>
                  <a:pt x="28277" y="21600"/>
                </a:lnTo>
                <a:lnTo>
                  <a:pt x="26877" y="20200"/>
                </a:lnTo>
                <a:lnTo>
                  <a:pt x="26877" y="1400"/>
                </a:lnTo>
                <a:close/>
              </a:path>
              <a:path fill="darkenLess" w="28277" h="21600">
                <a:moveTo>
                  <a:pt x="28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77" y="20200"/>
                </a:lnTo>
                <a:close/>
              </a:path>
              <a:path fill="lighten" w="28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77" h="21600">
                <a:moveTo>
                  <a:pt x="14138" y="3837"/>
                </a:moveTo>
                <a:lnTo>
                  <a:pt x="16715" y="6448"/>
                </a:lnTo>
                <a:lnTo>
                  <a:pt x="16715" y="4707"/>
                </a:lnTo>
                <a:lnTo>
                  <a:pt x="18490" y="4707"/>
                </a:lnTo>
                <a:lnTo>
                  <a:pt x="18490" y="8224"/>
                </a:lnTo>
                <a:lnTo>
                  <a:pt x="21101" y="10800"/>
                </a:lnTo>
                <a:lnTo>
                  <a:pt x="19448" y="10800"/>
                </a:lnTo>
                <a:lnTo>
                  <a:pt x="19448" y="17989"/>
                </a:lnTo>
                <a:lnTo>
                  <a:pt x="8829" y="17989"/>
                </a:lnTo>
                <a:lnTo>
                  <a:pt x="8829" y="10800"/>
                </a:lnTo>
                <a:lnTo>
                  <a:pt x="7175" y="10800"/>
                </a:lnTo>
                <a:close/>
              </a:path>
              <a:path fill="darkenLess" w="28277" h="21600">
                <a:moveTo>
                  <a:pt x="16715" y="6448"/>
                </a:moveTo>
                <a:lnTo>
                  <a:pt x="16715" y="4707"/>
                </a:lnTo>
                <a:lnTo>
                  <a:pt x="18490" y="4707"/>
                </a:lnTo>
                <a:lnTo>
                  <a:pt x="18490" y="8224"/>
                </a:lnTo>
                <a:close/>
              </a:path>
              <a:path fill="darkenLess" w="28277" h="21600">
                <a:moveTo>
                  <a:pt x="13216" y="14299"/>
                </a:moveTo>
                <a:lnTo>
                  <a:pt x="15061" y="14299"/>
                </a:lnTo>
                <a:lnTo>
                  <a:pt x="15061" y="17989"/>
                </a:lnTo>
                <a:lnTo>
                  <a:pt x="19448" y="17989"/>
                </a:lnTo>
                <a:lnTo>
                  <a:pt x="19448" y="10800"/>
                </a:lnTo>
                <a:lnTo>
                  <a:pt x="8829" y="10800"/>
                </a:lnTo>
                <a:lnTo>
                  <a:pt x="8829" y="17989"/>
                </a:lnTo>
                <a:lnTo>
                  <a:pt x="13216" y="17989"/>
                </a:lnTo>
                <a:close/>
              </a:path>
            </a:pathLst>
          </a:custGeom>
          <a:solidFill>
            <a:srgbClr val="f2f3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51640" y="580536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Русский  воин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с оружием и в доспехах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47640" y="259920"/>
            <a:ext cx="734544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cc66"/>
                </a:solidFill>
                <a:latin typeface="Times New Roman"/>
              </a:rPr>
              <a:t>Начало  княжения  Александра  Невского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6920" y="1125360"/>
            <a:ext cx="396108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1236 г. – начало княжения  Александра  как  замечательного  полководца  и  предводителя  русского  войска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1236 г. – женится  на  полоцкой княжне  Александре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ервые  годы  своего  правления  Александр  посвятил  укреплению  Новгород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" descr="&amp;Kcy;&amp;acy;&amp;rcy;&amp;tcy;&amp;icy;&amp;ncy;&amp;kcy;&amp;acy; 38 &amp;icy;&amp;zcy; 3027"/>
          <p:cNvPicPr/>
          <p:nvPr/>
        </p:nvPicPr>
        <p:blipFill>
          <a:blip r:embed="rId1"/>
          <a:stretch/>
        </p:blipFill>
        <p:spPr>
          <a:xfrm>
            <a:off x="5651640" y="1125360"/>
            <a:ext cx="2449440" cy="2090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&amp;Kcy;&amp;acy;&amp;rcy;&amp;tcy;&amp;icy;&amp;ncy;&amp;kcy;&amp;acy; 59 &amp;icy;&amp;zcy; 3027"/>
          <p:cNvPicPr/>
          <p:nvPr/>
        </p:nvPicPr>
        <p:blipFill>
          <a:blip r:embed="rId2"/>
          <a:stretch/>
        </p:blipFill>
        <p:spPr>
          <a:xfrm>
            <a:off x="5724360" y="3284640"/>
            <a:ext cx="239904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6:31:31Z</dcterms:created>
  <dc:creator>Дети</dc:creator>
  <dc:description/>
  <cp:keywords/>
  <dc:language>en-US</dc:language>
  <cp:lastModifiedBy>Наталья</cp:lastModifiedBy>
  <dcterms:modified xsi:type="dcterms:W3CDTF">2012-07-18T16:52:33Z</dcterms:modified>
  <cp:revision>72</cp:revision>
  <dc:subject/>
  <dc:title>Александр Ярославович Невски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771049</vt:lpwstr>
  </property>
</Properties>
</file>