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07F-4EB3-4A70-82E8-9703DC32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176-18D2-4C96-9D8B-79CB42AB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915-A33B-4FAD-B231-328C55F2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AD3-CA2C-4F1C-BEC8-4FC5E466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6F80-1620-41E2-A324-95A61427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786-B994-4643-A7BF-5342218F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487-79E4-4D61-B052-6F24198A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C22-33C7-4EAF-90D3-7FE9831E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48D-954D-4878-A4ED-A683C203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5AC-3E2F-487C-B386-5E717EC2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1AC-6DD7-4099-A452-A4C552D9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83F-AE74-4A34-B6BF-C197A7D5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e5e5ff"/>
            </a:gs>
            <a:gs pos="100000">
              <a:srgbClr val="33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1CC1-94B5-4B6B-99DC-F8BEF6598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Христианская этика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обродетели и страсти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ношение к тру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урс: Основы религиозных культур и светской э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ы православ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рок 12, 4 класс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четвер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ОУ СОШ №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расенко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як человек по делу познаё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[7]"/>
          <p:cNvPicPr/>
          <p:nvPr/>
        </p:nvPicPr>
        <p:blipFill>
          <a:blip r:embed="rId1"/>
          <a:stretch/>
        </p:blipFill>
        <p:spPr>
          <a:xfrm>
            <a:off x="324000" y="3176640"/>
            <a:ext cx="3671640" cy="341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i[6]"/>
          <p:cNvPicPr/>
          <p:nvPr/>
        </p:nvPicPr>
        <p:blipFill>
          <a:blip r:embed="rId2"/>
          <a:stretch/>
        </p:blipFill>
        <p:spPr>
          <a:xfrm>
            <a:off x="5219640" y="949320"/>
            <a:ext cx="37450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ловицы и поговорки о труде и трудолюб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труда хлеб не родится никог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уменья и сила ни при чё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шь стараться - всё может уда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уде рождаются гер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у своё врем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к своего счастья кузне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як человек по делу познаё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песня льётся, там легче живё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за облюбовали, руки сдел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же пахать - больше хлеба же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ька порой работа, да хлеб слад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ь сани летом, а телегу зи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товь сани с весны, а колёса с ос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 мастера бои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о человеком ставится, человеком и слави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у время - потехе ч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авайте погово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те пословицы и поговорки о тру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род относится к труд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 такие люди тру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 народ относится к людям тру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каких сказках и литературных произведениях описываются люди труда, отношение к труд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е картины о труде зна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 художники писали картины о тру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ких героев труда зна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 такое трудовой подви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вершаются ли трудовые подвиги в современной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впадает ли отношение к труду в народном творчестве, христианской этике и современ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2286000" cy="24480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уд в моей семье.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(подготовка к интерв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христианская э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ешь ли ты о добродетелях и страст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отношение к труду в твоей сем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прививается любовь к труду в твоей сем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служивает ли чужой труд ува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 из членов твоей семьи может служить образцом отношения к тру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ады за трудовые подви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3924360" y="2924280"/>
            <a:ext cx="12952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3924360" y="2924280"/>
            <a:ext cx="12952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111 002"/>
          <p:cNvPicPr/>
          <p:nvPr/>
        </p:nvPicPr>
        <p:blipFill>
          <a:blip r:embed="rId1"/>
          <a:stretch/>
        </p:blipFill>
        <p:spPr>
          <a:xfrm>
            <a:off x="468360" y="1341360"/>
            <a:ext cx="403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орудование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и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чая тетрад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люстративный материал - репродукции картин по теме уро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овицы, поговорки, книги о тру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24360" y="333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Цели и задачи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представлений о добродетелях и страст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ь связь христианских законов с законами жизни человека и конкретной семь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ть сотрудничать и работать творчески при подготовке общего де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ть применять изученное в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S7300791"/>
          <p:cNvPicPr/>
          <p:nvPr/>
        </p:nvPicPr>
        <p:blipFill>
          <a:blip r:embed="rId1"/>
          <a:stretch/>
        </p:blipFill>
        <p:spPr>
          <a:xfrm>
            <a:off x="3995640" y="3789360"/>
            <a:ext cx="49323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ы узнае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добродетели и стра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нужно делать, чтобы стать добродетель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тремление к добродетели предполагает сохранение чувства собственного достоин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новные пон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 и з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детель, пор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ние ценности каждого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о собственного достоин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е к тр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учитель с детьми"/>
          <p:cNvPicPr/>
          <p:nvPr/>
        </p:nvPicPr>
        <p:blipFill>
          <a:blip r:embed="rId1"/>
          <a:stretch/>
        </p:blipFill>
        <p:spPr>
          <a:xfrm>
            <a:off x="3203640" y="4869000"/>
            <a:ext cx="19429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 добродетелях и страстях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бно знать, что поскольку человек двойствен, то есть состоит из души и тела, то и чувства имеет двоякие. Есть пять чувств душевных и пять чувств телес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евные у мудрецов называются силами души и они следу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, разум, мнение, воображение и чувствов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сные же чувства : зрение, обоняние, слух, вкус и осяза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происходят двоякие их добродетели и двоякие пороки. Посему всякому человеку весьма необходимо в ясности знать, какие есть душевные добродетели и какие телесные пороки, а также какие душевные и какие телесные стр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kniga"/>
          <p:cNvPicPr/>
          <p:nvPr/>
        </p:nvPicPr>
        <p:blipFill>
          <a:blip r:embed="rId1"/>
          <a:stretch/>
        </p:blipFill>
        <p:spPr>
          <a:xfrm>
            <a:off x="7451640" y="5661000"/>
            <a:ext cx="8762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бродетели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душе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ыре главные доброде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ж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разум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мудр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едл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них  рождаются следующие душевные доброде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а, надежда, любовь, смирение, кротость, великодушие, терпение, доброта, простота, правдолюбие, свобода, сострадательность, милосердие, щедрость, почти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55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обродетели телесные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рж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ольство мал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чалив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ственноручное упражнение в рукодел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який телесный подви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расти душев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ве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не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ыльчив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оненавистничеств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е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жден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ви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щеслав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д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цемер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жь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чувствитель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мешлив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трасти теле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евоугод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жор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кош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чист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ров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ношение к труду как ценность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ные эпохи демонстрировали различное ценностное отношение к труду. Варвары, например, показывали презрение к созидательной активности. Они считали искусство войны главным. К производительному труду в целом варварское общество относилось крайне отрица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олюбие не считалось добродетелью и в античности, где политические качества человека ценились выше. Эпоха эллинизма не признавала высокого нравственного достоинства физического труда. К концу античной эпохи и земледелие не относили к числу достойных занятий, как это было в более патриархальный пери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ристианстве произошла переоценка такой морали. "Если кто не хочет трудиться, тот и не ешь" (Г.Солун. 3,10). Этот принцип раннего христианства перевернул сложившиеся приоритеты. Отныне тягчайшим грехом объявлялась празд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ртинная галер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i[2]"/>
          <p:cNvPicPr/>
          <p:nvPr/>
        </p:nvPicPr>
        <p:blipFill>
          <a:blip r:embed="rId1"/>
          <a:stretch/>
        </p:blipFill>
        <p:spPr>
          <a:xfrm>
            <a:off x="622440" y="1557360"/>
            <a:ext cx="2296800" cy="331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i[3]"/>
          <p:cNvPicPr/>
          <p:nvPr/>
        </p:nvPicPr>
        <p:blipFill>
          <a:blip r:embed="rId2"/>
          <a:stretch/>
        </p:blipFill>
        <p:spPr>
          <a:xfrm>
            <a:off x="5651640" y="1197000"/>
            <a:ext cx="3024000" cy="2795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i[5]"/>
          <p:cNvPicPr/>
          <p:nvPr/>
        </p:nvPicPr>
        <p:blipFill>
          <a:blip r:embed="rId3"/>
          <a:stretch/>
        </p:blipFill>
        <p:spPr>
          <a:xfrm>
            <a:off x="3564000" y="4149720"/>
            <a:ext cx="1965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ло человеком ставится, человеком и славитс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7" descr="31QCA8G8MZXCAXXJ5JECA6HD0UOCAW969ZNCAKVY18WCAURU56ACAOP7X9FCAIYEAS1CAQQKMQPCA7DVVQFCARMUWN4CAQO9C41CAJ7NVXLCA7P80Q8CA5MAOW2CAMWO110CAY0C2FJCAD53PN2CABILUKN"/>
          <p:cNvPicPr/>
          <p:nvPr/>
        </p:nvPicPr>
        <p:blipFill>
          <a:blip r:embed="rId1"/>
          <a:stretch/>
        </p:blipFill>
        <p:spPr>
          <a:xfrm>
            <a:off x="3132000" y="1341360"/>
            <a:ext cx="292752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i[4]"/>
          <p:cNvPicPr/>
          <p:nvPr/>
        </p:nvPicPr>
        <p:blipFill>
          <a:blip r:embed="rId2"/>
          <a:stretch/>
        </p:blipFill>
        <p:spPr>
          <a:xfrm>
            <a:off x="1042920" y="3860640"/>
            <a:ext cx="2951280" cy="231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i[8]"/>
          <p:cNvPicPr/>
          <p:nvPr/>
        </p:nvPicPr>
        <p:blipFill>
          <a:blip r:embed="rId3"/>
          <a:stretch/>
        </p:blipFill>
        <p:spPr>
          <a:xfrm>
            <a:off x="4932360" y="3860640"/>
            <a:ext cx="33735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21:23:33Z</dcterms:created>
  <dc:creator>имя</dc:creator>
  <dc:description/>
  <dc:language>en-US</dc:language>
  <cp:lastModifiedBy>User</cp:lastModifiedBy>
  <dcterms:modified xsi:type="dcterms:W3CDTF">2012-07-18T15:56:58Z</dcterms:modified>
  <cp:revision>11</cp:revision>
  <dc:subject/>
  <dc:title>Христианская этика. Добродетели и страсти. Отношение к труду.</dc:title>
</cp:coreProperties>
</file>