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1E0-719A-4AD9-8004-DE69013F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3A0-C2B1-4A38-8914-20E90EE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709-E393-4911-BD9A-284990B9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475-00D0-45EA-B83B-086F33EE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03C-65CB-4EFC-8826-690CC0F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F3A-A449-43DC-AF6D-5BBBE38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F89-B4A0-4B50-A515-76DF959E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AB4-59EC-40D5-B1F2-0F9C472C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ACA-B1F0-4349-A64B-5DB8F7C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907-2569-4F1D-83A2-7171836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26C-CED3-4DCF-9729-5E92673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35D-9AE9-403F-85E5-F318B35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e5e5ff"/>
            </a:gs>
            <a:gs pos="100000">
              <a:srgbClr val="33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2A7-6FF8-4ED1-8980-4BBCF9127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ская этик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бродетели и стра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ношение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урс: Основы религиозных культур и светской э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ы православ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рок 12, 4 класс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етвер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У СОШ №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расенко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як человек по делу познаё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[7]"/>
          <p:cNvPicPr/>
          <p:nvPr/>
        </p:nvPicPr>
        <p:blipFill>
          <a:blip r:embed="rId1"/>
          <a:stretch/>
        </p:blipFill>
        <p:spPr>
          <a:xfrm>
            <a:off x="324000" y="3176640"/>
            <a:ext cx="3671640" cy="341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i[6]"/>
          <p:cNvPicPr/>
          <p:nvPr/>
        </p:nvPicPr>
        <p:blipFill>
          <a:blip r:embed="rId2"/>
          <a:stretch/>
        </p:blipFill>
        <p:spPr>
          <a:xfrm>
            <a:off x="5219640" y="949320"/>
            <a:ext cx="3745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овицы и поговорки о труде и трудолюб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труда хлеб не родится нико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уменья и сила ни при чё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стараться - всё может уд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уде рождаются гер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у своё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к своего счастья кузн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к человек по делу познаё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песня льётся, там легче живё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 облюбовали, руки сдел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же пахать - больше хлеба же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ька порой работа, да хлеб слад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ь сани летом, а телегу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ь сани с весны, а колёса с ос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мастера бо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человеком ставится, человеком и слав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у время - потехе ч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вайте по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те пословицы и поговорки о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род относится к тр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такие люди тру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народ относится к людям тру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аких сказках и литературных произведениях описываются люди труда, отношение к тр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картины о труде зн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художники писали картины о тр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х героев труда зн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трудовой подви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ршаются ли трудовые подвиги в современной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падает ли отношение к труду в народном творчестве, христианской этике и современ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286000" cy="2448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уд в моей семье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подготовка к интерв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христианская э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ешь ли ты о добродетелях и страст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отношение к труду в твоей сем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ививается любовь к труду в твоей сем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луживает ли чужой труд ува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членов твоей семьи может служить образцом отношения к тру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ды за трудовые подв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924360" y="2924280"/>
            <a:ext cx="12952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924360" y="2924280"/>
            <a:ext cx="12952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11 002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орудование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тетра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люстративный материал - репродукции картин по теме ур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овицы, поговорки, книги о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24360" y="333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ели и задач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редставлений о добродетелях и страс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ь связь христианских законов с законами жизни человека и конкретной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сотрудничать и работать творчески при подготовке общего 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применять изученное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7300791"/>
          <p:cNvPicPr/>
          <p:nvPr/>
        </p:nvPicPr>
        <p:blipFill>
          <a:blip r:embed="rId1"/>
          <a:stretch/>
        </p:blipFill>
        <p:spPr>
          <a:xfrm>
            <a:off x="3995640" y="3789360"/>
            <a:ext cx="4932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 узна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добродетели и стра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ужно делать, чтобы стать добродетель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тремление к добродетели предполагает сохранение чувства собственного достои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по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 и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детель, по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ние ценности каждого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собственного достои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к тр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учитель с детьми"/>
          <p:cNvPicPr/>
          <p:nvPr/>
        </p:nvPicPr>
        <p:blipFill>
          <a:blip r:embed="rId1"/>
          <a:stretch/>
        </p:blipFill>
        <p:spPr>
          <a:xfrm>
            <a:off x="3203640" y="4869000"/>
            <a:ext cx="19429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 добродетелях и страстях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бно знать, что поскольку человек двойствен, то есть состоит из души и тела, то и чувства имеет двоякие. Есть пять чувств душевных и пять чувств телес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евные у мудрецов называются силами души и они следу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, разум, мнение, воображение и чувствов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сные же чувства : зрение, обоняние, слух, вкус и осяз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роисходят двоякие их добродетели и двоякие пороки. Посему всякому человеку весьма необходимо в ясности знать, какие есть душевные добродетели и какие телесные пороки, а также какие душевные и какие телесные стр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kniga"/>
          <p:cNvPicPr/>
          <p:nvPr/>
        </p:nvPicPr>
        <p:blipFill>
          <a:blip r:embed="rId1"/>
          <a:stretch/>
        </p:blipFill>
        <p:spPr>
          <a:xfrm>
            <a:off x="7451640" y="5661000"/>
            <a:ext cx="876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бродетел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душе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главные доброде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ж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разум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мудр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них  рождаются следующие душевные доброде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, надежда, любовь, смирение, кротость, великодушие, терпение, доброта, простота, правдолюбие, свобода, сострадательность, милосердие, щедрость, почт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бродетели телесные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рж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льство ма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чалив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оручное упражнение в рукодел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кий телесный подви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асти душе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в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ыльчив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оненавистнич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е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жден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щеслав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мер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жь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чувстви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мешл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асти те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воугод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ор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кош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чист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ношение к труду как ценн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эпохи демонстрировали различное ценностное отношение к труду. Варвары, например, показывали презрение к созидательной активности. Они считали искусство войны главным. К производительному труду в целом варварское общество относилось крайне отриц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любие не считалось добродетелью и в античности, где политические качества человека ценились выше. Эпоха эллинизма не признавала высокого нравственного достоинства физического труда. К концу античной эпохи и земледелие не относили к числу достойных занятий, как это было в более патриархальный пери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ристианстве произошла переоценка такой морали. "Если кто не хочет трудиться, тот и не ешь" (Г.Солун. 3,10). Этот принцип раннего христианства перевернул сложившиеся приоритеты. Отныне тягчайшим грехом объявлялась празд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тинная галер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i[2]"/>
          <p:cNvPicPr/>
          <p:nvPr/>
        </p:nvPicPr>
        <p:blipFill>
          <a:blip r:embed="rId1"/>
          <a:stretch/>
        </p:blipFill>
        <p:spPr>
          <a:xfrm>
            <a:off x="622440" y="1557360"/>
            <a:ext cx="229680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i[3]"/>
          <p:cNvPicPr/>
          <p:nvPr/>
        </p:nvPicPr>
        <p:blipFill>
          <a:blip r:embed="rId2"/>
          <a:stretch/>
        </p:blipFill>
        <p:spPr>
          <a:xfrm>
            <a:off x="5651640" y="1197000"/>
            <a:ext cx="3024000" cy="27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i[5]"/>
          <p:cNvPicPr/>
          <p:nvPr/>
        </p:nvPicPr>
        <p:blipFill>
          <a:blip r:embed="rId3"/>
          <a:stretch/>
        </p:blipFill>
        <p:spPr>
          <a:xfrm>
            <a:off x="3564000" y="4149720"/>
            <a:ext cx="1965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о человеком ставится, человеком и славитс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31QCA8G8MZXCAXXJ5JECA6HD0UOCAW969ZNCAKVY18WCAURU56ACAOP7X9FCAIYEAS1CAQQKMQPCA7DVVQFCARMUWN4CAQO9C41CAJ7NVXLCA7P80Q8CA5MAOW2CAMWO110CAY0C2FJCAD53PN2CABILUKN"/>
          <p:cNvPicPr/>
          <p:nvPr/>
        </p:nvPicPr>
        <p:blipFill>
          <a:blip r:embed="rId1"/>
          <a:stretch/>
        </p:blipFill>
        <p:spPr>
          <a:xfrm>
            <a:off x="3132000" y="1341360"/>
            <a:ext cx="292752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i[4]"/>
          <p:cNvPicPr/>
          <p:nvPr/>
        </p:nvPicPr>
        <p:blipFill>
          <a:blip r:embed="rId2"/>
          <a:stretch/>
        </p:blipFill>
        <p:spPr>
          <a:xfrm>
            <a:off x="1042920" y="3860640"/>
            <a:ext cx="2951280" cy="231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i[8]"/>
          <p:cNvPicPr/>
          <p:nvPr/>
        </p:nvPicPr>
        <p:blipFill>
          <a:blip r:embed="rId3"/>
          <a:stretch/>
        </p:blipFill>
        <p:spPr>
          <a:xfrm>
            <a:off x="4932360" y="3860640"/>
            <a:ext cx="33735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1:23:33Z</dcterms:created>
  <dc:creator>имя</dc:creator>
  <dc:description/>
  <dc:language>en-US</dc:language>
  <cp:lastModifiedBy>User</cp:lastModifiedBy>
  <dcterms:modified xsi:type="dcterms:W3CDTF">2012-07-18T15:56:58Z</dcterms:modified>
  <cp:revision>11</cp:revision>
  <dc:subject/>
  <dc:title>Христианская этика. Добродетели и страсти. Отношение к труду.</dc:title>
</cp:coreProperties>
</file>