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590-C573-44E6-B9FB-1B14A11B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770-4C76-4A36-99CB-2075FAD8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833-DF95-450E-8092-36D54B0C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6B9-A11B-4A89-A7CF-FF7226E2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EAF5-79BE-4457-B106-D6419268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207-EA43-47A1-B98D-771DA7ED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F145-4807-45E7-AF01-0FE7A2DD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C41-3CBB-4085-8DE6-E4077AD4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54C-3695-4332-90C2-DA5A12D7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D1C-F37A-4C21-9D2A-E82C19BD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A7DA-E72F-4906-A2AC-16556D62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6B52-665B-49B8-B60A-35A11CBA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F8C0-F8AF-4CCC-BE2E-819929693C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357120" y="142920"/>
            <a:ext cx="4572000" cy="6561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4947120" y="9720"/>
            <a:ext cx="4348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С В О Я     И Г Р 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по трилогии П.П.Баж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«Каменный цветок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«Горный мастер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«Хрупкая вето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7" descr=""/>
          <p:cNvPicPr/>
          <p:nvPr/>
        </p:nvPicPr>
        <p:blipFill>
          <a:blip r:embed="rId2"/>
          <a:stretch/>
        </p:blipFill>
        <p:spPr>
          <a:xfrm>
            <a:off x="5643720" y="2500200"/>
            <a:ext cx="27968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1280" y="428760"/>
          <a:ext cx="9001440" cy="5715000"/>
        </p:xfrm>
        <a:graphic>
          <a:graphicData uri="http://schemas.openxmlformats.org/drawingml/2006/table">
            <a:tbl>
              <a:tblPr/>
              <a:tblGrid>
                <a:gridCol w="3891240"/>
                <a:gridCol w="765000"/>
                <a:gridCol w="849240"/>
                <a:gridCol w="765360"/>
                <a:gridCol w="934920"/>
                <a:gridCol w="851040"/>
                <a:gridCol w="944640"/>
              </a:tblGrid>
              <a:tr h="163332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Павел Петрович Бажов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Портрет геро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Четвёртый – «лишний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c0504d"/>
                          </a:solidFill>
                          <a:latin typeface="Times New Roman"/>
                          <a:ea typeface="Calibri"/>
                        </a:rPr>
                        <a:t>Цитат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4a442a"/>
                          </a:solidFill>
                          <a:latin typeface="Times New Roman"/>
                          <a:ea typeface="Calibri"/>
                        </a:rPr>
                        <a:t>Эруди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22:01:01Z</dcterms:created>
  <dc:creator>User</dc:creator>
  <dc:description/>
  <dc:language>en-US</dc:language>
  <cp:lastModifiedBy>User</cp:lastModifiedBy>
  <dcterms:modified xsi:type="dcterms:W3CDTF">2010-01-24T22:10:54Z</dcterms:modified>
  <cp:revision>1</cp:revision>
  <dc:subject/>
  <dc:title>Слайд 1</dc:title>
</cp:coreProperties>
</file>