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A65-0987-41DD-975E-31DEE5BC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C2C-3CF0-4D50-A35F-7BC385EF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CC2-6DD7-4539-9A62-F8607C80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10A-30C4-4783-8376-C727B234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1D3-532F-4C95-8AE3-2C7F4A4B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9E80-A767-468E-8EA1-0BB18968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785F-F4A1-4108-B26B-2AB100DD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A6B-683F-45EA-BD94-C8C8B6EF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921-0AFB-4372-B943-C22CBE76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232-F420-44C0-868A-55D7C1E6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043-497E-4C0C-A06E-D84A50DA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102-2E6E-434F-ABBE-616E4855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73B4-32CD-4F70-9160-B11D3F12B3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357120" y="142920"/>
            <a:ext cx="4572000" cy="6561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4947120" y="9720"/>
            <a:ext cx="4348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С В О Я     И Г Р 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по трилогии П.П.Баж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«Каменный цветок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«Горный мастер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Calibri"/>
              </a:rPr>
              <a:t>«Хрупкая вето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2"/>
          <a:stretch/>
        </p:blipFill>
        <p:spPr>
          <a:xfrm>
            <a:off x="5643720" y="2500200"/>
            <a:ext cx="27968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1280" y="428760"/>
          <a:ext cx="9001440" cy="5715000"/>
        </p:xfrm>
        <a:graphic>
          <a:graphicData uri="http://schemas.openxmlformats.org/drawingml/2006/table">
            <a:tbl>
              <a:tblPr/>
              <a:tblGrid>
                <a:gridCol w="3891240"/>
                <a:gridCol w="765000"/>
                <a:gridCol w="849240"/>
                <a:gridCol w="765360"/>
                <a:gridCol w="934920"/>
                <a:gridCol w="851040"/>
                <a:gridCol w="944640"/>
              </a:tblGrid>
              <a:tr h="163332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Павел Петрович Бажов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Портрет геро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Четвёртый – «лишний»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c0504d"/>
                          </a:solidFill>
                          <a:latin typeface="Times New Roman"/>
                          <a:ea typeface="Calibri"/>
                        </a:rPr>
                        <a:t>Цитат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4a442a"/>
                          </a:solidFill>
                          <a:latin typeface="Times New Roman"/>
                          <a:ea typeface="Calibri"/>
                        </a:rPr>
                        <a:t>Эруди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22:01:01Z</dcterms:created>
  <dc:creator>User</dc:creator>
  <dc:description/>
  <dc:language>en-US</dc:language>
  <cp:lastModifiedBy>User</cp:lastModifiedBy>
  <dcterms:modified xsi:type="dcterms:W3CDTF">2010-01-24T22:10:54Z</dcterms:modified>
  <cp:revision>1</cp:revision>
  <dc:subject/>
  <dc:title>Слайд 1</dc:title>
</cp:coreProperties>
</file>