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2CD6-4A03-4170-A812-BA3633C2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D0BB-CEED-46E7-AB5D-345ABB0B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EDF4-EAE7-4F1B-BB5B-9D4A6544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6FFD-9740-421E-8E6D-929AB6FC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97C8-A8C9-481C-BDE3-E91CAA18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A63A-3334-4B16-95FD-89C1D662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FADC-6764-4B08-864F-C1B86F97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6B6-E0D1-452B-BBD1-CE09B75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57A5-A981-4824-99C3-E1449841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A258-2D62-4400-8843-22BE9E3B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4164-6717-46D0-B24C-F285D988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B991-53AC-4F16-9EC1-1012DE5E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6D57-52CC-499F-A8DB-F2DEB43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0CF-A2C9-46A5-9B6B-AA74E03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D24-3F1C-4601-965B-296446C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E3BB-E61C-4A69-B943-C12FD7AD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5644-5D3A-4289-9CCD-1F0204AE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9B9B-6B72-4FD6-96BA-8FCF48DD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1AA7-3C88-420F-B2D0-A95DFAB6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B125-2EEC-40E0-ABB2-FF1090A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0CF3-C44D-423E-8E06-9588BF5A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2025-5928-4195-B6B0-28760D7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0DF6-1785-48ED-A11D-FCE8C4B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A0CC-8DC1-4C72-A341-686A61F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0A86-BF70-4175-A33E-A78A862527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C52B-C3AC-4AE4-8A46-552D0E35C3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PE0260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5"/>
          <p:cNvSpPr/>
          <p:nvPr/>
        </p:nvSpPr>
        <p:spPr>
          <a:xfrm>
            <a:off x="5435640" y="0"/>
            <a:ext cx="3708360" cy="2536920"/>
          </a:xfrm>
          <a:prstGeom prst="cloudCallout">
            <a:avLst>
              <a:gd name="adj1" fmla="val -53768"/>
              <a:gd name="adj2" fmla="val 43490"/>
            </a:avLst>
          </a:prstGeom>
          <a:gradFill rotWithShape="0">
            <a:gsLst>
              <a:gs pos="0">
                <a:srgbClr val="6666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Verdana"/>
              </a:rPr>
              <a:t>Как развивать ВНИМ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516720" y="1773360"/>
            <a:ext cx="1104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асть 3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рисунок 1"/>
          <p:cNvPicPr/>
          <p:nvPr/>
        </p:nvPicPr>
        <p:blipFill>
          <a:blip r:embed="rId1"/>
          <a:stretch/>
        </p:blipFill>
        <p:spPr>
          <a:xfrm>
            <a:off x="1619280" y="765000"/>
            <a:ext cx="7524720" cy="60930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1619280" y="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Verdana"/>
              </a:rPr>
              <a:t>Найди два одинаковых ба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рисунок 1"/>
          <p:cNvPicPr/>
          <p:nvPr/>
        </p:nvPicPr>
        <p:blipFill>
          <a:blip r:embed="rId1"/>
          <a:stretch/>
        </p:blipFill>
        <p:spPr>
          <a:xfrm>
            <a:off x="1619280" y="765000"/>
            <a:ext cx="7524720" cy="60930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1619280" y="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Verdana"/>
              </a:rPr>
              <a:t>Проверь себя</a:t>
            </a:r>
            <a:r>
              <a:rPr b="1" lang="en-US" sz="3200" spc="-1" strike="noStrike">
                <a:solidFill>
                  <a:srgbClr val="ccff33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4"/>
          <p:cNvSpPr/>
          <p:nvPr/>
        </p:nvSpPr>
        <p:spPr>
          <a:xfrm rot="19413600">
            <a:off x="5381280" y="2098440"/>
            <a:ext cx="485640" cy="3260520"/>
          </a:xfrm>
          <a:prstGeom prst="upDownArrow">
            <a:avLst>
              <a:gd name="adj1" fmla="val 50000"/>
              <a:gd name="adj2" fmla="val 13365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1928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Verdana"/>
              </a:rPr>
              <a:t>Найди две одинаковые снежи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4" descr="рисунок 2"/>
          <p:cNvPicPr/>
          <p:nvPr/>
        </p:nvPicPr>
        <p:blipFill>
          <a:blip r:embed="rId1"/>
          <a:stretch/>
        </p:blipFill>
        <p:spPr>
          <a:xfrm>
            <a:off x="1476360" y="692280"/>
            <a:ext cx="76676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19280" y="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Verdana"/>
              </a:rPr>
              <a:t>Проверь себя</a:t>
            </a:r>
            <a:r>
              <a:rPr b="1" lang="en-US" sz="3200" spc="-1" strike="noStrike">
                <a:solidFill>
                  <a:srgbClr val="ccff33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5" descr="рисунок 2"/>
          <p:cNvPicPr/>
          <p:nvPr/>
        </p:nvPicPr>
        <p:blipFill>
          <a:blip r:embed="rId1"/>
          <a:stretch/>
        </p:blipFill>
        <p:spPr>
          <a:xfrm>
            <a:off x="1476360" y="692280"/>
            <a:ext cx="7667640" cy="616572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6"/>
          <p:cNvSpPr/>
          <p:nvPr/>
        </p:nvSpPr>
        <p:spPr>
          <a:xfrm rot="14414400">
            <a:off x="5154480" y="3629880"/>
            <a:ext cx="485640" cy="2244960"/>
          </a:xfrm>
          <a:prstGeom prst="upDownArrow">
            <a:avLst>
              <a:gd name="adj1" fmla="val 50000"/>
              <a:gd name="adj2" fmla="val 9202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161928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Verdana"/>
              </a:rPr>
              <a:t>Найди спрятанные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рисунок 3"/>
          <p:cNvPicPr/>
          <p:nvPr/>
        </p:nvPicPr>
        <p:blipFill>
          <a:blip r:embed="rId1"/>
          <a:stretch/>
        </p:blipFill>
        <p:spPr>
          <a:xfrm>
            <a:off x="1476360" y="549360"/>
            <a:ext cx="76676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619280" y="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Verdana"/>
              </a:rPr>
              <a:t>Проверь себ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5" descr="рисунок 3"/>
          <p:cNvPicPr/>
          <p:nvPr/>
        </p:nvPicPr>
        <p:blipFill>
          <a:blip r:embed="rId1"/>
          <a:stretch/>
        </p:blipFill>
        <p:spPr>
          <a:xfrm>
            <a:off x="1403280" y="404640"/>
            <a:ext cx="7740720" cy="6453360"/>
          </a:xfrm>
          <a:prstGeom prst="rect">
            <a:avLst/>
          </a:prstGeom>
          <a:ln w="0">
            <a:noFill/>
          </a:ln>
        </p:spPr>
      </p:pic>
      <p:sp>
        <p:nvSpPr>
          <p:cNvPr id="530" name="AutoShape 6"/>
          <p:cNvSpPr/>
          <p:nvPr/>
        </p:nvSpPr>
        <p:spPr>
          <a:xfrm rot="8708400">
            <a:off x="899640" y="3644640"/>
            <a:ext cx="2890800" cy="573120"/>
          </a:xfrm>
          <a:prstGeom prst="leftArrowCallout">
            <a:avLst>
              <a:gd name="adj1" fmla="val 25002"/>
              <a:gd name="adj2" fmla="val 25000"/>
              <a:gd name="adj3" fmla="val 84066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Свин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 rot="6718800">
            <a:off x="2850840" y="4862160"/>
            <a:ext cx="2417760" cy="560160"/>
          </a:xfrm>
          <a:prstGeom prst="leftArrowCallout">
            <a:avLst>
              <a:gd name="adj1" fmla="val 25002"/>
              <a:gd name="adj2" fmla="val 25000"/>
              <a:gd name="adj3" fmla="val 71937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К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 rot="12127200">
            <a:off x="1834920" y="1484280"/>
            <a:ext cx="3165480" cy="573120"/>
          </a:xfrm>
          <a:prstGeom prst="leftArrowCallout">
            <a:avLst>
              <a:gd name="adj1" fmla="val 25002"/>
              <a:gd name="adj2" fmla="val 25000"/>
              <a:gd name="adj3" fmla="val 92054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Ба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12"/>
          <p:cNvSpPr/>
          <p:nvPr/>
        </p:nvSpPr>
        <p:spPr>
          <a:xfrm rot="1241400">
            <a:off x="5651280" y="4221000"/>
            <a:ext cx="3165480" cy="568440"/>
          </a:xfrm>
          <a:prstGeom prst="leftArrowCallout">
            <a:avLst>
              <a:gd name="adj1" fmla="val 25002"/>
              <a:gd name="adj2" fmla="val 25000"/>
              <a:gd name="adj3" fmla="val 92812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Кро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13:43:41Z</dcterms:created>
  <dc:creator>Катя</dc:creator>
  <dc:description/>
  <dc:language>en-US</dc:language>
  <cp:lastModifiedBy>Катя</cp:lastModifiedBy>
  <dcterms:modified xsi:type="dcterms:W3CDTF">2012-07-18T13:49:08Z</dcterms:modified>
  <cp:revision>5</cp:revision>
  <dc:subject/>
  <dc:title>Слайд 1</dc:title>
</cp:coreProperties>
</file>