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A15-0408-40DE-8F27-4622F63D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D65-BB2E-42F9-80DA-10757DD1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5A9-4DAE-4AD4-855D-2CF63C8B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677-5EC0-472F-AAFD-AC55136A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4188-C6E6-4386-9CDE-40F248E3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6251-202C-4CE3-A7A5-D59B50CA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81B1-66FE-4EA2-80AA-B2381D15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CB34-8B06-432A-B025-9CD3F6D9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F091-9738-414A-AFE2-F6D3365A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7DF5-0581-45AA-B85B-26051FB0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C5C2-0F92-46C5-AC59-19BD8E05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624-AA65-4EB6-927E-B2E52909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721B-E67D-412A-ADDC-F6E60FD7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E414-B1E5-4569-896B-FB117790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E687-DB42-43AE-9102-0DE8BC1F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135B-E81F-4233-9FE6-1DEA5361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909E-E9F0-4A75-A3DE-B35B58B4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26E-39BF-47F9-9FE0-A6AB9E03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17A-D79F-4B06-AFF1-A72C89E0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800-403E-413C-ADF4-1B6CFBA5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9DC-F9CB-4EBD-9805-B5F36B00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51E-6B28-48D0-AA4E-870C362A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4CB-904F-42A7-AC39-C52DC9B5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E99-FD13-4F34-8932-78B1BFBD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355C-7834-4C32-A519-197B860C74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A7CC-A185-4EBD-A4C6-731DDED39E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Проверочная работа </a:t>
            </a: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за1 четверть </a:t>
            </a: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4 класса </a:t>
            </a: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(окружающий мир)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743200" y="501300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высшей квалификационной катег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«СОШ № 51» г.Казан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това Л.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9.Какой заповедник находится на территории Арктики?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Arial"/>
              </a:rPr>
              <a:t>А) «Остров Врангеля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Arial"/>
              </a:rPr>
              <a:t>Б) Приорско-                                     Террасны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Arial"/>
              </a:rPr>
              <a:t>В) Таймырский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10.В какой зоне водятся лемминги?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А) в лесах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Б) в тундр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В) в Арктик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Проверь.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1. 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2. 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3. 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4. 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5. 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6. 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7. 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8. 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9. 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10. 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итература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.М.Тихомирова «Тесты» по предмету «Окружающий мир» к учебному комплекту А.А.Плешакова, Е.А.Крючковой «Мир вокруг нас.4 класс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1.Какая наука изучает Землю?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29242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А) астрономи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Б) географи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В) истори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2.Что не является планетой?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А) Лун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Б) Земл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В)Мар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3.Какой пояс Земли самый холодный?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А) тропически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Б) умеренны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В) полярны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4.Какая запись обозначает </a:t>
            </a:r>
            <a:br>
              <a:rPr sz="6600"/>
            </a:b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14 век?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328464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cc"/>
                </a:solidFill>
                <a:latin typeface="Arial"/>
              </a:rPr>
              <a:t>А)Х</a:t>
            </a: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VI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cc"/>
                </a:solidFill>
                <a:latin typeface="Arial"/>
              </a:rPr>
              <a:t>Б)Х</a:t>
            </a: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V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cc"/>
                </a:solidFill>
                <a:latin typeface="Arial"/>
              </a:rPr>
              <a:t>В)Х</a:t>
            </a: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IV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5.Как называются обширные пространства земли,омываемые со всех сторон морями и океанами?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3789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А) остров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Б) полуостров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В) материк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6.Что относится к письменным историческим источникам?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А) книг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Б) пословиц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В) оруж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7.Чем питаются северные олени?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А)клеверо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Б)мхо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В)веткам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                 </a:t>
            </a:r>
            <a:r>
              <a:rPr b="1" lang="en-US" sz="6000" spc="-1" strike="noStrike">
                <a:solidFill>
                  <a:srgbClr val="ff33cc"/>
                </a:solidFill>
                <a:latin typeface="Arial"/>
              </a:rPr>
              <a:t>деревье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8.Какие горы в России самые высокие?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335736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А) Ура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Б) Кавказ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185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cc"/>
                </a:solidFill>
                <a:latin typeface="Arial"/>
              </a:rPr>
              <a:t>В) Алтай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9:31:41Z</dcterms:created>
  <dc:creator>Kalistratovna</dc:creator>
  <dc:description/>
  <dc:language>en-US</dc:language>
  <cp:lastModifiedBy>Admin</cp:lastModifiedBy>
  <dcterms:modified xsi:type="dcterms:W3CDTF">2012-03-15T19:19:57Z</dcterms:modified>
  <cp:revision>5</cp:revision>
  <dc:subject/>
  <dc:title>Проверочная работа  за1 четверть 4 класса (окружающий мир).</dc:title>
</cp:coreProperties>
</file>