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B0B-1EEC-434C-88D4-D5758D4E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611-E650-4851-87FE-1F81D361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ED1-6E3D-4F29-8778-9846D35B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92E-811A-444C-A2BB-EA3E7017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6CE7-05F1-49EE-90AC-886A02BC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CC21-F2A9-4050-9687-62C3741E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1640-C515-402C-BFE4-5456D359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58B6-8263-4869-A7F5-36CAEF35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1757-3E2F-4D38-B6A8-727C4CDB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3391-7457-4E19-9850-FAE3D509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F1BB-F190-4803-8909-D3134655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46E-8935-4123-B95B-DA79320B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6057-2750-434E-A972-A2686CE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B232-EAAB-454B-994E-828FE6C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B218-FA57-4812-AE6E-3729BD4E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8E9B-4E01-491E-B27A-B5B9DF29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498F-6C63-4404-B49E-E7EADE11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312-ECDA-45BA-823B-6EF37030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15E-C496-49D3-A356-6BB7B33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B18-EB2C-4D28-A102-C5B88C2C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2B9-2875-4253-9436-CBB3438B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E7F-008A-4318-8144-DD4178B5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E92-5482-4627-BD42-40D1AAB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C22-70A9-43F9-B38E-EF797A56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B0A-91DC-45CA-9A6F-976128E0EE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30C6-0C0C-4628-AB85-59D4EBCCD0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Проверочная работа 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за1 четверть 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4 класса 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(окружающий мир)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5013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высше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СОШ № 51» г.Каза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това Л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9.Какой заповедник находится на территории Арктики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Arial"/>
              </a:rPr>
              <a:t>А) «Остров Врангел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Arial"/>
              </a:rPr>
              <a:t>Б) Приорско-                                     Террасны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Arial"/>
              </a:rPr>
              <a:t>В) Таймыр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10.В какой зоне водятся лемминги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в лесах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в тундр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в Арктик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Проверь.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1. 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2. 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3. 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4. 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5. 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6. 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7. 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8. 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9. 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10. 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.М.Тихомирова «Тесты» по предмету «Окружающий мир» к учебному комплекту А.А.Плешакова, Е.А.Крючковой «Мир вокруг нас.4 класс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1.Какая наука изучает Землю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2924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астроном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географ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истор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2.Что не является планетой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Лу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Земл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Мар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3.Какой пояс Земли самый холодный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тропически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умеренн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полярн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4.Какая запись обозначает 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14 век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32846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А)Х</a:t>
            </a: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V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Б)Х</a:t>
            </a: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В)Х</a:t>
            </a: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I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5.Как называются обширные пространства земли,омываемые со всех сторон морями и океанами?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378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остров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полуостров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материк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6.Что относится к письменным историческим источникам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А) кни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Б) пословиц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В) оруж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7.Чем питаются северные олени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А)клеверо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Б)мхо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В)веткам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                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деревье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8.Какие горы в России самые высокие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Ура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Кавка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Алта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9:31:41Z</dcterms:created>
  <dc:creator>Kalistratovna</dc:creator>
  <dc:description/>
  <dc:language>en-US</dc:language>
  <cp:lastModifiedBy>Admin</cp:lastModifiedBy>
  <dcterms:modified xsi:type="dcterms:W3CDTF">2012-03-15T19:19:57Z</dcterms:modified>
  <cp:revision>5</cp:revision>
  <dc:subject/>
  <dc:title>Проверочная работа  за1 четверть 4 класса (окружающий мир).</dc:title>
</cp:coreProperties>
</file>