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A47-B482-49A4-82B1-E6F967B4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1E63-67AF-4EBF-BB49-4E040BE1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DDC8-B1DA-49FC-951A-9627F4FC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7BE8-CED6-436D-A9AF-24C03084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328C-12D8-49D6-B091-651B0DDF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4D87-FD78-4D20-974D-06E08279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E341-A8A0-4EF4-ADDA-7B625C23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42A3-E381-4A69-880E-86F26E1C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89BB-4FCD-45C5-B04F-DDADFFBE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5955-E8D7-4D60-933C-A0258386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FD97-ECB9-4BCB-ABFA-DD4FAF2F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D6D4-01BA-453C-9542-68812695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9B37-DA54-4D3A-9CB1-8A565407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6582-FA88-4CFA-9701-10B021B6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DCB3-F768-4E95-9885-483F5B87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1D11-A354-4B98-BA31-4735AF14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9AB8-2F2F-4E8E-9519-BC20C300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FFCEC-F670-4C2D-851A-4669FC96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38DE1-FCFB-4E45-9031-42A64B67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0528F-EE2D-408E-99AD-3C696E67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795F5-4389-46F1-B4A9-D24D79DE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D22AD-A8BF-4BA8-8543-8C5DD705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A397-DBE6-458F-91B0-FA9639C2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FCD97-11B3-4C5F-8737-7B8F2CB1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D19E7-4F7D-487D-8DB8-4839A590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733B8-8CB9-4A39-968C-F0C10986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DF7FA-427B-4F1F-AECA-0E4990C4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85E35-C95E-4622-ACA6-1B66ED0D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217DB-78C1-4EBD-B6D4-B62C5E67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BF3D3-9877-4648-A811-00A81358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5D2CD-4FDB-4476-85B0-5D73985A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9C141-6C45-450E-9A88-E71F0164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BE2B0-6A4E-489F-9B94-2000CF44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2266-CFCB-4137-82F7-E713C42D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887C1-3BF6-4505-9380-3888286A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0AFAA-E6C2-4BA8-8513-305B6978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0E2A4-EECD-473E-8E6F-FEB81621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9DE0A-C75E-4639-995B-B585528C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595A4-9FAF-48CA-A4CC-A027B5A8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D5DBE-0C46-408D-8E44-EB15801F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EFBCF-B81B-443C-95E2-63531C8D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C7CB9-8726-46CB-B8DD-9DF2C657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29516-EBE0-4241-803D-19873FC5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DFDA-A3C1-465A-A534-6572F948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2BA-8D57-41B4-B417-D4C8C416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DCF0-11E0-4908-B11A-3A915A48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E26C-70B8-4B5A-B461-A5CA9CD8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CB12-A505-461A-AC85-D72899F0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7E2B-7278-4433-8E46-3D2BD4F8511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3ECF-0E13-44DC-9F38-138CC657B6D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ACB8-C53D-4028-A1E0-6C70E83C7C1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2800-F7A2-4100-B9E0-DD591152A28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457200" y="628560"/>
            <a:ext cx="7980480" cy="287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0" y="371484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onstantia"/>
              </a:rPr>
              <a:t>Ивлева Вероник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ица 5 класса МОУ «Средняя общеобразовательная школа № 13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учный руководитель – Севидова Елена Владимиро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3"/>
          <p:cNvSpPr/>
          <p:nvPr/>
        </p:nvSpPr>
        <p:spPr>
          <a:xfrm>
            <a:off x="714240" y="1000080"/>
            <a:ext cx="80010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Загадка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жанр устного народного творчества: иносказательное описание предмета или явления, которые нужно отгад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а может быть определена как замысловатый вопрос, выражаемый обычно в форме метафоры. 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(Ю.М.Сокол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Загадка – ключ словесного образа, зерно поэзии, метафора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(М.А.Рыбник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Прямоугольник 3"/>
          <p:cNvSpPr/>
          <p:nvPr/>
        </p:nvSpPr>
        <p:spPr>
          <a:xfrm>
            <a:off x="785880" y="1571760"/>
            <a:ext cx="778680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Метафора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– вид тропа: переносное значение слова, основанное на уподоблении одного предмета или явления другому; скрытое сравнение, построенное на сходстве или контрасте явлений, в котором слова «как», «как будто», «словно» отсутствуют, но подразумеваются. Разновидностями метафоры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 Олицетворение – уподобление живому суще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. Овеществление – уподобление предм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(Словарь литературоведческих терми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для выпускников и абитуриент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214200" y="988920"/>
            <a:ext cx="878688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з окон, без дверей полна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Calibri"/>
              </a:rPr>
              <a:t>горниц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людей. (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Calibri"/>
              </a:rPr>
              <a:t>огуре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елёный </a:t>
            </a:r>
            <a:r>
              <a:rPr b="0" lang="en-US" sz="2800" spc="-1" strike="noStrike">
                <a:solidFill>
                  <a:srgbClr val="ff7c80"/>
                </a:solidFill>
                <a:latin typeface="Times New Roman"/>
                <a:ea typeface="Calibri"/>
              </a:rPr>
              <a:t>телёноче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ивязан верёвочкой, лежит на боку под плетнём. (</a:t>
            </a:r>
            <a:r>
              <a:rPr b="0" lang="en-US" sz="2800" spc="-1" strike="noStrike">
                <a:solidFill>
                  <a:srgbClr val="ff7c80"/>
                </a:solidFill>
                <a:latin typeface="Times New Roman"/>
                <a:ea typeface="Calibri"/>
              </a:rPr>
              <a:t>арбу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Calibri"/>
              </a:rPr>
              <a:t>Стоит </a:t>
            </a:r>
            <a:r>
              <a:rPr b="0" lang="en-US" sz="2800" spc="-1" strike="noStrike">
                <a:solidFill>
                  <a:srgbClr val="663300"/>
                </a:solidFill>
                <a:latin typeface="Constantia"/>
                <a:ea typeface="Calibri"/>
              </a:rPr>
              <a:t>мужик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Calibri"/>
              </a:rPr>
              <a:t> над водою, качает бородою. (</a:t>
            </a:r>
            <a:r>
              <a:rPr b="0" lang="en-US" sz="2800" spc="-1" strike="noStrike">
                <a:solidFill>
                  <a:srgbClr val="663300"/>
                </a:solidFill>
                <a:latin typeface="Constantia"/>
                <a:ea typeface="Calibri"/>
              </a:rPr>
              <a:t>камыш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Calibri"/>
              </a:rPr>
              <a:t>Сидит </a:t>
            </a:r>
            <a:r>
              <a:rPr b="0" lang="en-US" sz="2800" spc="-1" strike="noStrike">
                <a:solidFill>
                  <a:srgbClr val="ffff00"/>
                </a:solidFill>
                <a:latin typeface="Constantia"/>
                <a:ea typeface="Calibri"/>
              </a:rPr>
              <a:t>девица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Calibri"/>
              </a:rPr>
              <a:t> в темнице, а коса на улице. (</a:t>
            </a:r>
            <a:r>
              <a:rPr b="0" lang="en-US" sz="2800" spc="-1" strike="noStrike">
                <a:solidFill>
                  <a:srgbClr val="ffff00"/>
                </a:solidFill>
                <a:latin typeface="Constantia"/>
                <a:ea typeface="Calibri"/>
              </a:rPr>
              <a:t>морковь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Calibri"/>
              </a:rPr>
              <a:t> или </a:t>
            </a:r>
            <a:r>
              <a:rPr b="0" lang="en-US" sz="2800" spc="-1" strike="noStrike">
                <a:solidFill>
                  <a:srgbClr val="ffff00"/>
                </a:solidFill>
                <a:latin typeface="Constantia"/>
                <a:ea typeface="Calibri"/>
              </a:rPr>
              <a:t>свёкла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3"/>
          <p:cNvSpPr/>
          <p:nvPr/>
        </p:nvSpPr>
        <p:spPr>
          <a:xfrm>
            <a:off x="0" y="114300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расненьк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матрёшк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беленьк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ердечк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малина)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метафора – 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й, не трогайте меня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обожг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и без огня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крапива)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метафора – гла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Чёрненьк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маленьк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ладеньк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ребятам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миленьк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черника)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метафора -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0" y="151668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кудрявый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ан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существительное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зелёном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афта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существительное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зелёном кафтане, в лесу на поляне. Он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бога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прилагательное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евели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прилагательное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 а подарком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адели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глаго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(орешни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0" y="-410400"/>
            <a:ext cx="914400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обы образования метафорических зага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по С.Г.Л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тин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alibri"/>
              </a:rPr>
              <a:t>Предметы сопоставляются на основе их общего внешнего сходства: «На кургане, на поляне сидит курочка с серьгами. Кто мимо не пройдёт – всем по коробу даёт» (ягод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alibri"/>
              </a:rPr>
              <a:t>2. Предметы сопоставляются по цвету: «Море красное, берега зелёные, рыбки чёрные» (арбуз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alibri"/>
              </a:rPr>
              <a:t>3. Предметы (явления) сближаются на основе признаков их внутренней организации: «Снесли птички синеньки яички, развесили по дереву: скорлупка мягонька, белок сладенький, а желток костяной» (сли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alibri"/>
              </a:rPr>
              <a:t>4. Предметы (образы) сравниваются по их функции, роли в бытовой жизни народа: «Весной веселит, летом холодит, осенью умирает, весной оживает» (ле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alibri"/>
              </a:rPr>
              <a:t>5. Предметы сопоставляются по особенностям их движения, соотношению подвижного и неподвижного: «Платье потерялось, пуговицы остались» (черёмух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alibri"/>
              </a:rPr>
              <a:t>6. Предметы, явления и образы могут сближаться на основе некоторых одинаковых черт и признаков в поведении: «Летом шубу надевает, а зимой снимает» (ле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3"/>
          <p:cNvSpPr/>
          <p:nvPr/>
        </p:nvSpPr>
        <p:spPr>
          <a:xfrm>
            <a:off x="0" y="142920"/>
            <a:ext cx="844236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Олицетворение в загад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Был ребёнок – не знал пелён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стал стариком – сто пелёнок на 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Жёлтый Антошка вертится на нож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Где солнце стоит, туда и он гля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142920" y="928800"/>
            <a:ext cx="2714760" cy="2214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6929280" y="3857760"/>
            <a:ext cx="20718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4" descr=""/>
          <p:cNvPicPr/>
          <p:nvPr/>
        </p:nvPicPr>
        <p:blipFill>
          <a:blip r:embed="rId2"/>
          <a:stretch/>
        </p:blipFill>
        <p:spPr>
          <a:xfrm>
            <a:off x="523800" y="1133640"/>
            <a:ext cx="77850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7:45:54Z</dcterms:created>
  <dc:creator>SamLab.ws</dc:creator>
  <dc:description/>
  <dc:language>en-US</dc:language>
  <cp:lastModifiedBy>Школа №13</cp:lastModifiedBy>
  <dcterms:modified xsi:type="dcterms:W3CDTF">2009-03-25T04:29:59Z</dcterms:modified>
  <cp:revision>10</cp:revision>
  <dc:subject/>
  <dc:title>Роль метафоры и олицетворения  в загадках о растениях</dc:title>
</cp:coreProperties>
</file>