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4A3B-22AB-4456-B10F-5CAFA6F7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2A97-57FE-4B52-B8EF-9EC51CC4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7E5-36D7-4E64-89FC-3ED0A642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636B-4BBB-48BF-ABF4-E7BD416F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F2BE-EDAD-4D88-A10A-0ACC9A80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94C6-7FD2-44CA-8398-C2F4D600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6E1F-2764-4B51-813C-5C61AFD7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C26C-9329-4D45-9D9D-8CF6D57E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24B2-6639-4EF7-92D6-C721D3C3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37FB-1336-48E5-B8EA-CB35AC0D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FE0D-5524-4C5F-8043-F786F71C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ABE-2E96-4268-8F56-875070A1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6530-4705-45CD-BF57-97DEE537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8C6E-79A8-42A9-8AFB-14DB7240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2E4C-BE3C-4C28-9E61-EA9B0298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92FD-C319-442F-9E30-49736383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DD7A-0474-42CC-A6F9-5FBCA550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38BFB-7FC7-4BE6-8112-174CA20D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A2569-99BA-40A7-A93B-5BE5FFF9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4B89B-A803-4983-A01A-E3D5B47A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83804-AB6C-45D1-81BB-7E5C173C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A9132-7EEF-4F73-B2BE-165B65FC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713-43DF-46D9-B72B-1CDC9BD0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418B2-C815-4808-809E-38FE6607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7468A-C985-4913-9540-7211AEB6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61BB7-824C-4330-95ED-A4BCFF77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21EB8-11A1-482E-852D-08A1687A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F9628-4C4E-47D6-A8DE-C28CE8F3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00BE-714C-4392-AF6D-4296634A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47370-4105-45B1-A4CD-968F36FC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E7789-5C8B-4E06-BAD9-80FDE754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942A9-FEA8-4768-8CB1-E1C1D626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E116E-FBB4-49ED-913A-415AE655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6C6-1742-46F9-8A4E-51BAAA2F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BA3B9-5348-4449-BC33-BAAA0D0A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D64CF-3063-40CC-BDDF-B2074C7A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2137E-DC56-4766-8D0A-B41FDB2C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272A0-CF18-48B3-9680-56426FBE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0E978-0B6F-4C3D-901B-7ED8A552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C4E04-BB72-45D2-A203-E1113061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0FB28-E4A2-41AA-ABD4-79698681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F25E1-47B9-48E8-8921-CA268D7F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70216-8AE0-4663-8DF2-368F654A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750-9A3D-4C44-8E93-413EE062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589-E1E0-437E-AFCD-2DD8043F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F6A-5FA0-443E-86EB-C75C2264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13B7-9ACF-4D8B-8CC0-BBE1D738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87FA-3F4F-4027-AD4C-E790DB63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BDFF-2C42-4BEB-8321-0869FE8E9A6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24BB-5307-43E4-976F-6C902E80B12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A716-659C-4841-A9D6-1AE0776E302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A324-E631-426D-8FED-4EF89D4271B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457200" y="628560"/>
            <a:ext cx="7980480" cy="2870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0" y="3714840"/>
            <a:ext cx="9144000" cy="1928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Constantia"/>
              </a:rPr>
              <a:t>Ивлева Вероник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ца 5 класса МОУ «Средняя общеобразовательная школа № 13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omic Sans MS"/>
              </a:rPr>
              <a:t>Научный руководитель – Севидова Елена Владимиро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714240" y="1000080"/>
            <a:ext cx="80010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Загадка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жанр устного народного творчества: иносказательное описание предмета или явления, которые нужно отгад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а может быть определена как замысловатый вопрос, выражаемый обычно в форме метафоры. 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(Ю.М.Сокол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Загадка – ключ словесного образа, зерно поэзии, метафора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(М.А.Рыбник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Прямоугольник 3"/>
          <p:cNvSpPr/>
          <p:nvPr/>
        </p:nvSpPr>
        <p:spPr>
          <a:xfrm>
            <a:off x="785880" y="1571760"/>
            <a:ext cx="778680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Метафор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– вид тропа: переносное значение слова, основанное на уподоблении одного предмета или явления другому; скрытое сравнение, построенное на сходстве или контрасте явлений, в котором слова «как», «как будто», «словно» отсутствуют, но подразумеваются. Разновидностями метафоры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 Олицетворение – уподобление живому суще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 Овеществление – уподобление предм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(Словарь литературоведческих терми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для выпускников и абитуриен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214200" y="988920"/>
            <a:ext cx="878688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з окон, без дверей полна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Calibri"/>
              </a:rPr>
              <a:t>горниц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людей. (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Calibri"/>
              </a:rPr>
              <a:t>огуре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елёный </a:t>
            </a:r>
            <a:r>
              <a:rPr b="0" lang="en-US" sz="2800" spc="-1" strike="noStrike">
                <a:solidFill>
                  <a:srgbClr val="ff7c80"/>
                </a:solidFill>
                <a:latin typeface="Times New Roman"/>
                <a:ea typeface="Calibri"/>
              </a:rPr>
              <a:t>телёноче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вязан верёвочкой, лежит на боку под плетнём. (</a:t>
            </a:r>
            <a:r>
              <a:rPr b="0" lang="en-US" sz="2800" spc="-1" strike="noStrike">
                <a:solidFill>
                  <a:srgbClr val="ff7c80"/>
                </a:solidFill>
                <a:latin typeface="Times New Roman"/>
                <a:ea typeface="Calibri"/>
              </a:rPr>
              <a:t>арбу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Calibri"/>
              </a:rPr>
              <a:t>Стоит </a:t>
            </a:r>
            <a:r>
              <a:rPr b="0" lang="en-US" sz="2800" spc="-1" strike="noStrike">
                <a:solidFill>
                  <a:srgbClr val="663300"/>
                </a:solidFill>
                <a:latin typeface="Constantia"/>
                <a:ea typeface="Calibri"/>
              </a:rPr>
              <a:t>мужик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Calibri"/>
              </a:rPr>
              <a:t> над водою, качает бородою. (</a:t>
            </a:r>
            <a:r>
              <a:rPr b="0" lang="en-US" sz="2800" spc="-1" strike="noStrike">
                <a:solidFill>
                  <a:srgbClr val="663300"/>
                </a:solidFill>
                <a:latin typeface="Constantia"/>
                <a:ea typeface="Calibri"/>
              </a:rPr>
              <a:t>камыш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Calibri"/>
              </a:rPr>
              <a:t>Сидит </a:t>
            </a:r>
            <a:r>
              <a:rPr b="0" lang="en-US" sz="2800" spc="-1" strike="noStrike">
                <a:solidFill>
                  <a:srgbClr val="ffff00"/>
                </a:solidFill>
                <a:latin typeface="Constantia"/>
                <a:ea typeface="Calibri"/>
              </a:rPr>
              <a:t>девиц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Calibri"/>
              </a:rPr>
              <a:t> в темнице, а коса на улице. (</a:t>
            </a:r>
            <a:r>
              <a:rPr b="0" lang="en-US" sz="2800" spc="-1" strike="noStrike">
                <a:solidFill>
                  <a:srgbClr val="ffff00"/>
                </a:solidFill>
                <a:latin typeface="Constantia"/>
                <a:ea typeface="Calibri"/>
              </a:rPr>
              <a:t>морковь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Calibri"/>
              </a:rPr>
              <a:t> или </a:t>
            </a:r>
            <a:r>
              <a:rPr b="0" lang="en-US" sz="2800" spc="-1" strike="noStrike">
                <a:solidFill>
                  <a:srgbClr val="ffff00"/>
                </a:solidFill>
                <a:latin typeface="Constantia"/>
                <a:ea typeface="Calibri"/>
              </a:rPr>
              <a:t>свёкл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3"/>
          <p:cNvSpPr/>
          <p:nvPr/>
        </p:nvSpPr>
        <p:spPr>
          <a:xfrm>
            <a:off x="0" y="114300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расненьк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матрёшк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беленьк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ердечк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малина)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метафора –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й, не трогайте меня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обожгу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 без огня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крапива)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метафора – 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Чёрненьк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маленьк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сладеньк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ребятам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nstantia"/>
              </a:rPr>
              <a:t>миленьк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черника)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метафора -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0" y="151668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ит кудрявый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ан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уществительное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зелёном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афта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уществительное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зелёном кафтане, в лесу на поляне. Он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бога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прилагательное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евели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прилагательное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, а подарком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адели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глаго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(орешни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0" y="-410400"/>
            <a:ext cx="914400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обы образования метафорических заг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по С.Г.Л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тин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ffffff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alibri"/>
              </a:rPr>
              <a:t>Предметы сопоставляются на основе их общего внешнего сходства: «На кургане, на поляне сидит курочка с серьгами. Кто мимо не пройдёт – всем по коробу даёт» (ягод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alibri"/>
              </a:rPr>
              <a:t>2. Предметы сопоставляются по цвету: «Море красное, берега зелёные, рыбки чёрные» (арбуз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alibri"/>
              </a:rPr>
              <a:t>3. Предметы (явления) сближаются на основе признаков их внутренней организации: «Снесли птички синеньки яички, развесили по дереву: скорлупка мягонька, белок сладенький, а желток костяной» (сли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alibri"/>
              </a:rPr>
              <a:t>4. Предметы (образы) сравниваются по их функции, роли в бытовой жизни народа: «Весной веселит, летом холодит, осенью умирает, весной оживает» (ле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alibri"/>
              </a:rPr>
              <a:t>5. Предметы сопоставляются по особенностям их движения, соотношению подвижного и неподвижного: «Платье потерялось, пуговицы остались» (черёмух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Calibri"/>
              </a:rPr>
              <a:t>6. Предметы, явления и образы могут сближаться на основе некоторых одинаковых черт и признаков в поведении: «Летом шубу надевает, а зимой снимает» (ле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3"/>
          <p:cNvSpPr/>
          <p:nvPr/>
        </p:nvSpPr>
        <p:spPr>
          <a:xfrm>
            <a:off x="0" y="142920"/>
            <a:ext cx="844236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Олицетворение в загад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Был ребёнок – не знал пелён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стал стариком – сто пелёнок на 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Жёлтый Антошка вертится на нож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Где солнце стоит, туда и он гля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142920" y="928800"/>
            <a:ext cx="2714760" cy="2214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6929280" y="3857760"/>
            <a:ext cx="20718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4" descr=""/>
          <p:cNvPicPr/>
          <p:nvPr/>
        </p:nvPicPr>
        <p:blipFill>
          <a:blip r:embed="rId2"/>
          <a:stretch/>
        </p:blipFill>
        <p:spPr>
          <a:xfrm>
            <a:off x="523800" y="1133640"/>
            <a:ext cx="77850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17:45:54Z</dcterms:created>
  <dc:creator>SamLab.ws</dc:creator>
  <dc:description/>
  <dc:language>en-US</dc:language>
  <cp:lastModifiedBy>Школа №13</cp:lastModifiedBy>
  <dcterms:modified xsi:type="dcterms:W3CDTF">2009-03-25T04:29:59Z</dcterms:modified>
  <cp:revision>10</cp:revision>
  <dc:subject/>
  <dc:title>Роль метафоры и олицетворения  в загадках о растениях</dc:title>
</cp:coreProperties>
</file>