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62D-E583-487E-A1FC-0C2417E5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61A-F40E-407E-91EB-D8498C4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D07-BDC3-46BD-8ED0-6882EA36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543-B968-4075-A272-CFF04F29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01E0-0F0D-41A3-937D-CDA3DA8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E220-DDF8-46D5-A8B0-CA4383E1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C5E8-6AC7-4B73-99A2-2BD52FA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7C5-6991-4A87-98E1-9CC836F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5A54-5803-4E42-936B-8E42BE98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8DB9-922A-4E7E-8AD9-1A1A312D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D6AA-7E19-4253-9D9F-7FBD92CE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D28-CCD7-4A82-BB5F-E7F8079E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1025-5635-4A54-912F-CF96552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5682-D023-4E5C-9ACE-CD99592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9A74-FCD1-45F5-AC36-34DAA69D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171B-150B-42F3-94CF-4223F2EF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8CE2-A58A-4B0A-8F5D-919DAA5F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2AB-8047-4A41-AFE8-5DFC169C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27D-030A-406C-BE9E-0FF79DC0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A15-30CC-4FA9-90AB-DEF08E8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FEC-812D-4257-99C8-1453B910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C14-671C-4AC9-A4E1-B786B295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887-9A5B-4527-8A1D-5CF1CBE4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616-535B-40F9-9C66-BC576F2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A0B6-0E79-4A97-BF56-9F547F033AD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2962-532F-470D-9590-7F3808D2468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6640" y="85680"/>
            <a:ext cx="829620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28520" y="4857480"/>
            <a:ext cx="5429160" cy="1609560"/>
          </a:xfrm>
          <a:prstGeom prst="rect">
            <a:avLst/>
          </a:prstGeom>
          <a:solidFill>
            <a:srgbClr val="6bb1c9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Шерманова Александ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ученица 5 класса МОУ «СОШ № 13»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идова Елена Владимировна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6d0df"/>
                </a:solidFill>
                <a:latin typeface="Times New Roman"/>
              </a:rPr>
              <a:t>Спасиб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6d0df"/>
                </a:solidFill>
                <a:latin typeface="Times New Roman"/>
              </a:rPr>
              <a:t>з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6d0df"/>
                </a:solidFill>
                <a:latin typeface="Times New Roman"/>
              </a:rPr>
              <a:t>внима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85852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302680" cy="108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6840" y="1143000"/>
            <a:ext cx="2328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каль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блу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ве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у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го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иро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усо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е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зя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ю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аб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у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кош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бло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ко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уб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ы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ы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лн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ы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ру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о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ат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е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572160" y="1285560"/>
            <a:ext cx="2114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яже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ёше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их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тих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мно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Прямая соединительная линия 3"/>
          <p:cNvSpPr/>
          <p:nvPr/>
        </p:nvSpPr>
        <p:spPr>
          <a:xfrm flipH="1">
            <a:off x="2857680" y="357120"/>
            <a:ext cx="71280" cy="60721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6143760" y="357120"/>
            <a:ext cx="71280" cy="62150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3647880" y="12859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е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ёше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71280" y="1000080"/>
            <a:ext cx="878688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42920" y="1000080"/>
          <a:ext cx="8858160" cy="2944800"/>
        </p:xfrm>
        <a:graphic>
          <a:graphicData uri="http://schemas.openxmlformats.org/drawingml/2006/table">
            <a:tbl>
              <a:tblPr/>
              <a:tblGrid>
                <a:gridCol w="1404720"/>
                <a:gridCol w="1008360"/>
                <a:gridCol w="1079280"/>
                <a:gridCol w="1224000"/>
                <a:gridCol w="936720"/>
                <a:gridCol w="1224000"/>
                <a:gridCol w="1224000"/>
                <a:gridCol w="757080"/>
              </a:tblGrid>
              <a:tr h="24624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ёшень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ц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нь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к- (-ек-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ыш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ушк- (-юшк-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ец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6985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е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ёше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яже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ёше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еркаль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у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аблу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уб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ве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кош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бло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ко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мно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их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тих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го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ро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со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ру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ры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ы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лн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ы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ар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у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б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у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озя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ю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рат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81160" y="133200"/>
            <a:ext cx="8240400" cy="1202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2920" y="2571840"/>
            <a:ext cx="8786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нофонем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ногофонем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к-                                                      -ок- (-ек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ц-                                                  -ушк- (-юшк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ёшеньк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оньк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ышк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ец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5" name="Прямая со стрелкой 3"/>
          <p:cNvCxnSpPr/>
          <p:nvPr/>
        </p:nvCxnSpPr>
        <p:spPr>
          <a:xfrm flipH="1">
            <a:off x="1713960" y="1285560"/>
            <a:ext cx="1143720" cy="1215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6" name="Прямая со стрелкой 5"/>
          <p:cNvCxnSpPr/>
          <p:nvPr/>
        </p:nvCxnSpPr>
        <p:spPr>
          <a:xfrm>
            <a:off x="5643720" y="1285560"/>
            <a:ext cx="786240" cy="1215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286160" cy="635796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2" descr=""/>
          <p:cNvPicPr/>
          <p:nvPr/>
        </p:nvPicPr>
        <p:blipFill>
          <a:blip r:embed="rId2"/>
          <a:stretch/>
        </p:blipFill>
        <p:spPr>
          <a:xfrm>
            <a:off x="4316400" y="1504800"/>
            <a:ext cx="4834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-109440" y="268200"/>
            <a:ext cx="4919400" cy="502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Компус\Мои документы\Мои рисунки\Изображение\Изображение 001.jpg"/>
          <p:cNvPicPr/>
          <p:nvPr/>
        </p:nvPicPr>
        <p:blipFill>
          <a:blip r:embed="rId2"/>
          <a:stretch/>
        </p:blipFill>
        <p:spPr>
          <a:xfrm>
            <a:off x="5072040" y="357120"/>
            <a:ext cx="3929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214720" y="142920"/>
            <a:ext cx="4786200" cy="6500880"/>
          </a:xfrm>
          <a:prstGeom prst="rect">
            <a:avLst/>
          </a:prstGeom>
          <a:ln w="0">
            <a:noFill/>
          </a:ln>
        </p:spPr>
      </p:pic>
      <p:pic>
        <p:nvPicPr>
          <p:cNvPr id="102" name="Заголовок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191268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000560" y="4642920"/>
            <a:ext cx="21430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Месяц, месяц, мой друж</a:t>
            </a:r>
            <a:r>
              <a:rPr b="0" i="1" lang="ru-RU" sz="2000" spc="-1" strike="noStrike">
                <a:solidFill>
                  <a:srgbClr val="00b0f0"/>
                </a:solidFill>
                <a:latin typeface="Times New Roman"/>
              </a:rPr>
              <a:t>ок</a:t>
            </a: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Позолоченный рож</a:t>
            </a:r>
            <a:r>
              <a:rPr b="0" i="1" lang="ru-RU" sz="2000" spc="-1" strike="noStrike">
                <a:solidFill>
                  <a:srgbClr val="00b0f0"/>
                </a:solidFill>
                <a:latin typeface="Times New Roman"/>
              </a:rPr>
              <a:t>ок</a:t>
            </a: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43680" y="1785960"/>
            <a:ext cx="35431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0" i="1" lang="ru-RU" sz="2600" spc="-1" strike="noStrike">
                <a:solidFill>
                  <a:srgbClr val="00b0f0"/>
                </a:solidFill>
                <a:latin typeface="Times New Roman"/>
              </a:rPr>
              <a:t>УХ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0" i="1" lang="ru-RU" sz="2600" spc="-1" strike="noStrike">
                <a:solidFill>
                  <a:srgbClr val="00b0f0"/>
                </a:solidFill>
                <a:latin typeface="Times New Roman"/>
              </a:rPr>
              <a:t>УШ</a:t>
            </a:r>
            <a:r>
              <a:rPr b="0" i="1" lang="ru-RU" sz="2600" spc="-1" strike="noStrike">
                <a:solidFill>
                  <a:srgbClr val="af9738"/>
                </a:solidFill>
                <a:latin typeface="Times New Roman"/>
              </a:rPr>
              <a:t>ОН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0" lang="ru-RU" sz="2600" spc="-1" strike="noStrike">
                <a:solidFill>
                  <a:srgbClr val="00b0f0"/>
                </a:solidFill>
                <a:latin typeface="Times New Roman"/>
              </a:rPr>
              <a:t>УШ</a:t>
            </a:r>
            <a:r>
              <a:rPr b="0" i="1" lang="ru-RU" sz="2600" spc="-1" strike="noStrike">
                <a:solidFill>
                  <a:srgbClr val="af9738"/>
                </a:solidFill>
                <a:latin typeface="Times New Roman"/>
              </a:rPr>
              <a:t>ОНОЧ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</a:rPr>
              <a:t>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4572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6:10:42Z</dcterms:created>
  <dc:creator>SamLab.ws</dc:creator>
  <dc:description/>
  <dc:language>en-US</dc:language>
  <cp:lastModifiedBy>SamLab.ws</cp:lastModifiedBy>
  <dcterms:modified xsi:type="dcterms:W3CDTF">2009-04-01T16:43:42Z</dcterms:modified>
  <cp:revision>25</cp:revision>
  <dc:subject/>
  <dc:title>Слайд 1</dc:title>
</cp:coreProperties>
</file>