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B19-8DAE-4DF3-A89B-30A94783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EC1-2DB3-4D1A-8578-C31E8A35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106-E006-4CB2-868B-4F971772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678-1CFB-42F1-9954-F00F07B0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C39-5A11-4F18-B475-EB347249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41BF-8CCE-4AF1-8986-044963BB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5371-B676-49CA-BAF9-58A2E34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8C3-CAB0-4E6C-816B-2209BF23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E04-A210-4C5C-839F-D8A5487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BB3-2739-419A-8906-C7CF3D5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AED2-4BDA-4261-B735-E385E7C5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183-8234-47B0-B4DA-E4BE8BFC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4101-42A0-403C-A87C-A219AE6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954A-591D-45F2-ACEE-2BCCFB8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CF42-13A9-4358-84AD-A0896BE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8470-4D5A-4FAA-9441-6B75409B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A285-1FE3-449E-B1F4-D016FF10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307-6B44-4F99-AD50-3B3C586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3390-80EF-4258-B238-0C02C73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823-6F55-41EE-933E-5FDCF7B2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514-3AF6-43E6-8FE7-C3E700B0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F8C-D349-4145-855C-A676CC2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A63-8FEF-441E-AC6E-A1A8439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1F8-CC6D-4BC4-B372-D14060B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A9C-E83B-4088-828E-D7E21E93E34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F7D-1DC4-426A-B714-121C8FF632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85680"/>
            <a:ext cx="829620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928520" y="4857480"/>
            <a:ext cx="5429160" cy="1609560"/>
          </a:xfrm>
          <a:prstGeom prst="rect">
            <a:avLst/>
          </a:prstGeom>
          <a:solidFill>
            <a:srgbClr val="6bb1c9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Шерманова Александ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ученица 5 класса МОУ «СОШ № 13»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видова Елена Владимировн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Спасиб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з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6d0df"/>
                </a:solidFill>
                <a:latin typeface="Times New Roman"/>
              </a:rPr>
              <a:t>внимани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85852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302680" cy="1086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6840" y="1143000"/>
            <a:ext cx="2328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каль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у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блу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в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го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ир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ус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е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хозя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ю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аб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кош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бло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ко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уб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ы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ы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лн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ыш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ру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ч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70880" indent="-35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ат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ец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72160" y="1285560"/>
            <a:ext cx="21146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яже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ёше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их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тих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множ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ая соединительная линия 3"/>
          <p:cNvSpPr/>
          <p:nvPr/>
        </p:nvSpPr>
        <p:spPr>
          <a:xfrm flipH="1">
            <a:off x="2857680" y="357120"/>
            <a:ext cx="71280" cy="60721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ая соединительная линия 5"/>
          <p:cNvSpPr/>
          <p:nvPr/>
        </p:nvSpPr>
        <p:spPr>
          <a:xfrm>
            <a:off x="6143760" y="357120"/>
            <a:ext cx="71280" cy="621504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3647880" y="128592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ел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ёшень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10"/>
          <p:cNvSpPr/>
          <p:nvPr/>
        </p:nvSpPr>
        <p:spPr>
          <a:xfrm>
            <a:off x="71280" y="1000080"/>
            <a:ext cx="878688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42920" y="1000080"/>
          <a:ext cx="8858160" cy="2944800"/>
        </p:xfrm>
        <a:graphic>
          <a:graphicData uri="http://schemas.openxmlformats.org/drawingml/2006/table">
            <a:tbl>
              <a:tblPr/>
              <a:tblGrid>
                <a:gridCol w="1404720"/>
                <a:gridCol w="1008360"/>
                <a:gridCol w="1079280"/>
                <a:gridCol w="1224000"/>
                <a:gridCol w="936720"/>
                <a:gridCol w="1224000"/>
                <a:gridCol w="1224000"/>
                <a:gridCol w="757080"/>
              </a:tblGrid>
              <a:tr h="2462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ёшень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ц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нь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ок- (-ек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ышк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ушк- (-юшк-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ец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26985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е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ёше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яже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ёше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еркаль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у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аблу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уб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в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кош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бл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ко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е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мн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их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отих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нь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го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ир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соч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е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ру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ож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ыл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ы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лн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ы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ар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у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б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у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озя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юш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рат</a:t>
                      </a:r>
                      <a:r>
                        <a:rPr b="1" i="1" lang="ru-RU" sz="1400" spc="-1" strike="noStrike">
                          <a:solidFill>
                            <a:srgbClr val="253d75"/>
                          </a:solidFill>
                          <a:latin typeface="Times New Roman"/>
                          <a:ea typeface="Calibri"/>
                        </a:rPr>
                        <a:t>е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81160" y="133200"/>
            <a:ext cx="8240400" cy="1202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42920" y="2571840"/>
            <a:ext cx="8786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нофонем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огофонем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к-                                                      -ок- (-ек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ц-                                                  -ушк- (-юшк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ёшень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онь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ышк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                                                                           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-ец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5" name="Прямая со стрелкой 3"/>
          <p:cNvCxnSpPr/>
          <p:nvPr/>
        </p:nvCxnSpPr>
        <p:spPr>
          <a:xfrm flipH="1">
            <a:off x="1713960" y="1285560"/>
            <a:ext cx="1143720" cy="1215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96" name="Прямая со стрелкой 5"/>
          <p:cNvCxnSpPr/>
          <p:nvPr/>
        </p:nvCxnSpPr>
        <p:spPr>
          <a:xfrm>
            <a:off x="5643720" y="1285560"/>
            <a:ext cx="786240" cy="12150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4286160" cy="635796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2" descr=""/>
          <p:cNvPicPr/>
          <p:nvPr/>
        </p:nvPicPr>
        <p:blipFill>
          <a:blip r:embed="rId2"/>
          <a:stretch/>
        </p:blipFill>
        <p:spPr>
          <a:xfrm>
            <a:off x="4316400" y="1504800"/>
            <a:ext cx="4834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-109440" y="268200"/>
            <a:ext cx="4919400" cy="502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Компус\Мои документы\Мои рисунки\Изображение\Изображение 001.jpg"/>
          <p:cNvPicPr/>
          <p:nvPr/>
        </p:nvPicPr>
        <p:blipFill>
          <a:blip r:embed="rId2"/>
          <a:stretch/>
        </p:blipFill>
        <p:spPr>
          <a:xfrm>
            <a:off x="5072040" y="357120"/>
            <a:ext cx="39290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214720" y="142920"/>
            <a:ext cx="4786200" cy="6500880"/>
          </a:xfrm>
          <a:prstGeom prst="rect">
            <a:avLst/>
          </a:prstGeom>
          <a:ln w="0">
            <a:noFill/>
          </a:ln>
        </p:spPr>
      </p:pic>
      <p:pic>
        <p:nvPicPr>
          <p:cNvPr id="102" name="Заголовок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1912680" cy="1298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7000560" y="4642920"/>
            <a:ext cx="21430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Месяц, месяц, мой друж</a:t>
            </a:r>
            <a:r>
              <a:rPr b="0" i="1" lang="ru-RU" sz="2000" spc="-1" strike="noStrike">
                <a:solidFill>
                  <a:srgbClr val="00b0f0"/>
                </a:solidFill>
                <a:latin typeface="Times New Roman"/>
              </a:rPr>
              <a:t>ок</a:t>
            </a: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Позолоченный рож</a:t>
            </a:r>
            <a:r>
              <a:rPr b="0" i="1" lang="ru-RU" sz="2000" spc="-1" strike="noStrike">
                <a:solidFill>
                  <a:srgbClr val="00b0f0"/>
                </a:solidFill>
                <a:latin typeface="Times New Roman"/>
              </a:rPr>
              <a:t>ок</a:t>
            </a:r>
            <a:r>
              <a:rPr b="0" lang="ru-RU" sz="2000" spc="-1" strike="noStrike">
                <a:solidFill>
                  <a:srgbClr val="d9d9d9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43680" y="1785960"/>
            <a:ext cx="354312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i="1" lang="ru-RU" sz="2600" spc="-1" strike="noStrike">
                <a:solidFill>
                  <a:srgbClr val="00b0f0"/>
                </a:solidFill>
                <a:latin typeface="Times New Roman"/>
              </a:rPr>
              <a:t>УХ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i="1" lang="ru-RU" sz="2600" spc="-1" strike="noStrike">
                <a:solidFill>
                  <a:srgbClr val="00b0f0"/>
                </a:solidFill>
                <a:latin typeface="Times New Roman"/>
              </a:rPr>
              <a:t>УШ</a:t>
            </a: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ОН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СТАР</a:t>
            </a:r>
            <a:r>
              <a:rPr b="0" lang="ru-RU" sz="2600" spc="-1" strike="noStrike">
                <a:solidFill>
                  <a:srgbClr val="00b0f0"/>
                </a:solidFill>
                <a:latin typeface="Times New Roman"/>
              </a:rPr>
              <a:t>УШ</a:t>
            </a:r>
            <a:r>
              <a:rPr b="0" i="1" lang="ru-RU" sz="2600" spc="-1" strike="noStrike">
                <a:solidFill>
                  <a:srgbClr val="af9738"/>
                </a:solidFill>
                <a:latin typeface="Times New Roman"/>
              </a:rPr>
              <a:t>ОНОЧ</a:t>
            </a:r>
            <a:r>
              <a:rPr b="0" i="1" lang="ru-RU" sz="2600" spc="-1" strike="noStrike">
                <a:solidFill>
                  <a:srgbClr val="c00000"/>
                </a:solidFill>
                <a:latin typeface="Times New Roman"/>
              </a:rPr>
              <a:t>К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45720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6:10:42Z</dcterms:created>
  <dc:creator>SamLab.ws</dc:creator>
  <dc:description/>
  <dc:language>en-US</dc:language>
  <cp:lastModifiedBy>SamLab.ws</cp:lastModifiedBy>
  <dcterms:modified xsi:type="dcterms:W3CDTF">2009-04-01T16:43:42Z</dcterms:modified>
  <cp:revision>25</cp:revision>
  <dc:subject/>
  <dc:title>Слайд 1</dc:title>
</cp:coreProperties>
</file>