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2036-6133-4925-A8BD-DF7DBD5EE3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17B1-8371-488F-A22A-9801CE9FC8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A69-46EA-46C1-B237-B797299F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F87-08D3-47E4-AB47-6012E3C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D1B-9DB1-4C0D-9746-9B9F6EC8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29C-24A0-4F58-A619-DA2A93C2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B7EB-7BCB-455B-B866-9D38EAE4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AEC0-B5E0-4101-8CD6-CEA5F290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1DE5-29F1-4D9C-B38B-4D9C12D9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45C2-94DD-4C77-9715-21B6428B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3848-EC2F-42C7-9CAE-BA952049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2795-FD26-43CE-943F-D43660A0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4DBD-7FEF-4C42-A299-A2B79FD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17E-5DDE-4A05-A949-BBC5F554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E8D9-75E9-4881-B252-98CE392B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7154-DAF1-4FC5-90EC-C1D44B06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A8D2-C23F-4417-98BD-86BB41EB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5F18-9305-4A34-AF35-87D88DFE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0DDF-01A7-4833-8AE2-F1C9180B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A90-1F08-4B24-A7EC-09C35CF0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A1D-C3A9-46E3-BFEF-3843CBFA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44D-0323-44C3-B91F-6AA5FD37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FAA-7B79-44F7-88A6-66D0CF02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806-7D59-46A1-B3F8-0DC2E95A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FE0-D3FF-4DA4-8C1A-5F8C55A3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218-9DBE-400F-806F-E7D7630E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BCB6-E984-4125-864A-BB75D2D9EA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40D1-F222-4193-ACFA-E296161096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3817"/>
                </a:solidFill>
                <a:latin typeface="Arial"/>
              </a:rPr>
              <a:t>Великие  люд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ергей Алексеевич  Лебед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33360"/>
            <a:ext cx="79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 презентаций  «Великие  люди  России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общество  взаимопомощи  учителей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sover.s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530064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 Ветошкина  Наталья     Владимировн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 МБОУ «Кезская  СОШ  №1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двиг Лебедева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91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анные теоретические выкладки позволили Сергею Алексеевичу перейти к практической работе. Первым значимым результатом стала Малая электронная счетная машина (МЭСМ), которая в 1951 году была принята комиссией в эксплуатацию, а в 1952 году на ней уже решались важные научно-технические задачи из области термоядерных процессов, космических полетов, ракетной техники, дальних линий передач и проч. В Киеве, в Национальной академии наук Украины, где создавалась МЭСМ, сохранилась конструкторская документация и папки с материалами о первой отечественной ЭВМ, большая часть из которых составлена С.А.Лебедевым. Чьей-то рукой более 50 лет назад на них было написано: «Хранить вечно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1773000"/>
            <a:ext cx="5495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менательный факт истории - представленный С. А. Лебедевым в октябре 1955 года в Дармштадте (ФРГ) на Международной конференции по электронным счетным машинам доклад о наших достижениях произвел сенсацию - БЭСМ была признана самой быстродействующей машиной в Европе. Ее быстродействие оказалось рекордным - 8 000 оп/с. </a:t>
            </a:r>
            <a:br>
              <a:rPr sz="24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lebedev7"/>
          <p:cNvPicPr/>
          <p:nvPr/>
        </p:nvPicPr>
        <p:blipFill>
          <a:blip r:embed="rId2"/>
          <a:stretch/>
        </p:blipFill>
        <p:spPr>
          <a:xfrm>
            <a:off x="6227640" y="2133720"/>
            <a:ext cx="2332080" cy="3095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1280" y="333360"/>
            <a:ext cx="80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есный фак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54957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к Сергея Алексеевича академик В.А. Мельников в своих воспоминаниях подчеркивает: «Гениальность С.А. Лебедева состояла именно в том, что он ставил цель с учетом перспективы развития структуры будущей машины, умел правильно выбрать средства для ее реализации применительно к возможностям отечественной промышлен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ebedev6"/>
          <p:cNvPicPr/>
          <p:nvPr/>
        </p:nvPicPr>
        <p:blipFill>
          <a:blip r:embed="rId2"/>
          <a:stretch/>
        </p:blipFill>
        <p:spPr>
          <a:xfrm>
            <a:off x="5508720" y="2276640"/>
            <a:ext cx="3168720" cy="2341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4360" y="3333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  об учител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84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http://ratnikjournal.narod.ru/200612/lebedev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http://ruseng.org/upload_img/4fcc2791b695f6cc280561a5c2a267f8_big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http://www.yaplakal.com/uploads/post-3-1281419562730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http://pics2.pokazuha.ru/p442/w/y/7139069yyw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http://www.persons-info.com/userfiles/image/persons/20000-30000/26000-27000/26785/LEBEDEV_Sergei_Alekseevich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http://a6.sphotos.ak.fbcdn.net/hphotos-ak-ash4/s720x720/304241_158113530940916_100002268107574_309336_293658328_n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http://www.espacial.org/images/jpg2/alexey_lebedev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http://infcd.metodist.ru/soft/computer/virtmuseum/museum/images/pc_02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33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иллюстрац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84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http://lib.ru/MEMUARY/MALINOWSKIJ/image6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http://cdn.dipity.com/uploads/events/400cd9d36d66ad4b4a9c4d7dcb52d3a6_1M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. http://lib.ru/MEMUARY/MALINOWSKIJ/image47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333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и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люстрац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84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http://www.icfcst.kiev.ua/museum/LEBEDEV/TXT/L_life_print_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http://ru.wikipedia.org/wiki/%CB%E5%E1%E5%E4%E5%E2,_%D1%E5%F0%E3%E5%E9_%C0%EB%E5%EA%F1%E5%E5%E2%E8%F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33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гей Алексеевич Лебеде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50920" y="2204640"/>
            <a:ext cx="47768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гей Алексеевич Лебедев (1902-1974) - основоположник компьютерной техники в СССР. Под его руководством были созданы 15 типов ЭВМ, начиная с ламповых и заканчивая современными суперкомпьютерами на интегральных схемах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32814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родителях 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676160"/>
            <a:ext cx="268776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275904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76360" y="167652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ргей Алексеевич Лебедев родился 2 ноября 1902 г. в Нижнем Новгороде в семье учителя. Мать Анастасия Петровна (в девичестве Маврина) покинула богатое дворянское имение, чтобы стать преподавателем в учебном заведении для девочек из бедных семей. Алексей Иванович Лебедев, отец Сергея, рано оставшись сиротой, жил у тетки в деревне. В девять лет вернулся к овдовевшей матери в Кострому, два года посещал приходскую школу. После этого пять лет работал конторщиком на той же ткацкой фабрике, что и мать, и много чит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image46"/>
          <p:cNvPicPr/>
          <p:nvPr/>
        </p:nvPicPr>
        <p:blipFill>
          <a:blip r:embed="rId4"/>
          <a:stretch/>
        </p:blipFill>
        <p:spPr>
          <a:xfrm>
            <a:off x="755640" y="1773360"/>
            <a:ext cx="1568520" cy="223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mage47"/>
          <p:cNvPicPr/>
          <p:nvPr/>
        </p:nvPicPr>
        <p:blipFill>
          <a:blip r:embed="rId5"/>
          <a:stretch/>
        </p:blipFill>
        <p:spPr>
          <a:xfrm>
            <a:off x="698400" y="4437000"/>
            <a:ext cx="192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биографии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06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. А. Лебедев родился 2 ноября 1902 года в Нижнем Новгороде. В 1921 году Лебедев поступил учиться в МВТУ на электротехнический факультет, который закончил в 1928 году, став инженером-электриком. Результаты его дальнейших работ были использованы при эксплуатации отечественных электростанций и высоковольтных линий передач. В 1939 году Лебедев защитил докторскую диссертацию по теории искусственной устойчивости энергосист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 "/>
          <p:cNvPicPr/>
          <p:nvPr/>
        </p:nvPicPr>
        <p:blipFill>
          <a:blip r:embed="rId2"/>
          <a:stretch/>
        </p:blipFill>
        <p:spPr>
          <a:xfrm>
            <a:off x="5867280" y="2060640"/>
            <a:ext cx="3036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 интересно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solidFill>
            <a:srgbClr val="15532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оспоминаниям Т.А.Мавриной (сестры Сергея Алексеевича), Сергей был обычным мальчиком. Любил плавать и легко переплывал Оку. Со страстью играл в лапту, козны, чушки, чижики, городки. Очков тогда не носил... Любил играть в шахматы. Как-то смастерил динамо-машину и лейденскую банку, накапливающую электрический заряд. Протянув провода из столовой в кухню и бабушкину комнату, соорудил электрический зво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товарищи Сережи увлекались музыкой. Сам он играл на фортепьяно, особенно любил сочинения Бетховена и Грига. Много читал. Книги были в доме везде, шкафов не хватало, соорудили полки даже в холодных сенях. Знал наизусть множество поэм и стихов. Любил Блока, Гумилева, зачитывался романами Д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МЭСМ  и БЭСМ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 время войны Лебедев занимался разработкой самонаводящихся торпед, разработал систему стабилизации танкового орудия при прицеливании. В 1945 году Лебедев избирается действительным членом АН УССР и становится директором Института Электротехники АН УССР. В конце 1947 года в этом институте стал создаваться макет цифровой электронной счетной машины (МЭСМ), пробный пуск которого состоялся 6 ноября 1950 года. Во время демонстрации машина вычисляла факториалы натуральных чисел и решала уравнение параб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дновременно Лебедев в лаборатории № 1 ИТМ и ВТ в Москве работал над созданием БЭСМ — быстродействующей электронной счетной машины. Лебедев сам разработал структуру БЭСМ и составил план реализации проекта ее разработки, он постоянно контролировал ход выполнения этого проекта, который был успешно завершен в апреле 1953 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ЭВМ В  нашей стране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Картинка 3 из 63"/>
          <p:cNvPicPr/>
          <p:nvPr/>
        </p:nvPicPr>
        <p:blipFill>
          <a:blip r:embed="rId2"/>
          <a:stretch/>
        </p:blipFill>
        <p:spPr>
          <a:xfrm>
            <a:off x="4749840" y="1676520"/>
            <a:ext cx="406404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 "/>
          <p:cNvPicPr/>
          <p:nvPr/>
        </p:nvPicPr>
        <p:blipFill>
          <a:blip r:embed="rId3"/>
          <a:stretch/>
        </p:blipFill>
        <p:spPr>
          <a:xfrm>
            <a:off x="642960" y="1676520"/>
            <a:ext cx="343692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ttp://im2-tub.yandex.net/i?id=37076563&amp;tov=2"/>
          <p:cNvPicPr/>
          <p:nvPr/>
        </p:nvPicPr>
        <p:blipFill>
          <a:blip r:embed="rId4"/>
          <a:stretch/>
        </p:blipFill>
        <p:spPr>
          <a:xfrm>
            <a:off x="684360" y="4292640"/>
            <a:ext cx="2881080" cy="1920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http://im2-tub.yandex.net/i?id=3387425&amp;tov=2"/>
          <p:cNvPicPr/>
          <p:nvPr/>
        </p:nvPicPr>
        <p:blipFill>
          <a:blip r:embed="rId5"/>
          <a:stretch/>
        </p:blipFill>
        <p:spPr>
          <a:xfrm>
            <a:off x="4284720" y="4292640"/>
            <a:ext cx="216036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http://im6-tub.yandex.net/i?id=1246052&amp;tov=6"/>
          <p:cNvPicPr/>
          <p:nvPr/>
        </p:nvPicPr>
        <p:blipFill>
          <a:blip r:embed="rId6"/>
          <a:stretch/>
        </p:blipFill>
        <p:spPr>
          <a:xfrm>
            <a:off x="7164360" y="4221000"/>
            <a:ext cx="14986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ние 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072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сю свою жизнь С. А. Лебедев готовил научные кадры, личным примером воспитывал молодежь. Он возглавлял в МФТИ кафедру ЭВМ, читал лекции, лично руководил научной работой многих дипломников и аспирантов. За двадцать лет под его руководством было создано 15 высокопроизводительных ЭВ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1996 году С. А. Лебедеву, как автору первой советской ЭВМ, присвоили звание «Пионера компьютеростроени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ссийская академия наук учредила премию имени С. А. Лебедева, которой один раз в два года награждаются российские ученые, внесшие большой вклад в развитие отечественной вычислительной техн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 "/>
          <p:cNvPicPr/>
          <p:nvPr/>
        </p:nvPicPr>
        <p:blipFill>
          <a:blip r:embed="rId2"/>
          <a:stretch/>
        </p:blipFill>
        <p:spPr>
          <a:xfrm>
            <a:off x="6443640" y="2852640"/>
            <a:ext cx="2286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двиг Лебедева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6868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известно, за рубежом принципы компьютеростроения и электронного счета разработал фон Нейман, классическая архитектура компьютера так и называется «фон Неймановская». Научный подвиг Лебедева заключается в том, что в условиях информационной замкнутости тех лет Сергей Алексеевич пришел к тем же выводам, что и фон Нейман, но на полгода ра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7:30:59Z</dcterms:created>
  <dc:creator>user</dc:creator>
  <dc:description/>
  <cp:keywords/>
  <dc:language>en-US</dc:language>
  <cp:lastModifiedBy>Наталья</cp:lastModifiedBy>
  <dcterms:modified xsi:type="dcterms:W3CDTF">2012-07-18T17:19:02Z</dcterms:modified>
  <cp:revision>15</cp:revision>
  <dc:subject/>
  <dc:title>Великие  люд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