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889-9B85-44D7-855E-098E9B93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675D-A99A-47D9-A8DB-FE3C2CA0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128-4C0C-48F8-973B-4B51B00A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246E-1EB6-4BD8-85AE-0BB299B1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B89-E881-47E6-A11F-203B7D61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43D-E1B8-4BE3-B938-21093077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8EE-CB76-419C-B373-FECE958E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2A7-39F2-46B9-A438-0C7755C8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C36-0921-44A8-8272-7BD5F948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A63-8A7F-4599-8585-7DB1DDEC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387-EEE3-4554-B82C-6D02FBF8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31E-3CAE-422D-B0D5-674163F3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A1A8-D316-4C14-9861-2FACCE1317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ofor45.ru/media/k2/items/cache/737344dd8934cc52da9f7f85f2627abb_XL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l.school3d.ru/wp-content/uploads/2010/03/kassil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Музей краеведения и его филиалы: музей Боевой Славы, музей этнографии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Культура края\Культура края картинки\Соколова гора\самолет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D:\Культура края\Культура края картинки\Соколова гора\танк.jpg"/>
          <p:cNvPicPr/>
          <p:nvPr/>
        </p:nvPicPr>
        <p:blipFill>
          <a:blip r:embed="rId1"/>
          <a:stretch/>
        </p:blipFill>
        <p:spPr>
          <a:xfrm>
            <a:off x="428760" y="1085760"/>
            <a:ext cx="82864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D:\Культура края\Культура края картинки\Соколова гора\техника.jpe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льшой интерес вызывае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Documents and Settings\Admin\Мои документы\71844dabfb495ec707f7e2f399511ea5.jpg"/>
          <p:cNvPicPr/>
          <p:nvPr/>
        </p:nvPicPr>
        <p:blipFill>
          <a:blip r:embed="rId1"/>
          <a:stretch/>
        </p:blipFill>
        <p:spPr>
          <a:xfrm>
            <a:off x="642960" y="1500120"/>
            <a:ext cx="79297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монумент «Журавли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установлен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0" y="1600200"/>
            <a:ext cx="182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D:\Культура края\Культура края картинки\Соколова гора\лестница.jpg"/>
          <p:cNvPicPr/>
          <p:nvPr/>
        </p:nvPicPr>
        <p:blipFill>
          <a:blip r:embed="rId1"/>
          <a:stretch/>
        </p:blipFill>
        <p:spPr>
          <a:xfrm>
            <a:off x="0" y="171468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6643800" y="10000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8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715080" y="3000240"/>
            <a:ext cx="242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някин Ю.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5480" y="1600200"/>
            <a:ext cx="30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497d"/>
                </a:solidFill>
                <a:latin typeface="Calibri"/>
              </a:rPr>
              <a:t>Архитектурная композиция состоит из пяти уровней – это пять огненных лет: столь долгою была вина, такой далекою – Победа… Каждый уровень, - это города, за который сражались саратовцы. Как героические вехи встают в памяти их названия. От Бреста, Курска и Сталинграда, до Вены и Берли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D:\Культура края\Культура края картинки\Соколова гора\журавли.jpg"/>
          <p:cNvPicPr/>
          <p:nvPr/>
        </p:nvPicPr>
        <p:blipFill>
          <a:blip r:embed="rId1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5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нтан сле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85840" y="3714480"/>
            <a:ext cx="3900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лея Памя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Admin\Мои документы\Мой диск (E)\images\Журавли\pm06a.jpg"/>
          <p:cNvPicPr/>
          <p:nvPr/>
        </p:nvPicPr>
        <p:blipFill>
          <a:blip r:embed="rId1"/>
          <a:stretch/>
        </p:blipFill>
        <p:spPr>
          <a:xfrm>
            <a:off x="0" y="3257640"/>
            <a:ext cx="480384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Admin\Мои документы\Мой диск (E)\images\Журавли\pm07a.jpg"/>
          <p:cNvPicPr/>
          <p:nvPr/>
        </p:nvPicPr>
        <p:blipFill>
          <a:blip r:embed="rId2"/>
          <a:stretch/>
        </p:blipFill>
        <p:spPr>
          <a:xfrm>
            <a:off x="4268880" y="0"/>
            <a:ext cx="4875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лея Пам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929280" y="1600200"/>
            <a:ext cx="221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д памятью время 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C:\Documents and Settings\Admin\Мои документы\Мой диск (E)\images\Журавли\pm04a.jpg"/>
          <p:cNvPicPr/>
          <p:nvPr/>
        </p:nvPicPr>
        <p:blipFill>
          <a:blip r:embed="rId1"/>
          <a:stretch/>
        </p:blipFill>
        <p:spPr>
          <a:xfrm>
            <a:off x="0" y="1714680"/>
            <a:ext cx="68626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0_14955_7a93e7dc_L"/>
          <p:cNvPicPr/>
          <p:nvPr/>
        </p:nvPicPr>
        <p:blipFill>
          <a:blip r:embed="rId1"/>
          <a:stretch/>
        </p:blipFill>
        <p:spPr>
          <a:xfrm>
            <a:off x="285840" y="164304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f6228"/>
                </a:solidFill>
                <a:latin typeface="Calibri"/>
              </a:rPr>
              <a:t>Саратовский областной музей краевед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712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рыт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6500880" y="142884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88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й интерес вызывают коллекции, рассказывающие 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Картинка 1 из 6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286000"/>
            <a:ext cx="245736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Картинка 1 из 10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71880" y="2286000"/>
            <a:ext cx="2733480" cy="3809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Картинка 3 из 1413"/>
          <p:cNvPicPr/>
          <p:nvPr/>
        </p:nvPicPr>
        <p:blipFill>
          <a:blip r:embed="rId5"/>
          <a:stretch/>
        </p:blipFill>
        <p:spPr>
          <a:xfrm>
            <a:off x="6072120" y="2357280"/>
            <a:ext cx="2790720" cy="3800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428760" y="621504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вилов Н.И.              Л. Кассиль                                  Антонов О.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динственная в стране коллекция 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428640" y="1599840"/>
            <a:ext cx="54291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ётр Арка́дьевич Столы́п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государственный деятель Российской империи. В разные годы занимал посты гродненского губернатора,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аратовского губернато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министра внутренних дел премьер-минис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вестен как оратор, реформатор, человек, подавивший революцию 1905—1907 годо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В 1906 году император предложил Столыпину пост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инистра внутренних де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скоре вместе с Государственной думой I созыва было распущено и правительство. Столыпин был назначен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овым премьер-минис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Файл:Pyotr Stolypin LOC 07327.jpg"/>
          <p:cNvPicPr/>
          <p:nvPr/>
        </p:nvPicPr>
        <p:blipFill>
          <a:blip r:embed="rId1"/>
          <a:stretch/>
        </p:blipFill>
        <p:spPr>
          <a:xfrm>
            <a:off x="0" y="1643040"/>
            <a:ext cx="3726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кспозиция музея представляет многообразие 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6228"/>
                </a:solidFill>
                <a:latin typeface="Calibri"/>
              </a:rPr>
              <a:t>природы и истории кра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Картинка 4 из 853"/>
          <p:cNvPicPr/>
          <p:nvPr/>
        </p:nvPicPr>
        <p:blipFill>
          <a:blip r:embed="rId1"/>
          <a:stretch/>
        </p:blipFill>
        <p:spPr>
          <a:xfrm>
            <a:off x="0" y="3048120"/>
            <a:ext cx="253368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Картинка 14 из 853"/>
          <p:cNvPicPr/>
          <p:nvPr/>
        </p:nvPicPr>
        <p:blipFill>
          <a:blip r:embed="rId2"/>
          <a:stretch/>
        </p:blipFill>
        <p:spPr>
          <a:xfrm>
            <a:off x="2500200" y="3057480"/>
            <a:ext cx="5077080" cy="380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www.nachalka.com/photo/d/8211-5/chasovnya.JPG"/>
          <p:cNvPicPr/>
          <p:nvPr/>
        </p:nvPicPr>
        <p:blipFill>
          <a:blip r:embed="rId3"/>
          <a:stretch/>
        </p:blipFill>
        <p:spPr>
          <a:xfrm>
            <a:off x="5857920" y="2473200"/>
            <a:ext cx="32860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Музей Боевой Слав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здан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0" y="1600200"/>
            <a:ext cx="182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85840" y="142884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7176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вящен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298440"/>
            <a:ext cx="6072120" cy="6559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Admin\Мои документы\Мой диск (E)\images\risunki musei\musei boevoi slavi.jpg"/>
          <p:cNvPicPr/>
          <p:nvPr/>
        </p:nvPicPr>
        <p:blipFill>
          <a:blip r:embed="rId2"/>
          <a:stretch/>
        </p:blipFill>
        <p:spPr>
          <a:xfrm>
            <a:off x="5175360" y="4429080"/>
            <a:ext cx="39686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132 единицы боевой тех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D:\Культура края\Культура края картинки\Соколова гора\Воен тех.jpeg"/>
          <p:cNvPicPr/>
          <p:nvPr/>
        </p:nvPicPr>
        <p:blipFill>
          <a:blip r:embed="rId1"/>
          <a:stretch/>
        </p:blipFill>
        <p:spPr>
          <a:xfrm>
            <a:off x="714240" y="8571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Культура края\Культура края картинки\Соколова гора\за родину.jpeg"/>
          <p:cNvPicPr/>
          <p:nvPr/>
        </p:nvPicPr>
        <p:blipFill>
          <a:blip r:embed="rId1"/>
          <a:stretch/>
        </p:blipFill>
        <p:spPr>
          <a:xfrm>
            <a:off x="500040" y="571680"/>
            <a:ext cx="81756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6:34:18Z</dcterms:created>
  <dc:creator>Admin</dc:creator>
  <dc:description/>
  <dc:language>en-US</dc:language>
  <cp:lastModifiedBy>Admin</cp:lastModifiedBy>
  <dcterms:modified xsi:type="dcterms:W3CDTF">2012-07-18T12:14:47Z</dcterms:modified>
  <cp:revision>17</cp:revision>
  <dc:subject/>
  <dc:title>Слайд 1</dc:title>
</cp:coreProperties>
</file>