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38D-B6D1-42C2-ACCB-86023279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35F-B8A4-45D4-BA20-8A47E91B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74B-10F2-43A2-8B71-CC538C53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E29-0DF9-4A1E-BA25-521825D9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736-D3E2-4D34-BB49-CE3F83FA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A14-D1A2-4328-B7F2-3C41F8A9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D64-5D2D-4E1B-918C-8272CA0D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E8C-EECE-48CE-BBA1-1C91ED5A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FC6-76F7-462B-B393-B9A00575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581-CA50-42CB-95A8-E8D503ED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498-5AE2-4606-A257-C737F01E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902-BDC4-4E34-8F90-6E94F418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8A16-CE07-4AFD-8988-2C6429F0C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ofor45.ru/media/k2/items/cache/737344dd8934cc52da9f7f85f2627abb_XL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l.school3d.ru/wp-content/uploads/2010/03/kassil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Музей краеведения и его филиалы: музей Боевой Славы, музей этнографии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Культура края\Культура края картинки\Соколова гора\самолет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D:\Культура края\Культура края картинки\Соколова гора\танк.jpg"/>
          <p:cNvPicPr/>
          <p:nvPr/>
        </p:nvPicPr>
        <p:blipFill>
          <a:blip r:embed="rId1"/>
          <a:stretch/>
        </p:blipFill>
        <p:spPr>
          <a:xfrm>
            <a:off x="428760" y="1085760"/>
            <a:ext cx="82864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D:\Культура края\Культура края картинки\Соколова гора\техника.jpe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интерес вызывае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Admin\Мои документы\71844dabfb495ec707f7e2f399511ea5.jpg"/>
          <p:cNvPicPr/>
          <p:nvPr/>
        </p:nvPicPr>
        <p:blipFill>
          <a:blip r:embed="rId1"/>
          <a:stretch/>
        </p:blipFill>
        <p:spPr>
          <a:xfrm>
            <a:off x="642960" y="1500120"/>
            <a:ext cx="79297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монумент «Журавли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установлен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0" y="1600200"/>
            <a:ext cx="182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D:\Культура края\Культура края картинки\Соколова гора\лестница.jpg"/>
          <p:cNvPicPr/>
          <p:nvPr/>
        </p:nvPicPr>
        <p:blipFill>
          <a:blip r:embed="rId1"/>
          <a:stretch/>
        </p:blipFill>
        <p:spPr>
          <a:xfrm>
            <a:off x="0" y="1714680"/>
            <a:ext cx="6643800" cy="4983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6643800" y="10000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8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715080" y="3000240"/>
            <a:ext cx="242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някин Ю.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5480" y="1600200"/>
            <a:ext cx="30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Calibri"/>
              </a:rPr>
              <a:t>Архитектурная композиция состоит из пяти уровней – это пять огненных лет: столь долгою была вина, такой далекою – Победа… Каждый уровень, - это города, за который сражались саратовцы. Как героические вехи встают в памяти их названия. От Бреста, Курска и Сталинграда, до Вены и Берли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D:\Культура края\Культура края картинки\Соколова гора\журавли.jpg"/>
          <p:cNvPicPr/>
          <p:nvPr/>
        </p:nvPicPr>
        <p:blipFill>
          <a:blip r:embed="rId1"/>
          <a:stretch/>
        </p:blipFill>
        <p:spPr>
          <a:xfrm>
            <a:off x="3429000" y="25718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5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сле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785840" y="3714480"/>
            <a:ext cx="3900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я Памя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Admin\Мои документы\Мой диск (E)\images\Журавли\pm06a.jpg"/>
          <p:cNvPicPr/>
          <p:nvPr/>
        </p:nvPicPr>
        <p:blipFill>
          <a:blip r:embed="rId1"/>
          <a:stretch/>
        </p:blipFill>
        <p:spPr>
          <a:xfrm>
            <a:off x="0" y="3257640"/>
            <a:ext cx="4803840" cy="36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Admin\Мои документы\Мой диск (E)\images\Журавли\pm07a.jpg"/>
          <p:cNvPicPr/>
          <p:nvPr/>
        </p:nvPicPr>
        <p:blipFill>
          <a:blip r:embed="rId2"/>
          <a:stretch/>
        </p:blipFill>
        <p:spPr>
          <a:xfrm>
            <a:off x="4268880" y="0"/>
            <a:ext cx="4875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лея Пам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929280" y="1600200"/>
            <a:ext cx="22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д памятью время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C:\Documents and Settings\Admin\Мои документы\Мой диск (E)\images\Журавли\pm04a.jpg"/>
          <p:cNvPicPr/>
          <p:nvPr/>
        </p:nvPicPr>
        <p:blipFill>
          <a:blip r:embed="rId1"/>
          <a:stretch/>
        </p:blipFill>
        <p:spPr>
          <a:xfrm>
            <a:off x="0" y="1714680"/>
            <a:ext cx="68626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0_14955_7a93e7dc_L"/>
          <p:cNvPicPr/>
          <p:nvPr/>
        </p:nvPicPr>
        <p:blipFill>
          <a:blip r:embed="rId1"/>
          <a:stretch/>
        </p:blipFill>
        <p:spPr>
          <a:xfrm>
            <a:off x="285840" y="164304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6228"/>
                </a:solidFill>
                <a:latin typeface="Calibri"/>
              </a:rPr>
              <a:t>Саратовский областной музей краеве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712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рыт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500880" y="142884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88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й интерес вызывают коллекции, рассказывающие 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Картинка 1 из 6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286000"/>
            <a:ext cx="245736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Картинка 1 из 10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71880" y="2286000"/>
            <a:ext cx="2733480" cy="3809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Картинка 3 из 1413"/>
          <p:cNvPicPr/>
          <p:nvPr/>
        </p:nvPicPr>
        <p:blipFill>
          <a:blip r:embed="rId5"/>
          <a:stretch/>
        </p:blipFill>
        <p:spPr>
          <a:xfrm>
            <a:off x="6072120" y="2357280"/>
            <a:ext cx="2790720" cy="3800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428760" y="621504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вилов Н.И.              Л. Кассиль                                  Антонов О.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динственная в стране коллекция 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8640" y="1599840"/>
            <a:ext cx="54291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ётр Арка́дьевич Столы́п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государственный деятель Российской империи. В разные годы занимал посты гродненского губернатора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аратовского губернато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министра внутренних дел премьер-минис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естен как оратор, реформатор, человек, подавивший революцию 1905—1907 годо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В 1906 году император предложил Столыпину пост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инистра внутренних де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скоре вместе с Государственной думой I созыва было распущено и правительство. Столыпин был назначен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овым премьер-минис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Файл:Pyotr Stolypin LOC 07327.jpg"/>
          <p:cNvPicPr/>
          <p:nvPr/>
        </p:nvPicPr>
        <p:blipFill>
          <a:blip r:embed="rId1"/>
          <a:stretch/>
        </p:blipFill>
        <p:spPr>
          <a:xfrm>
            <a:off x="0" y="1643040"/>
            <a:ext cx="3726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кспозиция музея представляет многообразие 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6228"/>
                </a:solidFill>
                <a:latin typeface="Calibri"/>
              </a:rPr>
              <a:t>природы и истории кра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Картинка 4 из 853"/>
          <p:cNvPicPr/>
          <p:nvPr/>
        </p:nvPicPr>
        <p:blipFill>
          <a:blip r:embed="rId1"/>
          <a:stretch/>
        </p:blipFill>
        <p:spPr>
          <a:xfrm>
            <a:off x="0" y="3048120"/>
            <a:ext cx="253368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Картинка 14 из 853"/>
          <p:cNvPicPr/>
          <p:nvPr/>
        </p:nvPicPr>
        <p:blipFill>
          <a:blip r:embed="rId2"/>
          <a:stretch/>
        </p:blipFill>
        <p:spPr>
          <a:xfrm>
            <a:off x="2500200" y="3057480"/>
            <a:ext cx="5077080" cy="380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nachalka.com/photo/d/8211-5/chasovnya.JPG"/>
          <p:cNvPicPr/>
          <p:nvPr/>
        </p:nvPicPr>
        <p:blipFill>
          <a:blip r:embed="rId3"/>
          <a:stretch/>
        </p:blipFill>
        <p:spPr>
          <a:xfrm>
            <a:off x="5857920" y="2473200"/>
            <a:ext cx="32860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Музей Боевой Слав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здан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0" y="1600200"/>
            <a:ext cx="182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71760" y="27432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вящен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298440"/>
            <a:ext cx="6072120" cy="6559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Admin\Мои документы\Мой диск (E)\images\risunki musei\musei boevoi slavi.jpg"/>
          <p:cNvPicPr/>
          <p:nvPr/>
        </p:nvPicPr>
        <p:blipFill>
          <a:blip r:embed="rId2"/>
          <a:stretch/>
        </p:blipFill>
        <p:spPr>
          <a:xfrm>
            <a:off x="5175360" y="4429080"/>
            <a:ext cx="39686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132 единицы боевой тех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Культура края\Культура края картинки\Соколова гора\Воен тех.jpeg"/>
          <p:cNvPicPr/>
          <p:nvPr/>
        </p:nvPicPr>
        <p:blipFill>
          <a:blip r:embed="rId1"/>
          <a:stretch/>
        </p:blipFill>
        <p:spPr>
          <a:xfrm>
            <a:off x="714240" y="8571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Культура края\Культура края картинки\Соколова гора\за родину.jpeg"/>
          <p:cNvPicPr/>
          <p:nvPr/>
        </p:nvPicPr>
        <p:blipFill>
          <a:blip r:embed="rId1"/>
          <a:stretch/>
        </p:blipFill>
        <p:spPr>
          <a:xfrm>
            <a:off x="500040" y="571680"/>
            <a:ext cx="81756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6:34:18Z</dcterms:created>
  <dc:creator>Admin</dc:creator>
  <dc:description/>
  <dc:language>en-US</dc:language>
  <cp:lastModifiedBy>Admin</cp:lastModifiedBy>
  <dcterms:modified xsi:type="dcterms:W3CDTF">2012-07-18T12:14:47Z</dcterms:modified>
  <cp:revision>17</cp:revision>
  <dc:subject/>
  <dc:title>Слайд 1</dc:title>
</cp:coreProperties>
</file>