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B6C-84E7-4454-ACA0-7D12957B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69E-80FE-44EF-B8A8-F58FE3FD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C50-AA4E-4027-89DE-67BA7180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E92-0102-4BF0-82AD-33445B2C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B264-386C-4716-BECC-3E0560A8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3CC1-9471-4866-B564-764AB68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BFAE-A8B4-4974-AC8A-807ED426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748D-FD7C-4DCE-A8A6-33D863E5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170-A0EA-49AE-A9C9-03227D52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BA30-F233-406B-89D3-293ED7A2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2E9-DB55-4DB0-AFE6-57BC7AE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8D8-75E7-4F96-BADF-BD69712C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3235-9919-4ACA-8E28-8B7CC1E2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35E6-B426-4724-84FB-754BE3C8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AA5-CAD4-4750-8A58-0909C0FA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2A98-5DD2-4953-9241-293DC489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855D-F109-4893-A28A-726D474C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ACE-F47C-4B0D-B349-7CB3641F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11B-666A-4794-96A7-7CC96E4D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95A-3D15-426A-895A-13B839BF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5A4-4A7A-4272-8B52-BBF9C2DC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392-AAEE-469C-AA79-CE07810C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36B5-B547-4663-9A81-FE791CC5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1F7-8AAF-4BB8-8657-C05F490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C7C6-0368-46C4-AA24-0BC626FB06BB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0D4-4181-41E0-A057-134FF3FFBEC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9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d.h14.ru/o/i/r-m-o/image38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://whiteflame.clan.su/_ph/2/372384681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etskie_prezentatsii/nasekomye_i_ptitsy/Gusi_i_lebedi.files/slide0021_image027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shkolazhizni.ru/img/content/i55/55846_or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house.ru/uploads/posts/2009-10/1256771114_bog-vetra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g0.liveinternet.ru/images/attach/c/0/34/61/34061113_son.jpg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85.beon.ru/82/91/1109182/58/32092858/0_40f0_36a48036_XL.jpe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tlib.ru/objects/gallery_215/artlib_gallery-107908-b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966000" cy="46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Устаревшие слова в русских народных загадках</a:t>
            </a:r>
            <a:br>
              <a:rPr sz="4400"/>
            </a:br>
            <a:br>
              <a:rPr sz="4400"/>
            </a:br>
            <a:r>
              <a:rPr b="1" i="1" lang="ru-RU" sz="3600" spc="-1" strike="noStrike" u="sng">
                <a:solidFill>
                  <a:srgbClr val="482400"/>
                </a:solidFill>
                <a:uFillTx/>
                <a:latin typeface="Times New Roman"/>
              </a:rPr>
              <a:t>Егорова Софья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, </a:t>
            </a: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6 класс, МОУ «Средняя общеобразовательная школа № 13» ;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научный руководитель – Севидова Е.В.</a:t>
            </a: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Тематические группы устаревших сл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197000"/>
          <a:ext cx="7682040" cy="4976640"/>
        </p:xfrm>
        <a:graphic>
          <a:graphicData uri="http://schemas.openxmlformats.org/drawingml/2006/table">
            <a:tbl>
              <a:tblPr/>
              <a:tblGrid>
                <a:gridCol w="2521080"/>
                <a:gridCol w="516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подству-ющие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арь, барин, тархан, князь, бояре, дворя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ы бы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рнов, полог, котомочка, мошна, престол, бато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ежд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фтан, кушак, плат, ярмячиш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мы, горница, темница, тер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веса, дл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т, верста, пуд, вер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Тематические группы устаревших слов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66680" y="1752480"/>
          <a:ext cx="7753320" cy="4564080"/>
        </p:xfrm>
        <a:graphic>
          <a:graphicData uri="http://schemas.openxmlformats.org/drawingml/2006/table">
            <a:tbl>
              <a:tblPr/>
              <a:tblGrid>
                <a:gridCol w="1992600"/>
                <a:gridCol w="5760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инские звания, терм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а, капрал, р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ы при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ерак, древо, околот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ка, супос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а (род) объединения люд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да, ар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уж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лава, бул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Частотность употребления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3" name="" descr="Картинка 39 из 338804"/>
          <p:cNvPicPr/>
          <p:nvPr/>
        </p:nvPicPr>
        <p:blipFill>
          <a:blip r:embed="rId2"/>
          <a:stretch/>
        </p:blipFill>
        <p:spPr>
          <a:xfrm>
            <a:off x="1116000" y="1413000"/>
            <a:ext cx="2144880" cy="2516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043640" y="1557360"/>
            <a:ext cx="78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4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75640" y="19890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АФТАН – 11 ра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Картинка 5 из 21"/>
          <p:cNvPicPr/>
          <p:nvPr/>
        </p:nvPicPr>
        <p:blipFill>
          <a:blip r:embed="rId3"/>
          <a:srcRect l="0" t="0" r="0" b="8962"/>
          <a:stretch/>
        </p:blipFill>
        <p:spPr>
          <a:xfrm>
            <a:off x="7164360" y="2421000"/>
            <a:ext cx="1560600" cy="3325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33 из 435387"/>
          <p:cNvPicPr/>
          <p:nvPr/>
        </p:nvPicPr>
        <p:blipFill>
          <a:blip r:embed="rId4"/>
          <a:srcRect l="0" t="0" r="0" b="11222"/>
          <a:stretch/>
        </p:blipFill>
        <p:spPr>
          <a:xfrm>
            <a:off x="3564000" y="1557360"/>
            <a:ext cx="3024000" cy="2260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562920" y="14842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БАРИН – 9 ра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Картинка 18 из 157277"/>
          <p:cNvPicPr/>
          <p:nvPr/>
        </p:nvPicPr>
        <p:blipFill>
          <a:blip r:embed="rId5"/>
          <a:stretch/>
        </p:blipFill>
        <p:spPr>
          <a:xfrm>
            <a:off x="971640" y="4005360"/>
            <a:ext cx="1919160" cy="225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916360" y="4292640"/>
            <a:ext cx="84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7 ра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Картинка 1 из 1278266"/>
          <p:cNvPicPr/>
          <p:nvPr/>
        </p:nvPicPr>
        <p:blipFill>
          <a:blip r:embed="rId6"/>
          <a:stretch/>
        </p:blipFill>
        <p:spPr>
          <a:xfrm>
            <a:off x="3967200" y="3933720"/>
            <a:ext cx="2017800" cy="228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12000" y="4149720"/>
            <a:ext cx="100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4 ра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По происхождению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42920" y="1052640"/>
          <a:ext cx="7694640" cy="538956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676080"/>
                <a:gridCol w="971640"/>
                <a:gridCol w="971640"/>
                <a:gridCol w="971640"/>
                <a:gridCol w="971280"/>
                <a:gridCol w="971640"/>
              </a:tblGrid>
              <a:tr h="16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-славян-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конно рус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ян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юрк-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е-рус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-цуз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-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не-сканди-нав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я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ш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пос-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р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р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-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ф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т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Русская народная загадка 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это история наших предков, возможность знакомства с их бытом, обычаями и предпочтениями, а устаревшие слова – часть общей истор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680" y="691920"/>
            <a:ext cx="77724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Картинка 283 из 176051"/>
          <p:cNvPicPr/>
          <p:nvPr/>
        </p:nvPicPr>
        <p:blipFill>
          <a:blip r:embed="rId2"/>
          <a:stretch/>
        </p:blipFill>
        <p:spPr>
          <a:xfrm>
            <a:off x="1187280" y="1844640"/>
            <a:ext cx="4270680" cy="32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0" t="0" r="18530" b="0"/>
          <a:stretch/>
        </p:blipFill>
        <p:spPr>
          <a:xfrm>
            <a:off x="5508720" y="3429000"/>
            <a:ext cx="31654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333360"/>
            <a:ext cx="77724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сториз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т греч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расск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прошлых событиях) – это сло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ающие названия та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метов и явлений, котор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стали существовать в результате развития об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рхаизм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от греч. 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chaio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древний) -  слова, вышедшие из употребления вследствие замены их нов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Картинка 19 из 3850">
            <a:hlinkClick r:id="rId2"/>
          </p:cNvPr>
          <p:cNvPicPr/>
          <p:nvPr/>
        </p:nvPicPr>
        <p:blipFill>
          <a:blip r:embed="rId3"/>
          <a:srcRect l="0" t="0" r="0" b="2980"/>
          <a:stretch/>
        </p:blipFill>
        <p:spPr>
          <a:xfrm>
            <a:off x="7451640" y="260280"/>
            <a:ext cx="1354320" cy="3254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55640" y="981000"/>
            <a:ext cx="1297080" cy="1135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7440" y="177336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л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69440" y="335772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фт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Картинка 332 из 85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84720" y="4724280"/>
            <a:ext cx="2521080" cy="164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958160" y="587700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73160" y="1755720"/>
          <a:ext cx="627696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3160" y="1755720"/>
                    <a:ext cx="62769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В 82% загадок </a:t>
            </a:r>
            <a:br>
              <a:rPr sz="3600"/>
            </a:br>
            <a:r>
              <a:rPr b="1" lang="ru-RU" sz="3600" spc="-1" strike="noStrike">
                <a:solidFill>
                  <a:srgbClr val="482400"/>
                </a:solidFill>
                <a:latin typeface="Times New Roman"/>
              </a:rPr>
              <a:t>по одному устаревшему слову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е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оро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расные упоры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синем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полог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олот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о рассыпа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Картинка 43 из 504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628640"/>
            <a:ext cx="1587600" cy="208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183 из 4879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005360"/>
            <a:ext cx="280836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В 8 загадках – </a:t>
            </a:r>
            <a:br>
              <a:rPr sz="3600"/>
            </a:b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по два устаревших слова</a:t>
            </a:r>
            <a:endParaRPr b="0" i="1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и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тарх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 всем торга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 по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афт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без пуговиц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оев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сех повали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Картинка 42 из 589259">
            <a:hlinkClick r:id="rId2"/>
          </p:cNvPr>
          <p:cNvPicPr/>
          <p:nvPr/>
        </p:nvPicPr>
        <p:blipFill>
          <a:blip r:embed="rId3"/>
          <a:srcRect l="19533" t="0" r="0" b="0"/>
          <a:stretch/>
        </p:blipFill>
        <p:spPr>
          <a:xfrm>
            <a:off x="6804000" y="1628640"/>
            <a:ext cx="202104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45 из 626585">
            <a:hlinkClick r:id="rId4"/>
          </p:cNvPr>
          <p:cNvPicPr/>
          <p:nvPr/>
        </p:nvPicPr>
        <p:blipFill>
          <a:blip r:embed="rId5"/>
          <a:srcRect l="11253" t="8188" r="11253" b="8188"/>
          <a:stretch/>
        </p:blipFill>
        <p:spPr>
          <a:xfrm>
            <a:off x="1042920" y="3284640"/>
            <a:ext cx="1990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380880"/>
            <a:ext cx="786744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i="1" lang="ru-RU" sz="3200" spc="-1" strike="noStrike" u="sng">
                <a:solidFill>
                  <a:srgbClr val="482400"/>
                </a:solidFill>
                <a:uFillTx/>
                <a:latin typeface="Times New Roman"/>
              </a:rPr>
              <a:t>В одной загадке</a:t>
            </a: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  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встречается </a:t>
            </a:r>
            <a:br>
              <a:rPr sz="3200"/>
            </a:br>
            <a:r>
              <a:rPr b="0" i="1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одно и то же устаревшее слово в одной и той же грамматической форме</a:t>
            </a:r>
            <a:endParaRPr b="0" i="1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8154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ликнет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мигнёт, кого-то позовё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Картинка 11 из 35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3357720"/>
            <a:ext cx="2627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3805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В 4 загадках - </a:t>
            </a:r>
            <a:br>
              <a:rPr sz="3600"/>
            </a:br>
            <a:r>
              <a:rPr b="1" i="1" lang="ru-RU" sz="3200" spc="-1" strike="noStrike">
                <a:solidFill>
                  <a:srgbClr val="482400"/>
                </a:solidFill>
                <a:latin typeface="Times New Roman"/>
              </a:rPr>
              <a:t>формы одного и того же устаревшего слова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 полом, полом ходит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барын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кол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щет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барыню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хвост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Картинка 113 из 227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3429000"/>
            <a:ext cx="2049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В двух загадках  -</a:t>
            </a:r>
            <a:br>
              <a:rPr sz="3600"/>
            </a:br>
            <a:r>
              <a:rPr b="1" i="1" lang="ru-RU" sz="3600" spc="-1" strike="noStrike">
                <a:solidFill>
                  <a:srgbClr val="482400"/>
                </a:solidFill>
                <a:latin typeface="Times New Roman"/>
              </a:rPr>
              <a:t> однокоренные устаревшие слова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22050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море на окияне, на горе на Вассия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дит птица воспевает, сама себя выкраша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Никто от меня не уйдё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и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ар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и красная девиц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ько уйдёт от меня рыба в море да ветер в пол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Картинка 1 из 67427"/>
          <p:cNvPicPr/>
          <p:nvPr/>
        </p:nvPicPr>
        <p:blipFill>
          <a:blip r:embed="rId2"/>
          <a:stretch/>
        </p:blipFill>
        <p:spPr>
          <a:xfrm>
            <a:off x="3924360" y="1773360"/>
            <a:ext cx="186984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Картинка 32 из 67427"/>
          <p:cNvPicPr/>
          <p:nvPr/>
        </p:nvPicPr>
        <p:blipFill>
          <a:blip r:embed="rId3"/>
          <a:stretch/>
        </p:blipFill>
        <p:spPr>
          <a:xfrm>
            <a:off x="2556000" y="1557360"/>
            <a:ext cx="39830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2400"/>
                </a:solidFill>
                <a:latin typeface="Times New Roman"/>
              </a:rPr>
              <a:t>Классификация</a:t>
            </a:r>
            <a:br>
              <a:rPr sz="3200"/>
            </a:br>
            <a:r>
              <a:rPr b="1" i="1" lang="ru-RU" sz="3200" spc="-1" strike="noStrike" u="sng">
                <a:solidFill>
                  <a:srgbClr val="482400"/>
                </a:solidFill>
                <a:uFillTx/>
                <a:latin typeface="Times New Roman"/>
              </a:rPr>
              <a:t>по количеству лексических значений</a:t>
            </a:r>
            <a:r>
              <a:rPr b="0" i="1" lang="ru-RU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09120" y="1676880"/>
            <a:ext cx="5952240" cy="4493520"/>
            <a:chOff x="1509120" y="1676880"/>
            <a:chExt cx="5952240" cy="4493520"/>
          </a:xfrm>
        </p:grpSpPr>
        <p:sp>
          <p:nvSpPr>
            <p:cNvPr id="119" name="_s59405"/>
            <p:cNvSpPr/>
            <p:nvPr/>
          </p:nvSpPr>
          <p:spPr>
            <a:xfrm>
              <a:off x="1509120" y="3721320"/>
              <a:ext cx="2743560" cy="2449080"/>
            </a:xfrm>
            <a:prstGeom prst="donut">
              <a:avLst>
                <a:gd name="adj" fmla="val 25000"/>
              </a:avLst>
            </a:prstGeom>
            <a:solidFill>
              <a:srgbClr val="dfd6c3">
                <a:alpha val="50000"/>
              </a:srgbClr>
            </a:solidFill>
            <a:ln w="57240">
              <a:solidFill>
                <a:srgbClr val="dfd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59406"/>
            <p:cNvSpPr/>
            <p:nvPr/>
          </p:nvSpPr>
          <p:spPr>
            <a:xfrm>
              <a:off x="6364440" y="2765880"/>
              <a:ext cx="1096920" cy="10882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днозначные, 64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59399"/>
            <p:cNvSpPr/>
            <p:nvPr/>
          </p:nvSpPr>
          <p:spPr>
            <a:xfrm>
              <a:off x="2194920" y="4333680"/>
              <a:ext cx="1371240" cy="1224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59400"/>
            <p:cNvSpPr/>
            <p:nvPr/>
          </p:nvSpPr>
          <p:spPr>
            <a:xfrm>
              <a:off x="6364440" y="1676880"/>
              <a:ext cx="1096920" cy="1089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ногозначные, 36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37080" y="393372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9440" y="55897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пост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4160" y="494172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ро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8720" y="43657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42520" y="49417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ар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12:48:01Z</dcterms:created>
  <dc:creator>User</dc:creator>
  <dc:description/>
  <cp:keywords/>
  <dc:language>en-US</dc:language>
  <cp:lastModifiedBy>СОС</cp:lastModifiedBy>
  <dcterms:modified xsi:type="dcterms:W3CDTF">2010-03-21T08:22:50Z</dcterms:modified>
  <cp:revision>3</cp:revision>
  <dc:subject/>
  <dc:title>Судовой журна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71049</vt:lpwstr>
  </property>
</Properties>
</file>