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7F5-1881-4C94-A84D-9C20415F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382-6693-489A-AA7D-FA0D5ADA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9FAA-F967-4788-824E-570A3755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0E5-5447-41A6-91D6-4500DAA2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4F7-27E3-4D5B-9BC6-78EE9073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D332-8AC1-467F-94F1-877AB154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C22-BE7E-4014-8AB1-75318C4A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D7B-50F1-4820-9456-E2C383F7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647-4E69-4BB9-9E1E-4D3DC38C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C87F-AEFB-4EBD-8819-E8221587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97A-2D73-4D0C-8355-A76081F5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4B2-22C3-411F-A45A-EFB0470C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5C20-EFA5-43A5-AB9D-EB18790E51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Золотое правило нравственности.</a:t>
            </a:r>
            <a:br>
              <a:rPr sz="3200"/>
            </a:b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Любовь к ближ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42560" y="2707920"/>
            <a:ext cx="339084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р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ы религиозных культур и светской э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ы православн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ристианская э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рок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БОУ СОШ №29, 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расенко Е.В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7300794"/>
          <p:cNvPicPr/>
          <p:nvPr/>
        </p:nvPicPr>
        <p:blipFill>
          <a:blip r:embed="rId1"/>
          <a:stretch/>
        </p:blipFill>
        <p:spPr>
          <a:xfrm>
            <a:off x="4716360" y="1413000"/>
            <a:ext cx="393876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 rot="20377200">
            <a:off x="88920" y="2637000"/>
            <a:ext cx="9055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 как вы понимаете суть"золотого правила"нравственности?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чём может проявляться  любовь к ближнему?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ведите свои примеры.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826920" y="333360"/>
          <a:ext cx="24750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33360"/>
                    <a:ext cx="2475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6"/>
          <p:cNvGraphicFramePr/>
          <p:nvPr/>
        </p:nvGraphicFramePr>
        <p:xfrm>
          <a:off x="6516720" y="4267080"/>
          <a:ext cx="247500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267080"/>
                    <a:ext cx="2475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j0216724"/>
          <p:cNvPicPr/>
          <p:nvPr/>
        </p:nvPicPr>
        <p:blipFill>
          <a:blip r:embed="rId1"/>
          <a:stretch/>
        </p:blipFill>
        <p:spPr>
          <a:xfrm>
            <a:off x="6948360" y="2060640"/>
            <a:ext cx="1451160" cy="1824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j0297551"/>
          <p:cNvPicPr/>
          <p:nvPr/>
        </p:nvPicPr>
        <p:blipFill>
          <a:blip r:embed="rId2"/>
          <a:stretch/>
        </p:blipFill>
        <p:spPr>
          <a:xfrm>
            <a:off x="179280" y="4221000"/>
            <a:ext cx="1195560" cy="1824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j0240719"/>
          <p:cNvPicPr/>
          <p:nvPr/>
        </p:nvPicPr>
        <p:blipFill>
          <a:blip r:embed="rId3"/>
          <a:stretch/>
        </p:blipFill>
        <p:spPr>
          <a:xfrm>
            <a:off x="3564000" y="393372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9"/>
          <p:cNvSpPr/>
          <p:nvPr/>
        </p:nvSpPr>
        <p:spPr>
          <a:xfrm>
            <a:off x="3635280" y="1628640"/>
            <a:ext cx="2448000" cy="1800360"/>
          </a:xfrm>
          <a:prstGeom prst="wedgeEllipseCallout">
            <a:avLst>
              <a:gd name="adj1" fmla="val -43773"/>
              <a:gd name="adj2" fmla="val 6675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99"/>
                </a:solidFill>
                <a:latin typeface="Arial"/>
              </a:rPr>
              <a:t>Придумайте и разыграйте ситуацию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6443640" y="115920"/>
            <a:ext cx="2700360" cy="1728720"/>
          </a:xfrm>
          <a:prstGeom prst="wedgeEllipseCallout">
            <a:avLst>
              <a:gd name="adj1" fmla="val -31717"/>
              <a:gd name="adj2" fmla="val 7993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ридумайте и разыграйте ситуацию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3"/>
          <p:cNvSpPr/>
          <p:nvPr/>
        </p:nvSpPr>
        <p:spPr>
          <a:xfrm>
            <a:off x="684360" y="2205000"/>
            <a:ext cx="2089080" cy="1441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думайт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туацию и разыграйте.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упповая рабо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тог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 вы знаете о великой силе нравств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те подумаем, как ею правильно распорядиться. Все великие религии мира утверждают, что вера без дел мертва. Нравственные заповеди даны человеку, чтобы он их выполнял. А если человек знает о моральных нормах, но не применяет их в своей жизни, его нельзя назвать нравстве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великие религии мира основаны на двух величайших нравственных заповедях: любовь к Богу и любовь к человеку. Человек остаётся человеком до тех пор, пока заботится о других. Потому, на вопрос: «Как правильно распорядиться великой силой нравствен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», есть только один правильный ответ: «Обратить её в заботу о человеке ближнем и человеке дальнем». Это позволяет жить достойно, безопасно и счастливо. В этом легко убедиться – родители заботятся о вас, и это делает их жизнь радостной и счастливой. Сейчас вы помогаете им, а когда станете старше – у вас будет больше возможности заботиться о них. Взаимная помощь и поддержка любящих друг друга людей – это и есть настоящая семья, основа нравственной жизни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5"/>
          <p:cNvSpPr/>
          <p:nvPr/>
        </p:nvSpPr>
        <p:spPr>
          <a:xfrm>
            <a:off x="755640" y="836640"/>
            <a:ext cx="8388360" cy="3744720"/>
          </a:xfrm>
          <a:prstGeom prst="cloudCallout">
            <a:avLst>
              <a:gd name="adj1" fmla="val -35694"/>
              <a:gd name="adj2" fmla="val 6653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сть ли польза от того, чтобы помнить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вои плохие поступки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Домашняя творческая работа: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мини – эссе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j0349131"/>
          <p:cNvPicPr/>
          <p:nvPr/>
        </p:nvPicPr>
        <p:blipFill>
          <a:blip r:embed="rId1"/>
          <a:stretch/>
        </p:blipFill>
        <p:spPr>
          <a:xfrm flipH="1">
            <a:off x="-360" y="4581360"/>
            <a:ext cx="135252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468144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и и задачи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знакомиться с новым понятием «золотое правило» нравств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действовать слаженно, сооб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вивать интерес к культуре своего на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ить уважать личность  и мнение кажд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8000" y="1125000"/>
            <a:ext cx="39956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д 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рганизация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ктуализация знаний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бота с терми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общение темы и целей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амостоятельная творческая работа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накомство с текстом  учебника: работа в групп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щита группов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готовительная работа к написанию э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амостоятельная творческая раб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тог уро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 узнае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"Золотое правило" нравственности - основа нравственного поведения личност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новные  термины и пон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равств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лиж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ка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S7300818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1763640" y="765000"/>
            <a:ext cx="466560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5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кончи предложение...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ика – эт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ристианская этика –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равственность –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поведи –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лаженство –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ушевная нищета –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арство небесное –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иротворец –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0" y="4724280"/>
            <a:ext cx="88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то общего в понятиях этика и нравственность ?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ем они отличаются?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4" name="Picture 9" descr="j0299125"/>
          <p:cNvPicPr/>
          <p:nvPr/>
        </p:nvPicPr>
        <p:blipFill>
          <a:blip r:embed="rId1"/>
          <a:stretch/>
        </p:blipFill>
        <p:spPr>
          <a:xfrm>
            <a:off x="7596360" y="260280"/>
            <a:ext cx="10998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820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дним из самых древних текстов, в которых зафиксирован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золотое правило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равственности, считаются «Поучения писца Ахика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хикар, служивший при ассирийском царе Синахвриба (705–681 до н.э.), наставляя своего сына, говорит: «Сын, что тебе кажется плохим, ты не должен также делать товарища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 чем же говорит и чему уч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золотое правило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равственност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то есть в нем такого, что позволяет ему быть главным принципом разных религиозных культур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но запрещает человеку навязывать другим свою нравственную волю и действовать по формуле: как я хочу. Не просто как я хочу, а еще и даже, прежде всего так, как хотят друг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сли говорить предельно кратко, то «золотое правило» предписывает солидарное повед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этом смысле оно представляет собой вариацию заповеди люб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763640" y="476280"/>
            <a:ext cx="5610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 чём будем говорить?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611280" y="476280"/>
            <a:ext cx="8064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Золотое правило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равственности звучит следующим образом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Итак, во всём как хотите, чтобы с вами поступал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юди, так поступайте и вы с ними...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(Евангелие от Матфея )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уществует и иная формулировк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золотого правила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равственности: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е желай другому того, чего не желаешь себе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ругой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«золотом правиле» нравственности - это любой человек, ближний и дальний, знакомый и незнакомый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Золотое правило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равственности в скрытой форме содержит представления о равенстве всех людей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Золотое правило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равственности предполагает возможность для каждого из нас встать на место другого человека: я к себе могу отнестись как к другому, к другому - как к себе. Такое отношение и есть основа связи между людьми, которая называется любовью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сюда – другая формулировк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золотого правила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равственности: «люби ближнего, как самого себя».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7300839"/>
          <p:cNvPicPr/>
          <p:nvPr/>
        </p:nvPicPr>
        <p:blipFill>
          <a:blip r:embed="rId1"/>
          <a:srcRect l="0" t="8376" r="0" b="18217"/>
          <a:stretch/>
        </p:blipFill>
        <p:spPr>
          <a:xfrm>
            <a:off x="1258920" y="0"/>
            <a:ext cx="679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820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гда мы хотим объяснить и оправдать наш поступок, который неприятен другому, например, объясняем почему не можем выполнить просьбу, мы говорим: «Войди в мое положени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гда мы видим, как человек попадает в яму, которую он рыл другому, мы находим это справедливым и даже по-своему радуем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гда мы просим у друга совета, как поступить в затруднительных случаях, а он отказывается что-либо советовать, считая, что такие вопросы человек должен решать сам, мы говорим: «Ну, скажи, как бы ты поступил на моем месте?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гда мы употребляем разные обращения, как, например, в общественном транспорте, когда просим: «передайте, пожалуйста, деньги за билет», «подвиньтесь, пожалуйста, чтобы я мог сесть», или предлагаем, уступая место: «дедушка, садитесь, пожалуйста», то мы хотим сказать, что мы в данном случае ведем себя так, как вели бы себя со своим братом, дедуш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гда мы выражаем несогласие с чьим-то поступком, находя его недопустимым, мы спрашиваем: «А если бы с вами так поступили, вам бы понравилось?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се это – примерные случаи, когда мы мыслим и поступаем по логике «золотого правила»нрав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20:32:19Z</dcterms:created>
  <dc:creator>имя</dc:creator>
  <dc:description/>
  <dc:language>en-US</dc:language>
  <cp:lastModifiedBy>User</cp:lastModifiedBy>
  <dcterms:modified xsi:type="dcterms:W3CDTF">2012-07-18T15:55:28Z</dcterms:modified>
  <cp:revision>11</cp:revision>
  <dc:subject/>
  <dc:title>Золотое правило нравственности. Любовь к ближнему.</dc:title>
</cp:coreProperties>
</file>