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ED4C-A6F6-405D-BE72-D777FEDE3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E02A-D772-4F2C-8186-D24601460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961F-2870-4DC0-BE0D-A845B5219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32F0-2303-4A60-BCF2-378F7208B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212F-64AC-4C51-B02C-A755116A8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DA96-7F5B-4830-ADC4-CA3D56F87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846B-9098-4E95-8B60-296B5E7B5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1969-DF9F-4489-9CE0-9EF4A443C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CD53-A1EF-49FA-8BC3-6490892E6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651A-AFBB-4479-AF71-2C9452E59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AEDF-0E61-41A2-A030-B9FB3C5C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2B20-B3A3-4BE0-A849-5BA1AA1AD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92A69-9D0D-4DEE-901C-4A995B23F3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Золотое правило нравственности.</a:t>
            </a:r>
            <a:br>
              <a:rPr sz="3200"/>
            </a:b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Любовь к ближне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42560" y="2707920"/>
            <a:ext cx="3390840" cy="33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ур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сновы религиозных культур и светской эт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сновы православной культ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Христианская эт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рок 1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БОУ СОШ №29, учитель начальных класс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арасенко Е.В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7300794"/>
          <p:cNvPicPr/>
          <p:nvPr/>
        </p:nvPicPr>
        <p:blipFill>
          <a:blip r:embed="rId1"/>
          <a:stretch/>
        </p:blipFill>
        <p:spPr>
          <a:xfrm>
            <a:off x="4716360" y="1413000"/>
            <a:ext cx="3938760" cy="52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WordArt 4"/>
          <p:cNvSpPr txBox="1"/>
          <p:nvPr/>
        </p:nvSpPr>
        <p:spPr>
          <a:xfrm rot="20377200">
            <a:off x="88920" y="2637000"/>
            <a:ext cx="90550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 как вы понимаете суть"золотого правила"нравственности?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 чём может проявляться  любовь к ближнему?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иведите свои примеры.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graphicFrame>
        <p:nvGraphicFramePr>
          <p:cNvPr id="62" name="Object 5"/>
          <p:cNvGraphicFramePr/>
          <p:nvPr/>
        </p:nvGraphicFramePr>
        <p:xfrm>
          <a:off x="826920" y="333360"/>
          <a:ext cx="247500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333360"/>
                    <a:ext cx="247500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Object 6"/>
          <p:cNvGraphicFramePr/>
          <p:nvPr/>
        </p:nvGraphicFramePr>
        <p:xfrm>
          <a:off x="6516720" y="4267080"/>
          <a:ext cx="2475000" cy="259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267080"/>
                    <a:ext cx="247500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j0216724"/>
          <p:cNvPicPr/>
          <p:nvPr/>
        </p:nvPicPr>
        <p:blipFill>
          <a:blip r:embed="rId1"/>
          <a:stretch/>
        </p:blipFill>
        <p:spPr>
          <a:xfrm>
            <a:off x="6948360" y="2060640"/>
            <a:ext cx="1451160" cy="1824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j0297551"/>
          <p:cNvPicPr/>
          <p:nvPr/>
        </p:nvPicPr>
        <p:blipFill>
          <a:blip r:embed="rId2"/>
          <a:stretch/>
        </p:blipFill>
        <p:spPr>
          <a:xfrm>
            <a:off x="179280" y="4221000"/>
            <a:ext cx="1195560" cy="1824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j0240719"/>
          <p:cNvPicPr/>
          <p:nvPr/>
        </p:nvPicPr>
        <p:blipFill>
          <a:blip r:embed="rId3"/>
          <a:stretch/>
        </p:blipFill>
        <p:spPr>
          <a:xfrm>
            <a:off x="3564000" y="3933720"/>
            <a:ext cx="1163520" cy="1827360"/>
          </a:xfrm>
          <a:prstGeom prst="rect">
            <a:avLst/>
          </a:prstGeom>
          <a:ln w="0">
            <a:noFill/>
          </a:ln>
        </p:spPr>
      </p:pic>
      <p:sp>
        <p:nvSpPr>
          <p:cNvPr id="69" name="AutoShape 9"/>
          <p:cNvSpPr/>
          <p:nvPr/>
        </p:nvSpPr>
        <p:spPr>
          <a:xfrm>
            <a:off x="3635280" y="1628640"/>
            <a:ext cx="2448000" cy="1800360"/>
          </a:xfrm>
          <a:prstGeom prst="wedgeEllipseCallout">
            <a:avLst>
              <a:gd name="adj1" fmla="val -43773"/>
              <a:gd name="adj2" fmla="val 66754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?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99"/>
                </a:solidFill>
                <a:latin typeface="Arial"/>
              </a:rPr>
              <a:t>Придумайте и разыграйте ситуацию.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0"/>
          <p:cNvSpPr/>
          <p:nvPr/>
        </p:nvSpPr>
        <p:spPr>
          <a:xfrm>
            <a:off x="6443640" y="115920"/>
            <a:ext cx="2700360" cy="1728720"/>
          </a:xfrm>
          <a:prstGeom prst="wedgeEllipseCallout">
            <a:avLst>
              <a:gd name="adj1" fmla="val -31717"/>
              <a:gd name="adj2" fmla="val 79935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Придумайте и разыграйте ситуацию.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?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3"/>
          <p:cNvSpPr/>
          <p:nvPr/>
        </p:nvSpPr>
        <p:spPr>
          <a:xfrm>
            <a:off x="684360" y="2205000"/>
            <a:ext cx="2089080" cy="144144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идумайте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итуацию и разыграйте.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Arial"/>
              </a:rPr>
              <a:t>?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рупповая рабо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тог ур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перь вы знаете о великой силе нравствен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вайте подумаем, как ею правильно распорядиться. Все великие религии мира утверждают, что вера без дел мертва. Нравственные заповеди даны человеку, чтобы он их выполнял. А если человек знает о моральных нормах, но не применяет их в своей жизни, его нельзя назвать нравствен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великие религии мира основаны на двух величайших нравственных заповедях: любовь к Богу и любовь к человеку. Человек остаётся человеком до тех пор, пока заботится о других. Потому, на вопрос: «Как правильно распорядиться великой силой нравственнос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», есть только один правильный ответ: «Обратить её в заботу о человеке ближнем и человеке дальнем». Это позволяет жить достойно, безопасно и счастливо. В этом легко убедиться – родители заботятся о вас, и это делает их жизнь радостной и счастливой. Сейчас вы помогаете им, а когда станете старше – у вас будет больше возможности заботиться о них. Взаимная помощь и поддержка любящих друг друга людей – это и есть настоящая семья, основа нравственной жизни чело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AutoShape 5"/>
          <p:cNvSpPr/>
          <p:nvPr/>
        </p:nvSpPr>
        <p:spPr>
          <a:xfrm>
            <a:off x="755640" y="836640"/>
            <a:ext cx="8388360" cy="3744720"/>
          </a:xfrm>
          <a:prstGeom prst="cloudCallout">
            <a:avLst>
              <a:gd name="adj1" fmla="val -35694"/>
              <a:gd name="adj2" fmla="val 66532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Есть ли польза от того, чтобы помнить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вои плохие поступки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?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Домашняя творческая работа: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мини – эссе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j0349131"/>
          <p:cNvPicPr/>
          <p:nvPr/>
        </p:nvPicPr>
        <p:blipFill>
          <a:blip r:embed="rId1"/>
          <a:stretch/>
        </p:blipFill>
        <p:spPr>
          <a:xfrm flipH="1">
            <a:off x="-360" y="4581360"/>
            <a:ext cx="1352520" cy="18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95280" y="1052640"/>
            <a:ext cx="468144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Цели и задачи уро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знакомиться с новым понятием «золотое правило» нравствен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Формирование умения действовать слаженно, сообщ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ививать интерес к культуре своего нар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Учить уважать личность  и мнение кажд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148000" y="1125000"/>
            <a:ext cx="39956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Ход уро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рганизация клас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ктуализация знаний учащих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абота с термин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ообщение темы и целей уро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амостоятельная творческая работа учащих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Знакомство с текстом  учебника: работа в групп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Защита групповой рабо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дготовительная работа к написанию эсс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амостоятельная творческая рабо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тог уро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ы узнае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"Золотое правило" нравственности - основа нравственного поведения личности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сновные  термины и понят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равств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Ближ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Любов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аская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S7300818"/>
          <p:cNvPicPr/>
          <p:nvPr/>
        </p:nvPicPr>
        <p:blipFill>
          <a:blip r:embed="rId1"/>
          <a:stretch/>
        </p:blipFill>
        <p:spPr>
          <a:xfrm>
            <a:off x="0" y="1714680"/>
            <a:ext cx="9144000" cy="51433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бл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5"/>
          <p:cNvSpPr txBox="1"/>
          <p:nvPr/>
        </p:nvSpPr>
        <p:spPr>
          <a:xfrm>
            <a:off x="1763640" y="765000"/>
            <a:ext cx="466560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5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акончи предложение...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тика – это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Христианская этика – эт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равственность – эт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аповеди – эт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лаженство – эт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ушевная нищета – эт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Царство небесное – эт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иротворец – эт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8"/>
          <p:cNvSpPr txBox="1"/>
          <p:nvPr/>
        </p:nvSpPr>
        <p:spPr>
          <a:xfrm>
            <a:off x="0" y="4724280"/>
            <a:ext cx="88930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Что общего в понятиях этика и нравственность ?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Чем они отличаются?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54" name="Picture 9" descr="j0299125"/>
          <p:cNvPicPr/>
          <p:nvPr/>
        </p:nvPicPr>
        <p:blipFill>
          <a:blip r:embed="rId1"/>
          <a:stretch/>
        </p:blipFill>
        <p:spPr>
          <a:xfrm>
            <a:off x="7596360" y="260280"/>
            <a:ext cx="109980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0" y="981000"/>
            <a:ext cx="88200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дним из самых древних текстов, в которых зафиксировано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золотое правило»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нравственности, считаются «Поучения писца Ахикар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хикар, служивший при ассирийском царе Синахвриба (705–681 до н.э.), наставляя своего сына, говорит: «Сын, что тебе кажется плохим, ты не должен также делать товарищам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 чем же говорит и чему учит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золотое правило»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нравственности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Что есть в нем такого, что позволяет ему быть главным принципом разных религиозных культур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но запрещает человеку навязывать другим свою нравственную волю и действовать по формуле: как я хочу. Не просто как я хочу, а еще и даже, прежде всего так, как хотят друг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Если говорить предельно кратко, то «золотое правило» предписывает солидарное поведе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 этом смысле оно представляет собой вариацию заповеди любв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5"/>
          <p:cNvSpPr txBox="1"/>
          <p:nvPr/>
        </p:nvSpPr>
        <p:spPr>
          <a:xfrm>
            <a:off x="1763640" y="476280"/>
            <a:ext cx="5610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 чём будем говорить?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611280" y="476280"/>
            <a:ext cx="806436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Золотое правило»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нравственности звучит следующим образом: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Итак, во всём как хотите, чтобы с вами поступали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люди, так поступайте и вы с ними...»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(Евангелие от Матфея ).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уществует и иная формулировка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золотого правила»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нравственности: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е желай другому того, чего не желаешь себе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ругой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 «золотом правиле» нравственности - это любой человек, ближний и дальний, знакомый и незнакомый.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Золотое правило»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нравственности в скрытой форме содержит представления о равенстве всех людей.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Золотое правило»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нравственности предполагает возможность для каждого из нас встать на место другого человека: я к себе могу отнестись как к другому, к другому - как к себе. Такое отношение и есть основа связи между людьми, которая называется любовью.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тсюда – другая формулировка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золотого правила»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нравственности: «люби ближнего, как самого себя».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S7300839"/>
          <p:cNvPicPr/>
          <p:nvPr/>
        </p:nvPicPr>
        <p:blipFill>
          <a:blip r:embed="rId1"/>
          <a:srcRect l="0" t="8376" r="0" b="18217"/>
          <a:stretch/>
        </p:blipFill>
        <p:spPr>
          <a:xfrm>
            <a:off x="1258920" y="0"/>
            <a:ext cx="6794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476280"/>
            <a:ext cx="88200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огда мы хотим объяснить и оправдать наш поступок, который неприятен другому, например, объясняем почему не можем выполнить просьбу, мы говорим: «Войди в мое положение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огда мы видим, как человек попадает в яму, которую он рыл другому, мы находим это справедливым и даже по-своему радуем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огда мы просим у друга совета, как поступить в затруднительных случаях, а он отказывается что-либо советовать, считая, что такие вопросы человек должен решать сам, мы говорим: «Ну, скажи, как бы ты поступил на моем месте?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огда мы употребляем разные обращения, как, например, в общественном транспорте, когда просим: «передайте, пожалуйста, деньги за билет», «подвиньтесь, пожалуйста, чтобы я мог сесть», или предлагаем, уступая место: «дедушка, садитесь, пожалуйста», то мы хотим сказать, что мы в данном случае ведем себя так, как вели бы себя со своим братом, дедуш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огда мы выражаем несогласие с чьим-то поступком, находя его недопустимым, мы спрашиваем: «А если бы с вами так поступили, вам бы понравилось?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се это – примерные случаи, когда мы мыслим и поступаем по логике «золотого правила»нравствен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6T20:32:19Z</dcterms:created>
  <dc:creator>имя</dc:creator>
  <dc:description/>
  <dc:language>en-US</dc:language>
  <cp:lastModifiedBy>User</cp:lastModifiedBy>
  <dcterms:modified xsi:type="dcterms:W3CDTF">2012-07-18T15:55:28Z</dcterms:modified>
  <cp:revision>11</cp:revision>
  <dc:subject/>
  <dc:title>Золотое правило нравственности. Любовь к ближнему.</dc:title>
</cp:coreProperties>
</file>