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07DB-0C4D-4FB5-B99E-7F6232ED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A87F-6DEA-4E14-8D94-5B6E0E04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DF80-8367-4341-9E25-6E5C76A8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822-4344-4F9E-81D3-524DC330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AFB6-C83F-4946-A25E-C17A4AA7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7325-CB71-4132-8E31-DF1FA3E4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03A0-6ABF-4B01-8B77-6C899072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B06C-3C47-4D46-A867-069C303A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F736-7BFC-40AB-8339-67ED18BB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11F-BC67-46F1-8E9F-117E6A91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CC7A-D425-45A3-BDFB-C638B035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2F02-A972-45A5-92FD-4E4CE063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667E-8D1F-4EC1-8043-9DC982531B4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&#1054;&#1073;&#1097;&#1072;&#1103;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25960" y="0"/>
            <a:ext cx="59180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00400" y="152280"/>
            <a:ext cx="5715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Урок бабоч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3200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762120"/>
            <a:ext cx="2438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Однажды в коконе появилась маленькая щель, случайно проходивший человек долгие часы стоял и наблюдал, как через эту маленькую щель пытается выйти бабоч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1828800"/>
            <a:ext cx="297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Я просила благ ... а жизнь дала мне возмож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Я ничего не получила из того, о чем просила… Но я получила все, что было мне нужн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6552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4114800"/>
            <a:ext cx="87375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</a:rPr>
              <a:t>Живите без страха,                                           смело встречайте все препятствия и докажите, что вы можете их преодолет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2276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rId2"/>
          </p:cNvPr>
          <p:cNvSpPr/>
          <p:nvPr/>
        </p:nvSpPr>
        <p:spPr>
          <a:xfrm>
            <a:off x="324000" y="6308640"/>
            <a:ext cx="431640" cy="287280"/>
          </a:xfrm>
          <a:prstGeom prst="leftArrow">
            <a:avLst>
              <a:gd name="adj1" fmla="val 50000"/>
              <a:gd name="adj2" fmla="val 3756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3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580000" y="380880"/>
            <a:ext cx="280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Прошло много времени, бабочка как будто оставила свои усилия, а щель оставалась все такой же маленьк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Казалось, бабочка сделала все, что могла, и что ни на что другое у нее не было больше сил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212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380880"/>
            <a:ext cx="2438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Тогда человек решил помочь бабочке: он взял перочинный ножик и разрезал кокон. Бабочка тотчас вышл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Но ее тельце было слабым и немощным, ее крылья были неразвитыми и едва двигалис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6552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638680" y="609480"/>
            <a:ext cx="2133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Человек продолжал наблюдать, думая, что вот-вот крылья бабочки расправятся и окрепнут и она сможет лет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766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4120" y="0"/>
            <a:ext cx="3200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990720"/>
            <a:ext cx="2960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Ничего не случилось! Остаток жизни бабочка волочила по земле свое слабое тельце, свои нерасправленные крыль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Она так и не смогла лета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628640"/>
            <a:ext cx="3504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А все потому, что человек, желая ей помочь, не понимал главного: жизнь заставляла бабочку с трудом покинуть эту оболочку, чтобы она могла расти и развивать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4057" t="0" r="0" b="0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943600" y="0"/>
            <a:ext cx="3200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228600"/>
            <a:ext cx="2743200" cy="60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Иногда именно усилие необходимо нам в жизн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Если бы нам позволено было жить, не встречаясь с трудностями, мы были бы обделены. Мы не смогли бы быть такими сильными, как сейчас. Мы никогда не смогли бы лет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0"/>
            <a:ext cx="29494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Я просила сил ...        а жизнь дала мне трудности, чтобы сделать меня сильн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Я просила мудрости…             а жизнь дала мне проблемы для разреш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Я просила богатства…            а жизнь дала мне мозг и мускулы, чтобы я могла работ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314880" y="0"/>
            <a:ext cx="582912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943600" y="0"/>
            <a:ext cx="3200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558720"/>
            <a:ext cx="23623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Я просила возможности летать ... а жизнь дала мне препятствия, чтобы я их преодолевал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Я просила любви ... а жизнь дала мне людей, которым я могла помогать в их проблем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0084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15:45:55Z</dcterms:created>
  <dc:creator>Лёля</dc:creator>
  <dc:description>figure parmi les préférées de Pascal LT</dc:description>
  <dc:language>en-US</dc:language>
  <cp:lastModifiedBy>Лёля</cp:lastModifiedBy>
  <dcterms:modified xsi:type="dcterms:W3CDTF">2009-06-23T18:50:05Z</dcterms:modified>
  <cp:revision>5</cp:revision>
  <dc:subject>vue philosophique</dc:subject>
  <dc:title>Слайд 1</dc:title>
</cp:coreProperties>
</file>