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7F2-4E13-4B89-820A-D8BAF1ED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BF1-24A9-46E9-8CE8-B22EE97B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233-EE09-4142-902F-7B7ED3CB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47F-FB4F-420D-97B3-FB431A4C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1A4-A2DE-447A-8DDB-2470FFF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375-AAEE-4E15-ACBB-20AC7428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382-F26D-45C0-BFC4-45DD30F7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0CF-0BA9-4F97-8C98-ECDE6DC3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63E-1CF6-4F5D-8816-524523F7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14B-F970-41B9-B8A0-72D77E07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052-25C1-4590-980D-21499E43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E04-3AEE-424F-AF3A-6679BF3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9F6A-CCDC-4FEA-8D64-822DFB9AC0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1054;&#1073;&#1097;&#1072;&#1103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25960" y="0"/>
            <a:ext cx="5918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0400" y="152280"/>
            <a:ext cx="5715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рок баб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762120"/>
            <a:ext cx="2438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днажды в коконе появилась маленькая щель, случайно проходивший человек долгие часы стоял и наблюдал, как через эту маленькую щель пытается выйти бабоч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82880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благ ... а жизнь дала мне возмо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ничего не получила из того, о чем просила… Но я получила все, что было мне нуж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114800"/>
            <a:ext cx="8737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</a:rPr>
              <a:t>Живите без страха,                                           смело встречайте все препятствия и докажите, что вы можете их преодоле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2276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rId2"/>
          </p:cNvPr>
          <p:cNvSpPr/>
          <p:nvPr/>
        </p:nvSpPr>
        <p:spPr>
          <a:xfrm>
            <a:off x="324000" y="630864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3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580000" y="380880"/>
            <a:ext cx="280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Прошло много времени, бабочка как будто оставила свои усилия, а щель оставалась все такой же маленьк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азалось, бабочка сделала все, что могла, и что ни на что другое у нее не было больше сил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380880"/>
            <a:ext cx="2438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Тогда человек решил помочь бабочке: он взял перочинный ножик и разрезал кокон. Бабочка тотчас выш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Но ее тельце было слабым и немощным, ее крылья были неразвитыми и едва двигалис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638680" y="609480"/>
            <a:ext cx="213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Человек продолжал наблюдать, думая, что вот-вот крылья бабочки расправятся и окрепнут и она сможет лет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412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990720"/>
            <a:ext cx="296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Ничего не случилось! Остаток жизни бабочка волочила по земле свое слабое тельце, свои нерасправленные крыл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на так и не смогла лет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628640"/>
            <a:ext cx="350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А все потому, что человек, желая ей помочь, не понимал главного: жизнь заставляла бабочку с трудом покинуть эту оболочку, чтобы она могла расти и развивать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4057" t="0" r="0" b="0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94360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228600"/>
            <a:ext cx="274320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ногда именно усилие необходимо нам в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Если бы нам позволено было жить, не встречаясь с трудностями, мы были бы обделены. Мы не смогли бы быть такими сильными, как сейчас. Мы никогда не смогли бы лет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0"/>
            <a:ext cx="2949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сил ...        а жизнь дала мне трудности, чтобы сделать меня сильн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мудрости…             а жизнь дала мне проблемы для разре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богатства…            а жизнь дала мне мозг и мускулы, чтобы я могла работ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94360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558720"/>
            <a:ext cx="2362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возможности летать ... а жизнь дала мне препятствия, чтобы я их преодолев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любви ... а жизнь дала мне людей, которым я могла помогать в их пробле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008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15:45:55Z</dcterms:created>
  <dc:creator>Лёля</dc:creator>
  <dc:description>figure parmi les préférées de Pascal LT</dc:description>
  <dc:language>en-US</dc:language>
  <cp:lastModifiedBy>Лёля</cp:lastModifiedBy>
  <dcterms:modified xsi:type="dcterms:W3CDTF">2009-06-23T18:50:05Z</dcterms:modified>
  <cp:revision>5</cp:revision>
  <dc:subject>vue philosophique</dc:subject>
  <dc:title>Слайд 1</dc:title>
</cp:coreProperties>
</file>