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0F0-6B01-4962-A43C-F483560D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B1F-77CA-4523-B3F6-33D120A6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221-641F-4F78-BCA3-1F58AC45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6B6-8AAF-440B-B990-6ADDE7B1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39AE-9A32-4EEE-AAC3-3B238947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935E-9FEC-4D36-81CC-CD65C7BD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0FC6-D41E-4E69-B1E0-54DB0299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C619-6A51-46B9-A1A1-C7876CAF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907E-D68B-4769-AF12-85B5D392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EE14-EF92-4B96-B381-DF6CE78A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B320-0A97-417E-8787-91CFFA58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43E-F852-46D0-B5C3-56B74CB7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B6AC-DF98-4D49-A569-1B6A2E66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4ED9-0311-4B5D-97CC-5F8C26F5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47AC-6519-4E71-9346-F977EFD9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F7CD-DF62-4275-8D60-D0587D10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A2AA-7A28-4382-A483-DD65A416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BE6-433E-48F1-B6A4-8F2E55B6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015C-1399-4D88-843D-D42610FE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7D1-8DCC-475F-B1E4-6F5B9BC5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169-A329-4C2F-A58A-9F2F91FC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395-161C-4F75-BD1A-5A20ACCB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A53-1C87-40C4-8187-EEEDE81D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4E6-6D77-4CB4-8EFE-2ABCEC3E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A9B4-95D4-401A-8ED4-AB41BAA90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8440-6533-43E2-8CC9-875B57A8F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 Black"/>
              </a:rPr>
              <a:t>Путь хлеба к нашему стол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Каравай, каравай, какой хочешь – ВЫБИРАЙ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ntique Olive Compact"/>
              </a:rPr>
              <a:t>Хлеб – наше богатство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692280"/>
            <a:ext cx="8007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89000"/>
            <a:ext cx="800748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8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06:13:33Z</dcterms:created>
  <dc:creator>Admin</dc:creator>
  <dc:description/>
  <dc:language>en-US</dc:language>
  <cp:lastModifiedBy>Дом</cp:lastModifiedBy>
  <dcterms:modified xsi:type="dcterms:W3CDTF">2010-04-13T10:41:02Z</dcterms:modified>
  <cp:revision>9</cp:revision>
  <dc:subject/>
  <dc:title>C Новым Годом!</dc:title>
</cp:coreProperties>
</file>