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316-C97C-4C1D-91A4-4AA9E436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572-2697-4A21-9F99-62F21FCF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92A-666E-41D2-9B89-665BCEC8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D4A-1388-4E17-BFAD-785BBDFE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49A-D6E0-467C-B237-2F2D021A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9E0-937C-4C9F-A69C-4FE24D0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8EC6-74BF-40DA-A0DB-0D56DF40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665-2A31-43B3-BAFD-9385696E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C43-DA4C-466E-A95A-E4F12A48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AAB-F56D-4706-9AB4-694A1478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3E1-3211-45F8-BDE0-C5BE0E7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F64-445E-4770-8EA0-64FB2BF6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6203-C126-4CB4-B96B-35BFC0C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4E02-9CD9-4FCB-8CBE-E2EE85A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625-06E6-4A4F-98ED-2672DD7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C0D5-756E-46E9-B768-48357DFC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B2A-8E70-4DCA-B468-59BA66F1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97A-E6E1-4F9A-BED8-7E99995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E24-412C-416D-9784-A242B768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D19-776E-40C1-8030-6CB64215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3E9-1852-49E2-BEE5-BAF52FD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776-B17E-4441-ABD3-972A358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658-125E-4C01-A5FE-2040D4C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50A-5DD4-4962-8CBF-4BD3E41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0AB-504F-4C3E-B105-E468CBBBD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37F9-835E-4F74-B1E2-838B396EF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Путь хлеба к нашему стол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равай, каравай, какой хочешь – ВЫБИРАЙ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ntique Olive Compact"/>
              </a:rPr>
              <a:t>Хлеб – наше богатств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6:13:33Z</dcterms:created>
  <dc:creator>Admin</dc:creator>
  <dc:description/>
  <dc:language>en-US</dc:language>
  <cp:lastModifiedBy>Дом</cp:lastModifiedBy>
  <dcterms:modified xsi:type="dcterms:W3CDTF">2010-04-13T10:41:02Z</dcterms:modified>
  <cp:revision>9</cp:revision>
  <dc:subject/>
  <dc:title>C Новым Годом!</dc:title>
</cp:coreProperties>
</file>