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90D-9F21-4F3F-AF76-DB15B7F2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283-8CE2-40B6-AD24-6C336911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9755-4477-4864-AB9F-B4176DAA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F91-133A-48DC-BAF0-39D703E7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8410-5D6A-4E15-A9B1-B3C66CF4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C7A4-AB25-439C-9EF9-CD749F81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D0EC-C1E3-4691-B8D0-F11929ED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54F8-8961-4CF0-A1DA-F85057A6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16DC-50C1-4178-879F-161ECEF9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0809-4757-4589-B142-300AB766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EE83-E7B4-4771-9663-91BC58D8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F90-B065-408B-A604-641CC40A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2700-C7A6-497A-A41E-2A689785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A58C-494A-4564-A557-6F784035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B32D-E506-4182-BF10-8D6C9F76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90CF-BE84-4292-8F56-8747918F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B11D-0A89-474E-B7E0-E4C1A915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293-5229-4519-87E3-DEE42D4B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4359-D2B8-45E1-A1DD-14644674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9E7-D676-4CC0-A512-F0E9A083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216-8559-453A-B889-58CE235C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68B-508D-4BB8-B8A7-44E2227A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82B-389C-4E76-B52B-53C7BD06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ACD-41BF-4C63-A82F-E3E7082F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2F8F-5936-479B-9B8E-764620B94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FD38-E1FE-4966-B2E5-F4C25E7AA6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foto.mail.ru/mail/nadyasah/329/334.html" TargetMode="External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1916280"/>
            <a:ext cx="8207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ff33"/>
                </a:solidFill>
                <a:latin typeface="Monotype Corsiva"/>
              </a:rPr>
              <a:t>Недели начальной школы.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684360" y="26028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ackadder ITC"/>
              </a:rPr>
              <a:t>МУНИЦИПАЛЬНОЕ ОБЩЕОБРАЗОВАТЕЛЬНОЕ УЧРЕЖДЕНИЕ СРЕДНЯЯ ОБЩЕОБРАЗОВАТЕЛЬНАЯ ШКОЛА №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4 </a:t>
            </a:r>
            <a:r>
              <a:rPr b="1" lang="en-US" sz="2000" spc="-1" strike="noStrike">
                <a:solidFill>
                  <a:srgbClr val="ffffff"/>
                </a:solidFill>
                <a:latin typeface="Blackadder ITC"/>
              </a:rPr>
              <a:t>ПРОЛЕТАРСКОГО РАЙОНА ГОРОДА ТУ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530064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программа воспитательной работы в начальной школе сроком на 4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пятый.  Австралия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раз неведомой Южной Зем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нкурс рассказов о  флоре и фауне Австрал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5413320" cy="30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eec94"/>
                </a:solidFill>
                <a:latin typeface="Times New Roman"/>
              </a:rPr>
              <a:t>«Я – гражданин России»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держание раздела включает изучение российск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имволики и законов страны, знакомство с великими 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наменитыми людьми, писателями и художникам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ционально-прикладным искусством, разучивание забыт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циональных игр, ознакомление с историей возникнов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авославных праздник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ль: пробудить интерес к прошлому своего народ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знакомить с национальной культурой, приобщить детей 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уховно-нравственным ценностям своего народ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сстановить утраченные связи современного человека 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торической памят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0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80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90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первы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Моя Родина – Росси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743280" y="1628640"/>
            <a:ext cx="5221440" cy="3548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33130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0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5005440" cy="3257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780000" y="3284640"/>
            <a:ext cx="4983120" cy="3365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35640" y="835920"/>
            <a:ext cx="35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стоприме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ательно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оскв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4365000"/>
            <a:ext cx="35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 Санкт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етербург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60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второ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о великих и знамениты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оклады о великих люд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ента време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усских цар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Колес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тори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52372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0"/>
                            </p:stCondLst>
                            <p:childTnLst>
                              <p:par>
                                <p:cTn id="5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00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00"/>
                            </p:stCondLst>
                            <p:childTnLst>
                              <p:par>
                                <p:cTn id="5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              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трети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усь державная православна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51280" y="213336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усские игр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стория и правила игры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Мини -спектак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Деревенские посиделки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4034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усска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ухн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аздни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629160" cy="3441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508720" y="404640"/>
            <a:ext cx="3286080" cy="3319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484360" y="3322800"/>
            <a:ext cx="42703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5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500"/>
                            </p:stCondLst>
                            <p:childTnLst>
                              <p:par>
                                <p:cTn id="6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День четвёрты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Мой язык- язык добра и света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547800" cy="4968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43280" y="2996640"/>
            <a:ext cx="402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нкурс чтец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 Природа Росси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5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Литературно- музыкальная композиция «Я – гражданин России»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3928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пяты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родные промысл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8481960" cy="3827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58920" y="148428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ivaldi"/>
              </a:rPr>
              <a:t>Выставки работ о народных промыслах России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Цель данной программ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оказать помощь учителю в непосредственной организации воспитательного процесс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воспитание всесторонне развитой личности, умеющей адаптироваться в современных условиях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воспитание нравственного этического отношения к разным народам и национальностям расширение кругозора учащихс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пробудить интерес к прошлому своего народа, познакомить с национальной культурой, приобщить детей к духовно-нравственным ценностям своего народа, восстановить утраченные связи современного человека с исторической память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пробудить интерес к своему городу, познакомить с его достопримечательностями, воспитание патриотизма и гордости за свой гор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помочь ребенку осознать свою роль в обществе и семье, ознакомить с правилами совместной деятельности, учить согласовывать свои действия с окружающи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7520040" cy="3198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720108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7632720" cy="3070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403280" y="3511440"/>
            <a:ext cx="756144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eec94"/>
                </a:solidFill>
                <a:latin typeface="Times New Roman"/>
              </a:rPr>
              <a:t>«Мой родной город»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держание раздела включает изучение символики города и района, знакомство со знаменитыми людьми , писателями и художниками родного края, историческими достопримечательностями, современной жизнью город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ель: пробудить интерес к своему городу, познакомить с его достопримечательностями, воспитание патриотизма и гордости за свой гор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первы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«Уголок России – отчий дом»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нкурс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оссворд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 родном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ороде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5303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500"/>
                            </p:stCondLst>
                            <p:childTnLst>
                              <p:par>
                                <p:cTn id="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300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3500"/>
                            </p:stCondLst>
                            <p:childTnLst>
                              <p:par>
                                <p:cTn id="7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450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второ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лавен город мастеров юными умельцами…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42920" y="2174760"/>
            <a:ext cx="66978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4260960" cy="5732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138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067280" y="2637000"/>
            <a:ext cx="4946400" cy="4046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96908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6050160" cy="4033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61261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трети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огулки по улицам Пролетарского район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нкурс рисунков «Городской пейзаж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4996080" cy="3092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48243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5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500"/>
                            </p:stCondLst>
                            <p:childTnLst>
                              <p:par>
                                <p:cTn id="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онкурс детских репортажей «Улицы моего района»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9850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eec94"/>
                </a:solidFill>
                <a:latin typeface="Times New Roman"/>
              </a:rPr>
              <a:t>Основные разделы программы.</a:t>
            </a:r>
            <a:br>
              <a:rPr sz="6000"/>
            </a:b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«Пять дней вокруг света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«Я – гражданин России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«Мой родной город»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«Я, моя семья, мои друзья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нь четвёртый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«Тула – город-мастеров»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2119320"/>
            <a:ext cx="6121440" cy="3813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32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Игр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о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танция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Самобытн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Тульска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земля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000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4500"/>
                            </p:stCondLst>
                            <p:childTnLst>
                              <p:par>
                                <p:cTn id="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0"/>
                            </p:stCondLst>
                            <p:childTnLst>
                              <p:par>
                                <p:cTn id="9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500"/>
                            </p:stCondLst>
                            <p:childTnLst>
                              <p:par>
                                <p:cTn id="9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6000"/>
                            </p:stCondLst>
                            <p:childTnLst>
                              <p:par>
                                <p:cTn id="9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500"/>
                            </p:stCondLst>
                            <p:childTnLst>
                              <p:par>
                                <p:cTn id="9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7000"/>
                            </p:stCondLst>
                            <p:childTnLst>
                              <p:par>
                                <p:cTn id="9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танция перв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Тула веками оружье ковала…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20840" y="1557360"/>
            <a:ext cx="3738240" cy="5099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147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Слад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екре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улы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3236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танци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тор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561280" cy="3836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995640" y="3298680"/>
            <a:ext cx="47530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0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067280" y="549000"/>
            <a:ext cx="489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танция треть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В Тулу со свои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амоваром не едут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718080" cy="5315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5303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500"/>
                            </p:stCondLst>
                            <p:childTnLst>
                              <p:par>
                                <p:cTn id="10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916360" y="2781360"/>
            <a:ext cx="2590560" cy="2448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2374920" cy="2881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443640" y="4076640"/>
            <a:ext cx="2449440" cy="244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танция четвёрт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Наша тульск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армошка -это русская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уш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0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пяты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Экскурсии по памятным местам и достопримечательностям города и района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2280" y="3733920"/>
            <a:ext cx="4572000" cy="2923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429444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82920" cy="4405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171960" y="1557360"/>
            <a:ext cx="3146400" cy="4319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084720" y="2760840"/>
            <a:ext cx="288612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0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eec94"/>
                </a:solidFill>
                <a:latin typeface="Times New Roman"/>
              </a:rPr>
              <a:t>«Я, моя семья, мои друзья»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держание раздела: ребенок должен знать, кто он сам, почему его так назвали, что означает его фамилия, семейные традиции, сознавать свой статус в семье и обществ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ель данного раздела: помочь ребенку осознать свою роль в обществе и семье, ознакомить с правилами совместной деятельности, учить согласовывать свои действия с окружающи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нь первый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оя семья – моя радость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508720" y="1699920"/>
            <a:ext cx="375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онкурс рисунк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Портрет моей семьи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525780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08400" cy="5904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2228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eec94"/>
                </a:solidFill>
                <a:latin typeface="Times New Roman"/>
              </a:rPr>
              <a:t>«Пять дней вокруг света».</a:t>
            </a:r>
            <a:br>
              <a:rPr sz="6000"/>
            </a:b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держание этого раздела предусматрива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накомство младших школьников с географически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ложением, окружающим миром и культурны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дициями народов, населяющих нашу планет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сновная цель раздела: воспитание этическог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равственного отношения к разным народам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циональностям, расширение кругозора учащих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00360" y="549000"/>
            <a:ext cx="4413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оставле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одословн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емь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419640" y="3162240"/>
            <a:ext cx="5545080" cy="35164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7672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4537080" cy="2847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4267440" cy="2892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535280" cy="3117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4788000" y="3429000"/>
            <a:ext cx="42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нь второй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«Мы навсегда в ответе за тех, кого приручили»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87640" y="3284640"/>
            <a:ext cx="5256360" cy="3502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36086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ыстав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оделок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266400" y="404280"/>
            <a:ext cx="887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нь третий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месте с мамой, вместе с папой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1889280"/>
            <a:ext cx="5256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0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635280" y="2708280"/>
            <a:ext cx="53294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четвёрты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Эта школа теперь и моя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419640" y="3141720"/>
            <a:ext cx="5427360" cy="3548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08000" y="1484280"/>
            <a:ext cx="44719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8000" y="277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нь пятый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ама, папа, я - спортивная семь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851280" y="3068640"/>
            <a:ext cx="5089680" cy="3597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49910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eec94"/>
                </a:solidFill>
                <a:latin typeface="Times New Roman"/>
              </a:rPr>
              <a:t>По итогам недель оформлены стенды для учащихся начальной школ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608720" cy="33861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140360" y="2852640"/>
            <a:ext cx="482580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0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48360" cy="6408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21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0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9280" y="363600"/>
            <a:ext cx="4497480" cy="3343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995640" y="3151080"/>
            <a:ext cx="496908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0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День первый. Европ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548160" cy="4319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95640" y="338040"/>
            <a:ext cx="5005440" cy="64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нкурс кроссвордов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Содержание кроссвордов: географические понятия, достопримечательности, литературное наследие народов ми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нкурс рисунков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Путешествие по земному шару. Содержание: достопримечательности страны, памятники архитектуры, национальные костюмы, при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9920" y="476280"/>
            <a:ext cx="4470480" cy="612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8000" y="476280"/>
            <a:ext cx="41338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0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042920" y="692280"/>
            <a:ext cx="6985080" cy="17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99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22320">
                <a:solidFill>
                  <a:srgbClr val="ff99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99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22320">
                <a:solidFill>
                  <a:srgbClr val="ff99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219320" y="2895480"/>
            <a:ext cx="6891120" cy="33858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Автор презент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Глаголева Алла Львовн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МОУСОШ №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ролетарского райо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города Тул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День второй. Азия.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  Монголия, Китай, Япония, Индия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дивительные творения  Восто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циональные игрушки, икебана, национальные костюмы, рисунки и иллюстрации с фрагментами из жизни народов, литература, искусство, танцы, традиционная кухн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готовк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ставоч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лов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вящен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ранам Аз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132000" y="3933720"/>
            <a:ext cx="54136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5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9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5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59280" y="3357720"/>
            <a:ext cx="5895720" cy="3317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3895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День третий. Африка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фриканские чудеса или что там, в неведомой глуши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4087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День четвёртый. Америка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гра –путешествие по станциям « Дикий Запад»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торико-географическая стан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итератур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нция 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портивн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нц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А не поиграть 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м в индейцев»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анцевальн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нц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92360" y="2997360"/>
            <a:ext cx="53895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7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16:46:04Z</dcterms:created>
  <dc:creator>Customer</dc:creator>
  <dc:description/>
  <cp:keywords/>
  <dc:language>en-US</dc:language>
  <cp:lastModifiedBy>Admin</cp:lastModifiedBy>
  <dcterms:modified xsi:type="dcterms:W3CDTF">2012-07-19T12:44:34Z</dcterms:modified>
  <cp:revision>17</cp:revision>
  <dc:subject/>
  <dc:title>Недели начальной школы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