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FCD2-7CC5-486E-BD1A-3F3F0E80A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E431-4972-4C4F-891B-7490392D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7A9A-7998-4DA0-89CF-3D95B1D74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97AF-F250-4BAC-8E36-9E22FE262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75C8-35C4-40AD-B919-7A75E3DC0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08A5-B5D8-47F5-9A77-E6DEC5D2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B0E4-FAAE-4EEC-BF68-974FF700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4D84-2BF9-42C7-9B26-F0C722B7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011F-1F05-4B3C-821B-97B0F35D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AE00-3777-4B7F-8657-EC88E3F3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9E23-E7A3-451E-98AD-AA48C457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FA4D-29F9-4744-A25C-896D0484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9430-031B-4CC8-A6E1-C0B46D07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6FDD-8974-41A5-AD7D-824852AF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D11D-93CB-4BD9-9928-B68444F0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8C02-C069-4CA2-9978-CCC312B5F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B88C-CBB5-4CDF-ACEB-2ED4FC61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F7BF-18C8-4424-9C98-48ADADFF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1090-4820-42E1-974D-992E3ECE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943B-4668-4940-8E37-3D860A61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EF4A-6D78-46A8-83D3-346C3100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A683-17F5-462A-8451-DE4C9048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DC56-8803-49F0-99FA-EBED368B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9AD1-FCA3-40A3-A037-2B3A532A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0E32-169C-4D38-9961-FBB1983141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9253-3DD0-41F9-8262-77BC8E770B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Подготовка к ГИА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ение задач на процен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Задача №1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 объявления фирмы, проводящей обучающие семина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Стоимость участия в семинаре — 3000 р. с человека. Группам от организаций предоставляются скидки: от 3 до 10 человек –– 5%; более 10 человек –– 8%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олько должна заплатить организация, направившая на семинар группу из 8 челове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Задача №2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родской бюджет составляет 45 млн. р., а расходы на одну из его частей составили 12,5%. Сколько рублей потрачено на эту статью бюдже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Задача №3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цирке перед началом представления было продано   всех воздушных шариков, а в антракте – еще 12 штук. После этого осталась половина всех шариков, приготовленных для продажи. Сколько шариков было первоначальн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Задача №4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берегательный банк начисляет на срочный вклад 20% годовых. Вкладчик положил на счет 800 р. Какая сумма будет на этом счете через год, если никаких операций со счетом проводиться не буд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Задача №5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вар на распродаже уценили на 20%, при этом он стал стоить 680 р. Сколько стоил товар до распродаж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Задача №6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сударству принадлежит 60% акций предприятия, остальные акции принадлежат частным лицам. Общая прибыль предприятия за год составила 40 млн. р. Какая сумма из этой прибыли должна пойти на выплату частным акционера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7T11:21:27Z</dcterms:created>
  <dc:creator>Привет</dc:creator>
  <dc:description/>
  <dc:language>en-US</dc:language>
  <cp:lastModifiedBy>Привет</cp:lastModifiedBy>
  <dcterms:modified xsi:type="dcterms:W3CDTF">2011-07-07T11:35:34Z</dcterms:modified>
  <cp:revision>2</cp:revision>
  <dc:subject/>
  <dc:title>Подготовка к ГИА</dc:title>
</cp:coreProperties>
</file>