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298-BBB1-41A2-B5D0-A60A6274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2F9-5D3A-4613-BEB4-41EC067A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8CD-875B-49E7-B39F-176943B7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28A-19BE-4572-8134-829C1D75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B102-5117-4CFF-AF87-9A4E83DC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C78F-E8C4-4E60-9DCD-65C1272B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EB18-DFBB-4B84-B36C-3BB99478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F416-0A1C-4696-BEA5-E47396BE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F0FC-50E2-478D-A402-38C80CE6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57D3-6EF8-4C74-B057-94428618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4C5F-428B-4671-A4F4-1DEE3D5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F90-CAE0-49BE-B0BD-851B81E7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4E56-B09A-40F9-B17E-48553EBB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4A8F-33DD-44DC-A2F1-05F1B60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A145-14E0-46FD-B2E3-1D661355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748-5865-4043-A83B-082648D4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5A13-8192-4C0A-A8A5-304045EB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0B6-D1D4-4031-9581-1D0E6892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064-F9F7-4ECA-AD63-DFF75332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3C6-B0E3-4E01-8A6F-6AA2D187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394-AC77-4ED0-A464-C2D0CC39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F90-EC58-4FEA-8DB6-3CEBFDD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0EE-EA7D-46AB-A016-82AEA0D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D21-7B8F-4E79-BBCA-5B06CB3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7E5A-4D74-4C02-9387-35530F848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633-D7EB-48F8-840E-130AC1F8C0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одготовка к ГИ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задач на проц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1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объявления фирмы, проводящей обучающие семин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тоимость участия в семинаре — 3000 р. с человека. Группам от организаций предоставляются скидки: от 3 до 10 человек –– 5%; более 10 человек –– 8%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должна заплатить организация, направившая на семинар группу из 8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2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дской бюджет составляет 45 млн. р., а расходы на одну из его частей составили 12,5%. Сколько рублей потрачено на эту статью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3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цирке перед началом представления было продано   всех воздушных шариков, а в антракте – еще 12 штук. После этого осталась половина всех шариков, приготовленных для продажи. Сколько шариков было первонача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4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берегательный банк начисляет на срочный вклад 20% годовых. Вкладчик положил на счет 800 р. Какая сумма будет на этом счете через год, если никаких операций со счетом проводиться не буд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5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вар на распродаже уценили на 20%, при этом он стал стоить 680 р. Сколько стоил товар до распродаж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6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у принадлежит 60% акций предприятия, остальные акции принадлежат частным лицам. Общая прибыль предприятия за год составила 40 млн. р. Какая сумма из этой прибыли должна пойти на выплату частным акционе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1:21:27Z</dcterms:created>
  <dc:creator>Привет</dc:creator>
  <dc:description/>
  <dc:language>en-US</dc:language>
  <cp:lastModifiedBy>Привет</cp:lastModifiedBy>
  <dcterms:modified xsi:type="dcterms:W3CDTF">2011-07-07T11:35:34Z</dcterms:modified>
  <cp:revision>2</cp:revision>
  <dc:subject/>
  <dc:title>Подготовка к ГИА</dc:title>
</cp:coreProperties>
</file>